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678-AEA0-4A34-BD29-38AD99A3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D14-3F45-461C-8D20-33C1762B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3B1-BE5A-4956-B8EA-F127962B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586-88D5-4540-AB6E-758E4B81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E80-27D0-4ABC-A80E-5CAB4758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C6B-B96D-4980-B122-C27CD18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6376-6D1B-468A-B143-B0D58DA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A57-8212-4398-B367-7BDD63C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CA3E-2B09-476C-BA98-F14DDD7D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6F0-44F3-42FD-B234-8BC6F20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D484-B90A-4931-B72C-3F4858B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D15-D1C9-4F8E-BAFA-153CF7A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397-8D1A-4827-97B5-BE8411F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417-0598-486B-9418-FC18C92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91D4-E1B7-4249-9572-2C764B97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5251-B105-4196-86C3-567D58F0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E0D3-71C4-4066-90F5-EC64EA5D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75BBE-C17A-4D81-9C0B-0BA4D8DC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103F7-00ED-4B4A-918B-6A48F11E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6DA2-448A-40C9-B9E9-FDC33CE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609AD-D05F-4729-AF4E-4E6A3D7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69E94-CBA3-4D4C-9517-21F754DF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077-68B2-48D0-9BB5-93DE9B2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62130-407E-44B8-9585-ED47FDC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AFCBF-ED74-41DF-B976-0788CB5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4FB6-8D2A-44A0-885B-CA6BC95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55E7C-4CB0-4E34-89B2-4547447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BB3A4-5BB8-4AC3-8942-8ED1FF7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2E146-8473-4392-B9F4-21F6EE14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A40CA-CE3C-4E06-A2B8-D8CBEDE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56AF-0030-4FDD-AAFC-9A3FF7D5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202F-49E2-498C-860A-CA4E8E0A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C6DA-E4FF-4A4E-8B69-D116D07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141-1FEB-48F9-9FD0-EACB089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CDBC-CEDB-4297-AC18-9B72A64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80C4-046C-480A-BCD9-8C044595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6FF6-C6E5-48F2-A666-6AD76E22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62CF-FA69-4125-B6AF-EBD7BB2D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E81C-6DD5-4808-8F1E-6B4BB7B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FC17-24D0-4572-BC34-63A0E920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CE97-21C6-44BA-A5DA-1B639BC3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5009-BFCD-42A3-BBAB-D3414808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A78C-7ED1-4029-8580-18FED654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CF1-4C81-4796-B0C6-7810B0E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0E9-7BE0-4138-B56C-ECC5605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87F-02F2-441C-9FA6-7ABB4D1B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32A-11C9-4485-8949-7AFE725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193-7FD4-4CC4-8A89-91A67235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20D-9D01-4CFB-AF9C-C53B1A1E8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34E-3842-4C25-9BBA-CC6E7ADF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3159-F2B8-42F6-B278-7B9855BF82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11F-8881-4BE1-8C78-D5F3450CF9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9185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Дания-родина великого сказочника Ханса Кристиана Андерсена</a:t>
            </a:r>
            <a:r>
              <a:rPr b="0" lang="ru-RU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43280" y="2420640"/>
            <a:ext cx="4500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Королевство Дания располож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на 406 остров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почти 100 из них насел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Самые большие острова,входящие в состав Дании,-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Зеландия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со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столицей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Королевства </a:t>
            </a:r>
            <a:r>
              <a:rPr b="0" i="1" lang="ru-RU" sz="2400" spc="-1" strike="noStrike" u="sng">
                <a:solidFill>
                  <a:srgbClr val="008ae8"/>
                </a:solidFill>
                <a:uFillTx/>
                <a:latin typeface="Arial"/>
              </a:rPr>
              <a:t>Копенгагеном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;Фюн,Лолла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Фальстер,Борхоль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944720" cy="1309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2232000" cy="149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296960" y="836640"/>
            <a:ext cx="48466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88000" y="4135320"/>
            <a:ext cx="2376720" cy="1727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236000" y="105264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00000" y="83664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03640" y="981000"/>
            <a:ext cx="345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мятник андерсеновской Русалочке в столице Д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а всё так же одиноко грустит на камне в ожидании своего при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оло неё всегда много посет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900"/>
                            </p:stCondLst>
                            <p:childTnLst>
                              <p:par>
                                <p:cTn id="3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9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4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0" y="259920"/>
            <a:ext cx="41148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Андерсену нравилось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путешествовать.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Будучи уже известным писателем, он побывал во многих странах: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Англии, Итал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Франц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Швейцарии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047760" cy="2257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0" y="5505480"/>
            <a:ext cx="1809720" cy="1352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732720" y="544500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468360" y="198900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396108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Но не забывал и о родной Дании, особенно </a:t>
            </a:r>
            <a:r>
              <a:rPr b="0" i="1" lang="en-US" sz="2400" spc="-1" strike="noStrike">
                <a:solidFill>
                  <a:srgbClr val="ff00ff"/>
                </a:solidFill>
                <a:latin typeface="Tahoma"/>
              </a:rPr>
              <a:t>любил сказочник западную часть острова Зеландия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с многочисленными замками и роскошными поместь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i="1" lang="en-US" sz="2400" spc="-1" strike="noStrike" u="sng">
                <a:solidFill>
                  <a:srgbClr val="0066ff"/>
                </a:solidFill>
                <a:uFillTx/>
                <a:latin typeface="Tahoma"/>
              </a:rPr>
              <a:t>Величественная архитектура зданий, диковинная парковая растительность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будоражили воображение писателя, навевая сюжеты будущих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3673440" cy="3384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286160" cy="321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В Копенгагене, на площади Ратуши,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602000"/>
                </a:solidFill>
                <a:latin typeface="Tahoma"/>
              </a:rPr>
              <a:t>где жил и работал Андерсен, сооружен благодарными потомками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памятник сказочнику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пенгаген-приветливый город,выросший на берегу моря в 1167 год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1640" y="2133720"/>
            <a:ext cx="4319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олицы переводится как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Торговая гаван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 настоящее время самый популярный вид транспорта Дании-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елосипе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1050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Страницы жизни Андерсе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49672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апреля 1805 года в    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г.Оденсе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(остров Фюн)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 семье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апожника и прач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родился Х.К.Андер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даря стараниям заботливых родителей  сын совсем не замечал бед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205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аренный богатой фантазией, мальчик часами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мог играть од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у не нужны были шумные дет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194280" cy="3789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333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отец сводил Ханса на представление  в настоящий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теа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атр    стал  самым излюбленным ме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а.Но  часто спектакли посещать он не мог,поэтому познакомился с расклейщиком афиш,который ежедневно дарил Андерсену по афи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68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у Андерсена появилась новая забава:сидя в своей каморке,он прочитывал название спектакля и к нему сочинял пьесу.Затем шил для кукол костюмы и разыгрывал коме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Мальчик мечтал о сц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ему исполнилось 14 лет,умер отец,и Ханс отправляетя в Копенгаген,мечтая  о карьере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танцовщ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пев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долговязого, неуклюжего юношу не приняли в Королевский театр даже учеником актё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Андерсену посчастливилось встретиться с хорошими и мудрыми людьми, которые уговорили его учитьс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В 17 лет взрослый юноша уселся за парту с совсем маленькими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Учение  давалось не просто. Но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упорство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трудолюбие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помогли Андерсену закончить учебу в гимназии и поступить в универс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24000" y="40464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Всё это время он продолжал писать трагедии, комедии, стихи и романы, веря в свои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Он мечтал стать  знаменитым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о путь к славе нелёгок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ачинающего писателя преледовали непонимание и насмешки окружающ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 только к 30 годам,после того, как вышли в свет «Сказки для детей»,     Андерсен понял,    что будет СКАЗОЧН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3708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сего за свою жизнь Андерсен написал </a:t>
            </a: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более 150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т только некоторые из ни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нежная королев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Русал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Дюймов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Огниво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Новое платье короля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винопас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008240" cy="4321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8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64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16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72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1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96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44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5:22:55Z</dcterms:created>
  <dc:creator>Евгения</dc:creator>
  <dc:description/>
  <dc:language>en-US</dc:language>
  <cp:lastModifiedBy>USER</cp:lastModifiedBy>
  <dcterms:modified xsi:type="dcterms:W3CDTF">2007-04-27T04:36:39Z</dcterms:modified>
  <cp:revision>7</cp:revision>
  <dc:subject/>
  <dc:title>Дания-родина великого сказочника Ханса Кристиана Андерсена.</dc:title>
</cp:coreProperties>
</file>