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F7A-1D74-40F2-A178-EFF18B29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C57-28BA-4F22-A834-2D0342AA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8E7-3EAC-438D-8B46-589EA6B3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2AA-82EB-4E57-883B-0739726A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0AF1-C2C5-462D-8851-7E583873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C938-B91F-4D24-B161-DAD26825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4FE8-DB61-41B6-8581-E3E40C9C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C106-FAE3-4C6C-A879-4BA44EBB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4F00-ACDB-4AE5-A5E8-CA88E593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5E9B-9E70-429A-8453-6F588C54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59CB-E16B-49B7-B9C7-88319C37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FAEE-49D5-4582-A21F-8B02B324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60E3-B251-4921-8171-CE16E085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838B-B584-468B-925D-A92A6A65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1886-BA37-4991-99DB-43495BCE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E891-C475-4400-98F9-15A3F614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B839-F508-4A13-A277-6275F50B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3EABA-3368-4C68-BC5C-3AF7F8FF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17C29-3C73-4898-B1B9-FD673B1F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C3BEC-8638-4C92-8E46-F427970B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98EBE-DA43-47DC-9AD1-31119678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47856-546D-49A1-8218-08890B1F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B01-70D3-49B0-9C31-812A24C3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B0ECF-6506-48B1-888D-AF616795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4B43B-B1E8-47CE-B1D8-E849B9B3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ABC06-EA32-4DD7-A46B-13FF438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60C11-6172-4B83-BA04-45933A78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0EA76-A752-4B19-A8C7-EC12F9C6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17D0B-23A9-4686-AFE7-9B4B29BF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FCD6A-39A8-443C-A5EB-CF776E9F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59D5E-5A30-49F8-A221-D66C3EA4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5E25-4193-4E94-A2FA-1545AAD5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150F2-4E85-4C09-A46F-5ED09C32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4E9-782E-42C7-97B8-281B6938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D1A2A-9E7B-4B13-BF01-C9A61102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8B911-E84F-4BEE-AAA8-4AB0EDAA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95225-B0A0-498B-A515-0E191239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1C328-A31E-4F97-B988-0D3076BD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66011-F324-49FA-B0E6-B5E0ECDC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DA2F8-91EC-4BD7-9A1B-EC6AC37B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6E77C-F0CE-499A-918B-B6694A32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35DF-EA84-4F67-9DDA-88C27C1B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B03C0-55A9-4E7B-BBE0-82353AB7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011-23BA-4201-8E89-B7BEFEB0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99A-1674-4E5D-94AB-B2AE0676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C73-D3EB-4F9A-854E-BB4E8DB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804-F8E8-4DF0-9766-5007909D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9DE-DC7D-475B-9A91-D258EB97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91E4-CDE3-4910-9F76-202E3841C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6954-78C8-4E4F-BCCE-EAEECB837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F2B6-9408-4A2C-9C54-BD62D4E2B0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A78A-B326-42CE-AE33-82930E86D8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9185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ff"/>
                </a:solidFill>
                <a:latin typeface="Arial"/>
              </a:rPr>
              <a:t>Дания-родина великого сказочника Ханса Кристиана Андерсена</a:t>
            </a:r>
            <a:r>
              <a:rPr b="0" lang="ru-RU" sz="4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643280" y="2420640"/>
            <a:ext cx="450072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Королевство Дания располож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на 406 остров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почти 100 из них населе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Самые большие острова,входящие в состав Дании,-</a:t>
            </a:r>
            <a:r>
              <a:rPr b="0" i="1" lang="ru-RU" sz="2400" spc="-1" strike="noStrike">
                <a:solidFill>
                  <a:srgbClr val="008ae8"/>
                </a:solidFill>
                <a:latin typeface="Arial"/>
              </a:rPr>
              <a:t>Зеландия</a:t>
            </a: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 со </a:t>
            </a:r>
            <a:r>
              <a:rPr b="0" i="1" lang="ru-RU" sz="2400" spc="-1" strike="noStrike">
                <a:solidFill>
                  <a:srgbClr val="008ae8"/>
                </a:solidFill>
                <a:latin typeface="Arial"/>
              </a:rPr>
              <a:t>столицей</a:t>
            </a: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8ae8"/>
                </a:solidFill>
                <a:latin typeface="Arial"/>
              </a:rPr>
              <a:t>Королевства </a:t>
            </a:r>
            <a:r>
              <a:rPr b="0" i="1" lang="ru-RU" sz="2400" spc="-1" strike="noStrike" u="sng">
                <a:solidFill>
                  <a:srgbClr val="008ae8"/>
                </a:solidFill>
                <a:uFillTx/>
                <a:latin typeface="Arial"/>
              </a:rPr>
              <a:t>Копенгагеном</a:t>
            </a: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;Фюн,Лолла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e8"/>
                </a:solidFill>
                <a:latin typeface="Arial"/>
              </a:rPr>
              <a:t>Фальстер,Борхоль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1944720" cy="13096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2987640" y="321300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684360" y="4724280"/>
            <a:ext cx="2232000" cy="1494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296960" y="836640"/>
            <a:ext cx="48466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588000" y="4135320"/>
            <a:ext cx="2376720" cy="17272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7236000" y="1052640"/>
            <a:ext cx="144936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900000" y="83664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611280" y="4508640"/>
            <a:ext cx="2646360" cy="19843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03640" y="981000"/>
            <a:ext cx="3456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амятник андерсеновской Русалочке в столице Д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на всё так же одиноко грустит на камне в ожидании своего при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коло неё всегда много посет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900"/>
                            </p:stCondLst>
                            <p:childTnLst>
                              <p:par>
                                <p:cTn id="3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9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4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0" y="259920"/>
            <a:ext cx="41148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Андерсену нравилось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путешествовать.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 Будучи уже известным писателем, он побывал во многих странах: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Англии, Итал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Франц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    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Швейцарии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3047760" cy="22572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4572000" y="5505480"/>
            <a:ext cx="1809720" cy="13525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304776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6732720" y="5445000"/>
            <a:ext cx="190476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6"/>
          <a:stretch/>
        </p:blipFill>
        <p:spPr>
          <a:xfrm>
            <a:off x="468360" y="1989000"/>
            <a:ext cx="3333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000"/>
                            </p:stCondLst>
                            <p:childTnLst>
                              <p:par>
                                <p:cTn id="4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642920" y="549000"/>
            <a:ext cx="396108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Но не забывал и о родной Дании, особенно </a:t>
            </a:r>
            <a:r>
              <a:rPr b="0" i="1" lang="en-US" sz="2400" spc="-1" strike="noStrike">
                <a:solidFill>
                  <a:srgbClr val="ff00ff"/>
                </a:solidFill>
                <a:latin typeface="Tahoma"/>
              </a:rPr>
              <a:t>любил сказочник западную часть острова Зеландия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 с многочисленными замками и роскошными поместь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      </a:t>
            </a:r>
            <a:r>
              <a:rPr b="0" i="1" lang="en-US" sz="2400" spc="-1" strike="noStrike" u="sng">
                <a:solidFill>
                  <a:srgbClr val="0066ff"/>
                </a:solidFill>
                <a:uFillTx/>
                <a:latin typeface="Tahoma"/>
              </a:rPr>
              <a:t>Величественная архитектура зданий, диковинная парковая растительность</a:t>
            </a:r>
            <a:r>
              <a:rPr b="0" i="1" lang="en-US" sz="2400" spc="-1" strike="noStrike">
                <a:solidFill>
                  <a:srgbClr val="0000ff"/>
                </a:solidFill>
                <a:latin typeface="Tahoma"/>
              </a:rPr>
              <a:t> будоражили воображение писателя, навевая сюжеты будущих сказ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3673440" cy="33847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556000" y="2565360"/>
            <a:ext cx="4286160" cy="32101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Tahoma"/>
              </a:rPr>
              <a:t>В Копенгагене, на площади Ратуши,</a:t>
            </a:r>
            <a:r>
              <a:rPr b="0" lang="en-US" sz="3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602000"/>
                </a:solidFill>
                <a:latin typeface="Tahoma"/>
              </a:rPr>
              <a:t>где жил и работал Андерсен, сооружен благодарными потомками</a:t>
            </a:r>
            <a:r>
              <a:rPr b="0" lang="en-US" sz="3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00ff"/>
                </a:solidFill>
                <a:latin typeface="Tahoma"/>
              </a:rPr>
              <a:t>памятник сказочнику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опенгаген-приветливый город,выросший на берегу моря в 1167 году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1640" y="2133720"/>
            <a:ext cx="4319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столицы переводится как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«Торговая гаван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в настоящее время самый популярный вид транспорта Дании-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велосипед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10508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Страницы жизни Андерсен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49672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 апреля 1805 года в                                     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г.Оденсе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(остров Фюн)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в семье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сапожника и прачки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родился Х.К.Андерс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лагодаря стараниям заботливых родителей  сын совсем не замечал беднос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227640" y="2708280"/>
            <a:ext cx="2205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3961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аренный богатой фантазией, мальчик часами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мог играть оди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у не нужны были шумные дет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па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3194280" cy="37893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23335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3995640" y="333000"/>
            <a:ext cx="4897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жды отец сводил Ханса на представление  в настоящий </a:t>
            </a: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теат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атр    стал  самым излюбленным мес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чика.Но  часто спектакли посещать он не мог,поэтому познакомился с расклейщиком афиш,который ежедневно дарил Андерсену по афи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403280" y="475920"/>
            <a:ext cx="68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 у Андерсена появилась новая забава:сидя в своей каморке,он прочитывал название спектакля и к нему сочинял пьесу.Затем шил для кукол костюмы и разыгрывал комед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00ff"/>
                </a:solidFill>
                <a:latin typeface="Tahoma"/>
              </a:rPr>
              <a:t>Мальчик мечтал о сце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ему исполнилось 14 лет,умер отец,и Ханс отправляетя в Копенгаген,мечтая  о карьере </a:t>
            </a: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танцовщи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певц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 долговязого, неуклюжего юношу не приняли в Королевский театр даже учеником актё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534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ff"/>
                </a:solidFill>
                <a:latin typeface="Tahoma"/>
              </a:rPr>
              <a:t>Андерсену посчастливилось встретиться с хорошими и мудрыми людьми, которые уговорили его учитьс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3628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В 17 лет взрослый юноша уселся за парту с совсем маленькими деть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Учение  давалось не просто. Но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упорство</a:t>
            </a: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 и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трудолюбие </a:t>
            </a:r>
            <a:r>
              <a:rPr b="0" lang="en-US" sz="3200" spc="-1" strike="noStrike">
                <a:solidFill>
                  <a:srgbClr val="602000"/>
                </a:solidFill>
                <a:latin typeface="Tahoma"/>
              </a:rPr>
              <a:t>помогли Андерсену закончить учебу в гимназии и поступить в университ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924000" y="404640"/>
            <a:ext cx="52196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Всё это время он продолжал писать трагедии, комедии, стихи и романы, веря в свои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3300"/>
                </a:solidFill>
                <a:latin typeface="Tahoma"/>
              </a:rPr>
              <a:t>Он мечтал стать  знаменитым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Но путь к славе нелёгок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Начинающего писателя преледовали непонимание и насмешки окружающ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 только к 30 годам,после того, как вышли в свет «Сказки для детей»,     Андерсен понял,    что будет СКАЗОЧНИ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370836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859280" y="404280"/>
            <a:ext cx="396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сего за свою жизнь Андерсен написал </a:t>
            </a: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более 150 сказ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Вот только некоторые из ни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Снежная королева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Русалочка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Дюймовочка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Огниво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Новое платье короля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«Свинопас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008240" cy="43210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88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8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640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16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72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1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96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44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3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5:22:55Z</dcterms:created>
  <dc:creator>Евгения</dc:creator>
  <dc:description/>
  <dc:language>en-US</dc:language>
  <cp:lastModifiedBy>USER</cp:lastModifiedBy>
  <dcterms:modified xsi:type="dcterms:W3CDTF">2007-04-27T04:36:39Z</dcterms:modified>
  <cp:revision>7</cp:revision>
  <dc:subject/>
  <dc:title>Дания-родина великого сказочника Ханса Кристиана Андерсена.</dc:title>
</cp:coreProperties>
</file>