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FD7-4967-499A-BA3F-F7CEF02C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DE6-7CAF-4E29-AE96-7A87A881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999-B8CE-4EAA-A07E-C21618F1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A449-A3FB-435E-B39C-88F97C38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B1C0-9E0A-40AD-8E1D-7C8DD967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F938-2BC4-48F2-A5E4-257112A3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5CDC-147D-4F64-A8BD-772EA830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5C8C-4051-45FB-8486-C8B8584B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6D7B-AFBF-49F1-ACF4-7D0BA122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AD12-13DA-4A08-8741-F989542D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95F7-69EA-4359-993C-F22E4C04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3CC-8B8C-4D2D-B13A-E3EA3EF1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8CE2-4C1D-4E96-A017-A5C62989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9964-B475-4CFA-90F7-127F6DA6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3CBE-5377-4186-8219-A521CBD8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19A1-2521-40AB-B1E6-91CA564B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3CFD-4497-4594-84F6-6476100F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6FD00-CF59-4C9B-A256-34A53831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487FA-468C-426E-AF02-023AB274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5A0D1-8AE6-40AA-8F61-EA243D00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434B6-CF20-4AB6-9010-1F75A314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8896B-4CD3-4CD2-91F3-239EDC5E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EB5-698D-4E76-BFA8-6EC9F5ED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D7F26-DC0A-4A63-A94F-8E67CB1D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21384-A0B5-4D88-A9C8-EF178C96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A69FB-0A97-4108-8E27-A29BBB52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05569-4475-40A8-98B2-46649948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5CF1B-09DF-4FFD-AE0C-29B48DEA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0ED42-4F94-4F37-919A-C0C44A5F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6FB8C-4EAD-429E-862F-D4D2D1D4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831EB-B04B-4967-B732-452905BB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F2FC1-79CB-4873-823E-C9E4DD4D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CECFE-8A99-4D56-9A2E-E718EADE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AB7-3B16-48E7-B37B-9563B0CD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0889F-5DC8-4870-9A8E-149A8E5B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DE3EF-2098-40C7-B634-37DBB9EF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54DB9-9B91-4868-85E0-1E2856D1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F86CC-E877-42E0-88B9-87BBA54B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6D049-8A99-474B-850F-0B186C00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507A2-CBEF-4D9D-AD1F-6A0387E5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ACA7F-67CA-4C8B-946D-90FAF887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0EFCB-EF21-4CBB-8E44-788FD2E2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5EA66-D16B-4FC2-BDD6-BCDC85D0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1C1-0EFE-412B-8079-8ED7C269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DDE-B5A8-458D-9FD1-47102CCA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99B-8F9A-4629-AA8E-DC6871B4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AD9-C7D5-4AF7-9643-C0F4EAC6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670-6C11-4AB7-87A7-343633DB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26B7-E4C2-43E4-B8FA-BACB13CB0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DC6C-EADF-457B-9A23-15B614098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EF1D-3364-433B-8C5F-339584EEB41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5120-2906-4E24-BB42-94A537E79A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9185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ff"/>
                </a:solidFill>
                <a:latin typeface="Arial"/>
              </a:rPr>
              <a:t>Дания-родина великого сказочника Ханса Кристиана Андерсена</a:t>
            </a:r>
            <a:r>
              <a:rPr b="0" lang="ru-RU" sz="4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643280" y="2420640"/>
            <a:ext cx="450072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Королевство Дания располож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на 406 острова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почти 100 из них населе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Самые большие острова,входящие в состав Дании,-</a:t>
            </a:r>
            <a:r>
              <a:rPr b="0" i="1" lang="ru-RU" sz="2400" spc="-1" strike="noStrike">
                <a:solidFill>
                  <a:srgbClr val="008ae8"/>
                </a:solidFill>
                <a:latin typeface="Arial"/>
              </a:rPr>
              <a:t>Зеландия</a:t>
            </a: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 со </a:t>
            </a:r>
            <a:r>
              <a:rPr b="0" i="1" lang="ru-RU" sz="2400" spc="-1" strike="noStrike">
                <a:solidFill>
                  <a:srgbClr val="008ae8"/>
                </a:solidFill>
                <a:latin typeface="Arial"/>
              </a:rPr>
              <a:t>столицей</a:t>
            </a: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8ae8"/>
                </a:solidFill>
                <a:latin typeface="Arial"/>
              </a:rPr>
              <a:t>Королевства </a:t>
            </a:r>
            <a:r>
              <a:rPr b="0" i="1" lang="ru-RU" sz="2400" spc="-1" strike="noStrike" u="sng">
                <a:solidFill>
                  <a:srgbClr val="008ae8"/>
                </a:solidFill>
                <a:uFillTx/>
                <a:latin typeface="Arial"/>
              </a:rPr>
              <a:t>Копенгагеном</a:t>
            </a: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;Фюн,Лолла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Фальстер,Борхоль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1944720" cy="13096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2987640" y="321300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684360" y="4724280"/>
            <a:ext cx="2232000" cy="1494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1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296960" y="836640"/>
            <a:ext cx="48466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588000" y="4135320"/>
            <a:ext cx="2376720" cy="17272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7236000" y="1052640"/>
            <a:ext cx="144936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900000" y="83664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611280" y="4508640"/>
            <a:ext cx="2646360" cy="19843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203640" y="981000"/>
            <a:ext cx="3456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амятник андерсеновской Русалочке в столице Д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на всё так же одиноко грустит на камне в ожидании своего при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коло неё всегда много посет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900"/>
                            </p:stCondLst>
                            <p:childTnLst>
                              <p:par>
                                <p:cTn id="35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9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8400"/>
                            </p:stCondLst>
                            <p:childTnLst>
                              <p:par>
                                <p:cTn id="3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0" y="259920"/>
            <a:ext cx="41148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Андерсену нравилось </a:t>
            </a: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путешествовать.</a:t>
            </a: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 Будучи уже известным писателем, он побывал во многих странах: </a:t>
            </a: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Англии, Итали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      </a:t>
            </a: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Франци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     </a:t>
            </a: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Швейцарии</a:t>
            </a: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611280" y="4365720"/>
            <a:ext cx="3047760" cy="22572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4572000" y="5505480"/>
            <a:ext cx="1809720" cy="13525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611280" y="404640"/>
            <a:ext cx="304776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6732720" y="5445000"/>
            <a:ext cx="1904760" cy="1219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6"/>
          <a:stretch/>
        </p:blipFill>
        <p:spPr>
          <a:xfrm>
            <a:off x="468360" y="1989000"/>
            <a:ext cx="3333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000"/>
                            </p:stCondLst>
                            <p:childTnLst>
                              <p:par>
                                <p:cTn id="4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642920" y="549000"/>
            <a:ext cx="396108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Но не забывал и о родной Дании, особенно </a:t>
            </a:r>
            <a:r>
              <a:rPr b="0" i="1" lang="en-US" sz="2400" spc="-1" strike="noStrike">
                <a:solidFill>
                  <a:srgbClr val="ff00ff"/>
                </a:solidFill>
                <a:latin typeface="Tahoma"/>
              </a:rPr>
              <a:t>любил сказочник западную часть острова Зеландия</a:t>
            </a: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 с многочисленными замками и роскошными поместья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i="1" lang="en-US" sz="2400" spc="-1" strike="noStrike" u="sng">
                <a:solidFill>
                  <a:srgbClr val="0066ff"/>
                </a:solidFill>
                <a:uFillTx/>
                <a:latin typeface="Tahoma"/>
              </a:rPr>
              <a:t>Величественная архитектура зданий, диковинная парковая растительность</a:t>
            </a: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 будоражили воображение писателя, навевая сюжеты будущих сказ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3673440" cy="33847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556000" y="2565360"/>
            <a:ext cx="4286160" cy="32101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Tahoma"/>
              </a:rPr>
              <a:t>В Копенгагене, на площади Ратуши,</a:t>
            </a:r>
            <a:r>
              <a:rPr b="0" lang="en-US" sz="3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602000"/>
                </a:solidFill>
                <a:latin typeface="Tahoma"/>
              </a:rPr>
              <a:t>где жил и работал Андерсен, сооружен благодарными потомками</a:t>
            </a:r>
            <a:r>
              <a:rPr b="0" lang="en-US" sz="3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00ff"/>
                </a:solidFill>
                <a:latin typeface="Tahoma"/>
              </a:rPr>
              <a:t>памятник сказочнику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опенгаген-приветливый город,выросший на берегу моря в 1167 году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1640" y="2133720"/>
            <a:ext cx="4319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столицы переводится как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«Торговая гаван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в настоящее время самый популярный вид транспорта Дании-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велосипед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10508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Страницы жизни Андерсен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49672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 апреля 1805 года в                                     </a:t>
            </a: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г.Оденсе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(остров Фюн)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в семье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сапожника и прачки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родился Х.К.Андерс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лагодаря стараниям заботливых родителей  сын совсем не замечал беднос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227640" y="2708280"/>
            <a:ext cx="2205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3961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аренный богатой фантазией, мальчик часами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мог играть оди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му не нужны были шумные дет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па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3194280" cy="3789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23335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995640" y="333000"/>
            <a:ext cx="4897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жды отец сводил Ханса на представление  в настоящий </a:t>
            </a: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теат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атр    стал  самым излюбленным мес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ьчика.Но  часто спектакли посещать он не мог,поэтому познакомился с расклейщиком афиш,который ежедневно дарил Андерсену по афи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403280" y="475920"/>
            <a:ext cx="68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 у Андерсена появилась новая забава:сидя в своей каморке,он прочитывал название спектакля и к нему сочинял пьесу.Затем шил для кукол костюмы и разыгрывал комед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00ff"/>
                </a:solidFill>
                <a:latin typeface="Tahoma"/>
              </a:rPr>
              <a:t>Мальчик мечтал о сце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да ему исполнилось 14 лет,умер отец,и Ханс отправляетя в Копенгаген,мечтая  о карьере </a:t>
            </a: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танцовщи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пев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долговязого, неуклюжего юношу не приняли в Королевский театр даже учеником актё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35344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Tahoma"/>
              </a:rPr>
              <a:t>Андерсену посчастливилось встретиться с хорошими и мудрыми людьми, которые уговорили его учитьс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3628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602000"/>
                </a:solidFill>
                <a:latin typeface="Tahoma"/>
              </a:rPr>
              <a:t>В 17 лет взрослый юноша уселся за парту с совсем маленькими деть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2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602000"/>
                </a:solidFill>
                <a:latin typeface="Tahoma"/>
              </a:rPr>
              <a:t>Учение  давалось не просто. Но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упорство</a:t>
            </a:r>
            <a:r>
              <a:rPr b="0" lang="en-US" sz="3200" spc="-1" strike="noStrike">
                <a:solidFill>
                  <a:srgbClr val="602000"/>
                </a:solidFill>
                <a:latin typeface="Tahoma"/>
              </a:rPr>
              <a:t> и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трудолюбие </a:t>
            </a:r>
            <a:r>
              <a:rPr b="0" lang="en-US" sz="3200" spc="-1" strike="noStrike">
                <a:solidFill>
                  <a:srgbClr val="602000"/>
                </a:solidFill>
                <a:latin typeface="Tahoma"/>
              </a:rPr>
              <a:t>помогли Андерсену закончить учебу в гимназии и поступить в университ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924000" y="404640"/>
            <a:ext cx="52196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Всё это время он продолжал писать трагедии, комедии, стихи и романы, веря в свои си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Он мечтал стать  знаменитым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Но путь к славе нелёгок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Начинающего писателя преледовали непонимание и насмешки окружающ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И только к 30 годам,после того, как вышли в свет «Сказки для детей»,     Андерсен понял,    что будет СКАЗОЧНИ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370836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859280" y="404280"/>
            <a:ext cx="396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сего за свою жизнь Андерсен написал </a:t>
            </a: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более 150 сказ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от только некоторые из ни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Снежная королева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Русалочка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Дюймовочка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Огниво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Новое платье короля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Свинопас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008240" cy="43210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88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88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64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16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72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1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96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44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5:22:55Z</dcterms:created>
  <dc:creator>Евгения</dc:creator>
  <dc:description/>
  <dc:language>en-US</dc:language>
  <cp:lastModifiedBy>USER</cp:lastModifiedBy>
  <dcterms:modified xsi:type="dcterms:W3CDTF">2007-04-27T04:36:39Z</dcterms:modified>
  <cp:revision>7</cp:revision>
  <dc:subject/>
  <dc:title>Дания-родина великого сказочника Ханса Кристиана Андерсена.</dc:title>
</cp:coreProperties>
</file>