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wmf" ContentType="image/x-wmf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7D2-DA42-4655-AB4E-328A0D2C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C4D-A86B-4473-84C4-9D49AF9E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FA7-EF6D-4A7C-BD09-9CD588B7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474-9867-4081-B372-9951735E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4BFC-A1B2-4632-939E-E905022B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5B51-D19E-4475-9CA5-BF44AB0D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187A-0D0D-4138-B144-D9E1F39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585-7D8A-4C0F-8398-F0526129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A1AD-DEEB-4921-AF16-B57EA9B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9D04-A1D4-4F05-887B-E767F4FF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967-FADA-46D7-82E7-B05A96A7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5AE-5784-4678-A495-E34FEED8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07C2-B318-4E94-B78C-03C16EC7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70FE-B2E2-4EEC-ACE4-A524E4D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2359-A002-4C4E-902E-9711C3B4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D21C-45AC-424D-9FFD-EA9F6592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63DC-7E34-411B-BDBF-5E2C2903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C42-58D9-433D-9276-F2CEBE2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D79-02A7-479A-8940-5268D33C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BC2-AD86-450A-8F97-047AB55E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195-1B78-4938-9EA4-51C3340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321-B7D3-4AB5-9F30-099D374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643-4998-4F02-9E22-FFACEB7B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393-B580-4874-AE8C-7532B58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7756-6A78-4C9F-9AC9-60EE75688A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DBED-7E16-489E-AF80-F04BAF830F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446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ahoma"/>
              </a:rPr>
              <a:t>Франция: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19280" y="34290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к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«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возрождению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                   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величия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71640" y="2924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к Шира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2035440" cy="266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64000" y="28526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Шарль де Гол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944720" cy="266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2000" y="3161520"/>
            <a:ext cx="368136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Ширак  Жак Рене - французск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государственный деяте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езидент Фран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 1995-1997гг. В1972-74 минис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ельского хозяйства.1976 основа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бственную политическу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артию «Объединение в защи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республики» 1977 г-мэр Париж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ыграл значительную роль в перегово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 взбунтовавшимися студентами и бастующим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Рабочими в 1968 го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6400" y="3129480"/>
            <a:ext cx="370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Шарль де Голль (1890-1970),француз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государственный деяте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езидент в 1959-1969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  1944- январе 1946 де Голль- гл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ременного правительства Фран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осле войны основатель и руководитель парт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«Объединение французского  народ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 1958 премьер- министр Фран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о инициативе де Голля была подготовл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новая конституция (1958), расширявш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ава президента. В годы его президен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Франция  осуществляла планы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зданию собственных ядерных си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ышла из военной организации НАТ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значительное развитие получил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ветско - французское  сотрудничество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713800" cy="633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559720" y="6532560"/>
          <a:ext cx="541440" cy="2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9720" y="6532560"/>
                    <a:ext cx="5414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206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88000" y="3211920"/>
            <a:ext cx="36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                      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Валери Жискар д’Эстен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514600" cy="2840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32846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н Мон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789360"/>
            <a:ext cx="36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603600"/>
            <a:ext cx="4032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Родился в 1888году. Французский экономист и финансист, инициатор подписания Парижского соглашения  о создании Европейского объединения  угля и стали. За вклад в западноевропейскую интеграцию назван «отцтм Европы». Умер в 1979год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449440" cy="288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229000" y="3569760"/>
            <a:ext cx="33660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Жискар д  Эстен Валери- французск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государственный деятель, президен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в 1974-1981 гг. В 1962-66 и 1969-74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министр экономики и финансов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Один из лидеров Союза за французскую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ю, председатель (с 1988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270828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Жорж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Помпи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951280"/>
            <a:ext cx="3887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Родился 5 июля 1911г. В1945г-сотрудник кабинета генерала де Голля,в 1946г-стал его помощником, а в 1948г-руководиелем администрации.В 1961 вёл переговоры с Временным правительством Алжирской республики, которые закончились подписанием Эвианских соглашений. Во время событий 1968года провел перегово-ры с профсоюзными лидерами, завершившиеся подписанием так называемых Греннельских соглашений.В1969г- президент Франции. На президентском посту сумел смягчить негативные последствия девальвации франка, наладил отношения с арабским Востоком,первым из лидеров западноевропейских государств посетил Китай(1973г). Умер в Париже 2 апреля 1974год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64000" y="115920"/>
            <a:ext cx="2232360" cy="2519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435640" y="2637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Франсуа Миттер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07120" y="2941200"/>
            <a:ext cx="365400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Миттеран Франсуа-четвертый президент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Пятой республики 1981-95. 1-й секретарь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французской Социалистической парт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в 1971-81. В 1965-68 лидер Федер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ческих и социалистических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левых сил.В 1965 году основал Федерацию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ческих и социалистических левых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Сил (ФДСЛС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39640" y="189000"/>
            <a:ext cx="1944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56880"/>
            <a:ext cx="82296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Политический словарь новейшей истории Франц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61800"/>
            <a:ext cx="896472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Tahoma"/>
              </a:rPr>
              <a:t>ФКП</a:t>
            </a:r>
            <a:r>
              <a:rPr b="0" lang="en-US" sz="1600" spc="-1" strike="noStrike">
                <a:solidFill>
                  <a:srgbClr val="ff9900"/>
                </a:solidFill>
                <a:latin typeface="SimSun"/>
                <a:ea typeface="SimSun"/>
              </a:rPr>
              <a:t>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Французская коммун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ФИО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циал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МРП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Народно-республиканское дви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Ультраколониалисты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торонники сохранения колониальной импе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ОАС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«Организация тайной арм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ОПР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объединение в поддержку республики(созданное голлиста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ФД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юз за демократическую Фран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ФСП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Французская социал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Временный режим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время,когда было сформированно Временное правительст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ЮДР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юз в защиту республи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Парламентская республика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разновидность современной формы государственного правления,при которой верховная роль в организации государственной жизни принадлежит парламен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Президентская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 Unicode MS"/>
              </a:rPr>
              <a:t>республика- </a:t>
            </a:r>
            <a:r>
              <a:rPr b="0" lang="ru-RU" sz="1600" spc="-1" strike="noStrike">
                <a:solidFill>
                  <a:srgbClr val="ff9900"/>
                </a:solidFill>
                <a:latin typeface="Arial Unicode MS"/>
              </a:rPr>
              <a:t>разновидность современной формы государственного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правления, которая наряду с парламентизмом соединяет в руках президента поллномочия главы государства и главы прави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Голлизм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это обновлённый националистический реформизм с авторитарными тенденц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«Гошисты»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 от французского «левый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27640" y="476280"/>
            <a:ext cx="2160360" cy="266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68360" y="476280"/>
            <a:ext cx="1989000" cy="2663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859280" y="386064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124000" y="278136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948360" y="1557360"/>
            <a:ext cx="2038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64000" y="4581360"/>
            <a:ext cx="2376720" cy="187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2278080" cy="201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292720" y="33336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95280" y="2349360"/>
            <a:ext cx="2081160" cy="1513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916360" y="1628640"/>
            <a:ext cx="273528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6256440" y="2349360"/>
            <a:ext cx="2131920" cy="15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384804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8612280" y="6567480"/>
          <a:ext cx="503280" cy="27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>
                    <a:hlinkClick r:id="" action="ppaction://hlinkshowjump?jump=firs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2280" y="6567480"/>
                    <a:ext cx="5032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8785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35867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867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5867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Карта мира с отмеченными на ней условными знаками территории Франции и зонами региональных конфликтов второй половины ХХ века, в которых страна принимала учас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Хронологическая таблица:Французская республика в 1945-2000гг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Галерея портретов крупнейших политиков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Политический словарь новейшей истории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Фотографии, карикатуры, иллюстрации, характеризующие различные аспекты социально-экономической, общест-венно-политической культурной жизни Франции во второй половине ХХ ве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502480" y="6502320"/>
          <a:ext cx="574920" cy="3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02480" y="6502320"/>
                    <a:ext cx="57492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Цел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Изучение социального, экономического, политического положения послевоенной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Определение роли личности в новейшей истории   Франции при характеристики ее президент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Ознакомление с политическими терминами послевоенной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515440" y="6523200"/>
          <a:ext cx="576000" cy="31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15440" y="6523200"/>
                    <a:ext cx="5760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515440" y="6508800"/>
          <a:ext cx="5760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5440" y="6508800"/>
                    <a:ext cx="5760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395280" y="1052640"/>
            <a:ext cx="8353440" cy="540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>
            <a:lum bright="-14000"/>
          </a:blip>
          <a:stretch/>
        </p:blipFill>
        <p:spPr>
          <a:xfrm>
            <a:off x="2700360" y="4221000"/>
            <a:ext cx="180036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3640" y="60213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0000"/>
                </a:solidFill>
                <a:latin typeface="Arial"/>
              </a:rPr>
              <a:t>Алжи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5950080"/>
            <a:ext cx="1429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6800" y="59799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24360" y="6021360"/>
            <a:ext cx="216000" cy="144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952440" y="5978520"/>
            <a:ext cx="144360" cy="216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22920" y="1068480"/>
          <a:ext cx="3024360" cy="292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2920" y="1068480"/>
                    <a:ext cx="3024360" cy="292104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H="1">
            <a:off x="6659280" y="1484280"/>
            <a:ext cx="144360" cy="1443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1484280"/>
            <a:ext cx="144360" cy="144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89000"/>
            <a:ext cx="792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Arial"/>
              </a:rPr>
              <a:t>Карта региональных конфликтов послевоенной Франци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Хронологическая таблица «Французская республика в 1945-2000-е гг.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268280"/>
          <a:ext cx="8291520" cy="5261040"/>
        </p:xfrm>
        <a:graphic>
          <a:graphicData uri="http://schemas.openxmlformats.org/drawingml/2006/table">
            <a:tbl>
              <a:tblPr/>
              <a:tblGrid>
                <a:gridCol w="1225440"/>
                <a:gridCol w="2235240"/>
                <a:gridCol w="2305080"/>
                <a:gridCol w="2525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ериод новейшей истор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артийно-политическая сис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4-19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ременный режим.Наиболее влиятельные партии:ФКП,СФИО,МРП.Правительство возглавил Шарль де Голл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осстановлен демокра-тический стро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осуществлена национа-лизация ряда отраслей экономики,банков и страховых компани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осстановленно трудо-вое и социальное зако-нодательство времен На-родного фрон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стие в оккупации Герман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6-195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Четвертая республи-ка.Франция провозг-лашена парламентс-кой республикой.Главную роль играет двухпа-латный парламент,он же избирал президен-та,имевшего узкие пол-номоч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6г-вступление в силу новой Конституци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8г-промышленное производство достигло довоенного уровн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9г-отмена карточной систем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0г-начало экономиче-кого подъё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лониальные войны:во Вьетнаме(1946-1954гг),в Алжире(1954-1962гг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0г-уход Франции из Индокита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6г-Франция предостави-ла независимость Мароко и Тунис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788000" y="162864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16430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12682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Основн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17002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ahoma"/>
              </a:rPr>
              <a:t>Внутренней поли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1700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ahoma"/>
              </a:rPr>
              <a:t>Внешней поли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066920" y="162864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114480"/>
          <a:ext cx="8569080" cy="665460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665440"/>
                <a:gridCol w="2592360"/>
              </a:tblGrid>
              <a:tr h="36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8-19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ятая республика. Франция становилась президен-тской республикой. Из-брание де Голля прези-дент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2г-изменение поряд-ка избрания президен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Франция превратилась в современную индустри-альную державу с пере-довой многоотраслевой промышленно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8г-студенческие де-монстрации в Париж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Создание во Франции свое-го собственного ядерного оруж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0г-выведение войск Франции из-под командова-ния НАТО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вязей с СССР и странами Восточной Европ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0г-предоставление неза-висимости 14 африканским колониям Франци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2г-соглашение о предо-ставлении Алжиру независи-мо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69-19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Жоржа Помпи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Ослаблено государствен-ное регулирование экономичес-кой жизн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оциального за-конодатель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Улучшение отношений с СШ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Франция не возражала против принятия в 1973г Ве-ликобритании в ЕЭ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74-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возгла-вил представитель независимых Валери Жискар д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`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Эстен. Деление политических сил на 4 крупные партии:ОПР,СФД, социалистическая пар-тия и компарт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проведение многократных повышениий минимальной заработной плат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снижение избирательных ценз с 20 до 18 лет, разреше-ны або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8785440" cy="631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13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24000" y="2843280"/>
          <a:ext cx="8569080" cy="384012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521080"/>
                <a:gridCol w="2736720"/>
              </a:tblGrid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95-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Жака Шира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Приватизация почти всего государственного сектора экономик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ослабление государст-венного регулирования бизнесс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борьба с инфляци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одолжил путь Миттерана к более глубокой интеграции в ЕЭС.В 1995г Ширак отказался прекратить испытания ядерного оружия на аттоле Шуруроа во Французской Полинезии. После непродолжительных колебаний поддержал военную операцию НАТО против Югослав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97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Лионель Жоспен под лозунгом «Франция для всех» становится президент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одолжило политику правых в области приватизации,которая со-четалась с активной соци-альной политико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 концу 90-х годов Франция вышла на первое место в Европе по привлеченным иностранным капиталовложе-ния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4000" y="404640"/>
          <a:ext cx="8569080" cy="243072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521080"/>
                <a:gridCol w="2736720"/>
              </a:tblGrid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81-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левых сил.Президентом становится социалист Франсуа Миттера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Национализация ряда круп-ных финансово-экономичес-ких групп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оциальной программ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введение 5-недельного оп-лачиваемого отпуск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введение государственного контроля над ценами и зарплато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Миттеран поддерживал идею создания валютно-экономического и политического союза стран Европейского сообщества, ратовал за всестороннее развитие отношений Франции с США, ФРГ и СССР, придавал большое значение контактам с африканскими государств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5741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41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Галерея портретов крупнейших политиков Фран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72872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342900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н Мон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42900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Жорж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Помпи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3357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к Шира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68360" y="608832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                      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Валери Жискар д’Эстен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158436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609300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Шарль де Гол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Франсуа Миттер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1771560" cy="2116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177192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3203640" y="1268280"/>
            <a:ext cx="17920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2:33:22Z</dcterms:created>
  <dc:creator>Admin</dc:creator>
  <dc:description/>
  <dc:language>en-US</dc:language>
  <cp:lastModifiedBy>User</cp:lastModifiedBy>
  <dcterms:modified xsi:type="dcterms:W3CDTF">2006-03-20T12:31:43Z</dcterms:modified>
  <cp:revision>23</cp:revision>
  <dc:subject/>
  <dc:title>Франция:</dc:title>
</cp:coreProperties>
</file>