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6.jpeg" ContentType="image/jpeg"/>
  <Override PartName="/ppt/media/image19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wmf" ContentType="image/x-wmf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0DC-854B-4753-B474-59D3433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4B2-7814-4628-8CEE-A8AFEE8F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224-0727-4CB2-868D-D66ECECB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413-50B4-4527-BEED-64564857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EEB6-0898-4FDF-A7BD-D13CA5BF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1BB6-0F9B-4FC2-AB25-4D506EA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1298-8A3F-4047-8E03-296BCEB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D8A2-EBDE-489F-8069-90C85AD0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90AB-FB5D-4EC8-A2D0-0B26F64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6A6-9A92-4647-BB58-B0043B44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D4EC-0DD4-49E4-8CD7-BC07813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D0A-0C5C-4844-929C-C923AB69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B4C4-42E9-4BDF-A4E2-92848AF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7711-932D-4CFF-9847-33C3C94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E2DA-BDA3-4E39-A077-B12AB42A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C65-3E49-40E2-AFC0-DAA75AC4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F2BA-0B2B-4F93-9AA2-43535285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E2D-925E-4BED-AB80-342BEE46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08C-7ED4-4792-A303-6A7343C1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D49-F343-4454-960A-162AE64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DFC-4E0B-4142-AA1D-AC2EDB16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A95-3490-4CB3-A147-8BEFF45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197-08B4-4206-BCD9-3F0BF9DA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5EC-82B5-40C5-A9E4-F0F169DD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2EE-0A8D-42AA-A317-61E62695CA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6BD7-C64D-4038-93E1-4523914550B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446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Tahoma"/>
              </a:rPr>
              <a:t>Франция: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19280" y="34290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к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«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озрождению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величия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2924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2035440" cy="266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64000" y="285264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944720" cy="266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2000" y="3161520"/>
            <a:ext cx="368136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ирак  Жак Рене - французск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Фран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1995-1997гг. В1972-74 минис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ельского хозяйства.1976 основа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бственную политическу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артию «Объединение в защит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еспублики» 1977 г-мэр Парижа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ыграл значительную роль в переговор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 взбунтовавшимися студентами и бастующим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Рабочими в 1968 го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6400" y="3129480"/>
            <a:ext cx="370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Шарль де Голль (1890-1970),француз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осударственный деяте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зидент в 1959-1969.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 1944- январе 1946 де Голль- гл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ременного правительства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сле войны основатель и руководитель парт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«Объединение французского  народ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 1958 премьер- министр Фран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 инициативе де Голля была подготовле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новая конституция (1958), расширявш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ава президента. В годы его президен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Франция  осуществляла планы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зданию собственных ядерных си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вышла из военной организации НАТ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значительное развитие получил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ветско - французское  сотрудничество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713800" cy="633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559720" y="6532560"/>
          <a:ext cx="54144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32560"/>
                    <a:ext cx="5414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206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788000" y="3211920"/>
            <a:ext cx="36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514600" cy="2840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42920" y="328464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78936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03600"/>
            <a:ext cx="403236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в 1888году. Французский экономист и финансист, инициатор подписания Парижского соглашения  о создании Европейского объединения  угля и стали. За вклад в западноевропейскую интеграцию назван «отцтм Европы». Умер в 1979год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449440" cy="2881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29000" y="3569760"/>
            <a:ext cx="33660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Жискар д  Эстен Валери- французский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государственный деятель, президент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4-1981 гг. В 1962-66 и 1969-74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нистр экономики и финансов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Один из лидеров Союза за французску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ю, председатель (с 1988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270828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51280"/>
            <a:ext cx="3887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9900"/>
                </a:solidFill>
                <a:latin typeface="Tahoma"/>
              </a:rPr>
              <a:t>Родился 5 июля 1911г. В1945г-сотрудник кабинета генерала де Голля,в 1946г-стал его помощником, а в 1948г-руководиелем администрации.В 1961 вёл переговоры с Временным правительством Алжирской республики, которые закончились подписанием Эвианских соглашений. Во время событий 1968года провел перегово-ры с профсоюзными лидерами, завершившиеся подписанием так называемых Греннельских соглашений.В1969г- президент Франции. На президентском посту сумел смягчить негативные последствия девальвации франка, наладил отношения с арабским Востоком,первым из лидеров западноевропейских государств посетил Китай(1973г). Умер в Париже 2 апреля 1974год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64000" y="115920"/>
            <a:ext cx="2232360" cy="2519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435640" y="2637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07120" y="2941200"/>
            <a:ext cx="365400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Миттеран Франсуа-четвертый президент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Пятой республики 1981-95. 1-й секретарь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французской Социалистической парт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в 1971-81. В 1965-68 лидер Федер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левых сил.В 1965 году основал Федерацию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Демократических и социалистических левых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9900"/>
                </a:solidFill>
                <a:latin typeface="Arial"/>
              </a:rPr>
              <a:t>Сил (ФДСЛС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545680" y="6532560"/>
          <a:ext cx="541080" cy="2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5680" y="6532560"/>
                    <a:ext cx="54108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539640" y="189000"/>
            <a:ext cx="1944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8120" y="56880"/>
            <a:ext cx="82296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Политический словарь новейшей истории Франци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361800"/>
            <a:ext cx="896472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Tahoma"/>
              </a:rPr>
              <a:t>ФКП</a:t>
            </a:r>
            <a:r>
              <a:rPr b="0" lang="en-US" sz="1600" spc="-1" strike="noStrike">
                <a:solidFill>
                  <a:srgbClr val="ff9900"/>
                </a:solidFill>
                <a:latin typeface="SimSun"/>
                <a:ea typeface="SimSun"/>
              </a:rPr>
              <a:t>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Французская коммун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ИО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МР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Народно-республиканское дви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Ультраколониалисты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торонники сохранения колониальной импер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АС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«Организация тайной арми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ОП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объединение в поддержку республики(созданное голлиста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СФД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за демократическую Фран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ФСП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Французская социалистическая парт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Временный режи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время,когда было сформированно Временное правительств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ЮДР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Союз в защиту республ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арламентская 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разновидность современной формы государственного правления,при которой верховная роль в организации государственной жизни принадлежит парламен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Президентская </a:t>
            </a: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 Unicode MS"/>
              </a:rPr>
              <a:t>республика- </a:t>
            </a:r>
            <a:r>
              <a:rPr b="0" lang="ru-RU" sz="1600" spc="-1" strike="noStrike">
                <a:solidFill>
                  <a:srgbClr val="ff9900"/>
                </a:solidFill>
                <a:latin typeface="Arial Unicode MS"/>
              </a:rPr>
              <a:t>разновидность современной формы государственного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правления, которая наряду с парламентизмом соединяет в руках президента поллномочия главы государства и главы прави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Голлизм- 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это обновлённый националистический реформизм с авторитарными тенденц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9900"/>
                </a:solidFill>
                <a:uFillTx/>
                <a:latin typeface="Arial"/>
              </a:rPr>
              <a:t>«Гошисты»-</a:t>
            </a: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  от французского «левый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27640" y="476280"/>
            <a:ext cx="2160360" cy="2665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1989000" cy="266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859280" y="386064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124000" y="278136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6948360" y="1557360"/>
            <a:ext cx="2038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64000" y="4581360"/>
            <a:ext cx="2376720" cy="1872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278080" cy="201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292720" y="333360"/>
            <a:ext cx="2448000" cy="1655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95280" y="2349360"/>
            <a:ext cx="2081160" cy="1513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2916360" y="1628640"/>
            <a:ext cx="273528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256440" y="2349360"/>
            <a:ext cx="2131920" cy="15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8545680" y="6527880"/>
          <a:ext cx="549000" cy="301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5680" y="6527880"/>
                    <a:ext cx="54900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384804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8612280" y="6567480"/>
          <a:ext cx="503280" cy="27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>
                    <a:hlinkClick r:id="" action="ppaction://hlinkshowjump?jump=first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612280" y="6567480"/>
                    <a:ext cx="5032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785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35867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867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35867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Карта мира с отмеченными на ней условными знаками территории Франции и зонами региональных конфликтов второй половины ХХ века, в которых страна принимала учас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Хронологическая таблица:Французская республика в 1945-2000гг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Галерея портретов крупнейших политиков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Политический словарь новейшей истории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Фотографии, карикатуры, иллюстрации, характеризующие различные аспекты социально-экономической, общест-венно-политической культурной жизни Франции во второй половине ХХ ве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502480" y="6502320"/>
          <a:ext cx="574920" cy="3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4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02480" y="6502320"/>
                    <a:ext cx="5749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Цели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Изучение социального, экономического, политического положения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пределение роли личности в новейшей истории   Франции при характеристики ее президент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</a:rPr>
              <a:t>Ознакомление с политическими терминами послевоенной Фран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15440" y="6523200"/>
          <a:ext cx="576000" cy="317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15440" y="6523200"/>
                    <a:ext cx="576000" cy="31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515440" y="6508800"/>
          <a:ext cx="57600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5440" y="6508800"/>
                    <a:ext cx="57600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395280" y="1052640"/>
            <a:ext cx="8353440" cy="5400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2700360" y="4221000"/>
            <a:ext cx="1800360" cy="115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03640" y="602136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20000"/>
                </a:solidFill>
                <a:latin typeface="Arial"/>
              </a:rPr>
              <a:t>Алжи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5950080"/>
            <a:ext cx="1429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6800" y="597996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24360" y="6021360"/>
            <a:ext cx="21600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952440" y="5978520"/>
            <a:ext cx="144360" cy="2160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22920" y="1068480"/>
          <a:ext cx="3024360" cy="292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2920" y="1068480"/>
                    <a:ext cx="3024360" cy="292104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H="1">
            <a:off x="6659280" y="1484280"/>
            <a:ext cx="144360" cy="14436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1484280"/>
            <a:ext cx="144360" cy="14436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89000"/>
            <a:ext cx="792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Arial"/>
              </a:rPr>
              <a:t>Карта региональных конфликтов послевоенной Франци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Хронологическая таблица «Французская республика в 1945-2000-е гг.»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268280"/>
          <a:ext cx="8291520" cy="5261040"/>
        </p:xfrm>
        <a:graphic>
          <a:graphicData uri="http://schemas.openxmlformats.org/drawingml/2006/table">
            <a:tbl>
              <a:tblPr/>
              <a:tblGrid>
                <a:gridCol w="1225440"/>
                <a:gridCol w="2235240"/>
                <a:gridCol w="2305080"/>
                <a:gridCol w="2525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ериод новейшей истор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артийно-политическая систе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4-19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ременный режим.Наиболее влиятельные партии:ФКП,СФИО,МРП.Правительство возглавил Шарль де Голл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 демокра-тический стро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осуществлена национа-лизация ряда отраслей экономики,банков и страховых компаний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восстановленно трудо-вое и социальное зако-нодательство времен На-родного фро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частие в оккупации Герман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-19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Четвертая республи-ка.Франция провозг-лашена парламентс-кой республикой.Главную роль играет двухпа-латный парламент,он же избирал президен-та,имевшего узкие пол-номоч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6г-вступление в силу новой Конститу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8г-промышленное производство достигло довоенного уровн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49г-отмена карточной систе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начало экономиче-кого подъём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лониальные войны:во Вьетнаме(1946-1954гг),в Алжире(1954-1962гг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0г-уход Франции из Индокита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6г-Франция предостави-ла независимость Мароко и Тунис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788000" y="1628640"/>
            <a:ext cx="41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16430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2682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Tahoma"/>
              </a:rPr>
              <a:t>Основные мероприят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67280" y="170028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утрен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1700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ahoma"/>
              </a:rPr>
              <a:t>Внешней поли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66920" y="162864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114480"/>
          <a:ext cx="8569080" cy="665460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665440"/>
                <a:gridCol w="2592360"/>
              </a:tblGrid>
              <a:tr h="36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58-19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ятая республика. Франция становилась президен-тской республикой. Из-брание де Голля прези-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изменение поряд-ка избрания президен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превратилась в современную индустри-альную державу с пере-довой многоотраслевой промышленно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8г-студенческие де-монстрации в Париж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оздание во Франции свое-го собственного ядерного оруж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выведение войск Франции из-под командова-ния НАТО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вязей с СССР и странами Восточной Европ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0г-предоставление неза-висимости 14 африканским колониям Франци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1962г-соглашение о предо-ставлении Алжиру независи-мо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69-19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оржа Помпид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о государствен-ное регулирование экономичес-кой жиз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го за-конодательств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Улучшение отношений с СШ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Франция не возражала против принятия в 1973г Ве-ликобритании в ЕЭ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74-19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возгла-вил представитель независимых Валери Жискар д</a:t>
                      </a: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`</a:t>
                      </a:r>
                      <a:r>
                        <a:rPr b="0" lang="ru-RU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Эстен. Деление политических сил на 4 крупные партии:ОПР,СФД, социалистическая пар-тия и компарт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оведение многократных повышениий минимальной заработной плат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снижение избирательных ценз с 20 до 18 лет, разреше-ны абор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31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>
                    <a:hlinkClick r:id="" action="ppaction://hlinkshowjump?jump=previousslide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13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24000" y="2843280"/>
          <a:ext cx="8569080" cy="38401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5-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Жака Шира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Приватизация почти всего государственного сектора экономи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ослабление государст-венного регулирования бизнесс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борьба с инфляци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 путь Миттерана к более глубокой интеграции в ЕЭС.В 1995г Ширак отказался прекратить испытания ядерного оружия на аттоле Шуруроа во Французской Полинезии. После непродолжительных колебаний поддержал военную операцию НАТО против Югослав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97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Лионель Жоспен под лозунгом «Франция для всех» становится президенто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одолжило политику правых в области приватизации,которая со-четалась с активной соци-альной политик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 концу 90-х годов Франция вышла на первое место в Европе по привлеченным иностранным капиталовложе-ниям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4000" y="404640"/>
          <a:ext cx="8569080" cy="2430720"/>
        </p:xfrm>
        <a:graphic>
          <a:graphicData uri="http://schemas.openxmlformats.org/drawingml/2006/table">
            <a:tbl>
              <a:tblPr/>
              <a:tblGrid>
                <a:gridCol w="1152360"/>
                <a:gridCol w="2158920"/>
                <a:gridCol w="2521080"/>
                <a:gridCol w="273672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1981-19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равительство левых сил.Президентом становится социалист Франсуа Миттеран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Национализация ряда круп-ных финансово-экономичес-ких групп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Расширение социальной программы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5-недельного оп-лачиваемого отпус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-введение государственного контроля над ценами и зарплато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Миттеран поддерживал идею создания валютно-экономического и политического союза стран Европейского сообщества, ратовал за всестороннее развитие отношений Франции с США, ФРГ и СССР, придавал большое значение контактам с африканскими государств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574120" y="6546960"/>
          <a:ext cx="541440" cy="29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41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Галерея портретов крупнейших политиков Фран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728720" cy="209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3429000"/>
            <a:ext cx="20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н Мон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Жорж 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Помпид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2000" y="3357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Жак Шира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68360" y="608832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                      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Валери Жискар д’Эстен.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76720" y="3933720"/>
            <a:ext cx="158436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609300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Шарль де Гол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ahoma"/>
              </a:rPr>
              <a:t>Франсуа Миттера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1771560" cy="2116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177192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8559720" y="6546960"/>
          <a:ext cx="541440" cy="29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" descr="">
                    <a:hlinkClick r:id="" action="ppaction://hlinkshowjump?jump=nextslide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59720" y="6546960"/>
                    <a:ext cx="541440" cy="2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203640" y="1268280"/>
            <a:ext cx="179208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12:33:22Z</dcterms:created>
  <dc:creator>Admin</dc:creator>
  <dc:description/>
  <dc:language>en-US</dc:language>
  <cp:lastModifiedBy>User</cp:lastModifiedBy>
  <dcterms:modified xsi:type="dcterms:W3CDTF">2006-03-20T12:31:43Z</dcterms:modified>
  <cp:revision>23</cp:revision>
  <dc:subject/>
  <dc:title>Франция:</dc:title>
</cp:coreProperties>
</file>