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5.jpeg" ContentType="image/jpeg"/>
  <Override PartName="/ppt/media/image14.gif" ContentType="image/gif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clap.wav" ContentType="audio/x-wav"/>
  <Override PartName="/ppt/media/image4.png" ContentType="image/png"/>
  <Override PartName="/ppt/media/image6.png" ContentType="image/png"/>
  <Override PartName="/ppt/media/drumroll.wav" ContentType="audio/x-wav"/>
  <Override PartName="/ppt/media/image1.jpeg" ContentType="image/jpeg"/>
  <Override PartName="/ppt/media/image7.png" ContentType="image/png"/>
  <Override PartName="/ppt/media/image8.wmf" ContentType="image/x-wmf"/>
  <Override PartName="/ppt/media/image12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99AB2-B852-4F39-A8D8-3E651B90FE9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DC21A-2BFD-4BD9-B87F-E65F0F10AE37}" type="slidenum">
              <a:rPr b="0" lang="ru-RU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Великое дело создания славянской азбуки совершили братья Константин (при крещении принявший имя Кирилл) и Мефодий. Главная заслуга в этом деле принадлежит Кириллу. Мефодий был верным его помощником. Составляя славянскую азбуку, Кирилл смог уловить в звучании знакомого ему с детства славянского языка (а это был, вероятно, один из диалектов древнеболгарского языка) основные звуки этого языка и найти для каждого из них буквенные обозначения. Читая по-старославянски, мы произносим слова так, как они написаны. В старославянском языке мы не встретим такого расхождения между звучанием слов и их произношением, как, например в английском или французском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лавянский книжный язык (старославянский) получил распространение в качестве общего языка для многих славянских народов. Им пользовались южные славяне (болгары, сербы, хорваты), западные славяне (чехи, словаки), восточные славяне(украинцы, белорусы, русские).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        В память о великом подвиге Кирилла и Мефодия 24 мая во всем мире празднуется День славянской письменности. Особенно торжественно отмечается он в Болгарии. Там совершаются праздничные шествия со славянской азбукой и иконами святых братьев. Начиная с 1987 года, и в нашей стране в этот день стал проводиться праздник славянской письменности и культуры. Русский народ отдает дань памяти и благодарности “славянских стран учителям... "</a:t>
            </a:r>
            <a:r>
              <a:rPr b="0" lang="ru-RU" sz="1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1C7B-0424-4F0D-B721-B32F0A004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44E7-7631-478C-86F5-317CFEC9E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5FF4-0254-4474-88CC-023A756E3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6465-47CC-461D-A211-8FC50DF1E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272A1-BFA0-4F0A-8ECB-CEE905D36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06443-A471-46BF-B63B-A0B83D6A1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F2B32-7744-49F3-BE3B-F0B6A2DF4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4C849-4468-4EC5-B59C-385B74403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65EC0-0E3A-473E-9A8D-E8ABCA238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485E4-240C-45E8-BBE1-9321942E1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9379F-47B8-48FF-A095-EBC4C63AF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F627-8494-4CC3-8328-EF8CBFCE6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F37F9-8D47-415C-9166-D8A1CC613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D786E-37D0-4313-95B5-70088F41F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E00FE-CD80-4B28-AC75-74B2E9F93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60857-86F3-4592-9578-5929829CB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B1725-AB2F-4444-889B-F8FADF817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0C2D-89DB-4AEE-986D-97230480E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6847-43B3-4226-966B-5C420636A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216F-6497-4992-AFFD-A0A7469A1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B81B-314E-4EEE-9931-21D44419A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2A35-50CA-4DC9-B8A5-C6EF53CFB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D110-17CD-4B01-B396-A104F5D89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AB91-2880-482F-93D9-D3B8B7262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Freeform 3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>
                <a:gd name="textAreaLeft" fmla="*/ 0 w 9148680"/>
                <a:gd name="textAreaRight" fmla="*/ 9149040 w 9148680"/>
                <a:gd name="textAreaTop" fmla="*/ 0 h 757080"/>
                <a:gd name="textAreaBottom" fmla="*/ 757440 h 757080"/>
              </a:gdLst>
              <a:ahLst/>
              <a:rect l="textAreaLeft" t="textAreaTop" r="textAreaRight" b="textAreaBottom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>
                <a:gd name="textAreaLeft" fmla="*/ 0 w 1123920"/>
                <a:gd name="textAreaRight" fmla="*/ 1124280 w 11239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>
                <a:gd name="textAreaLeft" fmla="*/ 0 w 722160"/>
                <a:gd name="textAreaRight" fmla="*/ 722520 w 722160"/>
                <a:gd name="textAreaTop" fmla="*/ 0 h 343080"/>
                <a:gd name="textAreaBottom" fmla="*/ 343440 h 343080"/>
              </a:gdLst>
              <a:ahLst/>
              <a:rect l="textAreaLeft" t="textAreaTop" r="textAreaRight" b="textAreaBottom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>
                <a:gd name="textAreaLeft" fmla="*/ 0 w 657360"/>
                <a:gd name="textAreaRight" fmla="*/ 657360 w 6573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>
                <a:gd name="textAreaLeft" fmla="*/ 0 w 825480"/>
                <a:gd name="textAreaRight" fmla="*/ 825840 w 8254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>
                <a:gd name="textAreaLeft" fmla="*/ 0 w 684360"/>
                <a:gd name="textAreaRight" fmla="*/ 684720 w 684360"/>
                <a:gd name="textAreaTop" fmla="*/ 0 h 370080"/>
                <a:gd name="textAreaBottom" fmla="*/ 370440 h 370080"/>
              </a:gdLst>
              <a:ahLst/>
              <a:rect l="textAreaLeft" t="textAreaTop" r="textAreaRight" b="textAreaBottom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>
                <a:gd name="textAreaLeft" fmla="*/ 0 w 819000"/>
                <a:gd name="textAreaRight" fmla="*/ 819360 w 819000"/>
                <a:gd name="textAreaTop" fmla="*/ 0 h 354240"/>
                <a:gd name="textAreaBottom" fmla="*/ 354240 h 354240"/>
              </a:gdLst>
              <a:ahLst/>
              <a:rect l="textAreaLeft" t="textAreaTop" r="textAreaRight" b="textAreaBottom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>
                <a:gd name="textAreaLeft" fmla="*/ 0 w 1488960"/>
                <a:gd name="textAreaRight" fmla="*/ 1489320 w 148896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>
                <a:gd name="textAreaLeft" fmla="*/ 0 w 590760"/>
                <a:gd name="textAreaRight" fmla="*/ 591120 w 59076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>
                <a:gd name="textAreaLeft" fmla="*/ 0 w 830160"/>
                <a:gd name="textAreaRight" fmla="*/ 830520 w 83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>
                <a:gd name="textAreaLeft" fmla="*/ 0 w 852480"/>
                <a:gd name="textAreaRight" fmla="*/ 852840 w 8524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>
                <a:gd name="textAreaLeft" fmla="*/ 0 w 1269720"/>
                <a:gd name="textAreaRight" fmla="*/ 1270080 w 126972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>
                <a:gd name="textAreaLeft" fmla="*/ 0 w 638280"/>
                <a:gd name="textAreaRight" fmla="*/ 638640 w 63828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Group 25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Freeform 26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>
                <a:gd name="textAreaLeft" fmla="*/ 0 w 2754360"/>
                <a:gd name="textAreaRight" fmla="*/ 2754720 w 275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>
                <a:gd name="textAreaLeft" fmla="*/ 0 w 4214520"/>
                <a:gd name="textAreaRight" fmla="*/ 4214880 w 42145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>
                <a:gd name="textAreaLeft" fmla="*/ 0 w 3240000"/>
                <a:gd name="textAreaRight" fmla="*/ 3240360 w 32400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5A63C-9527-4957-AE01-FC741A70C51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1026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Freeform 1027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>
                <a:gd name="textAreaLeft" fmla="*/ 0 w 9148680"/>
                <a:gd name="textAreaRight" fmla="*/ 9149040 w 9148680"/>
                <a:gd name="textAreaTop" fmla="*/ 0 h 757080"/>
                <a:gd name="textAreaBottom" fmla="*/ 757440 h 757080"/>
              </a:gdLst>
              <a:ahLst/>
              <a:rect l="textAreaLeft" t="textAreaTop" r="textAreaRight" b="textAreaBottom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Freeform 1028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Freeform 1029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>
                <a:gd name="textAreaLeft" fmla="*/ 0 w 1123920"/>
                <a:gd name="textAreaRight" fmla="*/ 1124280 w 11239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Freeform 1030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Freeform 1031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Freeform 1032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>
                <a:gd name="textAreaLeft" fmla="*/ 0 w 722160"/>
                <a:gd name="textAreaRight" fmla="*/ 722520 w 722160"/>
                <a:gd name="textAreaTop" fmla="*/ 0 h 343080"/>
                <a:gd name="textAreaBottom" fmla="*/ 343440 h 343080"/>
              </a:gdLst>
              <a:ahLst/>
              <a:rect l="textAreaLeft" t="textAreaTop" r="textAreaRight" b="textAreaBottom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Freeform 1033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>
                <a:gd name="textAreaLeft" fmla="*/ 0 w 657360"/>
                <a:gd name="textAreaRight" fmla="*/ 657360 w 6573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Freeform 1034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>
                <a:gd name="textAreaLeft" fmla="*/ 0 w 825480"/>
                <a:gd name="textAreaRight" fmla="*/ 825840 w 8254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Freeform 1035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>
                <a:gd name="textAreaLeft" fmla="*/ 0 w 684360"/>
                <a:gd name="textAreaRight" fmla="*/ 684720 w 684360"/>
                <a:gd name="textAreaTop" fmla="*/ 0 h 370080"/>
                <a:gd name="textAreaBottom" fmla="*/ 370440 h 370080"/>
              </a:gdLst>
              <a:ahLst/>
              <a:rect l="textAreaLeft" t="textAreaTop" r="textAreaRight" b="textAreaBottom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Freeform 1036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Freeform 1037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>
                <a:gd name="textAreaLeft" fmla="*/ 0 w 819000"/>
                <a:gd name="textAreaRight" fmla="*/ 819360 w 819000"/>
                <a:gd name="textAreaTop" fmla="*/ 0 h 354240"/>
                <a:gd name="textAreaBottom" fmla="*/ 354240 h 354240"/>
              </a:gdLst>
              <a:ahLst/>
              <a:rect l="textAreaLeft" t="textAreaTop" r="textAreaRight" b="textAreaBottom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Freeform 1038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Freeform 1039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Freeform 1040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Freeform 1041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>
                <a:gd name="textAreaLeft" fmla="*/ 0 w 1488960"/>
                <a:gd name="textAreaRight" fmla="*/ 1489320 w 148896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Freeform 1042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>
                <a:gd name="textAreaLeft" fmla="*/ 0 w 590760"/>
                <a:gd name="textAreaRight" fmla="*/ 591120 w 59076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Freeform 1043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Freeform 1044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Freeform 1045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>
                <a:gd name="textAreaLeft" fmla="*/ 0 w 830160"/>
                <a:gd name="textAreaRight" fmla="*/ 830520 w 83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Freeform 1046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>
                <a:gd name="textAreaLeft" fmla="*/ 0 w 852480"/>
                <a:gd name="textAreaRight" fmla="*/ 852840 w 8524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Freeform 1047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>
                <a:gd name="textAreaLeft" fmla="*/ 0 w 1269720"/>
                <a:gd name="textAreaRight" fmla="*/ 1270080 w 126972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Freeform 1048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>
                <a:gd name="textAreaLeft" fmla="*/ 0 w 638280"/>
                <a:gd name="textAreaRight" fmla="*/ 638640 w 63828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Group 1049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Freeform 1050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>
                <a:gd name="textAreaLeft" fmla="*/ 0 w 2754360"/>
                <a:gd name="textAreaRight" fmla="*/ 2754720 w 275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Freeform 1051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>
                <a:gd name="textAreaLeft" fmla="*/ 0 w 4214520"/>
                <a:gd name="textAreaRight" fmla="*/ 4214880 w 42145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Freeform 1052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>
                <a:gd name="textAreaLeft" fmla="*/ 0 w 3240000"/>
                <a:gd name="textAreaRight" fmla="*/ 3240360 w 32400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3DBC0-5DD9-4E38-9E9D-B9A5A58EF252}" type="slidenum"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audio" Target="../media/clap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472f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WordArt 5"/>
          <p:cNvSpPr txBox="1"/>
          <p:nvPr/>
        </p:nvSpPr>
        <p:spPr>
          <a:xfrm>
            <a:off x="1981080" y="838080"/>
            <a:ext cx="594360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РЕЗЕНТАЦИЯ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4" name="WordArt 7"/>
          <p:cNvSpPr txBox="1"/>
          <p:nvPr/>
        </p:nvSpPr>
        <p:spPr>
          <a:xfrm>
            <a:off x="2981160" y="1503360"/>
            <a:ext cx="3181680" cy="385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Шалиной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Инн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Владимировн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7000"/>
                            </p:stCondLst>
                            <p:childTnLst>
                              <p:par>
                                <p:cTn id="10" nodeType="afterEffect" fill="hold" presetClass="entr" presetID="5" presetSubtype="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380880" y="1447920"/>
            <a:ext cx="327672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Times New Roman"/>
              </a:rPr>
              <a:t>В Москве тоже имеется памятник великим славянским просветителям, установленный в 1992 г. Скульптурная композиция (работа скульптора Клыкова В.М.) находится в центре Москвы на Славянской площади (в начале Ильинского сквера, который ведет к Политехническому музею и памятнику героям Плевны). Вот уже в течение шестнадцати лет 24 мая в России отмечается День славянской письменности и культуры.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7108920" y="3801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75" name="Picture 4" descr="C:\Documents and Settings\site307\Мои документы\Мои рисунки\pam.gif"/>
          <p:cNvPicPr/>
          <p:nvPr/>
        </p:nvPicPr>
        <p:blipFill>
          <a:blip r:embed="rId1"/>
          <a:stretch/>
        </p:blipFill>
        <p:spPr>
          <a:xfrm>
            <a:off x="4038480" y="1828800"/>
            <a:ext cx="4876920" cy="426708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8"/>
          <p:cNvSpPr/>
          <p:nvPr/>
        </p:nvSpPr>
        <p:spPr>
          <a:xfrm>
            <a:off x="-4680" y="762120"/>
            <a:ext cx="87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Times New Roman"/>
              </a:rPr>
              <a:t>В Софии, столице Болгарии, есть памятник Кириллу и Мефодию. Он установлен перед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Times New Roman"/>
              </a:rPr>
              <a:t>зданием Национальной библиотеки, носящей их имя.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Rectangle 11"/>
          <p:cNvSpPr/>
          <p:nvPr/>
        </p:nvSpPr>
        <p:spPr>
          <a:xfrm>
            <a:off x="301320" y="141300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C:\Documents and Settings\site307\Мои документы\Мои рисунки\otk4.gif"/>
          <p:cNvPicPr/>
          <p:nvPr/>
        </p:nvPicPr>
        <p:blipFill>
          <a:blip r:embed="rId1"/>
          <a:stretch/>
        </p:blipFill>
        <p:spPr>
          <a:xfrm>
            <a:off x="520560" y="762120"/>
            <a:ext cx="4660920" cy="533376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4"/>
          <p:cNvSpPr/>
          <p:nvPr/>
        </p:nvSpPr>
        <p:spPr>
          <a:xfrm>
            <a:off x="5562720" y="1371600"/>
            <a:ext cx="32004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81e10"/>
                </a:solidFill>
                <a:latin typeface="Times New Roman"/>
              </a:rPr>
              <a:t>Уважаемые коллеги! Поздравляю вас с Днём славянской письменности и культуры!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checker dir="horz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WordArt 3"/>
          <p:cNvSpPr txBox="1"/>
          <p:nvPr/>
        </p:nvSpPr>
        <p:spPr>
          <a:xfrm>
            <a:off x="2743200" y="838080"/>
            <a:ext cx="41911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б автор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4343400" y="289548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30305"/>
                </a:solidFill>
                <a:latin typeface="Times New Roman"/>
              </a:rPr>
              <a:t>Шалина Инна Владимировна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4572000" y="3276720"/>
            <a:ext cx="3809880" cy="11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30305"/>
                </a:solidFill>
                <a:latin typeface="Times New Roman"/>
              </a:rPr>
              <a:t>Предмет: русский  язык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30305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030305"/>
                </a:solidFill>
                <a:latin typeface="Times New Roman"/>
              </a:rPr>
              <a:t>и литература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0305"/>
                </a:solidFill>
                <a:latin typeface="Times New Roman"/>
              </a:rPr>
              <a:t>Учитель 1 категории МОУ СОШ №40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83" name="Picture 6" descr="C:\Documents and Settings\site307\Мои документы\Мои рисунки\shalina.jpg"/>
          <p:cNvPicPr/>
          <p:nvPr/>
        </p:nvPicPr>
        <p:blipFill>
          <a:blip r:embed="rId1"/>
          <a:stretch/>
        </p:blipFill>
        <p:spPr>
          <a:xfrm>
            <a:off x="228600" y="2154240"/>
            <a:ext cx="4267080" cy="401796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8"/>
          <p:cNvSpPr/>
          <p:nvPr/>
        </p:nvSpPr>
        <p:spPr>
          <a:xfrm>
            <a:off x="4724280" y="4419720"/>
            <a:ext cx="3810240" cy="1894320"/>
          </a:xfrm>
          <a:prstGeom prst="rect">
            <a:avLst/>
          </a:prstGeom>
          <a:noFill/>
          <a:ln w="324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5472"/>
                </a:solidFill>
                <a:latin typeface="Times New Roman"/>
              </a:rPr>
              <a:t>Список интернет-ресурсов: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http://newciv.relarn.ru/work/2-09/bukvi/book.htm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595ff"/>
                </a:solidFill>
                <a:latin typeface="Times New Roman"/>
              </a:rPr>
              <a:t>http://ruslit.ioso.ru/kir_ meph.htm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99"/>
            </a:gs>
            <a:gs pos="100000">
              <a:srgbClr val="5e76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WordArt 2"/>
          <p:cNvSpPr txBox="1"/>
          <p:nvPr/>
        </p:nvSpPr>
        <p:spPr>
          <a:xfrm>
            <a:off x="1905120" y="304920"/>
            <a:ext cx="59436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день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" name="WordArt 3"/>
          <p:cNvSpPr txBox="1"/>
          <p:nvPr/>
        </p:nvSpPr>
        <p:spPr>
          <a:xfrm>
            <a:off x="1447920" y="2514600"/>
            <a:ext cx="65530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5da1b9"/>
                </a:solidFill>
                <a:latin typeface="Times New Roman"/>
              </a:rPr>
              <a:t>славянско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5da1b9"/>
              </a:solidFill>
              <a:latin typeface="Times New Roman"/>
              <a:ea typeface="Times New Roman"/>
            </a:endParaRPr>
          </a:p>
        </p:txBody>
      </p:sp>
      <p:sp>
        <p:nvSpPr>
          <p:cNvPr id="147" name="WordArt 4"/>
          <p:cNvSpPr txBox="1"/>
          <p:nvPr/>
        </p:nvSpPr>
        <p:spPr>
          <a:xfrm>
            <a:off x="1600200" y="4724280"/>
            <a:ext cx="64771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33cc"/>
                  </a:solidFill>
                  <a:miter/>
                </a:ln>
                <a:solidFill>
                  <a:srgbClr val="6699ff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письменности</a:t>
            </a:r>
            <a:endParaRPr b="0" lang="en-US" sz="1800" spc="1" strike="noStrike">
              <a:ln w="12600">
                <a:solidFill>
                  <a:srgbClr val="0033cc"/>
                </a:solidFill>
                <a:miter/>
              </a:ln>
              <a:solidFill>
                <a:srgbClr val="6699ff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checker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0" descr="otk1"/>
          <p:cNvPicPr/>
          <p:nvPr/>
        </p:nvPicPr>
        <p:blipFill>
          <a:blip r:embed="rId1"/>
          <a:stretch/>
        </p:blipFill>
        <p:spPr>
          <a:xfrm>
            <a:off x="228600" y="762120"/>
            <a:ext cx="4761000" cy="541008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23"/>
          <p:cNvSpPr/>
          <p:nvPr/>
        </p:nvSpPr>
        <p:spPr>
          <a:xfrm>
            <a:off x="5257800" y="762120"/>
            <a:ext cx="3581280" cy="1312920"/>
          </a:xfrm>
          <a:prstGeom prst="rect">
            <a:avLst/>
          </a:prstGeom>
          <a:solidFill>
            <a:srgbClr val="ffff99"/>
          </a:solidFill>
          <a:ln w="76320">
            <a:solidFill>
              <a:srgbClr val="d4d4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545472"/>
                </a:solidFill>
                <a:latin typeface="Times New Roman"/>
              </a:rPr>
              <a:t>   </a:t>
            </a:r>
            <a:r>
              <a:rPr b="0" lang="ru-RU" sz="8000" spc="-1" strike="noStrike">
                <a:solidFill>
                  <a:srgbClr val="ff3300"/>
                </a:solidFill>
                <a:latin typeface="Times New Roman"/>
              </a:rPr>
              <a:t>24 мая</a:t>
            </a:r>
            <a:endParaRPr b="0" lang="en-US" sz="8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0" name="Text Box 24"/>
          <p:cNvSpPr/>
          <p:nvPr/>
        </p:nvSpPr>
        <p:spPr>
          <a:xfrm>
            <a:off x="5257800" y="2209680"/>
            <a:ext cx="3657600" cy="4385880"/>
          </a:xfrm>
          <a:prstGeom prst="rect">
            <a:avLst/>
          </a:prstGeom>
          <a:solidFill>
            <a:srgbClr val="ff9900"/>
          </a:solidFill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99"/>
                </a:solidFill>
                <a:latin typeface="Times New Roman"/>
              </a:rPr>
              <a:t>         </a:t>
            </a:r>
            <a:r>
              <a:rPr b="0" lang="ru-RU" sz="4000" spc="-1" strike="noStrike">
                <a:solidFill>
                  <a:srgbClr val="003399"/>
                </a:solidFill>
                <a:latin typeface="Times New Roman"/>
              </a:rPr>
              <a:t>День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0" lang="ru-RU" sz="4000" spc="-1" strike="noStrike">
                <a:solidFill>
                  <a:srgbClr val="0033cc"/>
                </a:solidFill>
                <a:latin typeface="Times New Roman"/>
              </a:rPr>
              <a:t>славянской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66ff"/>
                </a:solidFill>
                <a:latin typeface="Times New Roman"/>
              </a:rPr>
              <a:t>письменности            </a:t>
            </a: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                 </a:t>
            </a: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0066ff"/>
                </a:solidFill>
                <a:latin typeface="Times New Roman"/>
              </a:rPr>
              <a:t>и</a:t>
            </a:r>
            <a:r>
              <a:rPr b="0" lang="ru-RU" sz="40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6699ff"/>
                </a:solidFill>
                <a:latin typeface="Times New Roman"/>
              </a:rPr>
              <a:t>  </a:t>
            </a:r>
            <a:r>
              <a:rPr b="0" lang="ru-RU" sz="4000" spc="-1" strike="noStrike">
                <a:solidFill>
                  <a:srgbClr val="6699ff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6699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6699ff"/>
                </a:solidFill>
                <a:latin typeface="Times New Roman"/>
              </a:rPr>
              <a:t>культуры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checker dir="horz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5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0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Object 0"/>
          <p:cNvGraphicFramePr/>
          <p:nvPr/>
        </p:nvGraphicFramePr>
        <p:xfrm>
          <a:off x="2362320" y="251460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51460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14600" y="838080"/>
            <a:ext cx="4114800" cy="609840"/>
          </a:xfrm>
          <a:prstGeom prst="rect">
            <a:avLst/>
          </a:prstGeom>
          <a:solidFill>
            <a:srgbClr val="9595ff"/>
          </a:solidFill>
          <a:ln w="76320">
            <a:solidFill>
              <a:srgbClr val="cc99ff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60093"/>
                </a:solidFill>
                <a:latin typeface="Tahoma"/>
              </a:rPr>
              <a:t>О празднике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4" name="Picture 7" descr="C:\Documents and Settings\site307\Мои документы\Мои рисунки\bulgaria-1.jpg"/>
          <p:cNvPicPr/>
          <p:nvPr/>
        </p:nvPicPr>
        <p:blipFill>
          <a:blip r:embed="rId3"/>
          <a:stretch/>
        </p:blipFill>
        <p:spPr>
          <a:xfrm>
            <a:off x="228600" y="1523880"/>
            <a:ext cx="4876920" cy="472464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8"/>
          <p:cNvSpPr/>
          <p:nvPr/>
        </p:nvSpPr>
        <p:spPr>
          <a:xfrm>
            <a:off x="5181480" y="20574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5181480" y="1676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5029200" y="167652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8" name="Text Box 11"/>
          <p:cNvSpPr/>
          <p:nvPr/>
        </p:nvSpPr>
        <p:spPr>
          <a:xfrm>
            <a:off x="5181480" y="1523880"/>
            <a:ext cx="3733920" cy="46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еликое дело создания славянской азбуки совершили братья Кирилл и Мефодий.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память о великом подвиге братьев</a:t>
            </a:r>
            <a:r>
              <a:rPr b="0" lang="ru-RU" sz="16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24</a:t>
            </a:r>
            <a:r>
              <a:rPr b="0" lang="ru-RU" sz="2000" spc="-1" strike="noStrike">
                <a:solidFill>
                  <a:srgbClr val="9966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мая</a:t>
            </a:r>
            <a:r>
              <a:rPr b="0" lang="ru-RU" sz="16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о всём мире празднуют День славянской письменности</a:t>
            </a:r>
            <a:r>
              <a:rPr b="0" lang="ru-RU" sz="1600" spc="-1" strike="noStrike">
                <a:solidFill>
                  <a:srgbClr val="545472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собенно торжественно отмечается он в Болгарии.Там совершается праздничное шествие со славянской азбукой и иконами святых братьев.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чиная с</a:t>
            </a:r>
            <a:r>
              <a:rPr b="0" lang="ru-RU" sz="16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1987 года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 в нашей стране в этот день проводится праздник славянской письменности и культуры.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усский народ отдаёт дань памяти и благодарности «славянских стран учителям» .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9" name="AutoShape 12"/>
          <p:cNvSpPr/>
          <p:nvPr/>
        </p:nvSpPr>
        <p:spPr>
          <a:xfrm>
            <a:off x="8558280" y="6095880"/>
            <a:ext cx="585720" cy="762120"/>
          </a:xfrm>
          <a:custGeom>
            <a:avLst/>
            <a:gdLst>
              <a:gd name="textAreaLeft" fmla="*/ 37800 w 585720"/>
              <a:gd name="textAreaRight" fmla="*/ 547920 w 585720"/>
              <a:gd name="textAreaTop" fmla="*/ 37800 h 762120"/>
              <a:gd name="textAreaBottom" fmla="*/ 724320 h 762120"/>
            </a:gdLst>
            <a:ahLst/>
            <a:rect l="textAreaLeft" t="textAreaTop" r="textAreaRight" b="textAreaBottom"/>
            <a:pathLst>
              <a:path w="21600" h="28101">
                <a:moveTo>
                  <a:pt x="0" y="0"/>
                </a:moveTo>
                <a:lnTo>
                  <a:pt x="21600" y="0"/>
                </a:lnTo>
                <a:lnTo>
                  <a:pt x="21600" y="28101"/>
                </a:lnTo>
                <a:lnTo>
                  <a:pt x="0" y="28101"/>
                </a:lnTo>
                <a:close/>
              </a:path>
              <a:path fill="lightenLess" w="21600" h="2810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101">
                <a:moveTo>
                  <a:pt x="21600" y="0"/>
                </a:moveTo>
                <a:lnTo>
                  <a:pt x="21600" y="28101"/>
                </a:lnTo>
                <a:lnTo>
                  <a:pt x="20200" y="26701"/>
                </a:lnTo>
                <a:lnTo>
                  <a:pt x="20200" y="1400"/>
                </a:lnTo>
                <a:close/>
              </a:path>
              <a:path fill="darkenLess" w="21600" h="28101">
                <a:moveTo>
                  <a:pt x="21600" y="28101"/>
                </a:moveTo>
                <a:lnTo>
                  <a:pt x="0" y="28101"/>
                </a:lnTo>
                <a:lnTo>
                  <a:pt x="1400" y="26701"/>
                </a:lnTo>
                <a:lnTo>
                  <a:pt x="20200" y="26701"/>
                </a:lnTo>
                <a:close/>
              </a:path>
              <a:path fill="lighten" w="21600" h="28101">
                <a:moveTo>
                  <a:pt x="0" y="2810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701"/>
                </a:lnTo>
                <a:close/>
              </a:path>
              <a:path fill="darken" w="21600" h="28101">
                <a:moveTo>
                  <a:pt x="3794" y="14051"/>
                </a:moveTo>
                <a:lnTo>
                  <a:pt x="17806" y="7044"/>
                </a:lnTo>
                <a:lnTo>
                  <a:pt x="17806" y="21057"/>
                </a:lnTo>
                <a:close/>
              </a:path>
            </a:pathLst>
          </a:custGeom>
          <a:solidFill>
            <a:srgbClr val="c7c7d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checker dir="horz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500"/>
                            </p:stCondLst>
                            <p:childTnLst>
                              <p:par>
                                <p:cTn id="57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000"/>
                            </p:stCondLst>
                            <p:childTnLst>
                              <p:par>
                                <p:cTn id="61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304920" y="1295280"/>
            <a:ext cx="8839080" cy="51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      </a:t>
            </a: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Знаете ли вы, как возникла русская письменность? Если не знаете, то мы можем вам рассказать. Но ответьте сначала на такой вопрос: чем отличается азбука от алфавита?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лово “азбука” произошло от названий двух первых букв славянской азбуки: А (аз) и Б (буки):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АЗБУКА: АЗ + БУКИ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а слово “алфавит” происходит из названия двух первых букв греческого алфавита: 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АЛФАВИТ: АЛЬФА + ВИТА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     </a:t>
            </a: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Алфавит гораздо старше азбуки. В IX веке азбуки не было, и славяне не имели собственных букв.  И поэтому не было и письменности. Славяне не могли написать на своем языке ни книг, ни даже писем друг другу.</a:t>
            </a:r>
            <a:br>
              <a:rPr sz="1800"/>
            </a:b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1984320" y="762120"/>
            <a:ext cx="517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ЛАВЯНСКАЯ АЗБУКА И ГРЕЧЕСКИЙ АЛФАВИТ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checker dir="horz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0" y="762120"/>
            <a:ext cx="4572000" cy="5458680"/>
          </a:xfrm>
          <a:prstGeom prst="rect">
            <a:avLst/>
          </a:prstGeom>
          <a:noFill/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Как же и откуда появилась наша азбука, и почему ее называют кириллицей?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     </a:t>
            </a:r>
            <a:r>
              <a:rPr b="1" lang="ru-RU" sz="1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В IX веке в Византии, в городе Солунь (теперь это город Салоники в Греции), жили два брата — Константин и Мефодий. Были они люди мудрые и очень образованные и хорошо знали славянский язык. Этих братьев греческий царь Михаил послал к славянам в ответ на просьбу славянского князя Ростислава. (Просил Ростислав прислать учителей, которые смогли бы рассказать славянам о святых христианских книгах, неизвестных им книжных словах и смысле их).</a:t>
            </a:r>
            <a:br>
              <a:rPr sz="1600"/>
            </a:br>
            <a:r>
              <a:rPr b="1" lang="ru-RU" sz="1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     И вот братья Константин и Мефодий приехали к славянам, чтобы создать славянскую азбуку, которая впоследствии стала называться</a:t>
            </a:r>
            <a:r>
              <a:rPr b="1" lang="ru-RU" sz="16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ириллицей</a:t>
            </a:r>
            <a:r>
              <a:rPr b="1" i="1" lang="ru-RU" sz="16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. </a:t>
            </a:r>
            <a:r>
              <a:rPr b="1" lang="ru-RU" sz="1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( В честь Константина, который, приняв монашество, получил имя Кирилл).</a:t>
            </a:r>
            <a:br>
              <a:rPr sz="1600"/>
            </a:b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63" name="Picture 3" descr="C:\Documents and Settings\site307\Мои документы\Мои рисунки\otk5.gif"/>
          <p:cNvPicPr/>
          <p:nvPr/>
        </p:nvPicPr>
        <p:blipFill>
          <a:blip r:embed="rId1"/>
          <a:stretch/>
        </p:blipFill>
        <p:spPr>
          <a:xfrm>
            <a:off x="4267080" y="685800"/>
            <a:ext cx="4381560" cy="5334120"/>
          </a:xfrm>
          <a:prstGeom prst="rect">
            <a:avLst/>
          </a:prstGeom>
          <a:ln w="0">
            <a:noFill/>
          </a:ln>
        </p:spPr>
      </p:pic>
      <p:sp>
        <p:nvSpPr>
          <p:cNvPr id="164" name="AutoShape 4"/>
          <p:cNvSpPr/>
          <p:nvPr/>
        </p:nvSpPr>
        <p:spPr>
          <a:xfrm flipV="1">
            <a:off x="8077320" y="647712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8107" y="10800"/>
                </a:moveTo>
                <a:lnTo>
                  <a:pt x="22120" y="3794"/>
                </a:lnTo>
                <a:lnTo>
                  <a:pt x="22120" y="17806"/>
                </a:lnTo>
                <a:close/>
              </a:path>
            </a:pathLst>
          </a:custGeom>
          <a:solidFill>
            <a:srgbClr val="a7ccd9"/>
          </a:solidFill>
          <a:ln w="9360">
            <a:solidFill>
              <a:srgbClr val="c7c7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checker dir="horz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500"/>
                            </p:stCondLst>
                            <p:childTnLst>
                              <p:par>
                                <p:cTn id="86" nodeType="afterEffect" fill="hold" presetClass="entr" presetID="2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304920" y="609480"/>
            <a:ext cx="62481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Как же они создали азбуку?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Кирилл и Мефодий взяли греческий алфавит и приспособили его для звуков славянского языка. Так что наша азбука — “дочка” греческого алфавита.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Многие наши буквы взяты из греческого, поэтому они и с виду на них похожи.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2057400" y="2590920"/>
            <a:ext cx="198108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лавянские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Аа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Вв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Гг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Дд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Ее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Кк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Лл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Мм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457200" y="2590920"/>
            <a:ext cx="152388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греческие 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Symbol"/>
                <a:ea typeface="Symbol"/>
              </a:rPr>
              <a:t>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Symbol"/>
                <a:ea typeface="Symbol"/>
              </a:rPr>
              <a:t>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Symbol"/>
                <a:ea typeface="Symbol"/>
              </a:rPr>
              <a:t>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Symbol"/>
                <a:ea typeface="Symbol"/>
              </a:rPr>
              <a:t>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Symbol"/>
                <a:ea typeface="Symbol"/>
              </a:rPr>
              <a:t>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Symbol"/>
                <a:ea typeface="Symbol"/>
              </a:rPr>
              <a:t>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Symbol"/>
                <a:ea typeface="Symbol"/>
              </a:rPr>
              <a:t>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Symbol"/>
                <a:ea typeface="Symbol"/>
              </a:rPr>
              <a:t>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3962520" y="2590920"/>
            <a:ext cx="44956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Эта система из 38 букв, которые должны были отобразить тончайшие нюансы славянских языков, стала называться </a:t>
            </a:r>
            <a:r>
              <a:rPr b="1" i="1" lang="ru-RU" sz="2000" spc="-1" strike="noStrike">
                <a:solidFill>
                  <a:srgbClr val="0033cc"/>
                </a:solidFill>
                <a:latin typeface="Times New Roman"/>
              </a:rPr>
              <a:t>глаголицей</a:t>
            </a:r>
            <a:r>
              <a:rPr b="1" i="1" lang="ru-RU" sz="2000" spc="-1" strike="noStrike">
                <a:solidFill>
                  <a:srgbClr val="800000"/>
                </a:solidFill>
                <a:latin typeface="Times New Roman"/>
              </a:rPr>
              <a:t>.</a:t>
            </a: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checker dir="horz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16" presetSubtype="2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50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C:\Documents and Settings\site307\Мои документы\Мои рисунки\kirillic.jpg"/>
          <p:cNvPicPr/>
          <p:nvPr/>
        </p:nvPicPr>
        <p:blipFill>
          <a:blip r:embed="rId1"/>
          <a:stretch/>
        </p:blipFill>
        <p:spPr>
          <a:xfrm>
            <a:off x="304920" y="2590920"/>
            <a:ext cx="8610480" cy="36576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3"/>
          <p:cNvSpPr/>
          <p:nvPr/>
        </p:nvSpPr>
        <p:spPr>
          <a:xfrm>
            <a:off x="0" y="609480"/>
            <a:ext cx="914400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30305"/>
                </a:solidFill>
                <a:latin typeface="Times New Roman"/>
              </a:rPr>
              <a:t>В конце IX и начале X веков последователями славянских просветителей был создан новый славянский алфавит на основе греческого; для передачи фонетических особенностей славянского языка он был дополнен буквами, заимствованными из глаголицы. Буквы новой азбуки требовали меньше усилий при письме, имели более ясные очертания. Этот алфавит, широко распространившийся  у восточных и южных славян, получил впоследствии название </a:t>
            </a:r>
            <a:r>
              <a:rPr b="1" i="1" lang="ru-RU" sz="1800" spc="-1" strike="noStrike">
                <a:solidFill>
                  <a:srgbClr val="030305"/>
                </a:solidFill>
                <a:latin typeface="Times New Roman"/>
              </a:rPr>
              <a:t>кириллицы</a:t>
            </a:r>
            <a:r>
              <a:rPr b="1" lang="ru-RU" sz="1800" spc="-1" strike="noStrike">
                <a:solidFill>
                  <a:srgbClr val="030305"/>
                </a:solidFill>
                <a:latin typeface="Times New Roman"/>
              </a:rPr>
              <a:t> в честь Кирилла (Константина) - создателя первой славянской азбуки.  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checker dir="horz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5410080" y="1676520"/>
            <a:ext cx="350532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30305"/>
                </a:solidFill>
                <a:latin typeface="Times New Roman"/>
              </a:rPr>
              <a:t>После смерти братья были причислены к лику святых и на иконе, как можно здесь видеть, их всегда изображают вместе.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72" name="Picture 4" descr="C:\Documents and Settings\site307\Мои документы\Мои рисунки\km.jpg"/>
          <p:cNvPicPr/>
          <p:nvPr/>
        </p:nvPicPr>
        <p:blipFill>
          <a:blip r:embed="rId1"/>
          <a:stretch/>
        </p:blipFill>
        <p:spPr>
          <a:xfrm>
            <a:off x="228600" y="685800"/>
            <a:ext cx="5029200" cy="59436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6T22:34:29Z</dcterms:created>
  <dc:creator>site307</dc:creator>
  <dc:description/>
  <dc:language>en-US</dc:language>
  <cp:lastModifiedBy>Коля</cp:lastModifiedBy>
  <dcterms:modified xsi:type="dcterms:W3CDTF">2013-09-13T11:51:26Z</dcterms:modified>
  <cp:revision>50</cp:revision>
  <dc:subject/>
  <dc:title>Презентация PowerPoint</dc:title>
</cp:coreProperties>
</file>