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clap.wav" ContentType="audio/x-wav"/>
  <Override PartName="/ppt/media/image4.png" ContentType="image/png"/>
  <Override PartName="/ppt/media/image6.png" ContentType="image/png"/>
  <Override PartName="/ppt/media/drumroll.wav" ContentType="audio/x-wav"/>
  <Override PartName="/ppt/media/image1.jpeg" ContentType="image/jpeg"/>
  <Override PartName="/ppt/media/image7.png" ContentType="image/png"/>
  <Override PartName="/ppt/media/image8.wmf" ContentType="image/x-wmf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7225-5A7B-4F2E-8BC1-13E71CEAC1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3156-79B0-474C-AB39-9D64C6696C64}" type="slidenum">
              <a:rPr b="0" lang="ru-RU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еликое дело создания славянской азбуки совершили братья Константин (при крещении принявший имя Кирилл) и Мефодий. Главная заслуга в этом деле принадлежит Кириллу. Мефодий был верным его помощником. Составляя славянскую азбуку, Кирилл смог уловить в звучании знакомого ему с детства славянского языка (а это был, вероятно, один из диалектов древнеболгарского языка) основные звуки этого языка и найти для каждого из них буквенные обозначения. Читая по-старославянски, мы произносим слова так, как они написаны. В старославянском языке мы не встретим такого расхождения между звучанием слов и их произношением, как, например в английском или французск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авянский книжный язык (старославянский) получил распространение в качестве общего языка для многих славянских народов. Им пользовались южные славяне (болгары, сербы, хорваты), западные славяне (чехи, словаки), восточные славяне(украинцы, белорусы, русские)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    В память о великом подвиге Кирилла и Мефодия 24 мая во всем мире празднуется День славянской письменности. Особенно торжественно отмечается он в Болгарии. Там совершаются праздничные шествия со славянской азбукой и иконами святых братьев. Начиная с 1987 года, и в нашей стране в этот день стал проводиться праздник славянской письменности и культуры. Русский народ отдает дань памяти и благодарности “славянских стран учителям... "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599-6F67-46CB-BE24-4E6A97F8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087-D30B-4047-BF36-29392A98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EAD-1E95-4F46-82CF-EDB77637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34A-EAEF-4EED-8509-F7F7FD5D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FE90-E504-4AA1-9CC1-7E549BD3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4878-182B-4EF0-9132-437E17EA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1B55-73B1-4BC9-8274-FCE12612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3CF5-3B8A-425B-8A07-C731FD58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7410-7B06-4C6A-9265-7647EBFD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CAD0-7547-4749-B101-17FCC894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E662-CC86-4803-AC80-5971AC29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28F-5F3A-4ECC-A1F0-F72D87A8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50A4-20CD-40DC-AC29-E8AC1C00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6632-8B20-418B-BE90-0FFF0DF3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9C92-0F71-4A8B-9DDB-7D5C0BA8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30C9-EBBC-4947-9BF2-11532E08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163F-93C9-4FAC-92B2-F87DE27F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7AF-2388-429E-A028-E207294C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83A-B8CC-4074-86B6-D2CBD587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855-5268-4B72-AD15-B9C906CA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10A-108B-4C3F-B082-1AF3F4F0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359-7D59-4CF2-A202-4D94A00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C63-5542-4592-B465-38097645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F12-8ADE-482D-80B1-9AD49B0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E8D8-B212-42B4-A3F4-8A39B61578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26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1027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1028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1029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1030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1031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1032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1033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34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035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036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037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038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039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040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041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042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043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1044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1045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1046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1047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1048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1049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1050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1051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1052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A004-73C2-45EB-9EAB-B401AE42965B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472f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5"/>
          <p:cNvSpPr txBox="1"/>
          <p:nvPr/>
        </p:nvSpPr>
        <p:spPr>
          <a:xfrm>
            <a:off x="1981080" y="838080"/>
            <a:ext cx="5943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ЗЕНТАЦ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2981160" y="1503360"/>
            <a:ext cx="31816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Шалино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Владимиров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80880" y="1447920"/>
            <a:ext cx="3276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В Москве тоже имеется памятник великим славянским просветителям, установленный в 1992 г. Скульптурная композиция (работа скульптора Клыкова В.М.) находится в центре Москвы на Славянской площади (в начале Ильинского сквера, который ведет к Политехническому музею и памятнику героям Плевны). Вот уже в течение шестнадцати лет 24 мая в России отмечается День славянской письменности и культуры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108920" y="3801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5" name="Picture 4" descr="C:\Documents and Settings\site307\Мои документы\Мои рисунки\pam.gif"/>
          <p:cNvPicPr/>
          <p:nvPr/>
        </p:nvPicPr>
        <p:blipFill>
          <a:blip r:embed="rId1"/>
          <a:stretch/>
        </p:blipFill>
        <p:spPr>
          <a:xfrm>
            <a:off x="4038480" y="1828800"/>
            <a:ext cx="4876920" cy="4267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-4680" y="7621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В Софии, столице Болгарии, есть памятник Кириллу и Мефодию. Он установлен перед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зданием Национальной библиотеки, носящей их имя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01320" y="14130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site307\Мои документы\Мои рисунки\otk4.gif"/>
          <p:cNvPicPr/>
          <p:nvPr/>
        </p:nvPicPr>
        <p:blipFill>
          <a:blip r:embed="rId1"/>
          <a:stretch/>
        </p:blipFill>
        <p:spPr>
          <a:xfrm>
            <a:off x="520560" y="762120"/>
            <a:ext cx="4660920" cy="5333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562720" y="1371600"/>
            <a:ext cx="320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81e10"/>
                </a:solidFill>
                <a:latin typeface="Times New Roman"/>
              </a:rPr>
              <a:t>Уважаемые коллеги! Поздравляю вас с Днём славянской письменности и культуры!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3"/>
          <p:cNvSpPr txBox="1"/>
          <p:nvPr/>
        </p:nvSpPr>
        <p:spPr>
          <a:xfrm>
            <a:off x="2743200" y="838080"/>
            <a:ext cx="4191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 автор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343400" y="2895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0305"/>
                </a:solidFill>
                <a:latin typeface="Times New Roman"/>
              </a:rPr>
              <a:t>Шалина Инна Владимировна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572000" y="3276720"/>
            <a:ext cx="38098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30305"/>
                </a:solidFill>
                <a:latin typeface="Times New Roman"/>
              </a:rPr>
              <a:t>Предмет: русский  язык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30305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30305"/>
                </a:solidFill>
                <a:latin typeface="Times New Roman"/>
              </a:rPr>
              <a:t>и литература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0305"/>
                </a:solidFill>
                <a:latin typeface="Times New Roman"/>
              </a:rPr>
              <a:t>Учитель 1 категории МОУ СОШ №40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6" descr="C:\Documents and Settings\site307\Мои документы\Мои рисунки\shalina.jpg"/>
          <p:cNvPicPr/>
          <p:nvPr/>
        </p:nvPicPr>
        <p:blipFill>
          <a:blip r:embed="rId1"/>
          <a:stretch/>
        </p:blipFill>
        <p:spPr>
          <a:xfrm>
            <a:off x="228600" y="2154240"/>
            <a:ext cx="4267080" cy="4017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4724280" y="4419720"/>
            <a:ext cx="3810240" cy="1894320"/>
          </a:xfrm>
          <a:prstGeom prst="rect">
            <a:avLst/>
          </a:prstGeom>
          <a:noFill/>
          <a:ln w="324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Список интернет-ресурсов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http://newciv.relarn.ru/work/2-09/bukvi/book.htm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95ff"/>
                </a:solidFill>
                <a:latin typeface="Times New Roman"/>
              </a:rPr>
              <a:t>http://ruslit.ioso.ru/kir_ meph.htm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5e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1905120" y="304920"/>
            <a:ext cx="5943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ен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1447920" y="2514600"/>
            <a:ext cx="6553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da1b9"/>
                </a:solidFill>
                <a:latin typeface="Times New Roman"/>
              </a:rPr>
              <a:t>славян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da1b9"/>
              </a:solidFill>
              <a:latin typeface="Times New Roman"/>
              <a:ea typeface="Times New Roman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600200" y="4724280"/>
            <a:ext cx="6477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cc"/>
                  </a:solidFill>
                  <a:miter/>
                </a:ln>
                <a:solidFill>
                  <a:srgbClr val="6699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исьменности</a:t>
            </a:r>
            <a:endParaRPr b="0" lang="en-US" sz="1800" spc="1" strike="noStrike">
              <a:ln w="12600">
                <a:solidFill>
                  <a:srgbClr val="0033cc"/>
                </a:solidFill>
                <a:miter/>
              </a:ln>
              <a:solidFill>
                <a:srgbClr val="6699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0" descr="otk1"/>
          <p:cNvPicPr/>
          <p:nvPr/>
        </p:nvPicPr>
        <p:blipFill>
          <a:blip r:embed="rId1"/>
          <a:stretch/>
        </p:blipFill>
        <p:spPr>
          <a:xfrm>
            <a:off x="228600" y="762120"/>
            <a:ext cx="4761000" cy="5410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5257800" y="762120"/>
            <a:ext cx="35812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d4d4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ru-RU" sz="8000" spc="-1" strike="noStrike">
                <a:solidFill>
                  <a:srgbClr val="ff3300"/>
                </a:solidFill>
                <a:latin typeface="Times New Roman"/>
              </a:rPr>
              <a:t>24 мая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5257800" y="2209680"/>
            <a:ext cx="3657600" cy="4385880"/>
          </a:xfrm>
          <a:prstGeom prst="rect">
            <a:avLst/>
          </a:prstGeom>
          <a:solidFill>
            <a:srgbClr val="ff99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Ден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славянской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письменности           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и</a:t>
            </a:r>
            <a:r>
              <a:rPr b="0" lang="ru-RU" sz="40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99ff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6699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99ff"/>
                </a:solidFill>
                <a:latin typeface="Times New Roman"/>
              </a:rPr>
              <a:t>культуры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0"/>
          <p:cNvGraphicFramePr/>
          <p:nvPr/>
        </p:nvGraphicFramePr>
        <p:xfrm>
          <a:off x="2362320" y="2514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838080"/>
            <a:ext cx="4114800" cy="609840"/>
          </a:xfrm>
          <a:prstGeom prst="rect">
            <a:avLst/>
          </a:prstGeom>
          <a:solidFill>
            <a:srgbClr val="9595ff"/>
          </a:solidFill>
          <a:ln w="76320">
            <a:solidFill>
              <a:srgbClr val="cc99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ahoma"/>
              </a:rPr>
              <a:t>О праздник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4" name="Picture 7" descr="C:\Documents and Settings\site307\Мои документы\Мои рисунки\bulgaria-1.jpg"/>
          <p:cNvPicPr/>
          <p:nvPr/>
        </p:nvPicPr>
        <p:blipFill>
          <a:blip r:embed="rId3"/>
          <a:stretch/>
        </p:blipFill>
        <p:spPr>
          <a:xfrm>
            <a:off x="228600" y="1523880"/>
            <a:ext cx="4876920" cy="4724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518148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181480" y="1676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029200" y="1676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5181480" y="1523880"/>
            <a:ext cx="37339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ликое дело создания славянской азбуки совершили братья Кирилл и Мефодий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амять о великом подвиге братьев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r>
              <a:rPr b="0" lang="ru-RU" sz="20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ая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 всём мире празднуют День славянской письменности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енно торжественно отмечается он в Болгарии.Там совершается праздничное шествие со славянской азбукой и иконами святых братьев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я с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987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 нашей стране в этот день проводится праздник славянской письменности и культуры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сский народ отдаёт дань памяти и благодарности «славянских стран учителям» 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8558280" y="6095880"/>
            <a:ext cx="585720" cy="7621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762120"/>
              <a:gd name="textAreaBottom" fmla="*/ 724320 h 762120"/>
            </a:gdLst>
            <a:ahLst/>
            <a:rect l="textAreaLeft" t="textAreaTop" r="textAreaRight" b="textAreaBottom"/>
            <a:pathLst>
              <a:path w="21600" h="28101">
                <a:moveTo>
                  <a:pt x="0" y="0"/>
                </a:moveTo>
                <a:lnTo>
                  <a:pt x="21600" y="0"/>
                </a:lnTo>
                <a:lnTo>
                  <a:pt x="21600" y="28101"/>
                </a:lnTo>
                <a:lnTo>
                  <a:pt x="0" y="28101"/>
                </a:lnTo>
                <a:close/>
              </a:path>
              <a:path fill="lightenLess" w="21600" h="281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01">
                <a:moveTo>
                  <a:pt x="21600" y="0"/>
                </a:moveTo>
                <a:lnTo>
                  <a:pt x="21600" y="28101"/>
                </a:lnTo>
                <a:lnTo>
                  <a:pt x="20200" y="26701"/>
                </a:lnTo>
                <a:lnTo>
                  <a:pt x="20200" y="1400"/>
                </a:lnTo>
                <a:close/>
              </a:path>
              <a:path fill="darkenLess" w="21600" h="28101">
                <a:moveTo>
                  <a:pt x="21600" y="28101"/>
                </a:moveTo>
                <a:lnTo>
                  <a:pt x="0" y="28101"/>
                </a:lnTo>
                <a:lnTo>
                  <a:pt x="1400" y="26701"/>
                </a:lnTo>
                <a:lnTo>
                  <a:pt x="20200" y="26701"/>
                </a:lnTo>
                <a:close/>
              </a:path>
              <a:path fill="lighten" w="21600" h="28101">
                <a:moveTo>
                  <a:pt x="0" y="281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01"/>
                </a:lnTo>
                <a:close/>
              </a:path>
              <a:path fill="darken" w="21600" h="28101">
                <a:moveTo>
                  <a:pt x="3794" y="14051"/>
                </a:moveTo>
                <a:lnTo>
                  <a:pt x="17806" y="7044"/>
                </a:lnTo>
                <a:lnTo>
                  <a:pt x="17806" y="21057"/>
                </a:lnTo>
                <a:close/>
              </a:path>
            </a:pathLst>
          </a:custGeom>
          <a:solidFill>
            <a:srgbClr val="c7c7d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04920" y="1295280"/>
            <a:ext cx="883908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 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наете ли вы, как возникла русская письменность? Если не знаете, то мы можем вам рассказать. Но ответьте сначала на такой вопрос: чем отличается азбука от алфавита?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ово “азбука” произошло от названий двух первых букв славянской азбуки: А (аз) и Б (буки)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ЗБУКА: АЗ + БУКИ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 слово “алфавит” происходит из названия двух первых букв греческого алфавита: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ФАВИТ: АЛЬФА + ВИТА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фавит гораздо старше азбуки. В IX веке азбуки не было, и славяне не имели собственных букв.  И поэтому не было и письменности. Славяне не могли написать на своем языке ни книг, ни даже писем друг другу.</a:t>
            </a: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984320" y="762120"/>
            <a:ext cx="51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ВЯНСКАЯ АЗБУКА И ГРЕЧЕСКИЙ АЛФАВИТ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762120"/>
            <a:ext cx="4572000" cy="5458680"/>
          </a:xfrm>
          <a:prstGeom prst="rect">
            <a:avLst/>
          </a:prstGeom>
          <a:noFill/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ак же и откуда появилась наша азбука, и почему ее называют кириллицей?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 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IX веке в Византии, в городе Солунь (теперь это город Салоники в Греции), жили два брата — Константин и Мефодий. Были они люди мудрые и очень образованные и хорошо знали славянский язык. Этих братьев греческий царь Михаил послал к славянам в ответ на просьбу славянского князя Ростислава. (Просил Ростислав прислать учителей, которые смогли бы рассказать славянам о святых христианских книгах, неизвестных им книжных словах и смысле их).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 И вот братья Константин и Мефодий приехали к славянам, чтобы создать славянскую азбуку, которая впоследствии стала называться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ириллицей</a:t>
            </a:r>
            <a:r>
              <a:rPr b="1" i="1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 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 В честь Константина, который, приняв монашество, получил имя Кирилл).</a:t>
            </a:r>
            <a:br>
              <a:rPr sz="1600"/>
            </a:b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3" name="Picture 3" descr="C:\Documents and Settings\site307\Мои документы\Мои рисунки\otk5.gif"/>
          <p:cNvPicPr/>
          <p:nvPr/>
        </p:nvPicPr>
        <p:blipFill>
          <a:blip r:embed="rId1"/>
          <a:stretch/>
        </p:blipFill>
        <p:spPr>
          <a:xfrm>
            <a:off x="4267080" y="685800"/>
            <a:ext cx="4381560" cy="53341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4"/>
          <p:cNvSpPr/>
          <p:nvPr/>
        </p:nvSpPr>
        <p:spPr>
          <a:xfrm flipV="1">
            <a:off x="80773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c7c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04920" y="609480"/>
            <a:ext cx="624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ак же они создали азбуку?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ирилл и Мефодий взяли греческий алфавит и приспособили его для звуков славянского языка. Так что наша азбука — “дочка” греческого алфавита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гие наши буквы взяты из греческого, поэтому они и с виду на них похожи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057400" y="2590920"/>
            <a:ext cx="198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авянские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а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в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г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д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е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Кк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Лл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м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57200" y="2590920"/>
            <a:ext cx="15238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еческие 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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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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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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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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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962520" y="2590920"/>
            <a:ext cx="4495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Эта система из 38 букв, которые должны были отобразить тончайшие нюансы славянских языков, стала называться </a:t>
            </a: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глаголицей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site307\Мои документы\Мои рисунки\kirillic.jpg"/>
          <p:cNvPicPr/>
          <p:nvPr/>
        </p:nvPicPr>
        <p:blipFill>
          <a:blip r:embed="rId1"/>
          <a:stretch/>
        </p:blipFill>
        <p:spPr>
          <a:xfrm>
            <a:off x="304920" y="2590920"/>
            <a:ext cx="861048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0" y="609480"/>
            <a:ext cx="9144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305"/>
                </a:solidFill>
                <a:latin typeface="Times New Roman"/>
              </a:rPr>
              <a:t>В конце IX и начале X веков последователями славянских просветителей был создан новый славянский алфавит на основе греческого; для передачи фонетических особенностей славянского языка он был дополнен буквами, заимствованными из глаголицы. Буквы новой азбуки требовали меньше усилий при письме, имели более ясные очертания. Этот алфавит, широко распространившийся  у восточных и южных славян, получил впоследствии название </a:t>
            </a:r>
            <a:r>
              <a:rPr b="1" i="1" lang="ru-RU" sz="1800" spc="-1" strike="noStrike">
                <a:solidFill>
                  <a:srgbClr val="030305"/>
                </a:solidFill>
                <a:latin typeface="Times New Roman"/>
              </a:rPr>
              <a:t>кириллицы</a:t>
            </a:r>
            <a:r>
              <a:rPr b="1" lang="ru-RU" sz="1800" spc="-1" strike="noStrike">
                <a:solidFill>
                  <a:srgbClr val="030305"/>
                </a:solidFill>
                <a:latin typeface="Times New Roman"/>
              </a:rPr>
              <a:t> в честь Кирилла (Константина) - создателя первой славянской азбуки.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10080" y="1676520"/>
            <a:ext cx="35053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305"/>
                </a:solidFill>
                <a:latin typeface="Times New Roman"/>
              </a:rPr>
              <a:t>После смерти братья были причислены к лику святых и на иконе, как можно здесь видеть, их всегда изображают вместе.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2" name="Picture 4" descr="C:\Documents and Settings\site307\Мои документы\Мои рисунки\km.jpg"/>
          <p:cNvPicPr/>
          <p:nvPr/>
        </p:nvPicPr>
        <p:blipFill>
          <a:blip r:embed="rId1"/>
          <a:stretch/>
        </p:blipFill>
        <p:spPr>
          <a:xfrm>
            <a:off x="228600" y="685800"/>
            <a:ext cx="50292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22:34:29Z</dcterms:created>
  <dc:creator>site307</dc:creator>
  <dc:description/>
  <dc:language>en-US</dc:language>
  <cp:lastModifiedBy>Коля</cp:lastModifiedBy>
  <dcterms:modified xsi:type="dcterms:W3CDTF">2013-09-13T11:51:26Z</dcterms:modified>
  <cp:revision>50</cp:revision>
  <dc:subject/>
  <dc:title>Презентация PowerPoint</dc:title>
</cp:coreProperties>
</file>