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58.png" ContentType="image/png"/>
  <Override PartName="/ppt/media/image57.jpeg" ContentType="image/jpeg"/>
  <Override PartName="/ppt/media/image52.png" ContentType="image/png"/>
  <Override PartName="/ppt/media/image4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50.png" ContentType="image/png"/>
  <Override PartName="/ppt/media/image26.jpeg" ContentType="image/jpeg"/>
  <Override PartName="/ppt/media/image12.jpeg" ContentType="image/jpeg"/>
  <Override PartName="/ppt/media/image27.png" ContentType="image/png"/>
  <Override PartName="/ppt/media/image56.jpeg" ContentType="image/jpeg"/>
  <Override PartName="/ppt/media/image3.png" ContentType="image/png"/>
  <Override PartName="/ppt/media/image14.jpeg" ContentType="image/jpeg"/>
  <Override PartName="/ppt/media/image15.jpeg" ContentType="image/jpeg"/>
  <Override PartName="/ppt/media/image49.jpeg" ContentType="image/jpeg"/>
  <Override PartName="/ppt/media/image4.png" ContentType="image/png"/>
  <Override PartName="/ppt/media/image16.png" ContentType="image/png"/>
  <Override PartName="/ppt/media/image60.jpeg" ContentType="image/jpeg"/>
  <Override PartName="/ppt/media/image2.png" ContentType="image/png"/>
  <Override PartName="/ppt/media/image62.png" ContentType="image/png"/>
  <Override PartName="/ppt/media/image51.jpeg" ContentType="image/jpeg"/>
  <Override PartName="/ppt/media/image25.png" ContentType="image/png"/>
  <Override PartName="/ppt/media/image19.jpeg" ContentType="image/jpeg"/>
  <Override PartName="/ppt/media/image24.jpeg" ContentType="image/jpeg"/>
  <Override PartName="/ppt/media/image22.png" ContentType="image/png"/>
  <Override PartName="/ppt/media/image17.jpeg" ContentType="image/jpeg"/>
  <Override PartName="/ppt/media/image61.jpeg" ContentType="image/jpeg"/>
  <Override PartName="/ppt/media/image55.jpeg" ContentType="image/jpeg"/>
  <Override PartName="/ppt/media/image21.jpeg" ContentType="image/jpeg"/>
  <Override PartName="/ppt/media/image29.png" ContentType="image/png"/>
  <Override PartName="/ppt/media/image20.png" ContentType="image/png"/>
  <Override PartName="/ppt/media/image36.jpeg" ContentType="image/jpeg"/>
  <Override PartName="/ppt/media/image42.jpeg" ContentType="image/jpeg"/>
  <Override PartName="/ppt/media/image59.jpeg" ContentType="image/jpeg"/>
  <Override PartName="/ppt/media/image18.png" ContentType="image/png"/>
  <Override PartName="/ppt/media/image6.png" ContentType="image/png"/>
  <Override PartName="/ppt/media/image13.png" ContentType="image/png"/>
  <Override PartName="/ppt/media/image33.png" ContentType="image/png"/>
  <Override PartName="/ppt/media/image30.gif" ContentType="image/gif"/>
  <Override PartName="/ppt/media/image54.jpeg" ContentType="image/jpeg"/>
  <Override PartName="/ppt/media/cashreg.wav" ContentType="audio/x-wav"/>
  <Override PartName="/ppt/media/image39.png" ContentType="image/png"/>
  <Override PartName="/ppt/media/image1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9.jpeg" ContentType="image/jpeg"/>
  <Override PartName="/ppt/media/image28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35.png" ContentType="image/png"/>
  <Override PartName="/ppt/media/image38.jpeg" ContentType="image/jpeg"/>
  <Override PartName="/ppt/media/image40.jpeg" ContentType="image/jpeg"/>
  <Override PartName="/ppt/media/image44.png" ContentType="image/png"/>
  <Override PartName="/ppt/media/image41.png" ContentType="image/png"/>
  <Override PartName="/ppt/media/image43.wmf" ContentType="image/x-wmf"/>
  <Override PartName="/ppt/media/image23.png" ContentType="image/png"/>
  <Override PartName="/ppt/media/image53.jpeg" ContentType="image/jpeg"/>
  <Override PartName="/ppt/media/image48.png" ContentType="image/png"/>
  <Override PartName="/ppt/media/image45.jpeg" ContentType="image/jpeg"/>
  <Override PartName="/ppt/media/image4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F967-1715-4431-BF88-8AA115492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74E4-B839-41BD-AE47-3FA7490E9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9905B1-54D4-4E63-911A-4E3F4F981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5287D0-9EDF-4AEF-AAB6-49DC5AD31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90CCCE-4A25-43DF-815E-5615CA354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FF4EB9-CBE2-4225-BDB6-E1ADB560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8FFFB0-AE4F-4878-BC3D-032B839B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842F05-AE75-4C3A-89FE-3A83917A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5B4808-E423-454F-9A34-903B7E34A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FA3CD82-704E-42BE-AC9D-3E2E71778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E0D351-567D-4ED8-AEEE-94938ECE5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B8DA-B291-481A-8B02-684005A53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70AB-B72A-4373-9506-A1A0AD880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4D8683-B7DA-4094-A58C-2075C4B6B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386DBA-0C0F-4D53-B7E2-46E082391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318581-28A8-4A6C-8BBB-5CF14A3FB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774404-9F49-4D9E-B832-C0A69BA94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F59F4F-56A6-441F-B05F-D84077963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4EF467-C99B-43A3-9DC7-314DB4EF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B18DFA-B3A9-46DE-AD97-8AECD4E6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6F96-40F4-48D2-A396-9DFCB7D1F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97458E-DA1E-446D-9FEB-70F18DBE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2E00F2-08E1-4819-BA04-1684BE7A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E6D72D-119D-4D00-B441-E93F909FB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5958C4-E205-427B-AD4F-7426F9554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32A7E1-973A-4DBD-A865-FBB5AADEA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E6D2C-3147-4DE4-A4E3-E08E6130C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78244-823F-47D6-A433-17C0C5B2F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0B8DA-100B-4617-8D95-1F33A73E2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45C1F-4135-46F8-970C-AD3EAB862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6BF2B-5B07-40CE-927D-970D7148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0BFC-B2B4-48D7-9C05-95295FE03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265B1-3530-48DB-8B5F-E392D2C72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034F0-5D7E-4C8C-ACBE-11CA7444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1EB08-7092-4351-971E-08581F31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65056-459A-4FED-B0E1-B4FD323E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5A14A-175B-4D0E-A4BE-74B360D30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79CB8-D6F6-49FF-9046-C0B44E2BF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70393-2C15-46AC-BA59-BF82781DA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4CA31C-07B1-42E4-B99C-F3F23CD48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66372E-AD02-4637-A555-7F66858B8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95B480-7E7B-40C0-AC8E-140B69330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75CF-C515-451B-BA48-2A99792CC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4A1010-4E91-49BD-9DC7-8441E63A2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9E1547-E009-4082-8E83-6A370F43E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6E1631-FC35-4E03-9D75-6113ABF8B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9DC96D-0127-4A2B-818F-CF79C54A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6AC441-4199-4D54-B4A8-C86C03A1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B59225-2524-441D-8DA4-2093FFEA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282C3B-B076-48BC-AED2-BDD1B7171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B866D4-2BAE-479D-B52E-12F1791DD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AE2BEC-97D0-45C4-83F5-B65A1B115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0E2C7-D97A-406D-B372-08D493F75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F131-46FF-4D7F-A823-08AA02392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4E246-D89A-48D6-B599-5F6EE4F7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69062-2CC4-4B99-B280-F937F06C4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7FEA0-B2E2-468D-AB6B-09FDF3B2F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44AF9-E1AC-4CCB-824E-AA79DED9F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0E589-1A82-43E5-9A30-AA23D8719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88BB7-E6F0-4171-8390-A9EC70E2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91F80-7886-4619-9A62-EF734F0E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82171-918B-4F08-AB1C-1BE5EC06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2E520-9395-4713-9CC7-EAB9E3606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592AD-763C-4CC5-9B92-3B3FB72F6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6F67-E437-4539-A55A-E6858FD59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40A43-ACC0-4775-A2C7-30DF25932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2E45A-4928-4742-86C2-17149A360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8DB4A-D0C3-407E-919F-F1243E12E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FD774-2B8F-498D-8BFE-D4BAB88C4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6BB66-BBF0-4E73-871B-B611AD902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B6456-9943-41C6-8F63-ED37105A0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76615-8A2D-4611-BB3B-452EBAADB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DD26D-54BF-4666-B7E4-96F59910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8FA0B-1C2A-4866-AB9A-B6A2C0C7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8B46F-DB2F-472B-9077-351325BF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5E0C-14F5-4C08-8BD0-BC18769E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5F33D-4AA2-46E9-A9B5-BCE86A83A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F4300-A870-4F23-9830-568398556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FC8E0-E54C-4CBF-83F0-54816772B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2DD273-A838-4AE6-A64B-FA3692CA7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9B2DB9-94E5-4605-8727-0B3C47B7F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58640-9BE5-4EC6-835F-88E0BED2A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16A459-6DFE-441A-B67D-9723E880C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C7CCA-E5A7-4A79-BC69-31339DD19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D53755-98CA-4460-B481-8EEF8D1E7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99B1A-C77C-45BD-A479-BA9BFC00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7B33-2446-401F-94CB-4777051E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4FEBD4-C8D6-474D-9B51-BAEC7A62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C7A25A-0B03-4A34-977F-403297C9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478DF-8D8B-483F-AD46-8A95B5201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0D5AED-5BC5-46DE-9DAE-B3A32CF2B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5767CE-1372-4404-ABD7-80DFEE95C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90EC74-A75A-4D32-83CB-8577EBF13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6471E5-4773-48C2-B3AC-6A4DA535D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1755D8-4AFB-4533-B172-D4B309B0F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EA8579-6DF8-494F-BC37-F51C64248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7763A6-C13D-494E-8839-9592FBDD5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5ECF-296A-41F7-B0AD-EE125A7E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5F8C94-44E5-44A1-8493-7D750987C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BBD8F1-64C3-4D0E-81AA-7D78DAE0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FD6FF0-9EB1-4BEB-B5DB-FFA6CF3D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E4FEE0-D0D1-4B25-A494-5D4472C5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65FA38-1166-4443-8C8E-9DC0D860D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3ABCB0-EB51-4557-8203-934A3ECD8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61B0A0-97DA-47F8-80F8-2007BF7D9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C6AC4F-5DCA-4ED0-A366-20A2541F7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C8F085-7930-4BCE-9F12-1391EE42D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948D24-E3B3-4CED-BE84-3FB593B9C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1b4a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1b4aa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7E6C1-B2C1-4626-8A07-BF03DC259FA3}" type="slidenum">
              <a:rPr b="0" lang="ru-RU" sz="16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1b4a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1b4aa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95D54-BBCF-4A3E-A49F-DFF8DFB5E2BD}" type="slidenum">
              <a:rPr b="0" lang="ru-RU" sz="16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a5b59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1b4a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1b4aa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E627F-2B08-40BF-9937-005AD45F6CEF}" type="slidenum">
              <a:rPr b="0" lang="ru-RU" sz="16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4d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a5b59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1b4a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1b4aa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EC4AC-4C98-4475-9DB9-D0A0FA30E9AD}" type="slidenum">
              <a:rPr b="0" lang="ru-RU" sz="16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a5b59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1b4a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1b4aa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0EF03-1D75-4D71-B5FA-91B622A8E13B}" type="slidenum">
              <a:rPr b="0" lang="ru-RU" sz="16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a5b59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a5b59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1b4a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1b4aa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DC190-F573-4896-9B5A-AE1CF17864E4}" type="slidenum">
              <a:rPr b="0" lang="ru-RU" sz="16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a5b59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1b4a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1b4aa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3CF1F-B2B9-458C-BCAF-1F91DC68DB67}" type="slidenum">
              <a:rPr b="0" lang="ru-RU" sz="16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4d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a5b59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1b4a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1b4aa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BC05F-4DDA-4858-8990-162DF7ACE4BA}" type="slidenum">
              <a:rPr b="0" lang="ru-RU" sz="16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1b4a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1b4aa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E23DA-A9D9-4F65-8E63-7970F7B8688A}" type="slidenum">
              <a:rPr b="0" lang="ru-RU" sz="16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gi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png"/><Relationship Id="rId3" Type="http://schemas.openxmlformats.org/officeDocument/2006/relationships/image" Target="../media/image45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audio" Target="../media/cashreg.wav"/><Relationship Id="rId9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1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Заголовок 1" descr=""/>
          <p:cNvPicPr/>
          <p:nvPr/>
        </p:nvPicPr>
        <p:blipFill>
          <a:blip r:embed="rId1"/>
          <a:stretch/>
        </p:blipFill>
        <p:spPr>
          <a:xfrm>
            <a:off x="-6480" y="-146160"/>
            <a:ext cx="8906040" cy="121932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4962240" y="1107720"/>
            <a:ext cx="3932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mbria"/>
              </a:rPr>
              <a:t>ГОУ СОШ №797 г. Москвы </a:t>
            </a: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mbria"/>
              </a:rPr>
              <a:t>Презентацию подготовил учитель русского языка и литературы Куляшова Лилия Владимировна</a:t>
            </a: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mbria"/>
              </a:rPr>
              <a:t>Октябрь 2011</a:t>
            </a: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228240" y="2209320"/>
            <a:ext cx="8666280" cy="39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397" name="Picture 5" descr=""/>
          <p:cNvPicPr/>
          <p:nvPr/>
        </p:nvPicPr>
        <p:blipFill>
          <a:blip r:embed="rId2">
            <a:lum bright="40000"/>
          </a:blip>
          <a:stretch/>
        </p:blipFill>
        <p:spPr>
          <a:xfrm>
            <a:off x="785880" y="3143160"/>
            <a:ext cx="6964200" cy="2357640"/>
          </a:xfrm>
          <a:prstGeom prst="rect">
            <a:avLst/>
          </a:prstGeom>
          <a:ln w="0">
            <a:noFill/>
          </a:ln>
        </p:spPr>
      </p:pic>
      <p:sp>
        <p:nvSpPr>
          <p:cNvPr id="398" name="Прямоугольник 5"/>
          <p:cNvSpPr/>
          <p:nvPr/>
        </p:nvSpPr>
        <p:spPr>
          <a:xfrm>
            <a:off x="2286000" y="29671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арскосельск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ушкинский лиц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икторин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Прямоугольник 6"/>
          <p:cNvSpPr/>
          <p:nvPr/>
        </p:nvSpPr>
        <p:spPr>
          <a:xfrm>
            <a:off x="2286000" y="29671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арскосельск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ушкинский лиц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икторин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3" name="cashreg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 txBox="1"/>
          <p:nvPr/>
        </p:nvSpPr>
        <p:spPr>
          <a:xfrm>
            <a:off x="457200" y="1646280"/>
            <a:ext cx="3400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Что запрещалось носить лицеистам?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0" name="Управляющая кнопка: домой 3"/>
          <p:cNvSpPr/>
          <p:nvPr/>
        </p:nvSpPr>
        <p:spPr>
          <a:xfrm>
            <a:off x="285840" y="21420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3841"/>
                </a:moveTo>
                <a:lnTo>
                  <a:pt x="13376" y="6452"/>
                </a:ln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lnTo>
                  <a:pt x="17763" y="10804"/>
                </a:lnTo>
                <a:lnTo>
                  <a:pt x="16109" y="10804"/>
                </a:lnTo>
                <a:lnTo>
                  <a:pt x="16109" y="17993"/>
                </a:lnTo>
                <a:lnTo>
                  <a:pt x="5491" y="17993"/>
                </a:lnTo>
                <a:lnTo>
                  <a:pt x="5491" y="10804"/>
                </a:lnTo>
                <a:lnTo>
                  <a:pt x="3837" y="10804"/>
                </a:lnTo>
                <a:close/>
              </a:path>
              <a:path fill="darkenLess" w="21600" h="21607">
                <a:moveTo>
                  <a:pt x="13376" y="6452"/>
                </a:move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close/>
              </a:path>
              <a:path fill="darkenLess" w="21600" h="21607">
                <a:moveTo>
                  <a:pt x="9877" y="14303"/>
                </a:moveTo>
                <a:lnTo>
                  <a:pt x="11723" y="14303"/>
                </a:lnTo>
                <a:lnTo>
                  <a:pt x="11723" y="17993"/>
                </a:lnTo>
                <a:lnTo>
                  <a:pt x="16109" y="17993"/>
                </a:lnTo>
                <a:lnTo>
                  <a:pt x="16109" y="10804"/>
                </a:lnTo>
                <a:lnTo>
                  <a:pt x="5491" y="10804"/>
                </a:lnTo>
                <a:lnTo>
                  <a:pt x="5491" y="17993"/>
                </a:lnTo>
                <a:lnTo>
                  <a:pt x="9877" y="17993"/>
                </a:lnTo>
                <a:close/>
              </a:path>
            </a:pathLst>
          </a:custGeom>
          <a:gradFill rotWithShape="0">
            <a:gsLst>
              <a:gs pos="0">
                <a:srgbClr val="81946b"/>
              </a:gs>
              <a:gs pos="100000">
                <a:srgbClr val="bccda9"/>
              </a:gs>
            </a:gsLst>
            <a:lin ang="16200000"/>
          </a:gradFill>
          <a:ln w="9360">
            <a:solidFill>
              <a:srgbClr val="95a484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3857760" y="1646280"/>
            <a:ext cx="4829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В Лицее запрещалось носить очки. Все женщины казались близорукому Дельвигу красавицами.       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Когда после выпуска Дельвиг надел очки, в красоте многих был разочарован.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52" name="Picture 9" descr="Картинка 111 из 2745"/>
          <p:cNvPicPr/>
          <p:nvPr/>
        </p:nvPicPr>
        <p:blipFill>
          <a:blip r:embed="rId2"/>
          <a:stretch/>
        </p:blipFill>
        <p:spPr>
          <a:xfrm>
            <a:off x="4460760" y="4143240"/>
            <a:ext cx="3826080" cy="192888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cashreg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 txBox="1"/>
          <p:nvPr/>
        </p:nvSpPr>
        <p:spPr>
          <a:xfrm>
            <a:off x="428760" y="1643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Что собой представлял герб Лицея?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5" name="Управляющая кнопка: домой 3"/>
          <p:cNvSpPr/>
          <p:nvPr/>
        </p:nvSpPr>
        <p:spPr>
          <a:xfrm>
            <a:off x="7786800" y="2858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gradFill rotWithShape="0">
            <a:gsLst>
              <a:gs pos="0">
                <a:srgbClr val="81946b"/>
              </a:gs>
              <a:gs pos="100000">
                <a:srgbClr val="bccda9"/>
              </a:gs>
            </a:gsLst>
            <a:lin ang="16200000"/>
          </a:gradFill>
          <a:ln w="9360">
            <a:solidFill>
              <a:srgbClr val="95a484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571640" y="1643040"/>
            <a:ext cx="428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На лицейском гербе изображены были «принадлежности наук и словесности»: слова – символ мудрости, лира – поэзии, дубовый венок – символ силы, лавровый венок – символ славы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Автор герба – директор Лицея –    Е. А. Энгельгердт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57" name="Picture 10" descr="http://im2-tub-ru.yandex.net/i?id=488288242-05-72"/>
          <p:cNvPicPr/>
          <p:nvPr/>
        </p:nvPicPr>
        <p:blipFill>
          <a:blip r:embed="rId2"/>
          <a:stretch/>
        </p:blipFill>
        <p:spPr>
          <a:xfrm>
            <a:off x="1285920" y="3643200"/>
            <a:ext cx="2500200" cy="2500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cashreg.wav"/>
      </p:stSnd>
    </p:sndAc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 txBox="1"/>
          <p:nvPr/>
        </p:nvSpPr>
        <p:spPr>
          <a:xfrm>
            <a:off x="500040" y="17146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Какой девиз был написан на лицейской медали?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0" name="Управляющая кнопка: домой 3"/>
          <p:cNvSpPr/>
          <p:nvPr/>
        </p:nvSpPr>
        <p:spPr>
          <a:xfrm>
            <a:off x="7786800" y="2858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gradFill rotWithShape="0">
            <a:gsLst>
              <a:gs pos="0">
                <a:srgbClr val="81946b"/>
              </a:gs>
              <a:gs pos="100000">
                <a:srgbClr val="bccda9"/>
              </a:gs>
            </a:gsLst>
            <a:lin ang="16200000"/>
          </a:gradFill>
          <a:ln w="9360">
            <a:solidFill>
              <a:srgbClr val="95a484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«Для общей пользы»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62" name="Рисунок 5" descr="книга с пером.gif"/>
          <p:cNvPicPr/>
          <p:nvPr/>
        </p:nvPicPr>
        <p:blipFill>
          <a:blip r:embed="rId2"/>
          <a:stretch/>
        </p:blipFill>
        <p:spPr>
          <a:xfrm>
            <a:off x="1214280" y="4143240"/>
            <a:ext cx="3214800" cy="185112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cashreg.wav"/>
      </p:stSnd>
    </p:sndAc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 txBox="1"/>
          <p:nvPr/>
        </p:nvSpPr>
        <p:spPr>
          <a:xfrm>
            <a:off x="357120" y="1357200"/>
            <a:ext cx="3857760" cy="46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В каком порядке рассаживались воспитанники в классах и столовой?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5" name="Управляющая кнопка: домой 3"/>
          <p:cNvSpPr/>
          <p:nvPr/>
        </p:nvSpPr>
        <p:spPr>
          <a:xfrm>
            <a:off x="7715160" y="2858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gradFill rotWithShape="0">
            <a:gsLst>
              <a:gs pos="0">
                <a:srgbClr val="81946b"/>
              </a:gs>
              <a:gs pos="100000">
                <a:srgbClr val="bccda9"/>
              </a:gs>
            </a:gsLst>
            <a:lin ang="16200000"/>
          </a:gradFill>
          <a:ln w="9360">
            <a:solidFill>
              <a:srgbClr val="95a484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74320" indent="-274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Как в классах, так и в столовой воспитанников рассаживали по поведению и успехам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74320" indent="-274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Чем ближе к преподавателю, тем успешнее лицеист.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67" name="Picture 7" descr="Картинка 2 из 2290"/>
          <p:cNvPicPr/>
          <p:nvPr/>
        </p:nvPicPr>
        <p:blipFill>
          <a:blip r:embed="rId2"/>
          <a:stretch/>
        </p:blipFill>
        <p:spPr>
          <a:xfrm>
            <a:off x="500040" y="364320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cashreg.wav"/>
      </p:stSnd>
    </p:sndAc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 txBox="1"/>
          <p:nvPr/>
        </p:nvSpPr>
        <p:spPr>
          <a:xfrm>
            <a:off x="4572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Какой номер Кельи был у Пушкина в Лицее?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Кто были соседи Пушкина по кельям?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0" name="Управляющая кнопка: домой 3"/>
          <p:cNvSpPr/>
          <p:nvPr/>
        </p:nvSpPr>
        <p:spPr>
          <a:xfrm>
            <a:off x="7786800" y="2858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gradFill rotWithShape="0">
            <a:gsLst>
              <a:gs pos="0">
                <a:srgbClr val="81946b"/>
              </a:gs>
              <a:gs pos="100000">
                <a:srgbClr val="bccda9"/>
              </a:gs>
            </a:gsLst>
            <a:lin ang="16200000"/>
          </a:gradFill>
          <a:ln w="9360">
            <a:solidFill>
              <a:srgbClr val="95a484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У Пушкина - №14,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У Пущина _ №13,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У Саврасова - №15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72" name="Picture 7" descr="http://im0-tub-ru.yandex.net/i?id=133726278-16-72"/>
          <p:cNvPicPr/>
          <p:nvPr/>
        </p:nvPicPr>
        <p:blipFill>
          <a:blip r:embed="rId2"/>
          <a:stretch/>
        </p:blipFill>
        <p:spPr>
          <a:xfrm>
            <a:off x="4643280" y="3429000"/>
            <a:ext cx="3571920" cy="314316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cashreg.wav"/>
      </p:stSnd>
    </p:sndAc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 txBox="1"/>
          <p:nvPr/>
        </p:nvSpPr>
        <p:spPr>
          <a:xfrm>
            <a:off x="4572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Какие прозвища были у Пушкина в Лицее?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5" name="Управляющая кнопка: домой 3"/>
          <p:cNvSpPr/>
          <p:nvPr/>
        </p:nvSpPr>
        <p:spPr>
          <a:xfrm>
            <a:off x="7786800" y="2858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gradFill rotWithShape="0">
            <a:gsLst>
              <a:gs pos="0">
                <a:srgbClr val="81946b"/>
              </a:gs>
              <a:gs pos="100000">
                <a:srgbClr val="bccda9"/>
              </a:gs>
            </a:gsLst>
            <a:lin ang="16200000"/>
          </a:gradFill>
          <a:ln w="9360">
            <a:solidFill>
              <a:srgbClr val="95a484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Обезьяна с тигром, Француз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77" name="Picture 7" descr="Картинка 34 из 4177"/>
          <p:cNvPicPr/>
          <p:nvPr/>
        </p:nvPicPr>
        <p:blipFill>
          <a:blip r:embed="rId2"/>
          <a:stretch/>
        </p:blipFill>
        <p:spPr>
          <a:xfrm>
            <a:off x="4071960" y="3071880"/>
            <a:ext cx="4395600" cy="3571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cashreg.wav"/>
      </p:stSnd>
    </p:sndAc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 txBox="1"/>
          <p:nvPr/>
        </p:nvSpPr>
        <p:spPr>
          <a:xfrm>
            <a:off x="4572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По каким учебным дисциплинам Пушкин «оказал успехи»  «превосходные»?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0" name="Управляющая кнопка: домой 3"/>
          <p:cNvSpPr/>
          <p:nvPr/>
        </p:nvSpPr>
        <p:spPr>
          <a:xfrm>
            <a:off x="7786800" y="2858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gradFill rotWithShape="0">
            <a:gsLst>
              <a:gs pos="0">
                <a:srgbClr val="81946b"/>
              </a:gs>
              <a:gs pos="100000">
                <a:srgbClr val="bccda9"/>
              </a:gs>
            </a:gsLst>
            <a:lin ang="16200000"/>
          </a:gradFill>
          <a:ln w="9360">
            <a:solidFill>
              <a:srgbClr val="95a484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«В латинской словесности» и « российской и французской словесности, а также и в фехтовании превосходны»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82" name="Picture 7" descr="http://im2-tub-ru.yandex.net/i?id=182406408-14-72"/>
          <p:cNvPicPr/>
          <p:nvPr/>
        </p:nvPicPr>
        <p:blipFill>
          <a:blip r:embed="rId2"/>
          <a:stretch/>
        </p:blipFill>
        <p:spPr>
          <a:xfrm>
            <a:off x="1143000" y="4000680"/>
            <a:ext cx="2033640" cy="257148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cashreg.wav"/>
      </p:stSnd>
    </p:sndAc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 txBox="1"/>
          <p:nvPr/>
        </p:nvSpPr>
        <p:spPr>
          <a:xfrm>
            <a:off x="4572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Сколько стихотворений было написано Пушкиным в Лицее?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5" name="Управляющая кнопка: домой 3"/>
          <p:cNvSpPr/>
          <p:nvPr/>
        </p:nvSpPr>
        <p:spPr>
          <a:xfrm>
            <a:off x="7786800" y="2858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gradFill rotWithShape="0">
            <a:gsLst>
              <a:gs pos="0">
                <a:srgbClr val="81946b"/>
              </a:gs>
              <a:gs pos="100000">
                <a:srgbClr val="bccda9"/>
              </a:gs>
            </a:gsLst>
            <a:lin ang="16200000"/>
          </a:gradFill>
          <a:ln w="9360">
            <a:solidFill>
              <a:srgbClr val="95a484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132 стихотворения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87" name="Picture 9" descr="Картинка 14 из 108"/>
          <p:cNvPicPr/>
          <p:nvPr/>
        </p:nvPicPr>
        <p:blipFill>
          <a:blip r:embed="rId2"/>
          <a:stretch/>
        </p:blipFill>
        <p:spPr>
          <a:xfrm>
            <a:off x="4857840" y="2714760"/>
            <a:ext cx="3276360" cy="380988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cashreg.wav"/>
      </p:stSnd>
    </p:sndAc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 txBox="1"/>
          <p:nvPr/>
        </p:nvSpPr>
        <p:spPr>
          <a:xfrm>
            <a:off x="4572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Каким стихотворением Пушкин официально закончил своё лицейское творчество?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Стихотворением «Безверие»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1" name="Управляющая кнопка: домой 3"/>
          <p:cNvSpPr/>
          <p:nvPr/>
        </p:nvSpPr>
        <p:spPr>
          <a:xfrm>
            <a:off x="7786800" y="2858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gradFill rotWithShape="0">
            <a:gsLst>
              <a:gs pos="0">
                <a:srgbClr val="81946b"/>
              </a:gs>
              <a:gs pos="100000">
                <a:srgbClr val="bccda9"/>
              </a:gs>
            </a:gsLst>
            <a:lin ang="16200000"/>
          </a:gradFill>
          <a:ln w="9360">
            <a:solidFill>
              <a:srgbClr val="95a484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3071880" y="3071880"/>
          <a:ext cx="5167080" cy="3090960"/>
        </p:xfrm>
        <a:graphic>
          <a:graphicData uri="http://schemas.openxmlformats.org/drawingml/2006/table">
            <a:tbl>
              <a:tblPr/>
              <a:tblGrid>
                <a:gridCol w="2582640"/>
                <a:gridCol w="2584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 вы, которые с язвительным упреком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читая мрачное безверие пороком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ежите в ужасе того, кто с первых л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езумно погасил отрадный сердцу свет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3" name="Picture 9" descr="http://im3-tub-ru.yandex.net/i?id=365183830-36-72"/>
          <p:cNvPicPr/>
          <p:nvPr/>
        </p:nvPicPr>
        <p:blipFill>
          <a:blip r:embed="rId2"/>
          <a:stretch/>
        </p:blipFill>
        <p:spPr>
          <a:xfrm>
            <a:off x="2928960" y="3643200"/>
            <a:ext cx="1785960" cy="278604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cashreg.wav"/>
      </p:stSnd>
    </p:sndAc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Содержимое 13" descr="глаз.wmf"/>
          <p:cNvPicPr/>
          <p:nvPr/>
        </p:nvPicPr>
        <p:blipFill>
          <a:blip r:embed="rId1"/>
          <a:stretch/>
        </p:blipFill>
        <p:spPr>
          <a:xfrm>
            <a:off x="214200" y="214200"/>
            <a:ext cx="1832040" cy="965160"/>
          </a:xfrm>
          <a:prstGeom prst="rect">
            <a:avLst/>
          </a:prstGeom>
          <a:ln w="0">
            <a:noFill/>
          </a:ln>
        </p:spPr>
      </p:pic>
      <p:pic>
        <p:nvPicPr>
          <p:cNvPr id="495" name="Заголовок 1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 txBox="1"/>
          <p:nvPr/>
        </p:nvSpPr>
        <p:spPr>
          <a:xfrm>
            <a:off x="4572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Какое стихотворение  Пушкина первым увидело свет? Какая под ним стояла подпись?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7" name="Управляющая кнопка: домой 3"/>
          <p:cNvSpPr/>
          <p:nvPr/>
        </p:nvSpPr>
        <p:spPr>
          <a:xfrm>
            <a:off x="7786800" y="2858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gradFill rotWithShape="0">
            <a:gsLst>
              <a:gs pos="0">
                <a:srgbClr val="81946b"/>
              </a:gs>
              <a:gs pos="100000">
                <a:srgbClr val="bccda9"/>
              </a:gs>
            </a:gsLst>
            <a:lin ang="16200000"/>
          </a:gradFill>
          <a:ln w="9360">
            <a:solidFill>
              <a:srgbClr val="95a484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«К другу стихотворцу», адресованное К-ру, было напечатано в 13-м номере «Вестника Европы» за 1814 год.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Под стихотворением  стояла подпись «Н.К.Ш.П.»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99" name="Picture 8" descr="http://im2-tub-ru.yandex.net/i?id=194168669-67-72"/>
          <p:cNvPicPr/>
          <p:nvPr/>
        </p:nvPicPr>
        <p:blipFill>
          <a:blip r:embed="rId3"/>
          <a:stretch/>
        </p:blipFill>
        <p:spPr>
          <a:xfrm>
            <a:off x="1214280" y="4000680"/>
            <a:ext cx="2928960" cy="2357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4" name="cashreg.wav"/>
      </p:stSnd>
    </p:sndAc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Заголовок 1" descr=""/>
          <p:cNvPicPr/>
          <p:nvPr/>
        </p:nvPicPr>
        <p:blipFill>
          <a:blip r:embed="rId1"/>
          <a:stretch/>
        </p:blipFill>
        <p:spPr>
          <a:xfrm>
            <a:off x="-6480" y="-146160"/>
            <a:ext cx="8906040" cy="121932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4962240" y="1107720"/>
            <a:ext cx="3932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228240" y="2209320"/>
            <a:ext cx="8666280" cy="39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3" name="Picture 5" descr=""/>
          <p:cNvPicPr/>
          <p:nvPr/>
        </p:nvPicPr>
        <p:blipFill>
          <a:blip r:embed="rId2">
            <a:lum bright="40000"/>
          </a:blip>
          <a:stretch/>
        </p:blipFill>
        <p:spPr>
          <a:xfrm>
            <a:off x="857160" y="2143080"/>
            <a:ext cx="7607520" cy="4473720"/>
          </a:xfrm>
          <a:prstGeom prst="rect">
            <a:avLst/>
          </a:prstGeom>
          <a:ln w="0">
            <a:noFill/>
          </a:ln>
        </p:spPr>
      </p:pic>
      <p:sp>
        <p:nvSpPr>
          <p:cNvPr id="404" name="Прямоугольник 5"/>
          <p:cNvSpPr/>
          <p:nvPr/>
        </p:nvSpPr>
        <p:spPr>
          <a:xfrm>
            <a:off x="2286000" y="29671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арскосельск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ушкинский лиц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икторин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Прямоугольник 6"/>
          <p:cNvSpPr/>
          <p:nvPr/>
        </p:nvSpPr>
        <p:spPr>
          <a:xfrm>
            <a:off x="2286000" y="29671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арскосельск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ушкинский лиц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икторин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3" name="cashreg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01" name=""/>
          <p:cNvSpPr txBox="1"/>
          <p:nvPr/>
        </p:nvSpPr>
        <p:spPr>
          <a:xfrm>
            <a:off x="4572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Где состоялось публичное чтение  Пушкиным стихотворения  «Воспоминания в Царском Селе»?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45160" indent="-245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Стихотворения  «Воспоминания в Царском Селе»  Пушкин прочёл на публичном экзамене  « по случаю перевода воспитанников                                                                                        из младшего в старший возраст» 8 января 1814 года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3" name="Управляющая кнопка: домой 3"/>
          <p:cNvSpPr/>
          <p:nvPr/>
        </p:nvSpPr>
        <p:spPr>
          <a:xfrm>
            <a:off x="7786800" y="2858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gradFill rotWithShape="0">
            <a:gsLst>
              <a:gs pos="0">
                <a:srgbClr val="81946b"/>
              </a:gs>
              <a:gs pos="100000">
                <a:srgbClr val="bccda9"/>
              </a:gs>
            </a:gsLst>
            <a:lin ang="16200000"/>
          </a:gradFill>
          <a:ln w="9360">
            <a:solidFill>
              <a:srgbClr val="95a484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4" name="Picture 7" descr="http://im5-tub-ru.yandex.net/i?id=313705845-42-72"/>
          <p:cNvPicPr/>
          <p:nvPr/>
        </p:nvPicPr>
        <p:blipFill>
          <a:blip r:embed="rId2"/>
          <a:stretch/>
        </p:blipFill>
        <p:spPr>
          <a:xfrm>
            <a:off x="1000080" y="4500720"/>
            <a:ext cx="2928960" cy="178596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cashreg.wav"/>
      </p:stSnd>
    </p:sndAc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 txBox="1"/>
          <p:nvPr/>
        </p:nvSpPr>
        <p:spPr>
          <a:xfrm>
            <a:off x="499680" y="1643040"/>
            <a:ext cx="353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Кто из лицейских друзей вызвал Пушкина на дуэль?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000320" y="1646280"/>
            <a:ext cx="5143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На дуэль вызвал Пушкина Кухельбекер, обидевшийся на пушкинские строки: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За ужином объелся я ,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А Яков запер дверь оплошно-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Так было мне , мои друзья,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И кюхельбекерно и тошно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8" name="Управляющая кнопка: домой 3"/>
          <p:cNvSpPr/>
          <p:nvPr/>
        </p:nvSpPr>
        <p:spPr>
          <a:xfrm>
            <a:off x="7929720" y="21420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3841"/>
                </a:moveTo>
                <a:lnTo>
                  <a:pt x="13376" y="6452"/>
                </a:ln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lnTo>
                  <a:pt x="17763" y="10804"/>
                </a:lnTo>
                <a:lnTo>
                  <a:pt x="16109" y="10804"/>
                </a:lnTo>
                <a:lnTo>
                  <a:pt x="16109" y="17993"/>
                </a:lnTo>
                <a:lnTo>
                  <a:pt x="5491" y="17993"/>
                </a:lnTo>
                <a:lnTo>
                  <a:pt x="5491" y="10804"/>
                </a:lnTo>
                <a:lnTo>
                  <a:pt x="3837" y="10804"/>
                </a:lnTo>
                <a:close/>
              </a:path>
              <a:path fill="darkenLess" w="21600" h="21607">
                <a:moveTo>
                  <a:pt x="13376" y="6452"/>
                </a:move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close/>
              </a:path>
              <a:path fill="darkenLess" w="21600" h="21607">
                <a:moveTo>
                  <a:pt x="9877" y="14303"/>
                </a:moveTo>
                <a:lnTo>
                  <a:pt x="11723" y="14303"/>
                </a:lnTo>
                <a:lnTo>
                  <a:pt x="11723" y="17993"/>
                </a:lnTo>
                <a:lnTo>
                  <a:pt x="16109" y="17993"/>
                </a:lnTo>
                <a:lnTo>
                  <a:pt x="16109" y="10804"/>
                </a:lnTo>
                <a:lnTo>
                  <a:pt x="5491" y="10804"/>
                </a:lnTo>
                <a:lnTo>
                  <a:pt x="5491" y="17993"/>
                </a:lnTo>
                <a:lnTo>
                  <a:pt x="9877" y="17993"/>
                </a:lnTo>
                <a:close/>
              </a:path>
            </a:pathLst>
          </a:custGeom>
          <a:gradFill rotWithShape="0">
            <a:gsLst>
              <a:gs pos="0">
                <a:srgbClr val="81946b"/>
              </a:gs>
              <a:gs pos="100000">
                <a:srgbClr val="bccda9"/>
              </a:gs>
            </a:gsLst>
            <a:lin ang="16200000"/>
          </a:gradFill>
          <a:ln w="9360">
            <a:solidFill>
              <a:srgbClr val="95a484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7" descr="http://im2-tub-ru.yandex.net/i?id=344975942-32-72"/>
          <p:cNvPicPr/>
          <p:nvPr/>
        </p:nvPicPr>
        <p:blipFill>
          <a:blip r:embed="rId2"/>
          <a:stretch/>
        </p:blipFill>
        <p:spPr>
          <a:xfrm>
            <a:off x="1285920" y="4143240"/>
            <a:ext cx="1714320" cy="207180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cashreg.wav"/>
      </p:stSnd>
    </p:sndAc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 txBox="1"/>
          <p:nvPr/>
        </p:nvSpPr>
        <p:spPr>
          <a:xfrm>
            <a:off x="4572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В какое литературное общество был принят Пцшкин-лицеист?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В  литературное общество «Арзамас»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3" name="Управляющая кнопка: домой 3"/>
          <p:cNvSpPr/>
          <p:nvPr/>
        </p:nvSpPr>
        <p:spPr>
          <a:xfrm>
            <a:off x="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gradFill rotWithShape="0">
            <a:gsLst>
              <a:gs pos="0">
                <a:srgbClr val="81946b"/>
              </a:gs>
              <a:gs pos="100000">
                <a:srgbClr val="bccda9"/>
              </a:gs>
            </a:gsLst>
            <a:lin ang="16200000"/>
          </a:gradFill>
          <a:ln w="9360">
            <a:solidFill>
              <a:srgbClr val="95a484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4" name="Picture 7" descr="http://im4-tub-ru.yandex.net/i?id=200618507-08-72"/>
          <p:cNvPicPr/>
          <p:nvPr/>
        </p:nvPicPr>
        <p:blipFill>
          <a:blip r:embed="rId2"/>
          <a:stretch/>
        </p:blipFill>
        <p:spPr>
          <a:xfrm>
            <a:off x="3357720" y="4000680"/>
            <a:ext cx="2571480" cy="214308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cashreg.wav"/>
      </p:stSnd>
    </p:sndAc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 txBox="1"/>
          <p:nvPr/>
        </p:nvSpPr>
        <p:spPr>
          <a:xfrm>
            <a:off x="4572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Назовите трёх лицейских товарищей Пушкина, которые стали декабристами?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И.И.Пущин,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В.К.Кюхельбекер,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В.Д.Вольховский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8" name="Управляющая кнопка: домой 3"/>
          <p:cNvSpPr/>
          <p:nvPr/>
        </p:nvSpPr>
        <p:spPr>
          <a:xfrm>
            <a:off x="142920" y="21420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3841"/>
                </a:moveTo>
                <a:lnTo>
                  <a:pt x="13376" y="6452"/>
                </a:ln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lnTo>
                  <a:pt x="17763" y="10804"/>
                </a:lnTo>
                <a:lnTo>
                  <a:pt x="16109" y="10804"/>
                </a:lnTo>
                <a:lnTo>
                  <a:pt x="16109" y="17993"/>
                </a:lnTo>
                <a:lnTo>
                  <a:pt x="5491" y="17993"/>
                </a:lnTo>
                <a:lnTo>
                  <a:pt x="5491" y="10804"/>
                </a:lnTo>
                <a:lnTo>
                  <a:pt x="3837" y="10804"/>
                </a:lnTo>
                <a:close/>
              </a:path>
              <a:path fill="darkenLess" w="21600" h="21607">
                <a:moveTo>
                  <a:pt x="13376" y="6452"/>
                </a:move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close/>
              </a:path>
              <a:path fill="darkenLess" w="21600" h="21607">
                <a:moveTo>
                  <a:pt x="9877" y="14303"/>
                </a:moveTo>
                <a:lnTo>
                  <a:pt x="11723" y="14303"/>
                </a:lnTo>
                <a:lnTo>
                  <a:pt x="11723" y="17993"/>
                </a:lnTo>
                <a:lnTo>
                  <a:pt x="16109" y="17993"/>
                </a:lnTo>
                <a:lnTo>
                  <a:pt x="16109" y="10804"/>
                </a:lnTo>
                <a:lnTo>
                  <a:pt x="5491" y="10804"/>
                </a:lnTo>
                <a:lnTo>
                  <a:pt x="5491" y="17993"/>
                </a:lnTo>
                <a:lnTo>
                  <a:pt x="9877" y="17993"/>
                </a:lnTo>
                <a:close/>
              </a:path>
            </a:pathLst>
          </a:custGeom>
          <a:gradFill rotWithShape="0">
            <a:gsLst>
              <a:gs pos="0">
                <a:srgbClr val="81946b"/>
              </a:gs>
              <a:gs pos="100000">
                <a:srgbClr val="bccda9"/>
              </a:gs>
            </a:gsLst>
            <a:lin ang="16200000"/>
          </a:gradFill>
          <a:ln w="9360">
            <a:solidFill>
              <a:srgbClr val="95a484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Picture 7" descr="Картинка 3 из 676"/>
          <p:cNvPicPr/>
          <p:nvPr/>
        </p:nvPicPr>
        <p:blipFill>
          <a:blip r:embed="rId2"/>
          <a:stretch/>
        </p:blipFill>
        <p:spPr>
          <a:xfrm>
            <a:off x="4500720" y="3071880"/>
            <a:ext cx="3186000" cy="3571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cashreg.wav"/>
      </p:stSnd>
    </p:sndAc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5" descr="image014"/>
          <p:cNvPicPr/>
          <p:nvPr/>
        </p:nvPicPr>
        <p:blipFill>
          <a:blip r:embed="rId1"/>
          <a:stretch/>
        </p:blipFill>
        <p:spPr>
          <a:xfrm>
            <a:off x="971640" y="189000"/>
            <a:ext cx="7343640" cy="541008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468360" y="5734080"/>
            <a:ext cx="822960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Комната N 14: «Александр Пушкин»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wheel spokes="8"/>
    <p:sndAc>
      <p:stSnd>
        <p:snd r:embed="rId2" name="cashreg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68360" y="551628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Класс, в котором учились лицеисты. Пером обозначено место, где сидел А.С. Пушкин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24" name="Picture 4" descr="3473808nnu"/>
          <p:cNvPicPr/>
          <p:nvPr/>
        </p:nvPicPr>
        <p:blipFill>
          <a:blip r:embed="rId1"/>
          <a:stretch/>
        </p:blipFill>
        <p:spPr>
          <a:xfrm>
            <a:off x="1042920" y="189000"/>
            <a:ext cx="7048440" cy="527688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2" name="cashreg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27" name="Picture 4" descr="image010"/>
          <p:cNvPicPr/>
          <p:nvPr/>
        </p:nvPicPr>
        <p:blipFill>
          <a:blip r:embed="rId1"/>
          <a:stretch/>
        </p:blipFill>
        <p:spPr>
          <a:xfrm>
            <a:off x="971640" y="260280"/>
            <a:ext cx="7199280" cy="5399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2" name="cashreg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1835280" y="5589720"/>
            <a:ext cx="496872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Комнатки лицеистов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29" name="Picture 4" descr="0_d15d_52414e53_XL"/>
          <p:cNvPicPr/>
          <p:nvPr/>
        </p:nvPicPr>
        <p:blipFill>
          <a:blip r:embed="rId1"/>
          <a:stretch/>
        </p:blipFill>
        <p:spPr>
          <a:xfrm>
            <a:off x="971640" y="189000"/>
            <a:ext cx="6985080" cy="5238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2" name="cashreg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2340000" y="5660640"/>
            <a:ext cx="4392720" cy="8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50920" indent="-25092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Большой зал Лицея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31" name="Picture 4" descr=""/>
          <p:cNvPicPr/>
          <p:nvPr/>
        </p:nvPicPr>
        <p:blipFill>
          <a:blip r:embed="rId1"/>
          <a:stretch/>
        </p:blipFill>
        <p:spPr>
          <a:xfrm>
            <a:off x="898560" y="115920"/>
            <a:ext cx="7273800" cy="547380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2" name="cashreg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63680" y="3805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1332000" y="5084280"/>
            <a:ext cx="6624720" cy="132084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А.С.Пушкин на акте в Лице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8 января 1815 года. 1911 - И.Е. Репин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34" name="Picture 4" descr="пушкин экзамен"/>
          <p:cNvPicPr/>
          <p:nvPr/>
        </p:nvPicPr>
        <p:blipFill>
          <a:blip r:embed="rId1"/>
          <a:stretch/>
        </p:blipFill>
        <p:spPr>
          <a:xfrm>
            <a:off x="755640" y="260280"/>
            <a:ext cx="7620120" cy="431820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2" name="cashreg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pic>
        <p:nvPicPr>
          <p:cNvPr id="407" name="Содержимое 3" descr=""/>
          <p:cNvPicPr/>
          <p:nvPr/>
        </p:nvPicPr>
        <p:blipFill>
          <a:blip r:embed="rId2"/>
          <a:stretch/>
        </p:blipFill>
        <p:spPr>
          <a:xfrm>
            <a:off x="353880" y="1262160"/>
            <a:ext cx="8375760" cy="59608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5" descr="http://im6-tub-ru.yandex.net/i?id=11784333-06-72"/>
          <p:cNvPicPr/>
          <p:nvPr/>
        </p:nvPicPr>
        <p:blipFill>
          <a:blip r:embed="rId3"/>
          <a:stretch/>
        </p:blipFill>
        <p:spPr>
          <a:xfrm>
            <a:off x="500040" y="2143080"/>
            <a:ext cx="1643040" cy="1357200"/>
          </a:xfrm>
          <a:prstGeom prst="rect">
            <a:avLst/>
          </a:prstGeom>
          <a:ln w="0">
            <a:noFill/>
          </a:ln>
        </p:spPr>
      </p:pic>
      <p:sp>
        <p:nvSpPr>
          <p:cNvPr id="409" name="TextBox 4"/>
          <p:cNvSpPr/>
          <p:nvPr/>
        </p:nvSpPr>
        <p:spPr>
          <a:xfrm>
            <a:off x="571680" y="2214720"/>
            <a:ext cx="150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тор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здания Лице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0" name="Picture 7" descr="http://im3-tub-ru.yandex.net/i?id=140513626-68-72"/>
          <p:cNvPicPr/>
          <p:nvPr/>
        </p:nvPicPr>
        <p:blipFill>
          <a:blip r:embed="rId4"/>
          <a:stretch/>
        </p:blipFill>
        <p:spPr>
          <a:xfrm>
            <a:off x="500040" y="3571920"/>
            <a:ext cx="1643040" cy="1147680"/>
          </a:xfrm>
          <a:prstGeom prst="rect">
            <a:avLst/>
          </a:prstGeom>
          <a:ln w="0">
            <a:noFill/>
          </a:ln>
        </p:spPr>
      </p:pic>
      <p:sp>
        <p:nvSpPr>
          <p:cNvPr id="411" name="TextBox 6"/>
          <p:cNvSpPr/>
          <p:nvPr/>
        </p:nvSpPr>
        <p:spPr>
          <a:xfrm>
            <a:off x="718560" y="3929040"/>
            <a:ext cx="141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уч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Picture 9" descr="http://im6-tub-ru.yandex.net/i?id=482278245-60-72"/>
          <p:cNvPicPr/>
          <p:nvPr/>
        </p:nvPicPr>
        <p:blipFill>
          <a:blip r:embed="rId5"/>
          <a:stretch/>
        </p:blipFill>
        <p:spPr>
          <a:xfrm>
            <a:off x="500040" y="4786200"/>
            <a:ext cx="1643040" cy="1214640"/>
          </a:xfrm>
          <a:prstGeom prst="rect">
            <a:avLst/>
          </a:prstGeom>
          <a:ln w="0">
            <a:noFill/>
          </a:ln>
        </p:spPr>
      </p:pic>
      <p:sp>
        <p:nvSpPr>
          <p:cNvPr id="413" name="TextBox 8"/>
          <p:cNvSpPr/>
          <p:nvPr/>
        </p:nvSpPr>
        <p:spPr>
          <a:xfrm>
            <a:off x="789120" y="5000760"/>
            <a:ext cx="118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Жизн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Лице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Picture 11" descr="http://im6-tub-ru.yandex.net/i?id=212058438-04-72"/>
          <p:cNvPicPr/>
          <p:nvPr/>
        </p:nvPicPr>
        <p:blipFill>
          <a:blip r:embed="rId6"/>
          <a:stretch/>
        </p:blipFill>
        <p:spPr>
          <a:xfrm>
            <a:off x="500040" y="6072120"/>
            <a:ext cx="1643040" cy="1143000"/>
          </a:xfrm>
          <a:prstGeom prst="rect">
            <a:avLst/>
          </a:prstGeom>
          <a:ln w="0">
            <a:noFill/>
          </a:ln>
        </p:spPr>
      </p:pic>
      <p:sp>
        <p:nvSpPr>
          <p:cNvPr id="415" name="TextBox 10"/>
          <p:cNvSpPr/>
          <p:nvPr/>
        </p:nvSpPr>
        <p:spPr>
          <a:xfrm>
            <a:off x="719640" y="6149880"/>
            <a:ext cx="122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ушки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Лиц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Picture 13" descr="http://im7-tub-ru.yandex.net/i?id=364681565-52-72"/>
          <p:cNvPicPr/>
          <p:nvPr/>
        </p:nvPicPr>
        <p:blipFill>
          <a:blip r:embed="rId7"/>
          <a:stretch/>
        </p:blipFill>
        <p:spPr>
          <a:xfrm>
            <a:off x="714240" y="285840"/>
            <a:ext cx="1571760" cy="100008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8" name="cashreg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5651280" y="765000"/>
            <a:ext cx="30351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А.С.Пушкин – выпускник Лицея. 1817 г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36" name="Picture 5" descr="image013"/>
          <p:cNvPicPr/>
          <p:nvPr/>
        </p:nvPicPr>
        <p:blipFill>
          <a:blip r:embed="rId1"/>
          <a:stretch/>
        </p:blipFill>
        <p:spPr>
          <a:xfrm>
            <a:off x="468360" y="260280"/>
            <a:ext cx="4273560" cy="590544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2" name="cashreg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250920" y="5876640"/>
            <a:ext cx="8362800" cy="67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624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Знак об окончании Императорского Александровского Лицея в Царском Селе. Утвержден 22 июня 1898 г.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38" name="Picture 4" descr="1235932786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4986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2" name="cashreg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Заголовок 1" descr=""/>
          <p:cNvPicPr/>
          <p:nvPr/>
        </p:nvPicPr>
        <p:blipFill>
          <a:blip r:embed="rId1"/>
          <a:stretch/>
        </p:blipFill>
        <p:spPr>
          <a:xfrm>
            <a:off x="225360" y="-55440"/>
            <a:ext cx="8540640" cy="5560920"/>
          </a:xfrm>
          <a:prstGeom prst="rect">
            <a:avLst/>
          </a:prstGeom>
          <a:ln w="0">
            <a:noFill/>
          </a:ln>
        </p:spPr>
      </p:pic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wheel spokes="8"/>
    <p:sndAc>
      <p:stSnd>
        <p:snd r:embed="rId2" name="cashreg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Заголовок 1" descr=""/>
          <p:cNvPicPr/>
          <p:nvPr/>
        </p:nvPicPr>
        <p:blipFill>
          <a:blip r:embed="rId1"/>
          <a:stretch/>
        </p:blipFill>
        <p:spPr>
          <a:xfrm>
            <a:off x="450720" y="-128520"/>
            <a:ext cx="8517240" cy="153648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571320" y="1785960"/>
            <a:ext cx="4757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По чьей инициативе создан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Царскосельский  лицей?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5714640" y="1646280"/>
            <a:ext cx="314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Открытие лицея – одно из значительных добрых дел императора Александра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I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0" name="Управляющая кнопка: домой 3"/>
          <p:cNvSpPr/>
          <p:nvPr/>
        </p:nvSpPr>
        <p:spPr>
          <a:xfrm>
            <a:off x="500040" y="2858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gradFill rotWithShape="0">
            <a:gsLst>
              <a:gs pos="0">
                <a:srgbClr val="81946b"/>
              </a:gs>
              <a:gs pos="100000">
                <a:srgbClr val="bccda9"/>
              </a:gs>
            </a:gsLst>
            <a:lin ang="16200000"/>
          </a:gradFill>
          <a:ln w="9360">
            <a:solidFill>
              <a:srgbClr val="95a484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1" name="Рисунок 6" descr="http://im5-tub-ru.yandex.net/i?id=381682846-43-72"/>
          <p:cNvPicPr/>
          <p:nvPr/>
        </p:nvPicPr>
        <p:blipFill>
          <a:blip r:embed="rId2"/>
          <a:stretch/>
        </p:blipFill>
        <p:spPr>
          <a:xfrm>
            <a:off x="428760" y="3214800"/>
            <a:ext cx="4429080" cy="32860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http://im7-tub-ru.yandex.net/i?id=419624366-10-72"/>
          <p:cNvPicPr/>
          <p:nvPr/>
        </p:nvPicPr>
        <p:blipFill>
          <a:blip r:embed="rId3"/>
          <a:stretch/>
        </p:blipFill>
        <p:spPr>
          <a:xfrm>
            <a:off x="6286680" y="5143680"/>
            <a:ext cx="1428480" cy="1066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4" name="cashreg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Заголовок 1" descr=""/>
          <p:cNvPicPr/>
          <p:nvPr/>
        </p:nvPicPr>
        <p:blipFill>
          <a:blip r:embed="rId1"/>
          <a:stretch/>
        </p:blipFill>
        <p:spPr>
          <a:xfrm>
            <a:off x="249120" y="249120"/>
            <a:ext cx="8444160" cy="115884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4572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Где располагался Лицей?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Для Лицея был отведён флигель Екатерининского дворца. Дворец  был построен в 1750-х годах В.Растрелли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6" name="Управляющая кнопка: домой 3"/>
          <p:cNvSpPr/>
          <p:nvPr/>
        </p:nvSpPr>
        <p:spPr>
          <a:xfrm>
            <a:off x="428760" y="2858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gradFill rotWithShape="0">
            <a:gsLst>
              <a:gs pos="0">
                <a:srgbClr val="81946b"/>
              </a:gs>
              <a:gs pos="100000">
                <a:srgbClr val="bccda9"/>
              </a:gs>
            </a:gsLst>
            <a:lin ang="16200000"/>
          </a:gradFill>
          <a:ln w="9360">
            <a:solidFill>
              <a:srgbClr val="95a484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7" name="Picture 7" descr="http://im6-tub-ru.yandex.net/i?id=426975620-58-72"/>
          <p:cNvPicPr/>
          <p:nvPr/>
        </p:nvPicPr>
        <p:blipFill>
          <a:blip r:embed="rId2"/>
          <a:stretch/>
        </p:blipFill>
        <p:spPr>
          <a:xfrm>
            <a:off x="500040" y="2786040"/>
            <a:ext cx="3786120" cy="3571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cashreg.wav"/>
      </p:stSnd>
    </p:sndAc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Заголовок 1" descr=""/>
          <p:cNvPicPr/>
          <p:nvPr/>
        </p:nvPicPr>
        <p:blipFill>
          <a:blip r:embed="rId1"/>
          <a:stretch/>
        </p:blipFill>
        <p:spPr>
          <a:xfrm>
            <a:off x="360360" y="249120"/>
            <a:ext cx="8332920" cy="115884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4572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Кто был первым директором Лицея? Кто его сменил?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642920" y="16430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Первым директором Лицея был Василий Фёдорович Малиновский, затем  Егор Антонович Энгельгардт.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1" name="Управляющая кнопка: домой 3"/>
          <p:cNvSpPr/>
          <p:nvPr/>
        </p:nvSpPr>
        <p:spPr>
          <a:xfrm>
            <a:off x="357120" y="357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gradFill rotWithShape="0">
            <a:gsLst>
              <a:gs pos="0">
                <a:srgbClr val="81946b"/>
              </a:gs>
              <a:gs pos="100000">
                <a:srgbClr val="bccda9"/>
              </a:gs>
            </a:gsLst>
            <a:lin ang="16200000"/>
          </a:gradFill>
          <a:ln w="9360">
            <a:solidFill>
              <a:srgbClr val="95a484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2" name="Picture 7" descr="http://im6-tub-ru.yandex.net/i?id=63941936-22-72"/>
          <p:cNvPicPr/>
          <p:nvPr/>
        </p:nvPicPr>
        <p:blipFill>
          <a:blip r:embed="rId2"/>
          <a:stretch/>
        </p:blipFill>
        <p:spPr>
          <a:xfrm>
            <a:off x="1000080" y="3643200"/>
            <a:ext cx="2571840" cy="2857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cashreg.wav"/>
      </p:stSnd>
    </p:sndAc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Заголовок 1" descr=""/>
          <p:cNvPicPr/>
          <p:nvPr/>
        </p:nvPicPr>
        <p:blipFill>
          <a:blip r:embed="rId1"/>
          <a:stretch/>
        </p:blipFill>
        <p:spPr>
          <a:xfrm>
            <a:off x="208080" y="249120"/>
            <a:ext cx="8485200" cy="116532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 txBox="1"/>
          <p:nvPr/>
        </p:nvSpPr>
        <p:spPr>
          <a:xfrm>
            <a:off x="4572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Сколько человек было принято на первый курс Лицея?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714920" y="1643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К экзаменам было допущено 38 человек,  принято – 30, окончило – 29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6" name="Управляющая кнопка: домой 3"/>
          <p:cNvSpPr/>
          <p:nvPr/>
        </p:nvSpPr>
        <p:spPr>
          <a:xfrm>
            <a:off x="6500880" y="54291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gradFill rotWithShape="0">
            <a:gsLst>
              <a:gs pos="0">
                <a:srgbClr val="81946b"/>
              </a:gs>
              <a:gs pos="100000">
                <a:srgbClr val="bccda9"/>
              </a:gs>
            </a:gsLst>
            <a:lin ang="16200000"/>
          </a:gradFill>
          <a:ln w="9360">
            <a:solidFill>
              <a:srgbClr val="95a484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7" name="Picture 7" descr="http://im6-tub-ru.yandex.net/i?id=47651007-31-72"/>
          <p:cNvPicPr/>
          <p:nvPr/>
        </p:nvPicPr>
        <p:blipFill>
          <a:blip r:embed="rId2"/>
          <a:stretch/>
        </p:blipFill>
        <p:spPr>
          <a:xfrm>
            <a:off x="642960" y="3357720"/>
            <a:ext cx="3000240" cy="307152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cashreg.wav"/>
      </p:stSnd>
    </p:sndAc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Заголовок 1" descr=""/>
          <p:cNvPicPr/>
          <p:nvPr/>
        </p:nvPicPr>
        <p:blipFill>
          <a:blip r:embed="rId1"/>
          <a:stretch/>
        </p:blipFill>
        <p:spPr>
          <a:xfrm>
            <a:off x="208080" y="249120"/>
            <a:ext cx="8485200" cy="116532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 txBox="1"/>
          <p:nvPr/>
        </p:nvSpPr>
        <p:spPr>
          <a:xfrm>
            <a:off x="571320" y="1571760"/>
            <a:ext cx="2857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Какая форма была у лицеистов?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286080" y="928800"/>
            <a:ext cx="547200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48040" indent="-24804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48040" indent="-24804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Форма лицеистов включала в себя синий двубортный сюртук со стоячим красным воротником, с красным кантом на манжетах, с блестящими гладкими пуговицами,  синий суконный жилет, длинные прямые панталоны синего сукна, полусапожки.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1" name="Управляющая кнопка: домой 3"/>
          <p:cNvSpPr/>
          <p:nvPr/>
        </p:nvSpPr>
        <p:spPr>
          <a:xfrm>
            <a:off x="6357960" y="53578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gradFill rotWithShape="0">
            <a:gsLst>
              <a:gs pos="0">
                <a:srgbClr val="81946b"/>
              </a:gs>
              <a:gs pos="100000">
                <a:srgbClr val="bccda9"/>
              </a:gs>
            </a:gsLst>
            <a:lin ang="16200000"/>
          </a:gradFill>
          <a:ln w="9360">
            <a:solidFill>
              <a:srgbClr val="95a484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2" name="Picture 7" descr="http://im6-tub-ru.yandex.net/i?id=212058438-04-72"/>
          <p:cNvPicPr/>
          <p:nvPr/>
        </p:nvPicPr>
        <p:blipFill>
          <a:blip r:embed="rId2"/>
          <a:stretch/>
        </p:blipFill>
        <p:spPr>
          <a:xfrm>
            <a:off x="500040" y="3071880"/>
            <a:ext cx="2428920" cy="3357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cashreg.wav"/>
      </p:stSnd>
    </p:sndAc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 txBox="1"/>
          <p:nvPr/>
        </p:nvSpPr>
        <p:spPr>
          <a:xfrm>
            <a:off x="4572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Какие новшества были введены в учебный процесс  Лицея?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5" name="Управляющая кнопка: домой 3"/>
          <p:cNvSpPr/>
          <p:nvPr/>
        </p:nvSpPr>
        <p:spPr>
          <a:xfrm>
            <a:off x="285840" y="2858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gradFill rotWithShape="0">
            <a:gsLst>
              <a:gs pos="0">
                <a:srgbClr val="81946b"/>
              </a:gs>
              <a:gs pos="100000">
                <a:srgbClr val="bccda9"/>
              </a:gs>
            </a:gsLst>
            <a:lin ang="16200000"/>
          </a:gradFill>
          <a:ln w="9360">
            <a:solidFill>
              <a:srgbClr val="95a484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Впервые в российском учебном заведении отменялись телесные наказания, лекции читались только на русском языке.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47" name="Picture 7" descr="http://im0-tub-ru.yandex.net/i?id=453848331-65-72"/>
          <p:cNvPicPr/>
          <p:nvPr/>
        </p:nvPicPr>
        <p:blipFill>
          <a:blip r:embed="rId2"/>
          <a:stretch/>
        </p:blipFill>
        <p:spPr>
          <a:xfrm>
            <a:off x="571680" y="3357720"/>
            <a:ext cx="3429000" cy="300024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cashreg.wav"/>
      </p:stSnd>
    </p:sndAc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09:38:10Z</dcterms:created>
  <dc:creator>Инна</dc:creator>
  <dc:description/>
  <dc:language>en-US</dc:language>
  <cp:lastModifiedBy>Liliya</cp:lastModifiedBy>
  <dcterms:modified xsi:type="dcterms:W3CDTF">2011-10-18T17:25:11Z</dcterms:modified>
  <cp:revision>67</cp:revision>
  <dc:subject/>
  <dc:title>Подготовка к олимпиаде по русскому языку</dc:title>
</cp:coreProperties>
</file>