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7.jpeg" ContentType="image/jpeg"/>
  <Override PartName="/ppt/media/image52.png" ContentType="image/png"/>
  <Override PartName="/ppt/media/image4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50.png" ContentType="image/png"/>
  <Override PartName="/ppt/media/image26.jpeg" ContentType="image/jpeg"/>
  <Override PartName="/ppt/media/image12.jpeg" ContentType="image/jpeg"/>
  <Override PartName="/ppt/media/image27.png" ContentType="image/png"/>
  <Override PartName="/ppt/media/image56.jpeg" ContentType="image/jpeg"/>
  <Override PartName="/ppt/media/image3.png" ContentType="image/png"/>
  <Override PartName="/ppt/media/image14.jpeg" ContentType="image/jpeg"/>
  <Override PartName="/ppt/media/image15.jpeg" ContentType="image/jpeg"/>
  <Override PartName="/ppt/media/image49.jpeg" ContentType="image/jpeg"/>
  <Override PartName="/ppt/media/image4.png" ContentType="image/png"/>
  <Override PartName="/ppt/media/image16.png" ContentType="image/png"/>
  <Override PartName="/ppt/media/image60.jpeg" ContentType="image/jpeg"/>
  <Override PartName="/ppt/media/image2.png" ContentType="image/png"/>
  <Override PartName="/ppt/media/image62.png" ContentType="image/png"/>
  <Override PartName="/ppt/media/image51.jpeg" ContentType="image/jpeg"/>
  <Override PartName="/ppt/media/image25.png" ContentType="image/png"/>
  <Override PartName="/ppt/media/image19.jpeg" ContentType="image/jpeg"/>
  <Override PartName="/ppt/media/image24.jpeg" ContentType="image/jpeg"/>
  <Override PartName="/ppt/media/image22.png" ContentType="image/png"/>
  <Override PartName="/ppt/media/image17.jpeg" ContentType="image/jpeg"/>
  <Override PartName="/ppt/media/image61.jpeg" ContentType="image/jpeg"/>
  <Override PartName="/ppt/media/image55.jpeg" ContentType="image/jpeg"/>
  <Override PartName="/ppt/media/image21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42.jpeg" ContentType="image/jpeg"/>
  <Override PartName="/ppt/media/image59.jpeg" ContentType="image/jpeg"/>
  <Override PartName="/ppt/media/image18.png" ContentType="image/png"/>
  <Override PartName="/ppt/media/image6.png" ContentType="image/png"/>
  <Override PartName="/ppt/media/image13.png" ContentType="image/png"/>
  <Override PartName="/ppt/media/image33.png" ContentType="image/png"/>
  <Override PartName="/ppt/media/image30.gif" ContentType="image/gif"/>
  <Override PartName="/ppt/media/image54.jpeg" ContentType="image/jpeg"/>
  <Override PartName="/ppt/media/cashreg.wav" ContentType="audio/x-wav"/>
  <Override PartName="/ppt/media/image39.png" ContentType="image/png"/>
  <Override PartName="/ppt/media/image1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9.jpeg" ContentType="image/jpeg"/>
  <Override PartName="/ppt/media/image28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35.png" ContentType="image/png"/>
  <Override PartName="/ppt/media/image38.jpeg" ContentType="image/jpeg"/>
  <Override PartName="/ppt/media/image40.jpeg" ContentType="image/jpeg"/>
  <Override PartName="/ppt/media/image44.png" ContentType="image/png"/>
  <Override PartName="/ppt/media/image41.png" ContentType="image/png"/>
  <Override PartName="/ppt/media/image43.wmf" ContentType="image/x-wmf"/>
  <Override PartName="/ppt/media/image23.png" ContentType="image/png"/>
  <Override PartName="/ppt/media/image53.jpeg" ContentType="image/jpeg"/>
  <Override PartName="/ppt/media/image48.png" ContentType="image/png"/>
  <Override PartName="/ppt/media/image45.jpeg" ContentType="image/jpeg"/>
  <Override PartName="/ppt/media/image4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684F-67EB-4691-B064-4A2A465B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D3DF-078F-4CF0-BE33-E09F05E6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5BED09-D61A-4DEB-8FE7-DE0D7074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2645C8-F712-4A51-B3B3-7A94F21A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75C674-BB97-4FFE-B5E3-58E07A21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B1AD73-97C0-4C49-B2E0-9B5A63CB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3A1D04-85A0-4AB2-8A42-99835546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C077F3-2468-4A63-AF48-7802BBB5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8402C6-6A5E-4AC5-A50A-8F468DFC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788914-AE4B-4DBA-BD4E-D1C8A49E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A1A0FB-D1FD-421F-9463-A2EAF147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A61A-F577-48E2-8566-54DD4CCC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904-37A8-431A-BD59-9D231C69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0506C-FA6D-4559-A7C1-B617C0D9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0DAC2-F6A5-42F8-BD40-1FC799D1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F64D7-D634-4A96-8602-D5A3253D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53BD5-14DF-40BF-94EB-5E8AC715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9094A-714E-4551-9E8F-6499DAAE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77774-B3D7-47E7-A073-EE1B81DC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C9FAF-572F-4250-BDD3-23281438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08E-E2BE-496D-A940-E8DC7142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DFB62-3F8C-4180-8CF5-FB906541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A645C-D1F0-44D2-8FF5-36191622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56530-2EDE-45DF-AE1B-2348281D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FDBDB-BF46-413B-8FBF-1128CD5C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0B2B0-1A48-4DC2-9346-46D16C28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8980C-D912-456B-839F-73E6ACF1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BB325-FA9B-4CE3-AD5E-408A7F42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CB5B5-B4A4-4C36-BBE3-D3F8B9BA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31F7D-9602-4D5B-BD64-9284B3D2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9C6FF-5861-45D3-9D3F-4F2980F2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E99-F987-498B-BFF1-FAC4BD6A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74F6E-AD68-42D3-B38B-D69CA408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18C84-3925-4EFE-91B6-9EF2BE17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4CF78-AE1D-4AD1-A10B-B4E23892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36CE9-BB89-4593-A58E-4DC6FE17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0CF50-0481-47A2-A920-D9BF56DC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BDE5B-8F87-482F-A71E-E2756468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A50D8-F871-4DA0-9873-0DD1D04A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185327-0DE7-42F5-B049-3E89663F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218A33-D477-4BF5-A1A3-2E3F6355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563764-939B-4710-8549-2BB8A45A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1130-F24E-4A22-9BF3-8DAA973E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60EB05-C796-4A22-AB98-329379E6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519404-5ABE-435C-8B98-5F62542D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2C63F-9642-47A9-9BCE-17C9B58A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6D87D8-F082-49B0-BE99-C901D33A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68806D-9920-473D-BE9A-0E5F592D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65148-C999-4641-B699-16C60E57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B492A2-8955-4B7D-BEA6-58C80A02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7EEA43-FAF1-4E48-97B5-25F025C7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EA194-F04E-471F-8A5F-FAB235E7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C4EED-6E80-47B8-954A-EEA31AC5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8BC-C489-469D-9B81-5C2A57F3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CF177-B1E3-4C7B-B8F2-333E2392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87FF7-0989-4B7B-8281-D8EC6FD0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2191D-A785-418A-910F-B2C57FDD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C26D8-AFC3-4405-AEAE-A02DCDBF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24136-F5AE-4835-9AD4-CF669E67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3F416-089C-415B-A117-5D0B405F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E6E3F-27F1-4613-849C-ACE6A7C8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E7BCA-651A-4945-9409-CF05C2B9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632C8-7C9E-48F9-86F1-01863109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F2A9A-E109-4081-A11E-0224C069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B9B-2BA3-4AB5-8C20-9A7088C1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BF736-B8C7-407F-87AE-B7F5A305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A027D-5173-4602-A154-D3FFB66D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7FC84-5109-43B1-9FB2-1E197797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CAB6A-317F-45DE-9DB3-48FAC557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CE399-EF52-4FB0-B36A-85EAC33D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C3A31-265D-42DA-835E-E502AA1E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E6EDA-112E-4EA3-BBB5-E3F0CC71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774FA-190B-41D8-AF50-0BB21368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E88B8-EBA0-4D19-802F-D36831E0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1E5AE-5D3E-45C7-BD9C-ECCAC141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9DC2-6431-4AF9-8CF2-CDD39E8E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7CB24-514B-4857-93EA-F2E7AE5E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C23DD-332B-4BFA-A089-BEF8AAF4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23A65-DA35-49DC-B6FA-0EDC3197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B8F62-20BC-4FD7-A69B-34A14057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6701E-F660-4226-8D82-8D671356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D8FCF-A7C2-4A38-A402-25F8A03F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68FAB-1008-45EC-9F5E-D67EF3B1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DADF9-E8A4-4D1A-A942-2FE03E3F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D9211-9F6C-4BF3-B754-08F6C129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25A8A-953B-46EE-B231-0CD728B0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C249-1972-43FD-A71E-1C3D4339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ECABD-703D-4993-875E-B3E0F253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AB870-8B60-4B1B-A49D-ED060662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9FC93-8EC6-4B27-BA2B-3755DCC0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A8ECF-BEE5-4989-B07C-675E6A2E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57214-389D-41EB-88BA-2ADE1998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011B12-8AD5-47E1-A768-14A8A0E1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D2B7EB-CFCC-4387-951D-4A248B9C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C2A8D4-61DE-4262-BA87-59D053C3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DE9996-BEA3-41F2-AD45-578E7A1C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AEAB76-D2FF-41E0-8898-2FA8FAD0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14A-5AD0-41BE-A61F-6D4D5133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B6832A-392E-4994-8908-399E208E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3E7423-1EAD-4C53-AEE8-DF7CF66D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E7810B-2173-4736-A80F-5DC59FF2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32D067-C90C-4183-8A89-A9E03C9E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344E3C-8DB7-45FC-817C-5F42480F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3E2438-2C2D-4097-81DD-721A09AD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38C89F-7348-476D-ADC2-D10D7CBB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8F7D9D-4549-430E-B130-3D3AE0AF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8154C0-9DD1-470B-8785-AE2E9439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86EBFA-82BD-42DF-A752-EFDB7B47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D3FD-529A-4BB9-9210-B063DCF878DF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0A35-6915-422C-9747-0B517468BBC3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22FA-FF7A-46BE-A415-34037824F5B2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0327-45AD-4649-B5E6-949BFF4CC738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192C-124E-409A-8564-E2E593FDC380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2689-FD71-4DCF-AC96-072E000D8EF2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8EBF-F554-42F8-B27F-7C3E27A58CD3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D0BF-F22C-4079-BDD4-80666FECF4F7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1b4a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1b4aa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C581-3C9C-480D-828E-73B49D14A4A6}" type="slidenum">
              <a:rPr b="0" lang="ru-RU" sz="16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8906040" cy="12193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962240" y="1107720"/>
            <a:ext cx="3932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ГОУ СОШ №797 г. Москвы 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Презентацию подготовил учитель русского языка и литературы Куляшова Лилия Владимировна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Октябрь 2011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28240" y="2209320"/>
            <a:ext cx="8666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785880" y="3143160"/>
            <a:ext cx="6964200" cy="235764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5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арскосель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шкинский лиц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Прямоугольник 6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арскосель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шкинский лиц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340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Что запрещалось носить лицеистам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Управляющая кнопка: домой 3"/>
          <p:cNvSpPr/>
          <p:nvPr/>
        </p:nvSpPr>
        <p:spPr>
          <a:xfrm>
            <a:off x="285840" y="2142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57760" y="164628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 Лицее запрещалось носить очки. Все женщины казались близорукому Дельвигу красавицами.      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Когда после выпуска Дельвиг надел очки, в красоте многих был разочарован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52" name="Picture 9" descr="Картинка 111 из 2745"/>
          <p:cNvPicPr/>
          <p:nvPr/>
        </p:nvPicPr>
        <p:blipFill>
          <a:blip r:embed="rId2"/>
          <a:stretch/>
        </p:blipFill>
        <p:spPr>
          <a:xfrm>
            <a:off x="4460760" y="4143240"/>
            <a:ext cx="3826080" cy="1928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2876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Что собой представлял герб Лицея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1640" y="1643040"/>
            <a:ext cx="42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а лицейском гербе изображены были «принадлежности наук и словесности»: слова – символ мудрости, лира – поэзии, дубовый венок – символ силы, лавровый венок – символ слав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втор герба – директор Лицея –    Е. А. Энгельгердт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57" name="Picture 10" descr="http://im2-tub-ru.yandex.net/i?id=488288242-05-72"/>
          <p:cNvPicPr/>
          <p:nvPr/>
        </p:nvPicPr>
        <p:blipFill>
          <a:blip r:embed="rId2"/>
          <a:stretch/>
        </p:blipFill>
        <p:spPr>
          <a:xfrm>
            <a:off x="1285920" y="3643200"/>
            <a:ext cx="2500200" cy="2500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500040" y="1714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акой девиз был написан на лицейской медали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«Для общей пользы»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2" name="Рисунок 5" descr="книга с пером.gif"/>
          <p:cNvPicPr/>
          <p:nvPr/>
        </p:nvPicPr>
        <p:blipFill>
          <a:blip r:embed="rId2"/>
          <a:stretch/>
        </p:blipFill>
        <p:spPr>
          <a:xfrm>
            <a:off x="1214280" y="4143240"/>
            <a:ext cx="3214800" cy="1851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57120" y="1357200"/>
            <a:ext cx="385776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 каком порядке рассаживались воспитанники в классах и столовой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5" name="Управляющая кнопка: домой 3"/>
          <p:cNvSpPr/>
          <p:nvPr/>
        </p:nvSpPr>
        <p:spPr>
          <a:xfrm>
            <a:off x="771516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74320" indent="-27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ак в классах, так и в столовой воспитанников рассаживали по поведению и успехам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4320" indent="-27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Чем ближе к преподавателю, тем успешнее лицеист.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7" name="Picture 7" descr="Картинка 2 из 2290"/>
          <p:cNvPicPr/>
          <p:nvPr/>
        </p:nvPicPr>
        <p:blipFill>
          <a:blip r:embed="rId2"/>
          <a:stretch/>
        </p:blipFill>
        <p:spPr>
          <a:xfrm>
            <a:off x="500040" y="36432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акой номер Кельи был у Пушкина в Лицее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то были соседи Пушкина по кельям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0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У Пушкина - №14,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У Пущина _ №13,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У Саврасова - №15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2" name="Picture 7" descr="http://im0-tub-ru.yandex.net/i?id=133726278-16-72"/>
          <p:cNvPicPr/>
          <p:nvPr/>
        </p:nvPicPr>
        <p:blipFill>
          <a:blip r:embed="rId2"/>
          <a:stretch/>
        </p:blipFill>
        <p:spPr>
          <a:xfrm>
            <a:off x="4643280" y="3429000"/>
            <a:ext cx="3571920" cy="3143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акие прозвища были у Пушкина в Лицее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5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Обезьяна с тигром, Француз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7" name="Picture 7" descr="Картинка 34 из 4177"/>
          <p:cNvPicPr/>
          <p:nvPr/>
        </p:nvPicPr>
        <p:blipFill>
          <a:blip r:embed="rId2"/>
          <a:stretch/>
        </p:blipFill>
        <p:spPr>
          <a:xfrm>
            <a:off x="4071960" y="3071880"/>
            <a:ext cx="4395600" cy="3571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о каким учебным дисциплинам Пушкин «оказал успехи»  «превосходные»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0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«В латинской словесности» и « российской и французской словесности, а также и в фехтовании превосходны»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82" name="Picture 7" descr="http://im2-tub-ru.yandex.net/i?id=182406408-14-72"/>
          <p:cNvPicPr/>
          <p:nvPr/>
        </p:nvPicPr>
        <p:blipFill>
          <a:blip r:embed="rId2"/>
          <a:stretch/>
        </p:blipFill>
        <p:spPr>
          <a:xfrm>
            <a:off x="1143000" y="4000680"/>
            <a:ext cx="2033640" cy="2571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Сколько стихотворений было написано Пушкиным в Лицее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132 стихотворени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87" name="Picture 9" descr="Картинка 14 из 108"/>
          <p:cNvPicPr/>
          <p:nvPr/>
        </p:nvPicPr>
        <p:blipFill>
          <a:blip r:embed="rId2"/>
          <a:stretch/>
        </p:blipFill>
        <p:spPr>
          <a:xfrm>
            <a:off x="4857840" y="2714760"/>
            <a:ext cx="3276360" cy="3809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аким стихотворением Пушкин официально закончил своё лицейское творчество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Стихотворением «Безверие»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1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3071880" y="3071880"/>
          <a:ext cx="5167080" cy="3090960"/>
        </p:xfrm>
        <a:graphic>
          <a:graphicData uri="http://schemas.openxmlformats.org/drawingml/2006/table">
            <a:tbl>
              <a:tblPr/>
              <a:tblGrid>
                <a:gridCol w="2582640"/>
                <a:gridCol w="2584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 вы, которые с язвительным упреком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читая мрачное безверие пороком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жите в ужасе того, кто с первых л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умно погасил отрадный сердцу свет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3" name="Picture 9" descr="http://im3-tub-ru.yandex.net/i?id=365183830-36-72"/>
          <p:cNvPicPr/>
          <p:nvPr/>
        </p:nvPicPr>
        <p:blipFill>
          <a:blip r:embed="rId2"/>
          <a:stretch/>
        </p:blipFill>
        <p:spPr>
          <a:xfrm>
            <a:off x="2928960" y="3643200"/>
            <a:ext cx="1785960" cy="2786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Содержимое 13" descr="глаз.wmf"/>
          <p:cNvPicPr/>
          <p:nvPr/>
        </p:nvPicPr>
        <p:blipFill>
          <a:blip r:embed="rId1"/>
          <a:stretch/>
        </p:blipFill>
        <p:spPr>
          <a:xfrm>
            <a:off x="214200" y="214200"/>
            <a:ext cx="1832040" cy="965160"/>
          </a:xfrm>
          <a:prstGeom prst="rect">
            <a:avLst/>
          </a:prstGeom>
          <a:ln w="0">
            <a:noFill/>
          </a:ln>
        </p:spPr>
      </p:pic>
      <p:pic>
        <p:nvPicPr>
          <p:cNvPr id="495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Какое стихотворение  Пушкина первым увидело свет? Какая под ним стояла подпись?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«К другу стихотворцу», адресованное К-ру, было напечатано в 13-м номере «Вестника Европы» за 1814 год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д стихотворением  стояла подпись «Н.К.Ш.П.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99" name="Picture 8" descr="http://im2-tub-ru.yandex.net/i?id=194168669-67-72"/>
          <p:cNvPicPr/>
          <p:nvPr/>
        </p:nvPicPr>
        <p:blipFill>
          <a:blip r:embed="rId3"/>
          <a:stretch/>
        </p:blipFill>
        <p:spPr>
          <a:xfrm>
            <a:off x="1214280" y="4000680"/>
            <a:ext cx="2928960" cy="2357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cashreg.wav"/>
      </p:stSnd>
    </p:sndAc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8906040" cy="12193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962240" y="1107720"/>
            <a:ext cx="3932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28240" y="2209320"/>
            <a:ext cx="8666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Picture 5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857160" y="2143080"/>
            <a:ext cx="7607520" cy="447372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5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арскосель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шкинский лиц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Прямоугольник 6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арскосель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шкинский лиц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Где состоялось публичное чтение  Пушкиным стихотворения  «Воспоминания в Царском Селе»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45160" indent="-24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тихотворения  «Воспоминания в Царском Селе»  Пушкин прочёл на публичном экзамене  « по случаю перевода воспитанников                                                                                        из младшего в старший возраст» 8 января 1814 года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Управляющая кнопка: домой 3"/>
          <p:cNvSpPr/>
          <p:nvPr/>
        </p:nvSpPr>
        <p:spPr>
          <a:xfrm>
            <a:off x="778680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Picture 7" descr="http://im5-tub-ru.yandex.net/i?id=313705845-42-72"/>
          <p:cNvPicPr/>
          <p:nvPr/>
        </p:nvPicPr>
        <p:blipFill>
          <a:blip r:embed="rId2"/>
          <a:stretch/>
        </p:blipFill>
        <p:spPr>
          <a:xfrm>
            <a:off x="1000080" y="4500720"/>
            <a:ext cx="2928960" cy="1785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499680" y="164304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Кто из лицейских друзей вызвал Пушкина на дуэль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000320" y="1646280"/>
            <a:ext cx="5143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На дуэль вызвал Пушкина Кухельбекер, обидевшийся на пушкинские строки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За ужином объелся я ,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А Яков запер дверь оплошно-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Так было мне , мои друзья,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И кюхельбекерно и тошно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8" name="Управляющая кнопка: домой 3"/>
          <p:cNvSpPr/>
          <p:nvPr/>
        </p:nvSpPr>
        <p:spPr>
          <a:xfrm>
            <a:off x="7929720" y="2142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7" descr="http://im2-tub-ru.yandex.net/i?id=344975942-32-72"/>
          <p:cNvPicPr/>
          <p:nvPr/>
        </p:nvPicPr>
        <p:blipFill>
          <a:blip r:embed="rId2"/>
          <a:stretch/>
        </p:blipFill>
        <p:spPr>
          <a:xfrm>
            <a:off x="1285920" y="4143240"/>
            <a:ext cx="1714320" cy="2071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В какое литературное общество был принят Пцшкин-лицеист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  литературное общество «Арзамас»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3" name="Управляющая кнопка: домой 3"/>
          <p:cNvSpPr/>
          <p:nvPr/>
        </p:nvSpPr>
        <p:spPr>
          <a:xfrm>
            <a:off x="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7" descr="http://im4-tub-ru.yandex.net/i?id=200618507-08-72"/>
          <p:cNvPicPr/>
          <p:nvPr/>
        </p:nvPicPr>
        <p:blipFill>
          <a:blip r:embed="rId2"/>
          <a:stretch/>
        </p:blipFill>
        <p:spPr>
          <a:xfrm>
            <a:off x="3357720" y="4000680"/>
            <a:ext cx="2571480" cy="2143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Назовите трёх лицейских товарищей Пушкина, которые стали декабристами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И.И.Пущин,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.К.Кюхельбекер,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.Д.Вольховский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8" name="Управляющая кнопка: домой 3"/>
          <p:cNvSpPr/>
          <p:nvPr/>
        </p:nvSpPr>
        <p:spPr>
          <a:xfrm>
            <a:off x="142920" y="2142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7" descr="Картинка 3 из 676"/>
          <p:cNvPicPr/>
          <p:nvPr/>
        </p:nvPicPr>
        <p:blipFill>
          <a:blip r:embed="rId2"/>
          <a:stretch/>
        </p:blipFill>
        <p:spPr>
          <a:xfrm>
            <a:off x="4500720" y="3071880"/>
            <a:ext cx="3186000" cy="3571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5" descr="image014"/>
          <p:cNvPicPr/>
          <p:nvPr/>
        </p:nvPicPr>
        <p:blipFill>
          <a:blip r:embed="rId1"/>
          <a:stretch/>
        </p:blipFill>
        <p:spPr>
          <a:xfrm>
            <a:off x="971640" y="189000"/>
            <a:ext cx="7343640" cy="541008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468360" y="573408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Комната N 14: «Александр Пушкин»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heel spokes="8"/>
    <p:sndAc>
      <p:stSnd>
        <p:snd r:embed="rId2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8360" y="55162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ласс, в котором учились лицеисты. Пером обозначено место, где сидел А.С. Пушкин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4" name="Picture 4" descr="3473808nnu"/>
          <p:cNvPicPr/>
          <p:nvPr/>
        </p:nvPicPr>
        <p:blipFill>
          <a:blip r:embed="rId1"/>
          <a:stretch/>
        </p:blipFill>
        <p:spPr>
          <a:xfrm>
            <a:off x="1042920" y="189000"/>
            <a:ext cx="7048440" cy="5276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7" name="Picture 4" descr="image010"/>
          <p:cNvPicPr/>
          <p:nvPr/>
        </p:nvPicPr>
        <p:blipFill>
          <a:blip r:embed="rId1"/>
          <a:stretch/>
        </p:blipFill>
        <p:spPr>
          <a:xfrm>
            <a:off x="971640" y="260280"/>
            <a:ext cx="7199280" cy="5399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835280" y="5589720"/>
            <a:ext cx="4968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омнатки лицеистов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9" name="Picture 4" descr="0_d15d_52414e53_XL"/>
          <p:cNvPicPr/>
          <p:nvPr/>
        </p:nvPicPr>
        <p:blipFill>
          <a:blip r:embed="rId1"/>
          <a:stretch/>
        </p:blipFill>
        <p:spPr>
          <a:xfrm>
            <a:off x="971640" y="189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2340000" y="5660640"/>
            <a:ext cx="439272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50920" indent="-25092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ольшой зал Лице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31" name="Picture 4" descr=""/>
          <p:cNvPicPr/>
          <p:nvPr/>
        </p:nvPicPr>
        <p:blipFill>
          <a:blip r:embed="rId1"/>
          <a:stretch/>
        </p:blipFill>
        <p:spPr>
          <a:xfrm>
            <a:off x="898560" y="115920"/>
            <a:ext cx="7273800" cy="5473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3680" y="380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332000" y="5084280"/>
            <a:ext cx="6624720" cy="132084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А.С.Пушкин на акте в Лице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8 января 1815 года. 1911 - И.Е. Репин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34" name="Picture 4" descr="пушкин экзамен"/>
          <p:cNvPicPr/>
          <p:nvPr/>
        </p:nvPicPr>
        <p:blipFill>
          <a:blip r:embed="rId1"/>
          <a:stretch/>
        </p:blipFill>
        <p:spPr>
          <a:xfrm>
            <a:off x="755640" y="260280"/>
            <a:ext cx="7620120" cy="4318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07" name="Содержимое 3" descr=""/>
          <p:cNvPicPr/>
          <p:nvPr/>
        </p:nvPicPr>
        <p:blipFill>
          <a:blip r:embed="rId2"/>
          <a:stretch/>
        </p:blipFill>
        <p:spPr>
          <a:xfrm>
            <a:off x="353880" y="1262160"/>
            <a:ext cx="8375760" cy="59608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http://im6-tub-ru.yandex.net/i?id=11784333-06-72"/>
          <p:cNvPicPr/>
          <p:nvPr/>
        </p:nvPicPr>
        <p:blipFill>
          <a:blip r:embed="rId3"/>
          <a:stretch/>
        </p:blipFill>
        <p:spPr>
          <a:xfrm>
            <a:off x="500040" y="2143080"/>
            <a:ext cx="1643040" cy="13572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4"/>
          <p:cNvSpPr/>
          <p:nvPr/>
        </p:nvSpPr>
        <p:spPr>
          <a:xfrm>
            <a:off x="571680" y="2214720"/>
            <a:ext cx="150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тор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я Лиц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7" descr="http://im3-tub-ru.yandex.net/i?id=140513626-68-72"/>
          <p:cNvPicPr/>
          <p:nvPr/>
        </p:nvPicPr>
        <p:blipFill>
          <a:blip r:embed="rId4"/>
          <a:stretch/>
        </p:blipFill>
        <p:spPr>
          <a:xfrm>
            <a:off x="500040" y="3571920"/>
            <a:ext cx="1643040" cy="1147680"/>
          </a:xfrm>
          <a:prstGeom prst="rect">
            <a:avLst/>
          </a:prstGeom>
          <a:ln w="0">
            <a:noFill/>
          </a:ln>
        </p:spPr>
      </p:pic>
      <p:sp>
        <p:nvSpPr>
          <p:cNvPr id="411" name="TextBox 6"/>
          <p:cNvSpPr/>
          <p:nvPr/>
        </p:nvSpPr>
        <p:spPr>
          <a:xfrm>
            <a:off x="718560" y="392904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у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9" descr="http://im6-tub-ru.yandex.net/i?id=482278245-60-72"/>
          <p:cNvPicPr/>
          <p:nvPr/>
        </p:nvPicPr>
        <p:blipFill>
          <a:blip r:embed="rId5"/>
          <a:stretch/>
        </p:blipFill>
        <p:spPr>
          <a:xfrm>
            <a:off x="500040" y="4786200"/>
            <a:ext cx="1643040" cy="1214640"/>
          </a:xfrm>
          <a:prstGeom prst="rect">
            <a:avLst/>
          </a:prstGeom>
          <a:ln w="0">
            <a:noFill/>
          </a:ln>
        </p:spPr>
      </p:pic>
      <p:sp>
        <p:nvSpPr>
          <p:cNvPr id="413" name="TextBox 8"/>
          <p:cNvSpPr/>
          <p:nvPr/>
        </p:nvSpPr>
        <p:spPr>
          <a:xfrm>
            <a:off x="789120" y="500076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Лиц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11" descr="http://im6-tub-ru.yandex.net/i?id=212058438-04-72"/>
          <p:cNvPicPr/>
          <p:nvPr/>
        </p:nvPicPr>
        <p:blipFill>
          <a:blip r:embed="rId6"/>
          <a:stretch/>
        </p:blipFill>
        <p:spPr>
          <a:xfrm>
            <a:off x="500040" y="6072120"/>
            <a:ext cx="1643040" cy="11430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0"/>
          <p:cNvSpPr/>
          <p:nvPr/>
        </p:nvSpPr>
        <p:spPr>
          <a:xfrm>
            <a:off x="719640" y="6149880"/>
            <a:ext cx="12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шки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Лиц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13" descr="http://im7-tub-ru.yandex.net/i?id=364681565-52-72"/>
          <p:cNvPicPr/>
          <p:nvPr/>
        </p:nvPicPr>
        <p:blipFill>
          <a:blip r:embed="rId7"/>
          <a:stretch/>
        </p:blipFill>
        <p:spPr>
          <a:xfrm>
            <a:off x="714240" y="285840"/>
            <a:ext cx="1571760" cy="1000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8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5651280" y="765000"/>
            <a:ext cx="3035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А.С.Пушкин – выпускник Лицея. 1817 г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36" name="Picture 5" descr="image013"/>
          <p:cNvPicPr/>
          <p:nvPr/>
        </p:nvPicPr>
        <p:blipFill>
          <a:blip r:embed="rId1"/>
          <a:stretch/>
        </p:blipFill>
        <p:spPr>
          <a:xfrm>
            <a:off x="468360" y="260280"/>
            <a:ext cx="4273560" cy="5905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ashreg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50920" y="5876640"/>
            <a:ext cx="8362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62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Знак об окончании Императорского Александровского Лицея в Царском Селе. Утвержден 22 июня 1898 г.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38" name="Picture 4" descr="1235932786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4986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Заголовок 1" descr=""/>
          <p:cNvPicPr/>
          <p:nvPr/>
        </p:nvPicPr>
        <p:blipFill>
          <a:blip r:embed="rId1"/>
          <a:stretch/>
        </p:blipFill>
        <p:spPr>
          <a:xfrm>
            <a:off x="225360" y="-55440"/>
            <a:ext cx="8540640" cy="556092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heel spokes="8"/>
    <p:sndAc>
      <p:stSnd>
        <p:snd r:embed="rId2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450720" y="-128520"/>
            <a:ext cx="8517240" cy="15364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571320" y="1785960"/>
            <a:ext cx="475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о чьей инициативе создан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Царскосельский  лицей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714640" y="1646280"/>
            <a:ext cx="31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Открытие лицея – одно из значительных добрых дел императора Александра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0" name="Управляющая кнопка: домой 3"/>
          <p:cNvSpPr/>
          <p:nvPr/>
        </p:nvSpPr>
        <p:spPr>
          <a:xfrm>
            <a:off x="50004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Рисунок 6" descr="http://im5-tub-ru.yandex.net/i?id=381682846-43-72"/>
          <p:cNvPicPr/>
          <p:nvPr/>
        </p:nvPicPr>
        <p:blipFill>
          <a:blip r:embed="rId2"/>
          <a:stretch/>
        </p:blipFill>
        <p:spPr>
          <a:xfrm>
            <a:off x="428760" y="3214800"/>
            <a:ext cx="4429080" cy="3286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http://im7-tub-ru.yandex.net/i?id=419624366-10-72"/>
          <p:cNvPicPr/>
          <p:nvPr/>
        </p:nvPicPr>
        <p:blipFill>
          <a:blip r:embed="rId3"/>
          <a:stretch/>
        </p:blipFill>
        <p:spPr>
          <a:xfrm>
            <a:off x="6286680" y="5143680"/>
            <a:ext cx="1428480" cy="1066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49120" y="249120"/>
            <a:ext cx="8444160" cy="11588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Где располагался Лицей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Для Лицея был отведён флигель Екатерининского дворца. Дворец  был построен в 1750-х годах В.Растрелли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Управляющая кнопка: домой 3"/>
          <p:cNvSpPr/>
          <p:nvPr/>
        </p:nvSpPr>
        <p:spPr>
          <a:xfrm>
            <a:off x="42876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7" descr="http://im6-tub-ru.yandex.net/i?id=426975620-58-72"/>
          <p:cNvPicPr/>
          <p:nvPr/>
        </p:nvPicPr>
        <p:blipFill>
          <a:blip r:embed="rId2"/>
          <a:stretch/>
        </p:blipFill>
        <p:spPr>
          <a:xfrm>
            <a:off x="500040" y="2786040"/>
            <a:ext cx="3786120" cy="3571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360360" y="249120"/>
            <a:ext cx="8332920" cy="11588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то был первым директором Лицея? Кто его сменил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ервым директором Лицея был Василий Фёдорович Малиновский, затем  Егор Антонович Энгельгардт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1" name="Управляющая кнопка: домой 3"/>
          <p:cNvSpPr/>
          <p:nvPr/>
        </p:nvSpPr>
        <p:spPr>
          <a:xfrm>
            <a:off x="357120" y="357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7" descr="http://im6-tub-ru.yandex.net/i?id=63941936-22-72"/>
          <p:cNvPicPr/>
          <p:nvPr/>
        </p:nvPicPr>
        <p:blipFill>
          <a:blip r:embed="rId2"/>
          <a:stretch/>
        </p:blipFill>
        <p:spPr>
          <a:xfrm>
            <a:off x="1000080" y="3643200"/>
            <a:ext cx="2571840" cy="2857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Сколько человек было принято на первый курс Лицея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71492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 экзаменам было допущено 38 человек,  принято – 30, окончило – 29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Управляющая кнопка: домой 3"/>
          <p:cNvSpPr/>
          <p:nvPr/>
        </p:nvSpPr>
        <p:spPr>
          <a:xfrm>
            <a:off x="6500880" y="5429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7" descr="http://im6-tub-ru.yandex.net/i?id=47651007-31-72"/>
          <p:cNvPicPr/>
          <p:nvPr/>
        </p:nvPicPr>
        <p:blipFill>
          <a:blip r:embed="rId2"/>
          <a:stretch/>
        </p:blipFill>
        <p:spPr>
          <a:xfrm>
            <a:off x="642960" y="3357720"/>
            <a:ext cx="3000240" cy="3071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8485200" cy="11653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571320" y="1571760"/>
            <a:ext cx="285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акая форма была у лицеистов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286080" y="928800"/>
            <a:ext cx="54720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8040" indent="-24804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48040" indent="-248040">
              <a:buClr>
                <a:srgbClr val="a5b5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Форма лицеистов включала в себя синий двубортный сюртук со стоячим красным воротником, с красным кантом на манжетах, с блестящими гладкими пуговицами,  синий суконный жилет, длинные прямые панталоны синего сукна, полусапожки.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Управляющая кнопка: домой 3"/>
          <p:cNvSpPr/>
          <p:nvPr/>
        </p:nvSpPr>
        <p:spPr>
          <a:xfrm>
            <a:off x="6357960" y="53578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7" descr="http://im6-tub-ru.yandex.net/i?id=212058438-04-72"/>
          <p:cNvPicPr/>
          <p:nvPr/>
        </p:nvPicPr>
        <p:blipFill>
          <a:blip r:embed="rId2"/>
          <a:stretch/>
        </p:blipFill>
        <p:spPr>
          <a:xfrm>
            <a:off x="500040" y="3071880"/>
            <a:ext cx="2428920" cy="335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акие новшества были введены в учебный процесс  Лицея?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Управляющая кнопка: домой 3"/>
          <p:cNvSpPr/>
          <p:nvPr/>
        </p:nvSpPr>
        <p:spPr>
          <a:xfrm>
            <a:off x="285840" y="2858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81946b"/>
              </a:gs>
              <a:gs pos="100000">
                <a:srgbClr val="bccda9"/>
              </a:gs>
            </a:gsLst>
            <a:lin ang="16200000"/>
          </a:gradFill>
          <a:ln w="9360">
            <a:solidFill>
              <a:srgbClr val="95a484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первые в российском учебном заведении отменялись телесные наказания, лекции читались только на русском языке.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7" name="Picture 7" descr="http://im0-tub-ru.yandex.net/i?id=453848331-65-72"/>
          <p:cNvPicPr/>
          <p:nvPr/>
        </p:nvPicPr>
        <p:blipFill>
          <a:blip r:embed="rId2"/>
          <a:stretch/>
        </p:blipFill>
        <p:spPr>
          <a:xfrm>
            <a:off x="571680" y="3357720"/>
            <a:ext cx="3429000" cy="3000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3" name="cashreg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9:38:10Z</dcterms:created>
  <dc:creator>Инна</dc:creator>
  <dc:description/>
  <dc:language>en-US</dc:language>
  <cp:lastModifiedBy>Liliya</cp:lastModifiedBy>
  <dcterms:modified xsi:type="dcterms:W3CDTF">2011-10-18T17:25:11Z</dcterms:modified>
  <cp:revision>67</cp:revision>
  <dc:subject/>
  <dc:title>Подготовка к олимпиаде по русскому языку</dc:title>
</cp:coreProperties>
</file>