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7.jpeg" ContentType="image/jpeg"/>
  <Override PartName="/ppt/media/image52.png" ContentType="image/png"/>
  <Override PartName="/ppt/media/image4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50.png" ContentType="image/png"/>
  <Override PartName="/ppt/media/image26.jpeg" ContentType="image/jpeg"/>
  <Override PartName="/ppt/media/image12.jpeg" ContentType="image/jpeg"/>
  <Override PartName="/ppt/media/image27.png" ContentType="image/png"/>
  <Override PartName="/ppt/media/image56.jpeg" ContentType="image/jpeg"/>
  <Override PartName="/ppt/media/image3.png" ContentType="image/png"/>
  <Override PartName="/ppt/media/image14.jpeg" ContentType="image/jpeg"/>
  <Override PartName="/ppt/media/image15.jpeg" ContentType="image/jpeg"/>
  <Override PartName="/ppt/media/image49.jpeg" ContentType="image/jpeg"/>
  <Override PartName="/ppt/media/image4.png" ContentType="image/png"/>
  <Override PartName="/ppt/media/image16.png" ContentType="image/png"/>
  <Override PartName="/ppt/media/image60.jpeg" ContentType="image/jpeg"/>
  <Override PartName="/ppt/media/image2.png" ContentType="image/png"/>
  <Override PartName="/ppt/media/image62.png" ContentType="image/png"/>
  <Override PartName="/ppt/media/image51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17.jpeg" ContentType="image/jpeg"/>
  <Override PartName="/ppt/media/image61.jpeg" ContentType="image/jpeg"/>
  <Override PartName="/ppt/media/image55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42.jpeg" ContentType="image/jpeg"/>
  <Override PartName="/ppt/media/image59.jpeg" ContentType="image/jpeg"/>
  <Override PartName="/ppt/media/image18.png" ContentType="image/png"/>
  <Override PartName="/ppt/media/image6.png" ContentType="image/png"/>
  <Override PartName="/ppt/media/image13.png" ContentType="image/png"/>
  <Override PartName="/ppt/media/image33.png" ContentType="image/png"/>
  <Override PartName="/ppt/media/image30.gif" ContentType="image/gif"/>
  <Override PartName="/ppt/media/image54.jpeg" ContentType="image/jpeg"/>
  <Override PartName="/ppt/media/cashreg.wav" ContentType="audio/x-wav"/>
  <Override PartName="/ppt/media/image39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9.jpeg" ContentType="image/jpeg"/>
  <Override PartName="/ppt/media/image28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38.jpeg" ContentType="image/jpeg"/>
  <Override PartName="/ppt/media/image40.jpeg" ContentType="image/jpeg"/>
  <Override PartName="/ppt/media/image44.png" ContentType="image/png"/>
  <Override PartName="/ppt/media/image41.png" ContentType="image/png"/>
  <Override PartName="/ppt/media/image43.wmf" ContentType="image/x-wmf"/>
  <Override PartName="/ppt/media/image23.png" ContentType="image/png"/>
  <Override PartName="/ppt/media/image53.jpeg" ContentType="image/jpeg"/>
  <Override PartName="/ppt/media/image48.png" ContentType="image/png"/>
  <Override PartName="/ppt/media/image45.jpeg" ContentType="image/jpeg"/>
  <Override PartName="/ppt/media/image4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04A-3AA9-4EC7-9A6C-9EDB2DB6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5DF-4501-4B70-82A9-348CDFC6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D4E464-9418-4A46-BC93-D284F4DD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28EA33-CFFA-41E4-9A0D-DECC7B2F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C0CD5D-5390-4616-85FD-5DDD5FC0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05CE89-A2A2-484E-84BF-84E69C7E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E49BCB-5ADA-4513-8523-F0AE6CBA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CC92AB-AAB3-437C-A3E7-60192E80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ABF88F-4F47-4D3A-8698-758BF98E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F40330-49DC-452B-B240-780287C5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74CCF7-B409-4F00-B08A-9CA6F8B9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22F-445B-4D5F-9CEF-F412FC7E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7DC-90CB-4783-A3DE-01667939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02066-B751-4215-88B3-BBA1AEC7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64D75-7505-42B3-82C4-8EAF0FAB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4EB28-FB08-43E7-9A43-89AB55C7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D9622-5A41-411F-A3E4-355E9523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A2629-48E3-46EC-A540-AC65F666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11C44-162F-4337-A5F0-27C0B59C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15A97-9391-4E8E-A00B-DF2F3D6F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2A4-8F0F-4A43-91EB-430FA35B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FD09C-C864-4711-9B01-597CBBA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DDD56-D8C6-4526-A079-C237DB58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72390-9F55-4223-808E-21ED53E6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06C5B-C47A-43E1-BB57-20B14C72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7D788-EA3C-4EE7-9881-2E3CB81D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5272-0D3A-44D5-9318-B5147E6C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1DBA6-A721-4461-865A-59C5B226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8D068-4594-4C17-8F73-0956E227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E4B1-6E13-4F48-8BFD-3CD2C475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4840-6DCD-4917-B65F-C6DB5C07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221-C6AF-42E5-BF42-7C45264A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47733-F047-4875-ACE2-F2F1D004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E87D-DA0B-4776-ACED-13549068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4C514-8732-4B1E-A46E-F7AD9027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D879-9762-4DA0-BC06-1663CD61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D781D-D0FC-45D6-8899-0589A96E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4780-8490-43AA-950D-437EFF93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1E32-0F95-4432-8CC9-E14FF8D0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42778-40F7-4C5F-81C5-EBCF9653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434F7-9370-404D-A215-0B7FFFC0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D9C80-BA8C-4585-AD52-FAACF13A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1F8-62C1-455E-913C-43E66C1A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ED727-F2E6-4169-B5D8-F84ED790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E3D40-6BEF-415C-960C-D27A1966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B1CB3-251A-44A8-B6F1-5A9EA2DF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153C3-8496-47A4-B862-90B66BFD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90F1C9-0E8A-402B-B3EF-65BFBF62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7A084-D8E4-4FF0-9150-A416748F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19C62-85C9-4B8E-98BE-BC388B80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EE977-43CB-4551-B1CA-0BD6859A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FFF4F-94C5-40B5-84E4-6BB25E57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6B5E6-312D-4D58-A141-CCE2A541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534-BCE3-4205-8588-58525D69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0CD71-B348-429F-9035-5920F88C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ED59E-55EF-4BBA-AE2C-11D2872C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B3DBF-3B0D-4749-9899-59EED2F5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B6585-4023-4426-8FDC-35C2D1EB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C4FDA-1B1D-409A-A8CD-BD64AE63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153B9-3CC1-484F-93FD-B9FD6844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B676C-AB63-4B67-A67D-CDC71AD2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BAA88-4C8F-4523-931D-3A7FBEC1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58E5D-5C2C-4871-890E-B90B80B6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3FDFB-DC76-403E-B737-C6509DFD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09F-4C73-4670-A240-8D1205B5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E07FB-0570-407F-BA59-98F76A0C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C0359-6548-4445-BAD9-7E0E2738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3BB0D-52D9-4098-A98A-197D8F79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61639-187B-4908-BFF8-D4F1F6C0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3DEF5-DF4F-4812-84DA-D7DB4351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84EDC-3630-46C8-852C-FAE3BF47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69F33-F904-4F9B-81D3-04B64E2D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E1D4E-31C0-4D63-8ED8-F6E4A0A5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CB7F9-D912-4E81-A8A0-C3EF53EE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796B3-F6B3-4BED-93E0-9D9764A7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AB6C-9E35-4CE7-975E-D3B61129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57831-CF31-4062-B45F-1A583824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F56AE-BC7F-482E-B22C-B5000937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7A9DA-639E-4B97-B39A-DE51833E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F3B93-0F58-4FC8-96BE-89B9863B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89CF3-87DF-4D49-85BB-A9A3D6D7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FF997-F965-4953-827E-BD127BA3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182D1-BADA-45FC-B5AE-36CC5782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DC0FC-AF9A-4B5D-9181-A59D281A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4B27A-6B1B-420A-A2C4-8E174D20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10CE2-E592-453E-A2C0-DF946939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A6E-3514-413B-894D-500744C6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71A6D-E7BF-449B-B4F7-308BA0A7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1EE87-7256-4BF0-9C8A-F7EC695A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3F99D-A411-41ED-8472-AEBE5D69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80058-4715-4ABC-B51A-69D704B9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C161D-3DA8-4918-90DC-FDC6D220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E9C8C7-8B4F-4AD3-B90C-ED4A88B8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500AD4-68C7-49EC-8E95-7B5C9D88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87F93E-D0CF-4D1C-A1E8-55E1696F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C003B7-71BB-4BFA-B6D8-D07C47D6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039FA7-C14B-4F58-A7B7-9CAB8910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E0A-D317-45CF-B292-7A9C3E1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6632B1-86C5-4CF1-9980-B7A50C17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A13D00-4A08-45FD-9BDC-1B5A9B95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B1E03F-32D8-40DE-8BC1-3C9C3E1C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7E16B7-F2CC-46E7-B36A-75ECA09C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B2C140-8EA2-403C-9B54-697CAAB8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7921DE-DB79-42F4-9A4E-62BBDAEA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8DE8FF-7E39-490E-B49D-10ADF23E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9C96F8-AD02-4E8A-AB48-48F9D23F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EE9423-4FC3-46A9-92E5-F056E87D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1F0BFD-1097-45FF-920F-5BA93293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0E94-5AB0-4448-BE1F-65778B2DD146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1D7D-169C-44DE-92F7-9AA72D4B66CD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07C6-A5D1-4B4D-AB5D-5654D43A9723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463E-E753-49F6-9716-A3AB49C3203B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63B3-A3C9-40B8-9A0C-C815E6FE34D5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9932-4F6D-47D8-A237-80795ECE01F9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29DA-C886-4FDF-9291-B2F3CC7EA8E1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C957-86D1-413E-BCA9-3D91805F2DD5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7A8A-9032-4ECF-AC12-09FBF3EDBF2C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8906040" cy="12193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ГОУ СОШ №797 г. Москвы 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Презентацию подготовил учитель русского языка и литературы Куляшова Лилия Владимировна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Октябрь 2011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240" y="2209320"/>
            <a:ext cx="8666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785880" y="3143160"/>
            <a:ext cx="6964200" cy="235764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5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арскосель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шкинский лиц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оугольник 6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арскосель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шкинский лиц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340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Что запрещалось носить лицеистам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Управляющая кнопка: домой 3"/>
          <p:cNvSpPr/>
          <p:nvPr/>
        </p:nvSpPr>
        <p:spPr>
          <a:xfrm>
            <a:off x="285840" y="2142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57760" y="164628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Лицее запрещалось носить очки. Все женщины казались близорукому Дельвигу красавицами.      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Когда после выпуска Дельвиг надел очки, в красоте многих был разочарован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2" name="Picture 9" descr="Картинка 111 из 2745"/>
          <p:cNvPicPr/>
          <p:nvPr/>
        </p:nvPicPr>
        <p:blipFill>
          <a:blip r:embed="rId2"/>
          <a:stretch/>
        </p:blipFill>
        <p:spPr>
          <a:xfrm>
            <a:off x="4460760" y="4143240"/>
            <a:ext cx="3826080" cy="1928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Что собой представлял герб Лицея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1640" y="164304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 лицейском гербе изображены были «принадлежности наук и словесности»: слова – символ мудрости, лира – поэзии, дубовый венок – символ силы, лавровый венок – символ слав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втор герба – директор Лицея –    Е. А. Энгельгердт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7" name="Picture 10" descr="http://im2-tub-ru.yandex.net/i?id=488288242-05-72"/>
          <p:cNvPicPr/>
          <p:nvPr/>
        </p:nvPicPr>
        <p:blipFill>
          <a:blip r:embed="rId2"/>
          <a:stretch/>
        </p:blipFill>
        <p:spPr>
          <a:xfrm>
            <a:off x="1285920" y="3643200"/>
            <a:ext cx="2500200" cy="2500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500040" y="1714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ой девиз был написан на лицейской медали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«Для общей пользы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2" name="Рисунок 5" descr="книга с пером.gif"/>
          <p:cNvPicPr/>
          <p:nvPr/>
        </p:nvPicPr>
        <p:blipFill>
          <a:blip r:embed="rId2"/>
          <a:stretch/>
        </p:blipFill>
        <p:spPr>
          <a:xfrm>
            <a:off x="1214280" y="4143240"/>
            <a:ext cx="3214800" cy="1851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57120" y="1357200"/>
            <a:ext cx="385776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каком порядке рассаживались воспитанники в классах и столовой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Управляющая кнопка: домой 3"/>
          <p:cNvSpPr/>
          <p:nvPr/>
        </p:nvSpPr>
        <p:spPr>
          <a:xfrm>
            <a:off x="771516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4320" indent="-27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 в классах, так и в столовой воспитанников рассаживали по поведению и успеха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4320" indent="-27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Чем ближе к преподавателю, тем успешнее лицеист.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7" name="Picture 7" descr="Картинка 2 из 2290"/>
          <p:cNvPicPr/>
          <p:nvPr/>
        </p:nvPicPr>
        <p:blipFill>
          <a:blip r:embed="rId2"/>
          <a:stretch/>
        </p:blipFill>
        <p:spPr>
          <a:xfrm>
            <a:off x="500040" y="3643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ой номер Кельи был у Пушкина в Лицее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то были соседи Пушкина по кельям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 Пушкина - №14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 Пущина _ №13,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 Саврасова - №15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2" name="Picture 7" descr="http://im0-tub-ru.yandex.net/i?id=133726278-16-72"/>
          <p:cNvPicPr/>
          <p:nvPr/>
        </p:nvPicPr>
        <p:blipFill>
          <a:blip r:embed="rId2"/>
          <a:stretch/>
        </p:blipFill>
        <p:spPr>
          <a:xfrm>
            <a:off x="4643280" y="3429000"/>
            <a:ext cx="3571920" cy="3143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ие прозвища были у Пушкина в Лицее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безьяна с тигром, Француз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7" name="Picture 7" descr="Картинка 34 из 4177"/>
          <p:cNvPicPr/>
          <p:nvPr/>
        </p:nvPicPr>
        <p:blipFill>
          <a:blip r:embed="rId2"/>
          <a:stretch/>
        </p:blipFill>
        <p:spPr>
          <a:xfrm>
            <a:off x="4071960" y="3071880"/>
            <a:ext cx="4395600" cy="357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каким учебным дисциплинам Пушкин «оказал успехи»  «превосходные»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«В латинской словесности» и « российской и французской словесности, а также и в фехтовании превосходны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82" name="Picture 7" descr="http://im2-tub-ru.yandex.net/i?id=182406408-14-72"/>
          <p:cNvPicPr/>
          <p:nvPr/>
        </p:nvPicPr>
        <p:blipFill>
          <a:blip r:embed="rId2"/>
          <a:stretch/>
        </p:blipFill>
        <p:spPr>
          <a:xfrm>
            <a:off x="1143000" y="4000680"/>
            <a:ext cx="2033640" cy="257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колько стихотворений было написано Пушкиным в Лицее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132 стихотворени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87" name="Picture 9" descr="Картинка 14 из 108"/>
          <p:cNvPicPr/>
          <p:nvPr/>
        </p:nvPicPr>
        <p:blipFill>
          <a:blip r:embed="rId2"/>
          <a:stretch/>
        </p:blipFill>
        <p:spPr>
          <a:xfrm>
            <a:off x="4857840" y="2714760"/>
            <a:ext cx="327636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им стихотворением Пушкин официально закончил своё лицейское творчество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тихотворением «Безверие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3071880" y="3071880"/>
          <a:ext cx="5167080" cy="3090960"/>
        </p:xfrm>
        <a:graphic>
          <a:graphicData uri="http://schemas.openxmlformats.org/drawingml/2006/table">
            <a:tbl>
              <a:tblPr/>
              <a:tblGrid>
                <a:gridCol w="2582640"/>
                <a:gridCol w="258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 вы, которые с язвительным упреком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читая мрачное безверие пороком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жите в ужасе того, кто с первых л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умно погасил отрадный сердцу свет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3" name="Picture 9" descr="http://im3-tub-ru.yandex.net/i?id=365183830-36-72"/>
          <p:cNvPicPr/>
          <p:nvPr/>
        </p:nvPicPr>
        <p:blipFill>
          <a:blip r:embed="rId2"/>
          <a:stretch/>
        </p:blipFill>
        <p:spPr>
          <a:xfrm>
            <a:off x="2928960" y="3643200"/>
            <a:ext cx="1785960" cy="2786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Содержимое 13" descr="глаз.wmf"/>
          <p:cNvPicPr/>
          <p:nvPr/>
        </p:nvPicPr>
        <p:blipFill>
          <a:blip r:embed="rId1"/>
          <a:stretch/>
        </p:blipFill>
        <p:spPr>
          <a:xfrm>
            <a:off x="214200" y="214200"/>
            <a:ext cx="1832040" cy="965160"/>
          </a:xfrm>
          <a:prstGeom prst="rect">
            <a:avLst/>
          </a:prstGeom>
          <a:ln w="0">
            <a:noFill/>
          </a:ln>
        </p:spPr>
      </p:pic>
      <p:pic>
        <p:nvPicPr>
          <p:cNvPr id="49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акое стихотворение  Пушкина первым увидело свет? Какая под ним стояла подпись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«К другу стихотворцу», адресованное К-ру, было напечатано в 13-м номере «Вестника Европы» за 1814 год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 стихотворением  стояла подпись «Н.К.Ш.П.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99" name="Picture 8" descr="http://im2-tub-ru.yandex.net/i?id=194168669-67-72"/>
          <p:cNvPicPr/>
          <p:nvPr/>
        </p:nvPicPr>
        <p:blipFill>
          <a:blip r:embed="rId3"/>
          <a:stretch/>
        </p:blipFill>
        <p:spPr>
          <a:xfrm>
            <a:off x="1214280" y="4000680"/>
            <a:ext cx="2928960" cy="2357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ashreg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8906040" cy="12193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28240" y="2209320"/>
            <a:ext cx="8666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857160" y="2143080"/>
            <a:ext cx="7607520" cy="447372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5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арскосель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шкинский лиц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арскосель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шкинский лиц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Где состоялось публичное чтение  Пушкиным стихотворения  «Воспоминания в Царском Селе»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45160" indent="-24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тихотворения  «Воспоминания в Царском Селе»  Пушкин прочёл на публичном экзамене  « по случаю перевода воспитанников                                                                                        из младшего в старший возраст» 8 января 1814 года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7" descr="http://im5-tub-ru.yandex.net/i?id=313705845-42-72"/>
          <p:cNvPicPr/>
          <p:nvPr/>
        </p:nvPicPr>
        <p:blipFill>
          <a:blip r:embed="rId2"/>
          <a:stretch/>
        </p:blipFill>
        <p:spPr>
          <a:xfrm>
            <a:off x="1000080" y="4500720"/>
            <a:ext cx="2928960" cy="1785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99680" y="164304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Кто из лицейских друзей вызвал Пушкина на дуэль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000320" y="1646280"/>
            <a:ext cx="514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а дуэль вызвал Пушкина Кухельбекер, обидевшийся на пушкинские строки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За ужином объелся я 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А Яков запер дверь оплошно-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Так было мне , мои друзья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И кюхельбекерно и тошно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Управляющая кнопка: домой 3"/>
          <p:cNvSpPr/>
          <p:nvPr/>
        </p:nvSpPr>
        <p:spPr>
          <a:xfrm>
            <a:off x="7929720" y="2142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7" descr="http://im2-tub-ru.yandex.net/i?id=344975942-32-72"/>
          <p:cNvPicPr/>
          <p:nvPr/>
        </p:nvPicPr>
        <p:blipFill>
          <a:blip r:embed="rId2"/>
          <a:stretch/>
        </p:blipFill>
        <p:spPr>
          <a:xfrm>
            <a:off x="1285920" y="4143240"/>
            <a:ext cx="1714320" cy="207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 какое литературное общество был принят Пцшкин-лицеист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 литературное общество «Арзамас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Управляющая кнопка: домой 3"/>
          <p:cNvSpPr/>
          <p:nvPr/>
        </p:nvSpPr>
        <p:spPr>
          <a:xfrm>
            <a:off x="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7" descr="http://im4-tub-ru.yandex.net/i?id=200618507-08-72"/>
          <p:cNvPicPr/>
          <p:nvPr/>
        </p:nvPicPr>
        <p:blipFill>
          <a:blip r:embed="rId2"/>
          <a:stretch/>
        </p:blipFill>
        <p:spPr>
          <a:xfrm>
            <a:off x="3357720" y="4000680"/>
            <a:ext cx="2571480" cy="2143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Назовите трёх лицейских товарищей Пушкина, которые стали декабристами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И.И.Пущин,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.К.Кюхельбекер,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.Д.Вольховски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Управляющая кнопка: домой 3"/>
          <p:cNvSpPr/>
          <p:nvPr/>
        </p:nvSpPr>
        <p:spPr>
          <a:xfrm>
            <a:off x="142920" y="2142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7" descr="Картинка 3 из 676"/>
          <p:cNvPicPr/>
          <p:nvPr/>
        </p:nvPicPr>
        <p:blipFill>
          <a:blip r:embed="rId2"/>
          <a:stretch/>
        </p:blipFill>
        <p:spPr>
          <a:xfrm>
            <a:off x="4500720" y="3071880"/>
            <a:ext cx="3186000" cy="357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image014"/>
          <p:cNvPicPr/>
          <p:nvPr/>
        </p:nvPicPr>
        <p:blipFill>
          <a:blip r:embed="rId1"/>
          <a:stretch/>
        </p:blipFill>
        <p:spPr>
          <a:xfrm>
            <a:off x="971640" y="189000"/>
            <a:ext cx="7343640" cy="541008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68360" y="573408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омната N 14: «Александр Пушкин»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heel spokes="8"/>
    <p:sndAc>
      <p:stSnd>
        <p:snd r:embed="rId2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ласс, в котором учились лицеисты. Пером обозначено место, где сидел А.С. Пушкин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4" name="Picture 4" descr="3473808nnu"/>
          <p:cNvPicPr/>
          <p:nvPr/>
        </p:nvPicPr>
        <p:blipFill>
          <a:blip r:embed="rId1"/>
          <a:stretch/>
        </p:blipFill>
        <p:spPr>
          <a:xfrm>
            <a:off x="1042920" y="189000"/>
            <a:ext cx="7048440" cy="5276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7" name="Picture 4" descr="image010"/>
          <p:cNvPicPr/>
          <p:nvPr/>
        </p:nvPicPr>
        <p:blipFill>
          <a:blip r:embed="rId1"/>
          <a:stretch/>
        </p:blipFill>
        <p:spPr>
          <a:xfrm>
            <a:off x="971640" y="26028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835280" y="5589720"/>
            <a:ext cx="4968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омнатки лицеист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9" name="Picture 4" descr="0_d15d_52414e53_XL"/>
          <p:cNvPicPr/>
          <p:nvPr/>
        </p:nvPicPr>
        <p:blipFill>
          <a:blip r:embed="rId1"/>
          <a:stretch/>
        </p:blipFill>
        <p:spPr>
          <a:xfrm>
            <a:off x="971640" y="189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2340000" y="5660640"/>
            <a:ext cx="439272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50920" indent="-25092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ольшой зал Лице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1"/>
          <a:stretch/>
        </p:blipFill>
        <p:spPr>
          <a:xfrm>
            <a:off x="898560" y="115920"/>
            <a:ext cx="7273800" cy="5473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368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624720" cy="1320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А.С.Пушкин на акте в Лице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8 января 1815 года. 1911 - И.Е. Репин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4" name="Picture 4" descr="пушкин экзамен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4318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3" descr=""/>
          <p:cNvPicPr/>
          <p:nvPr/>
        </p:nvPicPr>
        <p:blipFill>
          <a:blip r:embed="rId2"/>
          <a:stretch/>
        </p:blipFill>
        <p:spPr>
          <a:xfrm>
            <a:off x="353880" y="1262160"/>
            <a:ext cx="8375760" cy="5960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http://im6-tub-ru.yandex.net/i?id=11784333-06-72"/>
          <p:cNvPicPr/>
          <p:nvPr/>
        </p:nvPicPr>
        <p:blipFill>
          <a:blip r:embed="rId3"/>
          <a:stretch/>
        </p:blipFill>
        <p:spPr>
          <a:xfrm>
            <a:off x="500040" y="2143080"/>
            <a:ext cx="1643040" cy="13572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4"/>
          <p:cNvSpPr/>
          <p:nvPr/>
        </p:nvSpPr>
        <p:spPr>
          <a:xfrm>
            <a:off x="571680" y="221472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р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я Лиц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7" descr="http://im3-tub-ru.yandex.net/i?id=140513626-68-72"/>
          <p:cNvPicPr/>
          <p:nvPr/>
        </p:nvPicPr>
        <p:blipFill>
          <a:blip r:embed="rId4"/>
          <a:stretch/>
        </p:blipFill>
        <p:spPr>
          <a:xfrm>
            <a:off x="500040" y="3571920"/>
            <a:ext cx="1643040" cy="11476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6"/>
          <p:cNvSpPr/>
          <p:nvPr/>
        </p:nvSpPr>
        <p:spPr>
          <a:xfrm>
            <a:off x="718560" y="392904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9" descr="http://im6-tub-ru.yandex.net/i?id=482278245-60-72"/>
          <p:cNvPicPr/>
          <p:nvPr/>
        </p:nvPicPr>
        <p:blipFill>
          <a:blip r:embed="rId5"/>
          <a:stretch/>
        </p:blipFill>
        <p:spPr>
          <a:xfrm>
            <a:off x="500040" y="4786200"/>
            <a:ext cx="1643040" cy="12146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8"/>
          <p:cNvSpPr/>
          <p:nvPr/>
        </p:nvSpPr>
        <p:spPr>
          <a:xfrm>
            <a:off x="789120" y="500076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Лиц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11" descr="http://im6-tub-ru.yandex.net/i?id=212058438-04-72"/>
          <p:cNvPicPr/>
          <p:nvPr/>
        </p:nvPicPr>
        <p:blipFill>
          <a:blip r:embed="rId6"/>
          <a:stretch/>
        </p:blipFill>
        <p:spPr>
          <a:xfrm>
            <a:off x="500040" y="607212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719640" y="6149880"/>
            <a:ext cx="12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шки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Лиц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13" descr="http://im7-tub-ru.yandex.net/i?id=364681565-52-72"/>
          <p:cNvPicPr/>
          <p:nvPr/>
        </p:nvPicPr>
        <p:blipFill>
          <a:blip r:embed="rId7"/>
          <a:stretch/>
        </p:blipFill>
        <p:spPr>
          <a:xfrm>
            <a:off x="714240" y="285840"/>
            <a:ext cx="1571760" cy="100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8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5651280" y="765000"/>
            <a:ext cx="3035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А.С.Пушкин – выпускник Лицея. 1817 г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6" name="Picture 5" descr="image013"/>
          <p:cNvPicPr/>
          <p:nvPr/>
        </p:nvPicPr>
        <p:blipFill>
          <a:blip r:embed="rId1"/>
          <a:stretch/>
        </p:blipFill>
        <p:spPr>
          <a:xfrm>
            <a:off x="468360" y="260280"/>
            <a:ext cx="4273560" cy="590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50920" y="5876640"/>
            <a:ext cx="8362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62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Знак об окончании Императорского Александровского Лицея в Царском Селе. Утвержден 22 июня 1898 г.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8" name="Picture 4" descr="1235932786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98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Заголовок 1" descr=""/>
          <p:cNvPicPr/>
          <p:nvPr/>
        </p:nvPicPr>
        <p:blipFill>
          <a:blip r:embed="rId1"/>
          <a:stretch/>
        </p:blipFill>
        <p:spPr>
          <a:xfrm>
            <a:off x="225360" y="-55440"/>
            <a:ext cx="8540640" cy="55609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heel spokes="8"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517240" cy="15364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571320" y="1785960"/>
            <a:ext cx="47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чьей инициативе создан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Царскосельский  лицей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714640" y="1646280"/>
            <a:ext cx="31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ткрытие лицея – одно из значительных добрых дел императора Александра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Управляющая кнопка: домой 3"/>
          <p:cNvSpPr/>
          <p:nvPr/>
        </p:nvSpPr>
        <p:spPr>
          <a:xfrm>
            <a:off x="50004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Рисунок 6" descr="http://im5-tub-ru.yandex.net/i?id=381682846-43-72"/>
          <p:cNvPicPr/>
          <p:nvPr/>
        </p:nvPicPr>
        <p:blipFill>
          <a:blip r:embed="rId2"/>
          <a:stretch/>
        </p:blipFill>
        <p:spPr>
          <a:xfrm>
            <a:off x="428760" y="3214800"/>
            <a:ext cx="4429080" cy="3286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http://im7-tub-ru.yandex.net/i?id=419624366-10-72"/>
          <p:cNvPicPr/>
          <p:nvPr/>
        </p:nvPicPr>
        <p:blipFill>
          <a:blip r:embed="rId3"/>
          <a:stretch/>
        </p:blipFill>
        <p:spPr>
          <a:xfrm>
            <a:off x="6286680" y="5143680"/>
            <a:ext cx="1428480" cy="106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49120" y="249120"/>
            <a:ext cx="844416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Где располагался Лицей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Для Лицея был отведён флигель Екатерининского дворца. Дворец  был построен в 1750-х годах В.Растрелли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Управляющая кнопка: домой 3"/>
          <p:cNvSpPr/>
          <p:nvPr/>
        </p:nvSpPr>
        <p:spPr>
          <a:xfrm>
            <a:off x="42876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7" descr="http://im6-tub-ru.yandex.net/i?id=426975620-58-72"/>
          <p:cNvPicPr/>
          <p:nvPr/>
        </p:nvPicPr>
        <p:blipFill>
          <a:blip r:embed="rId2"/>
          <a:stretch/>
        </p:blipFill>
        <p:spPr>
          <a:xfrm>
            <a:off x="500040" y="2786040"/>
            <a:ext cx="3786120" cy="357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60360" y="249120"/>
            <a:ext cx="833292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то был первым директором Лицея? Кто его сменил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ервым директором Лицея был Василий Фёдорович Малиновский, затем  Егор Антонович Энгельгардт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1" name="Управляющая кнопка: домой 3"/>
          <p:cNvSpPr/>
          <p:nvPr/>
        </p:nvSpPr>
        <p:spPr>
          <a:xfrm>
            <a:off x="357120" y="357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7" descr="http://im6-tub-ru.yandex.net/i?id=63941936-22-72"/>
          <p:cNvPicPr/>
          <p:nvPr/>
        </p:nvPicPr>
        <p:blipFill>
          <a:blip r:embed="rId2"/>
          <a:stretch/>
        </p:blipFill>
        <p:spPr>
          <a:xfrm>
            <a:off x="1000080" y="3643200"/>
            <a:ext cx="2571840" cy="285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колько человек было принято на первый курс Лицея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71492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 экзаменам было допущено 38 человек,  принято – 30, окончило – 29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Управляющая кнопка: домой 3"/>
          <p:cNvSpPr/>
          <p:nvPr/>
        </p:nvSpPr>
        <p:spPr>
          <a:xfrm>
            <a:off x="650088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7" descr="http://im6-tub-ru.yandex.net/i?id=47651007-31-72"/>
          <p:cNvPicPr/>
          <p:nvPr/>
        </p:nvPicPr>
        <p:blipFill>
          <a:blip r:embed="rId2"/>
          <a:stretch/>
        </p:blipFill>
        <p:spPr>
          <a:xfrm>
            <a:off x="642960" y="3357720"/>
            <a:ext cx="3000240" cy="3071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571320" y="1571760"/>
            <a:ext cx="285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ая форма была у лицеистов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286080" y="928800"/>
            <a:ext cx="54720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8040" indent="-24804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48040" indent="-24804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Форма лицеистов включала в себя синий двубортный сюртук со стоячим красным воротником, с красным кантом на манжетах, с блестящими гладкими пуговицами,  синий суконный жилет, длинные прямые панталоны синего сукна, полусапожки.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Управляющая кнопка: домой 3"/>
          <p:cNvSpPr/>
          <p:nvPr/>
        </p:nvSpPr>
        <p:spPr>
          <a:xfrm>
            <a:off x="6357960" y="53578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7" descr="http://im6-tub-ru.yandex.net/i?id=212058438-04-72"/>
          <p:cNvPicPr/>
          <p:nvPr/>
        </p:nvPicPr>
        <p:blipFill>
          <a:blip r:embed="rId2"/>
          <a:stretch/>
        </p:blipFill>
        <p:spPr>
          <a:xfrm>
            <a:off x="500040" y="3071880"/>
            <a:ext cx="2428920" cy="33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ие новшества были введены в учебный процесс  Лицея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Управляющая кнопка: домой 3"/>
          <p:cNvSpPr/>
          <p:nvPr/>
        </p:nvSpPr>
        <p:spPr>
          <a:xfrm>
            <a:off x="28584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первые в российском учебном заведении отменялись телесные наказания, лекции читались только на русском языке.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7" name="Picture 7" descr="http://im0-tub-ru.yandex.net/i?id=453848331-65-72"/>
          <p:cNvPicPr/>
          <p:nvPr/>
        </p:nvPicPr>
        <p:blipFill>
          <a:blip r:embed="rId2"/>
          <a:stretch/>
        </p:blipFill>
        <p:spPr>
          <a:xfrm>
            <a:off x="571680" y="3357720"/>
            <a:ext cx="3429000" cy="3000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9:38:10Z</dcterms:created>
  <dc:creator>Инна</dc:creator>
  <dc:description/>
  <dc:language>en-US</dc:language>
  <cp:lastModifiedBy>Liliya</cp:lastModifiedBy>
  <dcterms:modified xsi:type="dcterms:W3CDTF">2011-10-18T17:25:11Z</dcterms:modified>
  <cp:revision>67</cp:revision>
  <dc:subject/>
  <dc:title>Подготовка к олимпиаде по русскому языку</dc:title>
</cp:coreProperties>
</file>