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E97-5419-4C78-96D0-4DC37896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02F-0B15-46E3-ADF4-2731D877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B214-2082-4402-96F9-501CAE5C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16DD-37C3-42DE-8FE1-2194A1CF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4236-6AAF-4AA0-8CEC-010CE22A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9EDC-558F-4896-A006-52828753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5DAA-45A5-4609-BD19-5A9721F3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B684-026E-4A12-8B84-954AA947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67E5-2F05-4C46-B814-9B3DCC19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BC2A-FD8D-46E4-8922-2688FBD3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1496-3A2D-426B-89F8-0DBDE1DC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A380-5665-445B-A447-5E51AB7B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DC44-5BE7-4433-902A-69C6C7E7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8E6D-404E-408B-BF10-A7C29669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A215-2871-49D9-8BD2-4532C567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3C02-3CAB-4EF9-8B47-2000A858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16E5-F13C-4A5D-B92F-6EB17A5A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BB0C0-AAFB-458C-94F9-E0FF3454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75EE4-A52C-4C9F-9A14-387BD8D8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60B10-9A6C-46C4-8AC6-FC0B2983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0EAEA-EA0E-474C-B286-95B82011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92228-85B3-4DC1-9B61-7D225D49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781A-12B8-41BA-9770-CF6E98D9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1A01B-1BED-4BD1-8E44-16CB0ED2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56C5F-88A7-45EA-8BC9-B268CDA9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FFB38-5CA0-494A-A709-507A7C8F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866AF-D954-4D75-A9A5-62C4B08A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87A22-0725-48E9-81B4-C7119798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EDC96-09CE-4939-9B11-80F50609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5B7E5-DC46-459C-9EA1-F8555EAE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CB4AB-0F3F-4BD1-B46C-312597FC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B8D9C-7164-4F3C-B181-211BDC05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09216-B7E8-466F-807D-91F39883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B05-23BA-4D26-9731-12837410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EB4A0-6392-4E69-BEF6-F8A73F14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BB809-26A8-4753-A573-9A943FFE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66017-37AD-4324-AA43-8E3F0B3F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0BD9C-C12F-45B8-BAB4-DE96D6D5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C8E2B-EB79-473A-A0D5-28309949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6D765-F4DD-46DE-B828-5AE25636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8017D-1615-4115-922F-4B745828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5B29A-353E-407A-ADBE-21594E2C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C03D8-EED8-4012-9050-CD3CDEE9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10851-E32D-4883-A875-C8C356D5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50E6-ACFF-4537-83A9-2653F13D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65470-8880-42ED-8398-55B3AD90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BE285-5B10-47DE-9F49-95108869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313E4-44D5-4AD0-8EBA-16FFAEF3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6A652-AC53-42D8-8A37-46BA3688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9F578-B37A-4928-94FC-FBD7B3AE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D6F57-EEBD-41EF-8D97-80306643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674CD-9826-4F5C-BCA7-77C5479D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7FA86-3AE0-436C-B3FF-D9AD5345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50635-F6FB-46F1-8C54-3CDBD092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5F884-A4C3-4DE0-9EFF-75A7E034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0EE5-5501-43D7-97EC-5544C336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D7161-9746-4761-908A-115764FB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969E-7D04-4FA4-B837-E44B8484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A5B9-10F1-4682-80A5-8F96C222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9A62-0F4C-486D-AF8C-6FF1ED22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0F14-A2DC-43C1-A065-4C01FB22659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2F6A-50D6-450C-9B73-DB6BAB065C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2B02-2E07-4354-B0A8-745C60A13F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FDB1-84DB-4A32-9013-4DB0FA4877B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E7A1-A2C2-4F60-A632-C788BF6A9CD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3" descr=""/>
          <p:cNvPicPr/>
          <p:nvPr/>
        </p:nvPicPr>
        <p:blipFill>
          <a:blip r:embed="rId1"/>
          <a:stretch/>
        </p:blipFill>
        <p:spPr>
          <a:xfrm>
            <a:off x="665280" y="1384200"/>
            <a:ext cx="8051760" cy="34624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2"/>
          <p:cNvSpPr/>
          <p:nvPr/>
        </p:nvSpPr>
        <p:spPr>
          <a:xfrm>
            <a:off x="1332000" y="551664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 Беляевой Л.Е., учителя ист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Мышкинская СОШ. 201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826920" y="2205000"/>
            <a:ext cx="7274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выглядел древний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отличало человека от живо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древнейший человек не мог выжить в одиноч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первые занят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ишите древнейшие орудия труда. Как ими пользова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е значение для человека имело овладение огн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2411280" y="692280"/>
            <a:ext cx="46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овторим?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1187280" y="40464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Ледниковый пери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2" descr="мезолит.gif"/>
          <p:cNvPicPr/>
          <p:nvPr/>
        </p:nvPicPr>
        <p:blipFill>
          <a:blip r:embed="rId1"/>
          <a:stretch/>
        </p:blipFill>
        <p:spPr>
          <a:xfrm>
            <a:off x="250920" y="4508640"/>
            <a:ext cx="2468520" cy="2135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234" name="TextBox 3"/>
          <p:cNvSpPr/>
          <p:nvPr/>
        </p:nvSpPr>
        <p:spPr>
          <a:xfrm>
            <a:off x="395280" y="1341360"/>
            <a:ext cx="64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100 тыс. лет наза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начало ледникового периода на зем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4" descr="rus_atlas_quaternary_glaciation.jpg"/>
          <p:cNvPicPr/>
          <p:nvPr/>
        </p:nvPicPr>
        <p:blipFill>
          <a:blip r:embed="rId2"/>
          <a:stretch/>
        </p:blipFill>
        <p:spPr>
          <a:xfrm>
            <a:off x="2843280" y="2492280"/>
            <a:ext cx="55357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1763640" y="47628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Как люди выжил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755640" y="177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обрели новые орудия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2195640" y="306864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ились шить одеж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1187280" y="443700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или жилища или использовали пещ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5003640" y="537372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ли пользоваться ог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C:\Documents and Settings\Lidia\Мои документы\5 класс введение\древнейшее человечество\6.jpg"/>
          <p:cNvPicPr/>
          <p:nvPr/>
        </p:nvPicPr>
        <p:blipFill>
          <a:blip r:embed="rId1"/>
          <a:stretch/>
        </p:blipFill>
        <p:spPr>
          <a:xfrm>
            <a:off x="4997520" y="1557360"/>
            <a:ext cx="3740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250920" y="33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хота – важнейше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C:\Documents and Settings\Lidia\Мои документы\5 класс введение\древнейшее человечество\9.jpg"/>
          <p:cNvPicPr/>
          <p:nvPr/>
        </p:nvPicPr>
        <p:blipFill>
          <a:blip r:embed="rId1"/>
          <a:stretch/>
        </p:blipFill>
        <p:spPr>
          <a:xfrm>
            <a:off x="5003640" y="1341360"/>
            <a:ext cx="3308400" cy="1862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Documents and Settings\Lidia\Мои документы\5 класс введение\древнейшее человечество\10.jpg"/>
          <p:cNvPicPr/>
          <p:nvPr/>
        </p:nvPicPr>
        <p:blipFill>
          <a:blip r:embed="rId2"/>
          <a:stretch/>
        </p:blipFill>
        <p:spPr>
          <a:xfrm>
            <a:off x="7164360" y="2997360"/>
            <a:ext cx="1540080" cy="21351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C:\Documents and Settings\Lidia\Мои документы\5 класс введение\древнейшее человечество\5.jpg"/>
          <p:cNvPicPr/>
          <p:nvPr/>
        </p:nvPicPr>
        <p:blipFill>
          <a:blip r:embed="rId3"/>
          <a:stretch/>
        </p:blipFill>
        <p:spPr>
          <a:xfrm>
            <a:off x="684360" y="1341360"/>
            <a:ext cx="3743280" cy="50198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C:\Documents and Settings\Lidia\Мои документы\5 класс введение\древнейшее человечество\8.jpg"/>
          <p:cNvPicPr/>
          <p:nvPr/>
        </p:nvPicPr>
        <p:blipFill>
          <a:blip r:embed="rId4"/>
          <a:stretch/>
        </p:blipFill>
        <p:spPr>
          <a:xfrm>
            <a:off x="4643280" y="3933720"/>
            <a:ext cx="2529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Рисунок 1" descr="мезолит.gif"/>
          <p:cNvPicPr/>
          <p:nvPr/>
        </p:nvPicPr>
        <p:blipFill>
          <a:blip r:embed="rId1"/>
          <a:stretch/>
        </p:blipFill>
        <p:spPr>
          <a:xfrm>
            <a:off x="395280" y="3500280"/>
            <a:ext cx="3467160" cy="3000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248" name="TextBox 2"/>
          <p:cNvSpPr/>
          <p:nvPr/>
        </p:nvSpPr>
        <p:spPr>
          <a:xfrm>
            <a:off x="1619280" y="112536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Человек разумны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539640" y="40464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40 тыс. лет назад появил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C:\Documents and Settings\Lidia\Мои документы\5 класс введение\древнейшее человечество\1.jpg"/>
          <p:cNvPicPr/>
          <p:nvPr/>
        </p:nvPicPr>
        <p:blipFill>
          <a:blip r:embed="rId2"/>
          <a:stretch/>
        </p:blipFill>
        <p:spPr>
          <a:xfrm>
            <a:off x="4716360" y="1989000"/>
            <a:ext cx="36007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1979640" y="40464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одовая общ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C:\Documents and Settings\Lidia\Мои документы\5 класс введение\древнейшее человечество\6.jpg"/>
          <p:cNvPicPr/>
          <p:nvPr/>
        </p:nvPicPr>
        <p:blipFill>
          <a:blip r:embed="rId1"/>
          <a:stretch/>
        </p:blipFill>
        <p:spPr>
          <a:xfrm>
            <a:off x="1042920" y="1197000"/>
            <a:ext cx="7129440" cy="49388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3"/>
          <p:cNvSpPr/>
          <p:nvPr/>
        </p:nvSpPr>
        <p:spPr>
          <a:xfrm>
            <a:off x="1547640" y="616572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ишите жизнь в родовой общ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"/>
          <p:cNvSpPr/>
          <p:nvPr/>
        </p:nvSpPr>
        <p:spPr>
          <a:xfrm>
            <a:off x="1116000" y="907920"/>
            <a:ext cx="69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одовая община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коллектив родственников,  которые связаны между собой коллективным трудом и потреблен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C:\Documents and Settings\Lidia\Мои документы\5 класс введение\древнейшее человечество\6.jpg"/>
          <p:cNvPicPr/>
          <p:nvPr/>
        </p:nvPicPr>
        <p:blipFill>
          <a:blip r:embed="rId1"/>
          <a:stretch/>
        </p:blipFill>
        <p:spPr>
          <a:xfrm>
            <a:off x="2843280" y="4076640"/>
            <a:ext cx="33130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1:09:52Z</dcterms:created>
  <dc:creator>lidia</dc:creator>
  <dc:description/>
  <dc:language>en-US</dc:language>
  <cp:lastModifiedBy>lidia</cp:lastModifiedBy>
  <dcterms:modified xsi:type="dcterms:W3CDTF">2010-10-11T12:17:33Z</dcterms:modified>
  <cp:revision>8</cp:revision>
  <dc:subject/>
  <dc:title>Слайд 1</dc:title>
</cp:coreProperties>
</file>