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4E3-A047-452D-97FA-D3344641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944-E27F-49B1-ADB5-DE7A523A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620-4A48-4407-9E07-D2FE0C76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E8E-3209-4ABB-9B1B-56F7BDEC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D586-7162-47AA-84ED-C9D23FCD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410D-E894-424A-84A3-FFAA36E6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FC31-C155-4024-B649-2F58ED30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B7D1-31C9-47D9-B7FA-BDD42934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8806-33B5-4D65-8801-776A24C3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C53C-7DE8-445D-8E9A-F27085B5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4EB0-8B51-4D7B-93C5-26671DBA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125-D477-468A-BA7E-97B90CFF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7994-53FA-4C14-9AFE-96D89469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CD45-D21A-4148-B62C-7EF5B7F0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10C1-29A5-444B-8248-FE6A893D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C642-F6A3-447A-9E79-25DE8DE8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068E-81B9-420C-B21C-B88EB6BF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921D-53C6-4DC6-9267-77A9D091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43475-DE29-4972-8CAC-62C3736E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E610-51FC-48A2-9044-CFBFC4FF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76F89-E814-4379-9D74-684F0B44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9B9F-5822-4A8D-9AFF-60E64D43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56F-6DAA-4633-9D68-4B2FE8F8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5666-8ADA-4583-8A54-45976AA1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C994A-8FB3-48CE-8028-250BDF2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FA1FB-44FF-41BB-A6F3-C305EDDE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833C-408C-4D6B-B5DE-D4E064B9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F2DA-5ADB-413D-A2C6-7E850BF5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E1C93-F57C-4E89-AA0B-90A28A53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40F45-404A-45ED-904F-258DB2DD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3BC3-4D0A-4035-A3B6-785AF010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970C-6DDA-4C4A-8F65-727B430F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97740-8B28-4DC6-A1B2-0D2DE92C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2E0-DEA3-487E-8CB1-EA78B7FB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BEAAE-E88F-439A-B009-73BD8D2F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F51B2-56C2-454B-AA42-75E2A0BE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9F2F1-A71C-4297-8B76-6A74E271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29FC-AE85-465E-942A-9A1A05A4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38A17-4109-4C4F-B541-FA9B891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EB056-C622-4031-BB5B-037E871F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A52A-5F0C-42B6-906A-50F001BB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C625-BA76-4A5D-A035-E84CA2D7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5D87B-41C8-44BC-96FF-75622AEC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76EDF-D828-47A2-9EDD-A7D597CA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68C-85FA-42F9-B325-F76423CD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B09E1-756C-4A51-A213-F01A00AE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C9C30-839B-4AF6-A92D-7290B547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E0B7E-E427-4110-9224-C6437E98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2F94E-555E-406B-8938-5D740348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A0482-D0AF-4B1F-9C51-5FEEB151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9BE78-2877-479B-8B20-7E270E58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A0C41-07B4-4F11-BDFA-D7F69500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7CDA8-97BD-47E1-82CA-DC77AF33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4EDB8-D759-4226-8444-7B216431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1588C-ED2E-4C61-8032-58C5B770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F93-E743-4A0B-ADE7-F3A7B89B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10E0-EA87-4B96-94D2-EAB11D1F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3F7-BCFD-424E-ADAE-41743AA4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CE7-29BD-4CB2-80BA-12F07DCB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CB9-75AD-499A-AD03-A63D81F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732A-FC2B-4E64-A7A2-48D832BB7D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719D-D87D-423B-978C-9129571B15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09E6-AC70-4413-812E-F0DB6090EF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6AAE-5EBF-4F40-883A-75000A3802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B47E-872F-4262-BF21-ECEBBA5D1B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665280" y="1384200"/>
            <a:ext cx="8051760" cy="34624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1332000" y="551664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Беляевой Л.Е., учителя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Мышкинская СОШ.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826920" y="2205000"/>
            <a:ext cx="727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глядел древний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тличало человека от живо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древнейший человек не мог выжить в одиноч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первые занят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шите древнейшие орудия труда. Как ими пользов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значение для человека имело овладение огн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411280" y="692280"/>
            <a:ext cx="46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овторим?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87280" y="40464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едниковый пери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2" descr="мезолит.gif"/>
          <p:cNvPicPr/>
          <p:nvPr/>
        </p:nvPicPr>
        <p:blipFill>
          <a:blip r:embed="rId1"/>
          <a:stretch/>
        </p:blipFill>
        <p:spPr>
          <a:xfrm>
            <a:off x="250920" y="4508640"/>
            <a:ext cx="2468520" cy="2135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234" name="TextBox 3"/>
          <p:cNvSpPr/>
          <p:nvPr/>
        </p:nvSpPr>
        <p:spPr>
          <a:xfrm>
            <a:off x="395280" y="13413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100 тыс. лет наза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начало ледникового периода на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4" descr="rus_atlas_quaternary_glaciation.jpg"/>
          <p:cNvPicPr/>
          <p:nvPr/>
        </p:nvPicPr>
        <p:blipFill>
          <a:blip r:embed="rId2"/>
          <a:stretch/>
        </p:blipFill>
        <p:spPr>
          <a:xfrm>
            <a:off x="2843280" y="2492280"/>
            <a:ext cx="5535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1763640" y="47628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ак люди выжил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755640" y="177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ели новые орудия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2195640" y="306864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ились шить од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1187280" y="443700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или жилища или использовали пещ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003640" y="5373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ли пользоваться ог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:\Documents and Settings\Lidia\Мои документы\5 класс введение\древнейшее человечество\6.jpg"/>
          <p:cNvPicPr/>
          <p:nvPr/>
        </p:nvPicPr>
        <p:blipFill>
          <a:blip r:embed="rId1"/>
          <a:stretch/>
        </p:blipFill>
        <p:spPr>
          <a:xfrm>
            <a:off x="4997520" y="1557360"/>
            <a:ext cx="374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250920" y="33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хота – важнейше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Documents and Settings\Lidia\Мои документы\5 класс введение\древнейшее человечество\9.jpg"/>
          <p:cNvPicPr/>
          <p:nvPr/>
        </p:nvPicPr>
        <p:blipFill>
          <a:blip r:embed="rId1"/>
          <a:stretch/>
        </p:blipFill>
        <p:spPr>
          <a:xfrm>
            <a:off x="5003640" y="1341360"/>
            <a:ext cx="3308400" cy="1862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Lidia\Мои документы\5 класс введение\древнейшее человечество\10.jpg"/>
          <p:cNvPicPr/>
          <p:nvPr/>
        </p:nvPicPr>
        <p:blipFill>
          <a:blip r:embed="rId2"/>
          <a:stretch/>
        </p:blipFill>
        <p:spPr>
          <a:xfrm>
            <a:off x="7164360" y="2997360"/>
            <a:ext cx="1540080" cy="2135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C:\Documents and Settings\Lidia\Мои документы\5 класс введение\древнейшее человечество\5.jpg"/>
          <p:cNvPicPr/>
          <p:nvPr/>
        </p:nvPicPr>
        <p:blipFill>
          <a:blip r:embed="rId3"/>
          <a:stretch/>
        </p:blipFill>
        <p:spPr>
          <a:xfrm>
            <a:off x="684360" y="1341360"/>
            <a:ext cx="3743280" cy="5019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:\Documents and Settings\Lidia\Мои документы\5 класс введение\древнейшее человечество\8.jpg"/>
          <p:cNvPicPr/>
          <p:nvPr/>
        </p:nvPicPr>
        <p:blipFill>
          <a:blip r:embed="rId4"/>
          <a:stretch/>
        </p:blipFill>
        <p:spPr>
          <a:xfrm>
            <a:off x="4643280" y="3933720"/>
            <a:ext cx="2529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мезолит.gif"/>
          <p:cNvPicPr/>
          <p:nvPr/>
        </p:nvPicPr>
        <p:blipFill>
          <a:blip r:embed="rId1"/>
          <a:stretch/>
        </p:blipFill>
        <p:spPr>
          <a:xfrm>
            <a:off x="395280" y="3500280"/>
            <a:ext cx="3467160" cy="3000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248" name="TextBox 2"/>
          <p:cNvSpPr/>
          <p:nvPr/>
        </p:nvSpPr>
        <p:spPr>
          <a:xfrm>
            <a:off x="1619280" y="112536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Человек разум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539640" y="404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40 тыс. лет назад появи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C:\Documents and Settings\Lidia\Мои документы\5 класс введение\древнейшее человечество\1.jpg"/>
          <p:cNvPicPr/>
          <p:nvPr/>
        </p:nvPicPr>
        <p:blipFill>
          <a:blip r:embed="rId2"/>
          <a:stretch/>
        </p:blipFill>
        <p:spPr>
          <a:xfrm>
            <a:off x="4716360" y="1989000"/>
            <a:ext cx="36007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979640" y="40464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одовая общ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C:\Documents and Settings\Lidia\Мои документы\5 класс введение\древнейшее человечество\6.jpg"/>
          <p:cNvPicPr/>
          <p:nvPr/>
        </p:nvPicPr>
        <p:blipFill>
          <a:blip r:embed="rId1"/>
          <a:stretch/>
        </p:blipFill>
        <p:spPr>
          <a:xfrm>
            <a:off x="1042920" y="1197000"/>
            <a:ext cx="7129440" cy="493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1547640" y="616572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шите жизнь в родовой общ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1116000" y="90792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одовая общин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коллектив родственников,  которые связаны между собой коллективным трудом и потребле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C:\Documents and Settings\Lidia\Мои документы\5 класс введение\древнейшее человечество\6.jpg"/>
          <p:cNvPicPr/>
          <p:nvPr/>
        </p:nvPicPr>
        <p:blipFill>
          <a:blip r:embed="rId1"/>
          <a:stretch/>
        </p:blipFill>
        <p:spPr>
          <a:xfrm>
            <a:off x="2843280" y="4076640"/>
            <a:ext cx="33130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1:09:52Z</dcterms:created>
  <dc:creator>lidia</dc:creator>
  <dc:description/>
  <dc:language>en-US</dc:language>
  <cp:lastModifiedBy>lidia</cp:lastModifiedBy>
  <dcterms:modified xsi:type="dcterms:W3CDTF">2010-10-11T12:17:33Z</dcterms:modified>
  <cp:revision>8</cp:revision>
  <dc:subject/>
  <dc:title>Слайд 1</dc:title>
</cp:coreProperties>
</file>