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C16-E7FF-4F2B-BFA5-1F790B74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6DB-0C5E-4149-816D-F97D9F18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621-289E-4757-9D41-3EE21CE3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94D-E28D-4682-8673-652B7EFD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CAFC-7514-413A-95AD-A2BD3386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DAFD-CE89-4744-A10D-8E055186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182A-15E5-4F99-9791-F879A547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EB9F-9731-4BCD-A39F-D12167BF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B69D-82C9-452E-A1BB-D6B40A7B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E09C-598A-4C35-9075-5CB1A5E5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66A7-B336-4F0D-B7C6-CBB8952B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D0C-BCE9-4DD2-A171-9DA39464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1F1D-148F-4FC6-9B19-335CA8A3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598A-BC68-4A7C-8505-37060631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E1CD-D115-4083-8293-0E87BCEE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A3A0-471E-4C3D-8902-D79ECDB7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5333-6845-4BF8-A2D0-9CCBAA1D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2596-5804-4EDE-AEAB-2C1E9037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3687-EF92-4F86-974E-AFA43852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60C0-52C3-4ACD-86D2-3773077B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EA7E-E7F3-45F0-8EE5-10FCA33B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620EB-6DC0-4B37-93CC-0707D9FD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BB5-2C6B-4A02-B71E-66C43D55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90CE-05FE-4978-A5F2-64235D38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C20CF-C4A7-405C-8040-C5E2D86A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F7BA8-4B75-4892-9F66-FB7B2A7F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5AE50-59F3-49DE-A838-F858F50C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A102-B420-4508-A5BE-3E60E965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34F8-5220-40D8-AFC3-71971C5E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C330-56AA-4830-9D48-C4D8B449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53BA2-2733-4D07-B779-6C5B1CF7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B13EA-A6D6-4A2D-BD75-BE3DF662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C7AFB-8AF4-423C-BA53-8507BF58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7A3-D444-4D00-A30F-9661CBA9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65283-4CF1-4E61-82E2-172F14E2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93796-A5D2-4B8F-8442-B941F1E6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88489-6472-4F32-979B-0F27A8FE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87592-AD6F-4989-901C-80E37FBC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9E64C-5FED-496D-8D0A-785A15D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EDC60-D42C-4918-A380-5D1B8BA5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C293D-191F-400E-A606-8BE8AF7B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6A648-731B-4E3F-BB47-6BEDBDCE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6C2B-EEEC-4404-BA44-129F083A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834DF-A20C-4D7C-B2A5-9EAB5FE6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D64-CC7C-4238-A281-B727C1FD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0AAD5-5908-42DD-93DE-98004A43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8D94C-B127-49D4-9479-2045DC24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0DEC3-B903-4248-B320-5A7470E0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1BCC3-2FB2-420E-8246-FA15DD8D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E7443-21DC-4FED-908F-76EDD04E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09FE9-7128-4CD0-B425-8FFAB36D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BA555-1367-41BC-A05C-545DBCF0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C42D6-2E02-48B8-842B-17FEB2A9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56067-1433-4726-8A76-CBCA5E78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D387B-2880-477E-A628-39CD42EC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1CF-271B-4DA4-BF05-301F8473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4AAAC-8815-4DC7-8A6B-300C904B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435-A4FE-4AD4-B15F-0894C7BE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74D-D703-4A51-ABF3-8A0A4E2E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CD5-DE6D-4460-9259-CF6D6BB7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5AD9-6072-48C8-872D-62A387B6BA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6704-DF2B-43DE-8C66-3C298CDCE3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172D-C879-4DAD-84CD-011FE5D979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C3A9-BE8B-413F-BDCE-83D5383698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FE47-A590-4958-A281-A139B9B930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665280" y="1384200"/>
            <a:ext cx="8051760" cy="34624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1332000" y="551664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Беляевой Л.Е., учителя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Мышкинская СОШ.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826920" y="2205000"/>
            <a:ext cx="727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глядел древний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тличало человека от живо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древнейший человек не мог выжить в одиноч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первые занят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шите древнейшие орудия труда. Как ими пользов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значение для человека имело овладение огн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411280" y="692280"/>
            <a:ext cx="46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овторим?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87280" y="40464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едниковый пери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2" descr="мезолит.gif"/>
          <p:cNvPicPr/>
          <p:nvPr/>
        </p:nvPicPr>
        <p:blipFill>
          <a:blip r:embed="rId1"/>
          <a:stretch/>
        </p:blipFill>
        <p:spPr>
          <a:xfrm>
            <a:off x="250920" y="4508640"/>
            <a:ext cx="2468520" cy="2135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234" name="TextBox 3"/>
          <p:cNvSpPr/>
          <p:nvPr/>
        </p:nvSpPr>
        <p:spPr>
          <a:xfrm>
            <a:off x="395280" y="13413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100 тыс. лет наза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начало ледникового периода на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4" descr="rus_atlas_quaternary_glaciation.jpg"/>
          <p:cNvPicPr/>
          <p:nvPr/>
        </p:nvPicPr>
        <p:blipFill>
          <a:blip r:embed="rId2"/>
          <a:stretch/>
        </p:blipFill>
        <p:spPr>
          <a:xfrm>
            <a:off x="2843280" y="2492280"/>
            <a:ext cx="5535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1763640" y="47628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ак люди выжил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755640" y="177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ели новые орудия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2195640" y="306864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ились шить од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1187280" y="443700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или жилища или использовали пещ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003640" y="5373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ли пользоваться ог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:\Documents and Settings\Lidia\Мои документы\5 класс введение\древнейшее человечество\6.jpg"/>
          <p:cNvPicPr/>
          <p:nvPr/>
        </p:nvPicPr>
        <p:blipFill>
          <a:blip r:embed="rId1"/>
          <a:stretch/>
        </p:blipFill>
        <p:spPr>
          <a:xfrm>
            <a:off x="4997520" y="1557360"/>
            <a:ext cx="374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250920" y="33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хота – важнейше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Documents and Settings\Lidia\Мои документы\5 класс введение\древнейшее человечество\9.jpg"/>
          <p:cNvPicPr/>
          <p:nvPr/>
        </p:nvPicPr>
        <p:blipFill>
          <a:blip r:embed="rId1"/>
          <a:stretch/>
        </p:blipFill>
        <p:spPr>
          <a:xfrm>
            <a:off x="5003640" y="1341360"/>
            <a:ext cx="3308400" cy="1862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Lidia\Мои документы\5 класс введение\древнейшее человечество\10.jpg"/>
          <p:cNvPicPr/>
          <p:nvPr/>
        </p:nvPicPr>
        <p:blipFill>
          <a:blip r:embed="rId2"/>
          <a:stretch/>
        </p:blipFill>
        <p:spPr>
          <a:xfrm>
            <a:off x="7164360" y="2997360"/>
            <a:ext cx="1540080" cy="2135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C:\Documents and Settings\Lidia\Мои документы\5 класс введение\древнейшее человечество\5.jpg"/>
          <p:cNvPicPr/>
          <p:nvPr/>
        </p:nvPicPr>
        <p:blipFill>
          <a:blip r:embed="rId3"/>
          <a:stretch/>
        </p:blipFill>
        <p:spPr>
          <a:xfrm>
            <a:off x="684360" y="1341360"/>
            <a:ext cx="3743280" cy="5019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:\Documents and Settings\Lidia\Мои документы\5 класс введение\древнейшее человечество\8.jpg"/>
          <p:cNvPicPr/>
          <p:nvPr/>
        </p:nvPicPr>
        <p:blipFill>
          <a:blip r:embed="rId4"/>
          <a:stretch/>
        </p:blipFill>
        <p:spPr>
          <a:xfrm>
            <a:off x="4643280" y="3933720"/>
            <a:ext cx="2529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мезолит.gif"/>
          <p:cNvPicPr/>
          <p:nvPr/>
        </p:nvPicPr>
        <p:blipFill>
          <a:blip r:embed="rId1"/>
          <a:stretch/>
        </p:blipFill>
        <p:spPr>
          <a:xfrm>
            <a:off x="395280" y="3500280"/>
            <a:ext cx="3467160" cy="3000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248" name="TextBox 2"/>
          <p:cNvSpPr/>
          <p:nvPr/>
        </p:nvSpPr>
        <p:spPr>
          <a:xfrm>
            <a:off x="1619280" y="112536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Человек разум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539640" y="404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40 тыс. лет назад появи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C:\Documents and Settings\Lidia\Мои документы\5 класс введение\древнейшее человечество\1.jpg"/>
          <p:cNvPicPr/>
          <p:nvPr/>
        </p:nvPicPr>
        <p:blipFill>
          <a:blip r:embed="rId2"/>
          <a:stretch/>
        </p:blipFill>
        <p:spPr>
          <a:xfrm>
            <a:off x="4716360" y="1989000"/>
            <a:ext cx="36007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979640" y="40464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одовая общ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C:\Documents and Settings\Lidia\Мои документы\5 класс введение\древнейшее человечество\6.jpg"/>
          <p:cNvPicPr/>
          <p:nvPr/>
        </p:nvPicPr>
        <p:blipFill>
          <a:blip r:embed="rId1"/>
          <a:stretch/>
        </p:blipFill>
        <p:spPr>
          <a:xfrm>
            <a:off x="1042920" y="1197000"/>
            <a:ext cx="7129440" cy="493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1547640" y="616572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шите жизнь в родовой общ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1116000" y="90792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одовая общин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коллектив родственников,  которые связаны между собой коллективным трудом и потребле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C:\Documents and Settings\Lidia\Мои документы\5 класс введение\древнейшее человечество\6.jpg"/>
          <p:cNvPicPr/>
          <p:nvPr/>
        </p:nvPicPr>
        <p:blipFill>
          <a:blip r:embed="rId1"/>
          <a:stretch/>
        </p:blipFill>
        <p:spPr>
          <a:xfrm>
            <a:off x="2843280" y="4076640"/>
            <a:ext cx="33130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1:09:52Z</dcterms:created>
  <dc:creator>lidia</dc:creator>
  <dc:description/>
  <dc:language>en-US</dc:language>
  <cp:lastModifiedBy>lidia</cp:lastModifiedBy>
  <dcterms:modified xsi:type="dcterms:W3CDTF">2010-10-11T12:17:33Z</dcterms:modified>
  <cp:revision>8</cp:revision>
  <dc:subject/>
  <dc:title>Слайд 1</dc:title>
</cp:coreProperties>
</file>