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14B-69FA-4E7A-8AE3-D97FAB3F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AA0-007E-4124-A6F9-F8822C24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2DD-B1D6-4A1F-838B-8FD8EA52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0F9-804C-48C1-B72A-87A404C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617-50E1-4146-BB31-79E95AB4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098-B5E0-4A3C-ACA4-3800C7D6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C45-2B14-438F-BBBC-0BC1957A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D73-0F3F-40AD-8E63-40E831E8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C58-E027-4B9C-B7B7-2279355A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3CF-A504-488D-AFB0-395FD5A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306-06E4-44E0-9108-E43983D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EA2-D29D-4949-ADCB-93EFD028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DC46-B844-486E-88E2-C2E6661AE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561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жение отрицате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5"/>
          <p:cNvSpPr/>
          <p:nvPr/>
        </p:nvSpPr>
        <p:spPr>
          <a:xfrm>
            <a:off x="4500720" y="3357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684360" y="3573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859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219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580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940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63007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6659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7020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7380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7407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211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851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492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132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771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2411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20509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1692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4356000" y="378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8" name="Picture 28" descr="human92[1]"/>
          <p:cNvPicPr/>
          <p:nvPr/>
        </p:nvPicPr>
        <p:blipFill>
          <a:blip r:embed="rId1"/>
          <a:stretch/>
        </p:blipFill>
        <p:spPr>
          <a:xfrm>
            <a:off x="5148360" y="1989000"/>
            <a:ext cx="82692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29"/>
          <p:cNvSpPr txBox="1"/>
          <p:nvPr/>
        </p:nvSpPr>
        <p:spPr>
          <a:xfrm>
            <a:off x="5435640" y="371628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30"/>
          <p:cNvSpPr txBox="1"/>
          <p:nvPr/>
        </p:nvSpPr>
        <p:spPr>
          <a:xfrm>
            <a:off x="6948360" y="47628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3+5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580000" y="4076640"/>
            <a:ext cx="2087640" cy="720720"/>
          </a:xfrm>
          <a:custGeom>
            <a:avLst/>
            <a:gdLst>
              <a:gd name="textAreaLeft" fmla="*/ 384840 w 2087640"/>
              <a:gd name="textAreaRight" fmla="*/ 1428120 w 208764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67" hR="21600" stAng="10800000" swAng="-5400000"/>
                <a:lnTo>
                  <a:pt x="10792" y="21600"/>
                </a:lnTo>
                <a:arcTo wR="7967" hR="21600" stAng="5400000" swAng="-2937022"/>
                <a:lnTo>
                  <a:pt x="21218" y="6605"/>
                </a:lnTo>
                <a:lnTo>
                  <a:pt x="17346" y="0"/>
                </a:lnTo>
                <a:lnTo>
                  <a:pt x="12709" y="6605"/>
                </a:lnTo>
                <a:lnTo>
                  <a:pt x="15551" y="6605"/>
                </a:lnTo>
                <a:arcTo wR="7967" hR="21600" stAng="2462978" swAng="2708932"/>
                <a:lnTo>
                  <a:pt x="9379" y="21258"/>
                </a:lnTo>
                <a:arcTo wR="7967" hR="21600" stAng="5628090" swAng="5171910"/>
                <a:close/>
              </a:path>
              <a:path fill="darkenLess" w="21600" h="21600">
                <a:moveTo>
                  <a:pt x="0" y="0"/>
                </a:moveTo>
                <a:arcTo wR="7967" hR="21600" stAng="10800000" swAng="-5400000"/>
                <a:lnTo>
                  <a:pt x="10792" y="21600"/>
                </a:lnTo>
                <a:arcTo wR="7967" hR="21600" stAng="5400000" swAng="228090"/>
                <a:lnTo>
                  <a:pt x="9379" y="21258"/>
                </a:lnTo>
                <a:arcTo wR="7967" hR="21600" stAng="5628090" swAng="5171910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7" descr="human92[1]"/>
          <p:cNvPicPr/>
          <p:nvPr/>
        </p:nvPicPr>
        <p:blipFill>
          <a:blip r:embed="rId2"/>
          <a:stretch/>
        </p:blipFill>
        <p:spPr>
          <a:xfrm>
            <a:off x="5148360" y="1916280"/>
            <a:ext cx="876240" cy="1296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9"/>
          <p:cNvSpPr/>
          <p:nvPr/>
        </p:nvSpPr>
        <p:spPr>
          <a:xfrm flipV="1" rot="10990200">
            <a:off x="3274560" y="3996360"/>
            <a:ext cx="2303640" cy="792000"/>
          </a:xfrm>
          <a:custGeom>
            <a:avLst/>
            <a:gdLst>
              <a:gd name="textAreaLeft" fmla="*/ 410760 w 2303640"/>
              <a:gd name="textAreaRight" fmla="*/ 1466280 w 230364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04" hR="21600" stAng="10800000" swAng="-5400000"/>
                <a:lnTo>
                  <a:pt x="9896" y="21600"/>
                </a:lnTo>
                <a:arcTo wR="7704" hR="21600" stAng="5400000" swAng="-2453623"/>
                <a:lnTo>
                  <a:pt x="21020" y="8225"/>
                </a:lnTo>
                <a:lnTo>
                  <a:pt x="16503" y="0"/>
                </a:lnTo>
                <a:lnTo>
                  <a:pt x="10826" y="8225"/>
                </a:lnTo>
                <a:lnTo>
                  <a:pt x="14827" y="8225"/>
                </a:lnTo>
                <a:arcTo wR="7704" hR="21600" stAng="2946377" swAng="2277551"/>
                <a:lnTo>
                  <a:pt x="8800" y="21380"/>
                </a:lnTo>
                <a:arcTo wR="7704" hR="21600" stAng="5576072" swAng="5223928"/>
                <a:close/>
              </a:path>
              <a:path fill="darkenLess" w="21600" h="21600">
                <a:moveTo>
                  <a:pt x="0" y="0"/>
                </a:moveTo>
                <a:arcTo wR="7704" hR="21600" stAng="10800000" swAng="-5400000"/>
                <a:lnTo>
                  <a:pt x="9896" y="21600"/>
                </a:lnTo>
                <a:arcTo wR="7704" hR="21600" stAng="5400000" swAng="176072"/>
                <a:lnTo>
                  <a:pt x="8800" y="21380"/>
                </a:lnTo>
                <a:arcTo wR="7704" hR="21600" stAng="5576072" swAng="5223928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0"/>
          <p:cNvSpPr txBox="1"/>
          <p:nvPr/>
        </p:nvSpPr>
        <p:spPr>
          <a:xfrm>
            <a:off x="3851280" y="549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+(-5)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5" name="WordArt 41"/>
          <p:cNvSpPr txBox="1"/>
          <p:nvPr/>
        </p:nvSpPr>
        <p:spPr>
          <a:xfrm>
            <a:off x="7308720" y="371628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42"/>
          <p:cNvSpPr txBox="1"/>
          <p:nvPr/>
        </p:nvSpPr>
        <p:spPr>
          <a:xfrm>
            <a:off x="3708360" y="378936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7" name="Picture 43" descr="human92[1]"/>
          <p:cNvPicPr/>
          <p:nvPr/>
        </p:nvPicPr>
        <p:blipFill>
          <a:blip r:embed="rId3"/>
          <a:stretch/>
        </p:blipFill>
        <p:spPr>
          <a:xfrm>
            <a:off x="3492360" y="1989000"/>
            <a:ext cx="895320" cy="1324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4"/>
          <p:cNvSpPr txBox="1"/>
          <p:nvPr/>
        </p:nvSpPr>
        <p:spPr>
          <a:xfrm>
            <a:off x="826920" y="549360"/>
            <a:ext cx="15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-2+(-5)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9" name="WordArt 45"/>
          <p:cNvSpPr txBox="1"/>
          <p:nvPr/>
        </p:nvSpPr>
        <p:spPr>
          <a:xfrm>
            <a:off x="1835280" y="378936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2.13873E-006 C 0.06614 -0.06381 0.13228 -0.1274 0.16666 -0.12462 C 0.20103 -0.12185 0.19982 -0.00717 0.20624 0.01711 E">
                                      <p:cBhvr>
                                        <p:cTn id="14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7884 C -0.05469 -0.04601 -0.10903 -0.17064 -0.14028 -0.17942 C -0.17153 -0.18821 -0.17917 -0.00948 -0.18698 0.02451 E">
                                      <p:cBhvr>
                                        <p:cTn id="16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642E-007 C -0.04914 -0.09942 -0.09827 -0.19861 -0.13004 -0.20069 C -0.16181 -0.20277 -0.18039 -0.04393 -0.19046 -0.01271 E">
                                      <p:cBhvr>
                                        <p:cTn id="18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мощью координатной прямой вычислит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+ (-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 + (-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 -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282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714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146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578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938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313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490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85128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68040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37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27702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241128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050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169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72360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1258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 rot="5400000">
            <a:off x="4500000" y="331560"/>
            <a:ext cx="43200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611280" y="981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+ (- 9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)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 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)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5 +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)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)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247,1 + (-0,37)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539640" y="191628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ложение отрицательных чисел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5 + 5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: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(+) + (+) = (+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(-) + (-) = (-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бы сложить два отрицательных числа, надо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)сложить их моду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)поставить перед полученным числом знак «-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95280" y="3141720"/>
            <a:ext cx="8424720" cy="3095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мер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8,7 + (-3,5) = - (8,7 + 3,5) = - 1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395280" y="2955960"/>
                <a:ext cx="8280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 фамилию ученого - математика, работы которого способствовали признанию отрицатель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8,5 + (-23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6,4 + (-0,0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,03 + (-20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58,23 + (-53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,25 + (-7,3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6,33 + (-25,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4360" y="4653000"/>
          <a:ext cx="7775280" cy="1368360"/>
        </p:xfrm>
        <a:graphic>
          <a:graphicData uri="http://schemas.openxmlformats.org/drawingml/2006/table">
            <a:tbl>
              <a:tblPr/>
              <a:tblGrid>
                <a:gridCol w="1293840"/>
                <a:gridCol w="1299960"/>
                <a:gridCol w="1293840"/>
                <a:gridCol w="1293840"/>
                <a:gridCol w="1299960"/>
                <a:gridCol w="129384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,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5,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2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4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40" descr=""/>
          <p:cNvPicPr/>
          <p:nvPr/>
        </p:nvPicPr>
        <p:blipFill>
          <a:blip r:embed="rId1"/>
          <a:stretch/>
        </p:blipFill>
        <p:spPr>
          <a:xfrm>
            <a:off x="5113440" y="1700280"/>
            <a:ext cx="2417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иц -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отрицатель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положитель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модули слагаемых нужно сложи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модули слагаемых нужно выче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меньше каждого из слагаем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больше каждого из слагаем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в сумме не может получить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в сумме может получить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любого отрицательного числа с 0 всегда получает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любого отрицательного числа с 0 всегда получается то же самое число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024 Bob Sinclar And Cutee B Feat. Big Ali Dollar Man And Naomi Goulbourne - Rock This Party (Radi.mp3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65700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403280" y="1125360"/>
            <a:ext cx="612144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pic>
        <p:nvPicPr>
          <p:cNvPr id="174" name="Picture 7" descr="девочка"/>
          <p:cNvPicPr/>
          <p:nvPr/>
        </p:nvPicPr>
        <p:blipFill>
          <a:blip r:embed="rId2"/>
          <a:stretch/>
        </p:blipFill>
        <p:spPr>
          <a:xfrm>
            <a:off x="3635280" y="242100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9635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4"/>
          <p:cNvSpPr/>
          <p:nvPr/>
        </p:nvSpPr>
        <p:spPr>
          <a:xfrm>
            <a:off x="684360" y="1989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356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788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5219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601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20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56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92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68770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28432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248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212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76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730872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33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 rot="5400000">
            <a:off x="4571640" y="148428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 rot="5400000">
            <a:off x="5723640" y="1485000"/>
            <a:ext cx="43200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 rot="5400000">
            <a:off x="1007640" y="245592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4" name="WordArt 24"/>
          <p:cNvSpPr txBox="1"/>
          <p:nvPr/>
        </p:nvSpPr>
        <p:spPr>
          <a:xfrm rot="5400000">
            <a:off x="702072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5" name="WordArt 25"/>
          <p:cNvSpPr txBox="1"/>
          <p:nvPr/>
        </p:nvSpPr>
        <p:spPr>
          <a:xfrm rot="5400000">
            <a:off x="183564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 rot="5400000">
            <a:off x="2195280" y="249228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7" name="WordArt 27"/>
          <p:cNvSpPr txBox="1"/>
          <p:nvPr/>
        </p:nvSpPr>
        <p:spPr>
          <a:xfrm rot="5400000">
            <a:off x="363600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WordArt 28"/>
          <p:cNvSpPr txBox="1"/>
          <p:nvPr/>
        </p:nvSpPr>
        <p:spPr>
          <a:xfrm rot="5400000">
            <a:off x="4897080" y="245592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1"/>
              <p:cNvSpPr txBox="1"/>
              <p:nvPr/>
            </p:nvSpPr>
            <p:spPr>
              <a:xfrm>
                <a:off x="5003640" y="765000"/>
                <a:ext cx="5032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WordArt 32"/>
          <p:cNvSpPr txBox="1"/>
          <p:nvPr/>
        </p:nvSpPr>
        <p:spPr>
          <a:xfrm rot="5400000">
            <a:off x="7056000" y="1447560"/>
            <a:ext cx="50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3"/>
              <p:cNvSpPr txBox="1"/>
              <p:nvPr/>
            </p:nvSpPr>
            <p:spPr>
              <a:xfrm>
                <a:off x="3419640" y="765000"/>
                <a:ext cx="7826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WordArt 36"/>
          <p:cNvSpPr txBox="1"/>
          <p:nvPr/>
        </p:nvSpPr>
        <p:spPr>
          <a:xfrm>
            <a:off x="2340000" y="1197000"/>
            <a:ext cx="276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7"/>
              <p:cNvSpPr txBox="1"/>
              <p:nvPr/>
            </p:nvSpPr>
            <p:spPr>
              <a:xfrm>
                <a:off x="1332000" y="836640"/>
                <a:ext cx="10573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WordArt 38"/>
          <p:cNvSpPr txBox="1"/>
          <p:nvPr/>
        </p:nvSpPr>
        <p:spPr>
          <a:xfrm>
            <a:off x="1187280" y="119700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3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4 + 5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+ (-2)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 + 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7 +0 = 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+(-8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 +(-5) = -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+ (-3) =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 + (-8) =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356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4788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5219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1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20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56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392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68770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28432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248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212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176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730872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133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0"/>
          <p:cNvSpPr txBox="1"/>
          <p:nvPr/>
        </p:nvSpPr>
        <p:spPr>
          <a:xfrm rot="5400000">
            <a:off x="4571640" y="148428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684360" y="1989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7|+|-3| = 7+3 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2,3| + |-0,8| = 2,3 +0,8= 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68360" y="3284640"/>
                <a:ext cx="4392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539640" y="4724280"/>
                <a:ext cx="4969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Что мы знаем об отрицательных числах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2. Что мы сегодня должны узнать нового об отрицательных числ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возникновения отрицате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BD06038_"/>
          <p:cNvPicPr/>
          <p:nvPr/>
        </p:nvPicPr>
        <p:blipFill>
          <a:blip r:embed="rId1"/>
          <a:stretch/>
        </p:blipFill>
        <p:spPr>
          <a:xfrm>
            <a:off x="4356000" y="2205000"/>
            <a:ext cx="30276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BD05971_"/>
          <p:cNvPicPr/>
          <p:nvPr/>
        </p:nvPicPr>
        <p:blipFill>
          <a:blip r:embed="rId2"/>
          <a:stretch/>
        </p:blipFill>
        <p:spPr>
          <a:xfrm>
            <a:off x="684360" y="1557360"/>
            <a:ext cx="3313080" cy="284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g_528"/>
          <p:cNvPicPr/>
          <p:nvPr/>
        </p:nvPicPr>
        <p:blipFill>
          <a:blip r:embed="rId3"/>
          <a:stretch/>
        </p:blipFill>
        <p:spPr>
          <a:xfrm>
            <a:off x="611280" y="620640"/>
            <a:ext cx="8064360" cy="5299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i_504"/>
          <p:cNvPicPr/>
          <p:nvPr/>
        </p:nvPicPr>
        <p:blipFill>
          <a:blip r:embed="rId4"/>
          <a:stretch/>
        </p:blipFill>
        <p:spPr>
          <a:xfrm>
            <a:off x="539640" y="476280"/>
            <a:ext cx="835344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966" t="0" r="0" b="0"/>
          <a:stretch/>
        </p:blipFill>
        <p:spPr>
          <a:xfrm>
            <a:off x="2166840" y="620640"/>
            <a:ext cx="433404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900000" y="5084640"/>
            <a:ext cx="69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не Декар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59:31Z</dcterms:created>
  <dc:creator>I</dc:creator>
  <dc:description/>
  <dc:language>en-US</dc:language>
  <cp:lastModifiedBy>ZooM</cp:lastModifiedBy>
  <dcterms:modified xsi:type="dcterms:W3CDTF">2013-10-19T07:19:25Z</dcterms:modified>
  <cp:revision>13</cp:revision>
  <dc:subject/>
  <dc:title>Слайд 1</dc:title>
</cp:coreProperties>
</file>