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B32-032E-46BD-98A9-EE0F3E49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89B-9184-45D7-A4E9-5064517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07A-C6BA-469C-96FF-4033AF89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D59-258F-41BA-B357-77A0DE2F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BFC-54DB-44CD-9FDA-44F05162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A96-36F2-4401-95FE-1CE8FE4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D3D-254A-48E1-82FE-BF7D83D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266-6DEA-4862-A6EB-CEA71E60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A02-B360-426F-B90A-2C046932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527-58EF-42F1-BDD1-0546F67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006-1A33-4AC8-8A2D-CB27268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08E-3E10-40E2-A0CD-45E02F5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810-3CC0-4B2D-AD5D-06A266B8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600200"/>
            <a:ext cx="3733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did You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holidays?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152280"/>
            <a:ext cx="7924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ci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o had the most interesting holiday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2286000"/>
            <a:ext cx="7238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grea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fun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had a good tim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4648320"/>
            <a:ext cx="82296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boring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did nothing special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21195600">
            <a:off x="1905120" y="1295280"/>
            <a:ext cx="502416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o more fu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chool has begu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4952880"/>
            <a:ext cx="74674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t's talk about your summer holidays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809880" cy="32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1676520"/>
            <a:ext cx="5715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summer holidays are ov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oolchildren are at school agai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3581280" cy="668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"/>
            <a:ext cx="6019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ello! I am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like to tell you about my summer holi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my holidays in the camp.  I had a lot of fun there. I swam in the swimming pool. I played basketball and tennis. I went to the disco club. It was exciting. I took a lot of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a great time in the camp. 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38088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ere did you sp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r holiday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 rot="18306000">
            <a:off x="-160200" y="274464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a summer ca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17160000">
            <a:off x="2247480" y="2933280"/>
            <a:ext cx="2362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he countr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15154200">
            <a:off x="6334560" y="2884680"/>
            <a:ext cx="2808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the seas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 rot="15843000">
            <a:off x="4414680" y="2900160"/>
            <a:ext cx="2209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ho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1809720" cy="143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2590920" cy="1335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0" y="48769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d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books   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ork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or wal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 in the sea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hiking (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поход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Earn 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have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ake barbe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ish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lie in the su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гор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computer games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alk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elp your grand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take a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380880"/>
            <a:ext cx="678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hat did you do ther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2067120" cy="13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163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457200"/>
            <a:ext cx="7467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"/>
              </a:rPr>
              <a:t>What was the weather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3276720"/>
            <a:ext cx="47242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weather was 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1320" y="205740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un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o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ai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ind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illi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863400">
            <a:off x="3504960" y="4571640"/>
            <a:ext cx="1885680" cy="18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631600">
            <a:off x="456840" y="4647960"/>
            <a:ext cx="180972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20921400">
            <a:off x="1218960" y="137160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43000" y="3808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th whom did you go there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3581280"/>
            <a:ext cx="3276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per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81480" y="1676520"/>
            <a:ext cx="34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frie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6400" y="57913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3124440" cy="192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971800" cy="270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4114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47312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380880"/>
            <a:ext cx="7162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ell your classmates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bout your summer holidays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08-04T12:12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