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37E-8995-45C9-865A-D388D160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825-7485-4B39-8F6F-7EEB3407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E66-6639-4139-A0F6-45B7A68E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691-F8D4-4844-88AB-6137380B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0D0-7E26-4E99-BAB6-530D4A0D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08B-6003-4BC8-8879-2EFF39F6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6D3-5191-4232-B5B0-B51B0A68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536-A7E6-4AED-BA87-ADD71595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2BF-6A8A-4673-B242-46481014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8F8-8F04-4F70-A908-644D1E3F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08FD-A36A-42CB-BA1C-14E38462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2F8-9E5B-4576-B245-3DCF08C2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9DDA-55A4-4CE4-A33D-8B1AFE54F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1600200"/>
            <a:ext cx="37339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did You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en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r holidays?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33520" y="152280"/>
            <a:ext cx="79246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ecid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ho had the most interesting holidays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14400" y="2286000"/>
            <a:ext cx="72388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 was great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66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      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 was fun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66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You had a good time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66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600" y="4648320"/>
            <a:ext cx="82296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99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                      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99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t was boring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9900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99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You did nothing special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9900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 rot="21195600">
            <a:off x="1905120" y="1295280"/>
            <a:ext cx="5024160" cy="381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Holidays are o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No more fu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Holidays are o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School has begu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4952880"/>
            <a:ext cx="746748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t's talk about your summer holidays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3809880" cy="322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124080" y="1676520"/>
            <a:ext cx="5715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he summer holidays are over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choolchildren are at school again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7840"/>
            <a:ext cx="3581280" cy="6680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5480" y="457200"/>
            <a:ext cx="6019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ello! I am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uld like to tell you about my summer holi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pent my holidays in the camp.  I had a lot of fun there. I swam in the swimming pool. I played basketball and tennis. I went to the disco club. It was exciting. I took a lot of pho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d a great time in the camp. And what abo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523880" y="380880"/>
            <a:ext cx="6096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ere did you spen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our holidays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 rot="18306000">
            <a:off x="-160200" y="2744640"/>
            <a:ext cx="3124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a summer camp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 rot="17160000">
            <a:off x="2247480" y="2933280"/>
            <a:ext cx="2362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the countr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 rot="15154200">
            <a:off x="6334560" y="2884680"/>
            <a:ext cx="2808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t the seasid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 rot="15843000">
            <a:off x="4414680" y="2900160"/>
            <a:ext cx="220968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t ho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00600" y="4876920"/>
            <a:ext cx="1809720" cy="1438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057400" y="4952880"/>
            <a:ext cx="2590920" cy="1335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58000" y="4876920"/>
            <a:ext cx="228600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28600" y="4952880"/>
            <a:ext cx="1447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dd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books                      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work in the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Go for wal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fly a k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 in the sea                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go hiking (</a:t>
            </a:r>
            <a:r>
              <a:rPr b="0" lang="ru-RU" sz="3200" spc="-1" strike="noStrike">
                <a:solidFill>
                  <a:srgbClr val="9900ff"/>
                </a:solidFill>
                <a:latin typeface="Arial"/>
              </a:rPr>
              <a:t>поход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Earn mon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have a pic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make barbec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Go fishin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lie in the su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гора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computer games          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walk in the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Help your grandpar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take a ph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43000" y="380880"/>
            <a:ext cx="6781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What did you do there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3505320"/>
            <a:ext cx="2067120" cy="138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1371600"/>
            <a:ext cx="1636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38080" y="457200"/>
            <a:ext cx="7467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Arial"/>
              </a:rPr>
              <a:t>What was the weather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100000">
                    <a:srgbClr val="cc00c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3276720"/>
            <a:ext cx="472428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he weather was 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791320" y="2057400"/>
            <a:ext cx="27432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sunn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ol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o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rain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ind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in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rillia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863400">
            <a:off x="3504960" y="4571640"/>
            <a:ext cx="1885680" cy="183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20631600">
            <a:off x="456840" y="4647960"/>
            <a:ext cx="1809720" cy="1952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 rot="20921400">
            <a:off x="1218960" y="1371600"/>
            <a:ext cx="1981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43000" y="380880"/>
            <a:ext cx="65530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ith whom did you go there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99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3581280"/>
            <a:ext cx="32763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 my peren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181480" y="1676520"/>
            <a:ext cx="3429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th my frien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86400" y="579132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3124440" cy="1923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2971800" cy="2705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1295280"/>
            <a:ext cx="411480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473120"/>
            <a:ext cx="9144000" cy="5384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762120" y="380880"/>
            <a:ext cx="71625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ell your classmates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bout your summer holidays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09-08-04T12:12:5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