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7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310-EA8D-4C7D-849B-5DFFC6D18D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36B-31F1-4113-A95C-1EEA32C26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F0E1-3EAF-4605-8C7A-765565483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627-A50D-41A8-82EF-7D35D739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754-7554-47EA-9A27-640209E2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BF7-8EB9-490D-A5BF-298D764D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BF4-6344-410B-A3F3-62E9BF1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6D7-6802-474D-BE9F-F22CA21F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4658-910E-4C05-B7A4-80A6383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ED29-7480-4AA3-8C4C-7489DCBD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D01C-17F3-497E-8B36-AED11FC5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C668-A13E-4CD9-A4DB-30E0A40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F83B-8E13-412C-8BFC-CB268170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6BA0-0989-4292-B312-8BB3A20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A57-78F2-45ED-BCE5-83AD4A30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0570-8D27-47C8-8F86-3E3F533C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4DE-26A2-4E4A-B4EE-C0F763CE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3BBC-2769-416A-BA44-EC2B764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DB37-BB35-48C9-8E35-374A99A8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3EE-7E01-46CF-87D5-94C92FAA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F634-3090-431F-8E24-8F105DEB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2151-6307-411F-9D84-F55355EC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7234-CF35-4259-AF39-A639003E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2DBE-FB31-4DE4-9922-B1D3B6DC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58BD-0BFB-4887-89B5-951C1AC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DC2-95FC-4A09-9413-F0DD466E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2438-B26F-4DAD-A76B-83A342AD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84F1-47FF-47E1-8576-6514D15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BEB6-A45F-468F-993D-735E3AE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1B50-CA9D-4626-8424-76A7FDA6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5A75-DF05-4659-94F3-72966699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98D7-A30A-426F-867A-EE39E70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CBCD-8BB1-4B67-9151-3BB18D02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343B-12DF-481A-910A-6669AFB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32A7-323C-44D5-8BB4-142BE699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B1A9-9842-405E-8427-67ED500E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8E9-21A5-4BB2-80C5-EF632F4D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BD25-2A9E-403C-96A2-70E7C441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737F-A285-4113-A413-55948E56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4129-034A-4B8A-A596-08955A71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CB81-6F9D-4FF4-A85E-0093CD9C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4638-6165-4C22-BBFF-73EAAB1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9A33-ABA6-4E73-BD3B-F6F695B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7589-DB1D-4F24-82D2-0471E978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E1E2C-0993-43F3-BB43-FEAD89DB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4E02-8122-47BC-829D-8037589D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620-0086-47D9-B1CB-D78CB71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AF4-9FE5-414A-8917-06E23D9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51C-76C3-48DF-BFC3-60F37A9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626-1B52-4012-B83D-B7492CE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909-C709-42B8-86C6-20E2743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1D45-F29C-4531-95F5-435B42EE2F2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FAE-9C1F-4956-A75C-BAA2399B3AA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F68-5A9F-4EAE-A91B-C523609DBB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3FBE-F2F3-4B5A-B791-1FC5045CCE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9.png"/><Relationship Id="rId6" Type="http://schemas.openxmlformats.org/officeDocument/2006/relationships/image" Target="../media/image20.png"/><Relationship Id="rId7" Type="http://schemas.openxmlformats.org/officeDocument/2006/relationships/image" Target="../media/image9.png"/><Relationship Id="rId8" Type="http://schemas.openxmlformats.org/officeDocument/2006/relationships/image" Target="../media/image16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image" Target="../media/image21.png"/><Relationship Id="rId13" Type="http://schemas.openxmlformats.org/officeDocument/2006/relationships/image" Target="../media/image9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25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530280" y="920880"/>
            <a:ext cx="7864560" cy="17794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4071960"/>
            <a:ext cx="7854840" cy="1928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ркова С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У СОШ № 1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Санкт-Петербург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10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2560" y="1143000"/>
            <a:ext cx="86439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ростник                 лёгкие                    красив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вёздный                 гладкие                  кружев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звестный              молчаливые          блестящ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ишина                   редкие                    подснежн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частливый            сладкие                  холо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блестный           низкие                    голо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Arc 78"/>
          <p:cNvSpPr/>
          <p:nvPr/>
        </p:nvSpPr>
        <p:spPr>
          <a:xfrm rot="19014600">
            <a:off x="493200" y="1036440"/>
            <a:ext cx="67500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78"/>
          <p:cNvSpPr/>
          <p:nvPr/>
        </p:nvSpPr>
        <p:spPr>
          <a:xfrm rot="19014600">
            <a:off x="884160" y="2135160"/>
            <a:ext cx="465120" cy="4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78"/>
          <p:cNvSpPr/>
          <p:nvPr/>
        </p:nvSpPr>
        <p:spPr>
          <a:xfrm rot="19014600">
            <a:off x="6342120" y="3072960"/>
            <a:ext cx="676080" cy="639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78"/>
          <p:cNvSpPr/>
          <p:nvPr/>
        </p:nvSpPr>
        <p:spPr>
          <a:xfrm rot="19014600">
            <a:off x="3363840" y="2660400"/>
            <a:ext cx="416160" cy="39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c 78"/>
          <p:cNvSpPr/>
          <p:nvPr/>
        </p:nvSpPr>
        <p:spPr>
          <a:xfrm rot="19014600">
            <a:off x="421920" y="153684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78"/>
          <p:cNvSpPr/>
          <p:nvPr/>
        </p:nvSpPr>
        <p:spPr>
          <a:xfrm rot="19014600">
            <a:off x="455760" y="2595600"/>
            <a:ext cx="465120" cy="4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78"/>
          <p:cNvSpPr/>
          <p:nvPr/>
        </p:nvSpPr>
        <p:spPr>
          <a:xfrm rot="19014600">
            <a:off x="3463920" y="1607760"/>
            <a:ext cx="520560" cy="51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rc 78"/>
          <p:cNvSpPr/>
          <p:nvPr/>
        </p:nvSpPr>
        <p:spPr>
          <a:xfrm rot="19014600">
            <a:off x="434520" y="3078000"/>
            <a:ext cx="720720" cy="72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78"/>
          <p:cNvSpPr/>
          <p:nvPr/>
        </p:nvSpPr>
        <p:spPr>
          <a:xfrm rot="19014600">
            <a:off x="6976800" y="2596680"/>
            <a:ext cx="49536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78"/>
          <p:cNvSpPr/>
          <p:nvPr/>
        </p:nvSpPr>
        <p:spPr>
          <a:xfrm rot="19014600">
            <a:off x="3435120" y="1160280"/>
            <a:ext cx="415800" cy="39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78"/>
          <p:cNvSpPr/>
          <p:nvPr/>
        </p:nvSpPr>
        <p:spPr>
          <a:xfrm rot="19014600">
            <a:off x="6453000" y="1634760"/>
            <a:ext cx="595080" cy="51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78"/>
          <p:cNvSpPr/>
          <p:nvPr/>
        </p:nvSpPr>
        <p:spPr>
          <a:xfrm rot="19014600">
            <a:off x="6362280" y="2053800"/>
            <a:ext cx="633600" cy="68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78"/>
          <p:cNvSpPr/>
          <p:nvPr/>
        </p:nvSpPr>
        <p:spPr>
          <a:xfrm rot="19014600">
            <a:off x="3463920" y="2124000"/>
            <a:ext cx="57312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78"/>
          <p:cNvSpPr/>
          <p:nvPr/>
        </p:nvSpPr>
        <p:spPr>
          <a:xfrm rot="19014600">
            <a:off x="6332040" y="3631680"/>
            <a:ext cx="622440" cy="59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78"/>
          <p:cNvSpPr/>
          <p:nvPr/>
        </p:nvSpPr>
        <p:spPr>
          <a:xfrm rot="19014600">
            <a:off x="3444840" y="3173040"/>
            <a:ext cx="468360" cy="438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78"/>
          <p:cNvSpPr/>
          <p:nvPr/>
        </p:nvSpPr>
        <p:spPr>
          <a:xfrm rot="19014600">
            <a:off x="479520" y="3462120"/>
            <a:ext cx="987480" cy="958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78"/>
          <p:cNvSpPr/>
          <p:nvPr/>
        </p:nvSpPr>
        <p:spPr>
          <a:xfrm rot="19014600">
            <a:off x="6392880" y="1036800"/>
            <a:ext cx="520560" cy="517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78"/>
          <p:cNvSpPr/>
          <p:nvPr/>
        </p:nvSpPr>
        <p:spPr>
          <a:xfrm rot="19014600">
            <a:off x="3363840" y="3660840"/>
            <a:ext cx="416160" cy="392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13840" y="1143000"/>
            <a:ext cx="86439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иши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олчалив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ужев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858080" y="55008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857160"/>
            <a:ext cx="81432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Arc 78"/>
          <p:cNvSpPr/>
          <p:nvPr/>
        </p:nvSpPr>
        <p:spPr>
          <a:xfrm rot="19014600">
            <a:off x="3311640" y="1684440"/>
            <a:ext cx="520560" cy="48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78"/>
          <p:cNvSpPr/>
          <p:nvPr/>
        </p:nvSpPr>
        <p:spPr>
          <a:xfrm rot="19014600">
            <a:off x="2850840" y="221292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78"/>
          <p:cNvSpPr/>
          <p:nvPr/>
        </p:nvSpPr>
        <p:spPr>
          <a:xfrm rot="19014600">
            <a:off x="3350880" y="278460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rc 78"/>
          <p:cNvSpPr/>
          <p:nvPr/>
        </p:nvSpPr>
        <p:spPr>
          <a:xfrm rot="19014600">
            <a:off x="3708000" y="335592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-main-pic" descr="Картинка 66 из 335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35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35712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i-main-pic" descr="Картинка 16 из 61614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имний сон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Далеко ещё до весн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000840" y="1428840"/>
            <a:ext cx="3000240" cy="4929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иши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молчалив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ружева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i-main-pic" descr="Картинка 66 из 335"/>
          <p:cNvPicPr/>
          <p:nvPr/>
        </p:nvPicPr>
        <p:blipFill>
          <a:blip r:embed="rId2"/>
          <a:stretch/>
        </p:blipFill>
        <p:spPr>
          <a:xfrm>
            <a:off x="142920" y="1428840"/>
            <a:ext cx="5857920" cy="4643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357120"/>
            <a:ext cx="814320" cy="936720"/>
          </a:xfrm>
          <a:prstGeom prst="rect">
            <a:avLst/>
          </a:prstGeom>
          <a:ln w="0">
            <a:noFill/>
          </a:ln>
        </p:spPr>
      </p:pic>
      <p:pic>
        <p:nvPicPr>
          <p:cNvPr id="361" name="vremena01.mp3" descr=""/>
          <p:cNvPicPr/>
          <p:nvPr/>
        </p:nvPicPr>
        <p:blipFill>
          <a:blip r:embed="rId4"/>
          <a:stretch/>
        </p:blipFill>
        <p:spPr>
          <a:xfrm>
            <a:off x="8286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4" dur="362880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1928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 презентации использован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  http://dompolnajachasa.at.ua/_pu/7/s24049102.jp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fotki.yandex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user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azu-lyuba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vie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17010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blogs.privet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uzer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viktor62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year=2010&amp;month=5&amp;day=3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multiki.arjlover.ne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inf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.htm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f=tzar.saltan.av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ww.old-land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est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500040" y="1365120"/>
            <a:ext cx="8150400" cy="3292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764388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42876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764388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357120" y="32860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7715160" y="31431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257184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5143680" y="857160"/>
            <a:ext cx="1064880" cy="122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278604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5143680" y="5286240"/>
            <a:ext cx="10648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русская моло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Раскрасавица-душ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Белоснежная лебё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матушка-зим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571500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14200" y="856800"/>
            <a:ext cx="844416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усская молодка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вушка-красавиц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усская красави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скрасавица -душа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расави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оснежная лебёдка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атуш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7" name="Group 134"/>
          <p:cNvGrpSpPr/>
          <p:nvPr/>
        </p:nvGrpSpPr>
        <p:grpSpPr>
          <a:xfrm>
            <a:off x="428760" y="2786040"/>
            <a:ext cx="500040" cy="214200"/>
            <a:chOff x="428760" y="2786040"/>
            <a:chExt cx="500040" cy="214200"/>
          </a:xfrm>
        </p:grpSpPr>
        <p:sp>
          <p:nvSpPr>
            <p:cNvPr id="228" name="Line 132"/>
            <p:cNvSpPr/>
            <p:nvPr/>
          </p:nvSpPr>
          <p:spPr>
            <a:xfrm>
              <a:off x="428760" y="2786040"/>
              <a:ext cx="50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928800" y="278604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i-main-pic" descr="Картинка 19 из 4094"/>
          <p:cNvPicPr/>
          <p:nvPr/>
        </p:nvPicPr>
        <p:blipFill>
          <a:blip r:embed="rId2"/>
          <a:stretch/>
        </p:blipFill>
        <p:spPr>
          <a:xfrm>
            <a:off x="500040" y="42876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231" name="i-main-pic" descr="Картинка 28 из 4094"/>
          <p:cNvPicPr/>
          <p:nvPr/>
        </p:nvPicPr>
        <p:blipFill>
          <a:blip r:embed="rId3"/>
          <a:stretch/>
        </p:blipFill>
        <p:spPr>
          <a:xfrm>
            <a:off x="571680" y="428760"/>
            <a:ext cx="8143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русская моло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Раскрасавица-душ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Белоснежная лебё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матушка-зим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П. Вяземск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858080" y="542916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13840" y="714240"/>
            <a:ext cx="50007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одка-молод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скр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вица-крас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оснежная-бел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ёдка-лебед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а-зимуш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4929120" y="928800"/>
            <a:ext cx="37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олодка-молод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лебёдка-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4"/>
          <p:cNvSpPr/>
          <p:nvPr/>
        </p:nvSpPr>
        <p:spPr>
          <a:xfrm>
            <a:off x="2571840" y="41702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дравствуй-здра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78"/>
          <p:cNvSpPr/>
          <p:nvPr/>
        </p:nvSpPr>
        <p:spPr>
          <a:xfrm rot="19014600">
            <a:off x="514440" y="512280"/>
            <a:ext cx="757080" cy="76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78"/>
          <p:cNvSpPr/>
          <p:nvPr/>
        </p:nvSpPr>
        <p:spPr>
          <a:xfrm rot="19014600">
            <a:off x="1120320" y="1199880"/>
            <a:ext cx="615960" cy="598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78"/>
          <p:cNvSpPr/>
          <p:nvPr/>
        </p:nvSpPr>
        <p:spPr>
          <a:xfrm rot="19014600">
            <a:off x="3284280" y="1203480"/>
            <a:ext cx="6458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78"/>
          <p:cNvSpPr/>
          <p:nvPr/>
        </p:nvSpPr>
        <p:spPr>
          <a:xfrm rot="19014600">
            <a:off x="382680" y="2968560"/>
            <a:ext cx="520560" cy="49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78"/>
          <p:cNvSpPr/>
          <p:nvPr/>
        </p:nvSpPr>
        <p:spPr>
          <a:xfrm rot="19014600">
            <a:off x="506160" y="2292480"/>
            <a:ext cx="720720" cy="72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78"/>
          <p:cNvSpPr/>
          <p:nvPr/>
        </p:nvSpPr>
        <p:spPr>
          <a:xfrm rot="19014600">
            <a:off x="1351080" y="1798200"/>
            <a:ext cx="726840" cy="68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78"/>
          <p:cNvSpPr/>
          <p:nvPr/>
        </p:nvSpPr>
        <p:spPr>
          <a:xfrm rot="19014600">
            <a:off x="2288880" y="525240"/>
            <a:ext cx="779400" cy="733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78"/>
          <p:cNvSpPr/>
          <p:nvPr/>
        </p:nvSpPr>
        <p:spPr>
          <a:xfrm rot="19014600">
            <a:off x="384120" y="1823760"/>
            <a:ext cx="517680" cy="493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571680" y="55008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8001000" y="4500720"/>
            <a:ext cx="814320" cy="936360"/>
          </a:xfrm>
          <a:prstGeom prst="rect">
            <a:avLst/>
          </a:prstGeom>
          <a:ln w="0">
            <a:noFill/>
          </a:ln>
        </p:spPr>
      </p:pic>
      <p:sp>
        <p:nvSpPr>
          <p:cNvPr id="247" name="Arc 78"/>
          <p:cNvSpPr/>
          <p:nvPr/>
        </p:nvSpPr>
        <p:spPr>
          <a:xfrm rot="19014600">
            <a:off x="2257200" y="2260080"/>
            <a:ext cx="914400" cy="906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1148400" y="642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7"/>
          <p:cNvSpPr/>
          <p:nvPr/>
        </p:nvSpPr>
        <p:spPr>
          <a:xfrm>
            <a:off x="1791360" y="1214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434320" y="642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1648440" y="2928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577320" y="1214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1"/>
          <p:cNvSpPr/>
          <p:nvPr/>
        </p:nvSpPr>
        <p:spPr>
          <a:xfrm>
            <a:off x="1005480" y="2928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2291400" y="2357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1719720" y="1785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4"/>
          <p:cNvSpPr/>
          <p:nvPr/>
        </p:nvSpPr>
        <p:spPr>
          <a:xfrm>
            <a:off x="3363120" y="1785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78"/>
          <p:cNvSpPr/>
          <p:nvPr/>
        </p:nvSpPr>
        <p:spPr>
          <a:xfrm rot="19014600">
            <a:off x="1525680" y="2968560"/>
            <a:ext cx="520560" cy="49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78"/>
          <p:cNvSpPr/>
          <p:nvPr/>
        </p:nvSpPr>
        <p:spPr>
          <a:xfrm rot="19014600">
            <a:off x="5368680" y="750600"/>
            <a:ext cx="834840" cy="78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78"/>
          <p:cNvSpPr/>
          <p:nvPr/>
        </p:nvSpPr>
        <p:spPr>
          <a:xfrm rot="19014600">
            <a:off x="3159000" y="1885680"/>
            <a:ext cx="468360" cy="44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78"/>
          <p:cNvSpPr/>
          <p:nvPr/>
        </p:nvSpPr>
        <p:spPr>
          <a:xfrm rot="19014600">
            <a:off x="7143840" y="761760"/>
            <a:ext cx="857160" cy="75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78"/>
          <p:cNvSpPr/>
          <p:nvPr/>
        </p:nvSpPr>
        <p:spPr>
          <a:xfrm rot="19014600">
            <a:off x="7161120" y="1276200"/>
            <a:ext cx="679680" cy="73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78"/>
          <p:cNvSpPr/>
          <p:nvPr/>
        </p:nvSpPr>
        <p:spPr>
          <a:xfrm rot="19014600">
            <a:off x="5393880" y="1226880"/>
            <a:ext cx="784440" cy="833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78"/>
          <p:cNvSpPr/>
          <p:nvPr/>
        </p:nvSpPr>
        <p:spPr>
          <a:xfrm rot="19014600">
            <a:off x="5208120" y="4064040"/>
            <a:ext cx="655920" cy="66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78"/>
          <p:cNvSpPr/>
          <p:nvPr/>
        </p:nvSpPr>
        <p:spPr>
          <a:xfrm rot="19014600">
            <a:off x="2813040" y="4001760"/>
            <a:ext cx="731880" cy="78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4"/>
          <p:cNvSpPr/>
          <p:nvPr/>
        </p:nvSpPr>
        <p:spPr>
          <a:xfrm>
            <a:off x="2220120" y="2643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5"/>
          <p:cNvSpPr/>
          <p:nvPr/>
        </p:nvSpPr>
        <p:spPr>
          <a:xfrm>
            <a:off x="1362600" y="1500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6"/>
          <p:cNvSpPr/>
          <p:nvPr/>
        </p:nvSpPr>
        <p:spPr>
          <a:xfrm>
            <a:off x="505440" y="928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7"/>
          <p:cNvSpPr/>
          <p:nvPr/>
        </p:nvSpPr>
        <p:spPr>
          <a:xfrm>
            <a:off x="7935120" y="11430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8"/>
          <p:cNvSpPr/>
          <p:nvPr/>
        </p:nvSpPr>
        <p:spPr>
          <a:xfrm>
            <a:off x="3577320" y="1500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9"/>
          <p:cNvSpPr/>
          <p:nvPr/>
        </p:nvSpPr>
        <p:spPr>
          <a:xfrm>
            <a:off x="2362680" y="928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0"/>
          <p:cNvSpPr/>
          <p:nvPr/>
        </p:nvSpPr>
        <p:spPr>
          <a:xfrm>
            <a:off x="6077520" y="4357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1"/>
          <p:cNvSpPr/>
          <p:nvPr/>
        </p:nvSpPr>
        <p:spPr>
          <a:xfrm>
            <a:off x="505440" y="2071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2"/>
          <p:cNvSpPr/>
          <p:nvPr/>
        </p:nvSpPr>
        <p:spPr>
          <a:xfrm>
            <a:off x="505440" y="2643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3"/>
          <p:cNvSpPr/>
          <p:nvPr/>
        </p:nvSpPr>
        <p:spPr>
          <a:xfrm>
            <a:off x="434160" y="32860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4"/>
          <p:cNvSpPr/>
          <p:nvPr/>
        </p:nvSpPr>
        <p:spPr>
          <a:xfrm>
            <a:off x="5791680" y="4357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5"/>
          <p:cNvSpPr/>
          <p:nvPr/>
        </p:nvSpPr>
        <p:spPr>
          <a:xfrm>
            <a:off x="6006240" y="16430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6"/>
          <p:cNvSpPr/>
          <p:nvPr/>
        </p:nvSpPr>
        <p:spPr>
          <a:xfrm>
            <a:off x="8220600" y="11430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7"/>
          <p:cNvSpPr/>
          <p:nvPr/>
        </p:nvSpPr>
        <p:spPr>
          <a:xfrm>
            <a:off x="1577160" y="32860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8"/>
          <p:cNvSpPr/>
          <p:nvPr/>
        </p:nvSpPr>
        <p:spPr>
          <a:xfrm>
            <a:off x="3291480" y="2071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9"/>
          <p:cNvSpPr/>
          <p:nvPr/>
        </p:nvSpPr>
        <p:spPr>
          <a:xfrm>
            <a:off x="4148640" y="20001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0"/>
          <p:cNvSpPr/>
          <p:nvPr/>
        </p:nvSpPr>
        <p:spPr>
          <a:xfrm>
            <a:off x="8006400" y="16430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2"/>
          <p:cNvSpPr/>
          <p:nvPr/>
        </p:nvSpPr>
        <p:spPr>
          <a:xfrm>
            <a:off x="6215040" y="1143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3"/>
          <p:cNvSpPr/>
          <p:nvPr/>
        </p:nvSpPr>
        <p:spPr>
          <a:xfrm>
            <a:off x="3571920" y="4357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4"/>
          <p:cNvSpPr/>
          <p:nvPr/>
        </p:nvSpPr>
        <p:spPr>
          <a:xfrm>
            <a:off x="7858080" y="1643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Безударные гласны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2920" y="285768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Звонкие и глухие согласны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2920" y="42858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-Непроизносимые соглас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4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8072280" y="85716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785880" y="535788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38 -0.37014 C 0.36302 -0.42824 0.44167 -0.41783 0.48507 -0.34676 C 0.52865 -0.27524 0.52084 -0.17014 0.46736 -0.11227 C 0.41459 -0.05417 0.33559 -0.06482 0.29184 -0.13588 C 0.24809 -0.20695 0.25625 -0.31181 0.30938 -0.37014 Z">
                                      <p:cBhvr>
                                        <p:cTn id="24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-0.0926 L 0.23993 0.22453 E">
                                      <p:cBhvr>
                                        <p:cTn id="244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0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785880"/>
            <a:ext cx="1065240" cy="1224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85520" y="2214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Орфограммы в корнях слов (закрепление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7095960" y="4357800"/>
            <a:ext cx="20480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37"/>
          <p:cNvSpPr/>
          <p:nvPr/>
        </p:nvSpPr>
        <p:spPr>
          <a:xfrm rot="1261200">
            <a:off x="5363640" y="3357360"/>
            <a:ext cx="1059120" cy="12538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3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313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2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399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0"/>
                            </p:stCondLst>
                            <p:childTnLst>
                              <p:par>
                                <p:cTn id="4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1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2000"/>
                            </p:stCondLst>
                            <p:childTnLst>
                              <p:par>
                                <p:cTn id="4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3000"/>
                            </p:stCondLst>
                            <p:childTnLst>
                              <p:par>
                                <p:cTn id="4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4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6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3000"/>
                            </p:stCondLst>
                            <p:childTnLst>
                              <p:par>
                                <p:cTn id="516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517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7000"/>
                            </p:stCondLst>
                            <p:childTnLst>
                              <p:par>
                                <p:cTn id="51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520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1000"/>
                            </p:stCondLst>
                            <p:childTnLst>
                              <p:par>
                                <p:cTn id="5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523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2000"/>
                            </p:stCondLst>
                            <p:childTnLst>
                              <p:par>
                                <p:cTn id="5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52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3000"/>
                            </p:stCondLst>
                            <p:childTnLst>
                              <p:par>
                                <p:cTn id="5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52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4000"/>
                            </p:stCondLst>
                            <p:childTnLst>
                              <p:par>
                                <p:cTn id="5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532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5000"/>
                            </p:stCondLst>
                            <p:childTnLst>
                              <p:par>
                                <p:cTn id="5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535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6000"/>
                            </p:stCondLst>
                            <p:childTnLst>
                              <p:par>
                                <p:cTn id="5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538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541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Вий</cp:lastModifiedBy>
  <dcterms:modified xsi:type="dcterms:W3CDTF">2011-07-04T16:55:59Z</dcterms:modified>
  <cp:revision>134</cp:revision>
  <dc:subject/>
  <dc:title>Слайд 1</dc:title>
</cp:coreProperties>
</file>