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7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75D7-F7B6-4BAE-AF85-BC6545D084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28D9-95B9-4114-9462-CA93C3600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D4DB-585B-432E-9E7B-72A33FB58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969-F2E0-4AE9-B633-89F1473B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D59-C2B8-4B14-8F82-F12888E8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9FB-3990-4D2A-83DD-81FE985C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7A1-2F89-425E-8D60-EAE8C6FA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A1DF-46F0-4D29-8C6B-69851197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AE3F-7ACA-46EA-8AB1-035B21F9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7112-45C7-4297-A128-894035E4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4E79-7BD4-4A83-84E3-3C3A27C3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847B-B328-470D-ACF5-E7353510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B687-13C6-437B-A66E-DE048835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2FBE-45F4-4284-8A28-7C4EEDCB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C39-A965-4EE4-846B-C1EE9F22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0146-2F6D-4AA1-A73B-D22B51FF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2625-780E-4C57-B517-25250B4C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600-3B28-4B04-8CED-38C31547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775B-8DEE-4587-B277-4BC5EFBE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D5F4-84FE-4C38-9C63-598C611D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F344-A78C-49AF-B1AD-8F8B9664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292A1-9C84-44F1-ADB2-2EC7956B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C589-30D2-4E79-A7F1-08A3C68A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7D1B-2FE1-46C0-91BE-04839452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6778-33E8-44E0-B955-87B3B99A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8D6-7411-4FE7-B44B-31BF28DF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EF95-8260-4955-9956-EED78AF5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66974-1E08-4319-B72C-A618D1C7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6BAC-4EE1-432F-8216-947EB789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AD86-6704-405C-BA20-01345CAE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07AB-0486-48B6-AE49-6073D8EE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F800E-D0A3-4CB4-8905-0BA2D3E9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63E6-A5BF-4543-AA15-31C9A52D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12099-7288-43E8-9096-5B348B76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D0A45-4DE9-4171-AF44-D030579D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3F9B-7C10-46FB-8591-D79AA74D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813-D2E9-45DF-BBF4-F19DDDFE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0B02-6253-49B3-BF12-8D1BDC44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085F-C390-45B8-BE77-868D8FD4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249AA-57C7-417B-995C-9E61827C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6D30-F7A5-4F0A-BB72-240FD579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6F3FE-52EE-40B8-9824-94D35918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9220-D8CD-4047-9C0E-C8DE5734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574CF-CFF0-440B-93DA-B87FB4F0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4115-A5FF-4638-8038-9DE82511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8FA96-9232-470C-A093-12E0A9B1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889-E1D7-439D-ACD5-18AA82A8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82D-FDE4-4591-8D7A-85356ADE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F72-F059-4FF1-B9FB-5FDA1F14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982-6C43-4355-929D-B91A8AA0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BE4-C00C-4B48-AAB2-76BEB9D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8845-57C5-4B94-8B50-1F3EF45565E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AC06-DC32-4060-8D1F-698EBC15E68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B334-563B-4C6A-BF17-120113F0040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A72D-2C93-4C98-887A-D2B06A3F706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9.png"/><Relationship Id="rId6" Type="http://schemas.openxmlformats.org/officeDocument/2006/relationships/image" Target="../media/image20.png"/><Relationship Id="rId7" Type="http://schemas.openxmlformats.org/officeDocument/2006/relationships/image" Target="../media/image9.png"/><Relationship Id="rId8" Type="http://schemas.openxmlformats.org/officeDocument/2006/relationships/image" Target="../media/image16.png"/><Relationship Id="rId9" Type="http://schemas.openxmlformats.org/officeDocument/2006/relationships/image" Target="../media/image9.png"/><Relationship Id="rId10" Type="http://schemas.openxmlformats.org/officeDocument/2006/relationships/image" Target="../media/image18.png"/><Relationship Id="rId11" Type="http://schemas.openxmlformats.org/officeDocument/2006/relationships/image" Target="../media/image9.png"/><Relationship Id="rId12" Type="http://schemas.openxmlformats.org/officeDocument/2006/relationships/image" Target="../media/image21.png"/><Relationship Id="rId13" Type="http://schemas.openxmlformats.org/officeDocument/2006/relationships/image" Target="../media/image9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25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530280" y="920880"/>
            <a:ext cx="7864560" cy="17794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4071960"/>
            <a:ext cx="7854840" cy="1928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ркова С.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У СОШ № 1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Санкт-Петербург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10 год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2560" y="1143000"/>
            <a:ext cx="864396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ростник                 лёгкие                    красив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вёздный                 гладкие                  кружев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звестный              молчаливые          блестящ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ишина                   редкие                    подснежни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частливый            сладкие                  холод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облестный           низкие                    голод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Arc 78"/>
          <p:cNvSpPr/>
          <p:nvPr/>
        </p:nvSpPr>
        <p:spPr>
          <a:xfrm rot="19014600">
            <a:off x="493200" y="1036440"/>
            <a:ext cx="67500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rc 78"/>
          <p:cNvSpPr/>
          <p:nvPr/>
        </p:nvSpPr>
        <p:spPr>
          <a:xfrm rot="19014600">
            <a:off x="884160" y="2135160"/>
            <a:ext cx="465120" cy="47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78"/>
          <p:cNvSpPr/>
          <p:nvPr/>
        </p:nvSpPr>
        <p:spPr>
          <a:xfrm rot="19014600">
            <a:off x="6342120" y="3072960"/>
            <a:ext cx="676080" cy="639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78"/>
          <p:cNvSpPr/>
          <p:nvPr/>
        </p:nvSpPr>
        <p:spPr>
          <a:xfrm rot="19014600">
            <a:off x="3363840" y="2660400"/>
            <a:ext cx="416160" cy="390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rc 78"/>
          <p:cNvSpPr/>
          <p:nvPr/>
        </p:nvSpPr>
        <p:spPr>
          <a:xfrm rot="19014600">
            <a:off x="421920" y="153684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78"/>
          <p:cNvSpPr/>
          <p:nvPr/>
        </p:nvSpPr>
        <p:spPr>
          <a:xfrm rot="19014600">
            <a:off x="455760" y="2595600"/>
            <a:ext cx="465120" cy="47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78"/>
          <p:cNvSpPr/>
          <p:nvPr/>
        </p:nvSpPr>
        <p:spPr>
          <a:xfrm rot="19014600">
            <a:off x="3463920" y="1607760"/>
            <a:ext cx="520560" cy="515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rc 78"/>
          <p:cNvSpPr/>
          <p:nvPr/>
        </p:nvSpPr>
        <p:spPr>
          <a:xfrm rot="19014600">
            <a:off x="434520" y="3078000"/>
            <a:ext cx="720720" cy="720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78"/>
          <p:cNvSpPr/>
          <p:nvPr/>
        </p:nvSpPr>
        <p:spPr>
          <a:xfrm rot="19014600">
            <a:off x="6976800" y="2596680"/>
            <a:ext cx="49536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78"/>
          <p:cNvSpPr/>
          <p:nvPr/>
        </p:nvSpPr>
        <p:spPr>
          <a:xfrm rot="19014600">
            <a:off x="3435120" y="1160280"/>
            <a:ext cx="415800" cy="390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78"/>
          <p:cNvSpPr/>
          <p:nvPr/>
        </p:nvSpPr>
        <p:spPr>
          <a:xfrm rot="19014600">
            <a:off x="6453000" y="1634760"/>
            <a:ext cx="595080" cy="512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78"/>
          <p:cNvSpPr/>
          <p:nvPr/>
        </p:nvSpPr>
        <p:spPr>
          <a:xfrm rot="19014600">
            <a:off x="6362280" y="2053800"/>
            <a:ext cx="633600" cy="68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rc 78"/>
          <p:cNvSpPr/>
          <p:nvPr/>
        </p:nvSpPr>
        <p:spPr>
          <a:xfrm rot="19014600">
            <a:off x="3463920" y="2124000"/>
            <a:ext cx="573120" cy="53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78"/>
          <p:cNvSpPr/>
          <p:nvPr/>
        </p:nvSpPr>
        <p:spPr>
          <a:xfrm rot="19014600">
            <a:off x="6332040" y="3631680"/>
            <a:ext cx="622440" cy="592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78"/>
          <p:cNvSpPr/>
          <p:nvPr/>
        </p:nvSpPr>
        <p:spPr>
          <a:xfrm rot="19014600">
            <a:off x="3444840" y="3173040"/>
            <a:ext cx="468360" cy="438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78"/>
          <p:cNvSpPr/>
          <p:nvPr/>
        </p:nvSpPr>
        <p:spPr>
          <a:xfrm rot="19014600">
            <a:off x="479520" y="3462120"/>
            <a:ext cx="987480" cy="958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78"/>
          <p:cNvSpPr/>
          <p:nvPr/>
        </p:nvSpPr>
        <p:spPr>
          <a:xfrm rot="19014600">
            <a:off x="6392880" y="1036800"/>
            <a:ext cx="520560" cy="517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78"/>
          <p:cNvSpPr/>
          <p:nvPr/>
        </p:nvSpPr>
        <p:spPr>
          <a:xfrm rot="19014600">
            <a:off x="3363840" y="3660840"/>
            <a:ext cx="416160" cy="392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13840" y="1143000"/>
            <a:ext cx="864396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иши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олчалив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ружева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дснежн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7858080" y="55008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285840" y="857160"/>
            <a:ext cx="81432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Arc 78"/>
          <p:cNvSpPr/>
          <p:nvPr/>
        </p:nvSpPr>
        <p:spPr>
          <a:xfrm rot="19014600">
            <a:off x="3311640" y="1684440"/>
            <a:ext cx="520560" cy="48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rc 78"/>
          <p:cNvSpPr/>
          <p:nvPr/>
        </p:nvSpPr>
        <p:spPr>
          <a:xfrm rot="19014600">
            <a:off x="2850840" y="221292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rc 78"/>
          <p:cNvSpPr/>
          <p:nvPr/>
        </p:nvSpPr>
        <p:spPr>
          <a:xfrm rot="19014600">
            <a:off x="3350880" y="278460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rc 78"/>
          <p:cNvSpPr/>
          <p:nvPr/>
        </p:nvSpPr>
        <p:spPr>
          <a:xfrm rot="19014600">
            <a:off x="3708000" y="335592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i-main-pic" descr="Картинка 66 из 335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357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285840" y="35712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i-main-pic" descr="Картинка 16 из 61614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дснежник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Зимний сон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Далеко ещё до весны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000840" y="1428840"/>
            <a:ext cx="3000240" cy="4929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иши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молчалив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ружева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одснежни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i-main-pic" descr="Картинка 66 из 335"/>
          <p:cNvPicPr/>
          <p:nvPr/>
        </p:nvPicPr>
        <p:blipFill>
          <a:blip r:embed="rId2"/>
          <a:stretch/>
        </p:blipFill>
        <p:spPr>
          <a:xfrm>
            <a:off x="142920" y="1428840"/>
            <a:ext cx="5857920" cy="4643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285840" y="357120"/>
            <a:ext cx="814320" cy="936720"/>
          </a:xfrm>
          <a:prstGeom prst="rect">
            <a:avLst/>
          </a:prstGeom>
          <a:ln w="0">
            <a:noFill/>
          </a:ln>
        </p:spPr>
      </p:pic>
      <p:pic>
        <p:nvPicPr>
          <p:cNvPr id="361" name="vremena01.mp3" descr=""/>
          <p:cNvPicPr/>
          <p:nvPr/>
        </p:nvPicPr>
        <p:blipFill>
          <a:blip r:embed="rId4"/>
          <a:stretch/>
        </p:blipFill>
        <p:spPr>
          <a:xfrm>
            <a:off x="82868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4" dur="362880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1928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 презентации использован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  http://dompolnajachasa.at.ua/_pu/7/s24049102.jp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fotki.yandex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users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azu-lyuba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view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17010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blogs.privet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uzer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viktor62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year=2010&amp;month=5&amp;day=31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multiki.arjlover.net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inf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.htm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f=tzar.saltan.av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ww.old-land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ests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500040" y="1365120"/>
            <a:ext cx="8150400" cy="3292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285840" y="7858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7643880" y="528624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428760" y="528624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7643880" y="7858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357120" y="32860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7715160" y="31431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2571840" y="7858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5143680" y="857160"/>
            <a:ext cx="1064880" cy="122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2786040" y="528624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5143680" y="5286240"/>
            <a:ext cx="10648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5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русская моло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Раскрасавица-душ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Белоснежная лебё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матушка-зима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285840" y="571500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14200" y="856800"/>
            <a:ext cx="844416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усская молодка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евушка-красавица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усская красави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аскрасавица -душа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расави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лоснежная лебёдка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атуш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7" name="Group 134"/>
          <p:cNvGrpSpPr/>
          <p:nvPr/>
        </p:nvGrpSpPr>
        <p:grpSpPr>
          <a:xfrm>
            <a:off x="428760" y="2786040"/>
            <a:ext cx="500040" cy="214200"/>
            <a:chOff x="428760" y="2786040"/>
            <a:chExt cx="500040" cy="214200"/>
          </a:xfrm>
        </p:grpSpPr>
        <p:sp>
          <p:nvSpPr>
            <p:cNvPr id="228" name="Line 132"/>
            <p:cNvSpPr/>
            <p:nvPr/>
          </p:nvSpPr>
          <p:spPr>
            <a:xfrm>
              <a:off x="428760" y="2786040"/>
              <a:ext cx="50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928800" y="278604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i-main-pic" descr="Картинка 19 из 4094"/>
          <p:cNvPicPr/>
          <p:nvPr/>
        </p:nvPicPr>
        <p:blipFill>
          <a:blip r:embed="rId2"/>
          <a:stretch/>
        </p:blipFill>
        <p:spPr>
          <a:xfrm>
            <a:off x="500040" y="428760"/>
            <a:ext cx="8001000" cy="6143400"/>
          </a:xfrm>
          <a:prstGeom prst="rect">
            <a:avLst/>
          </a:prstGeom>
          <a:ln w="0">
            <a:noFill/>
          </a:ln>
        </p:spPr>
      </p:pic>
      <p:pic>
        <p:nvPicPr>
          <p:cNvPr id="231" name="i-main-pic" descr="Картинка 28 из 4094"/>
          <p:cNvPicPr/>
          <p:nvPr/>
        </p:nvPicPr>
        <p:blipFill>
          <a:blip r:embed="rId3"/>
          <a:stretch/>
        </p:blipFill>
        <p:spPr>
          <a:xfrm>
            <a:off x="571680" y="428760"/>
            <a:ext cx="8143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русская моло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Раскрасавица-душ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Белоснежная лебё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матушка-зима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П. Вяземск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7858080" y="542916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13840" y="714240"/>
            <a:ext cx="50007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одка-молод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скр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авица-красн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оснежная-бел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ёдка-лебед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а-зимуш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4929120" y="928800"/>
            <a:ext cx="37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олодка-молод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лебёдка-леб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4"/>
          <p:cNvSpPr/>
          <p:nvPr/>
        </p:nvSpPr>
        <p:spPr>
          <a:xfrm>
            <a:off x="2571840" y="417024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дравствуй-здра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78"/>
          <p:cNvSpPr/>
          <p:nvPr/>
        </p:nvSpPr>
        <p:spPr>
          <a:xfrm rot="19014600">
            <a:off x="514440" y="512280"/>
            <a:ext cx="757080" cy="760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78"/>
          <p:cNvSpPr/>
          <p:nvPr/>
        </p:nvSpPr>
        <p:spPr>
          <a:xfrm rot="19014600">
            <a:off x="1120320" y="1199880"/>
            <a:ext cx="615960" cy="598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78"/>
          <p:cNvSpPr/>
          <p:nvPr/>
        </p:nvSpPr>
        <p:spPr>
          <a:xfrm rot="19014600">
            <a:off x="3284280" y="1203480"/>
            <a:ext cx="6458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78"/>
          <p:cNvSpPr/>
          <p:nvPr/>
        </p:nvSpPr>
        <p:spPr>
          <a:xfrm rot="19014600">
            <a:off x="382680" y="2968560"/>
            <a:ext cx="520560" cy="490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rc 78"/>
          <p:cNvSpPr/>
          <p:nvPr/>
        </p:nvSpPr>
        <p:spPr>
          <a:xfrm rot="19014600">
            <a:off x="506160" y="2292480"/>
            <a:ext cx="720720" cy="720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78"/>
          <p:cNvSpPr/>
          <p:nvPr/>
        </p:nvSpPr>
        <p:spPr>
          <a:xfrm rot="19014600">
            <a:off x="1351080" y="1798200"/>
            <a:ext cx="726840" cy="68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78"/>
          <p:cNvSpPr/>
          <p:nvPr/>
        </p:nvSpPr>
        <p:spPr>
          <a:xfrm rot="19014600">
            <a:off x="2288880" y="525240"/>
            <a:ext cx="779400" cy="733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78"/>
          <p:cNvSpPr/>
          <p:nvPr/>
        </p:nvSpPr>
        <p:spPr>
          <a:xfrm rot="19014600">
            <a:off x="384120" y="1823760"/>
            <a:ext cx="517680" cy="493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571680" y="55008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8001000" y="4500720"/>
            <a:ext cx="814320" cy="936360"/>
          </a:xfrm>
          <a:prstGeom prst="rect">
            <a:avLst/>
          </a:prstGeom>
          <a:ln w="0">
            <a:noFill/>
          </a:ln>
        </p:spPr>
      </p:pic>
      <p:sp>
        <p:nvSpPr>
          <p:cNvPr id="247" name="Arc 78"/>
          <p:cNvSpPr/>
          <p:nvPr/>
        </p:nvSpPr>
        <p:spPr>
          <a:xfrm rot="19014600">
            <a:off x="2257200" y="2260080"/>
            <a:ext cx="914400" cy="906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1148400" y="642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7"/>
          <p:cNvSpPr/>
          <p:nvPr/>
        </p:nvSpPr>
        <p:spPr>
          <a:xfrm>
            <a:off x="1791360" y="12142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434320" y="642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1648440" y="2928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577320" y="12142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1"/>
          <p:cNvSpPr/>
          <p:nvPr/>
        </p:nvSpPr>
        <p:spPr>
          <a:xfrm>
            <a:off x="1005480" y="2928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2291400" y="23572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3"/>
          <p:cNvSpPr/>
          <p:nvPr/>
        </p:nvSpPr>
        <p:spPr>
          <a:xfrm>
            <a:off x="1719720" y="1785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4"/>
          <p:cNvSpPr/>
          <p:nvPr/>
        </p:nvSpPr>
        <p:spPr>
          <a:xfrm>
            <a:off x="3363120" y="1785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78"/>
          <p:cNvSpPr/>
          <p:nvPr/>
        </p:nvSpPr>
        <p:spPr>
          <a:xfrm rot="19014600">
            <a:off x="1525680" y="2968560"/>
            <a:ext cx="520560" cy="490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78"/>
          <p:cNvSpPr/>
          <p:nvPr/>
        </p:nvSpPr>
        <p:spPr>
          <a:xfrm rot="19014600">
            <a:off x="5368680" y="750600"/>
            <a:ext cx="834840" cy="782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rc 78"/>
          <p:cNvSpPr/>
          <p:nvPr/>
        </p:nvSpPr>
        <p:spPr>
          <a:xfrm rot="19014600">
            <a:off x="3159000" y="1885680"/>
            <a:ext cx="468360" cy="44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78"/>
          <p:cNvSpPr/>
          <p:nvPr/>
        </p:nvSpPr>
        <p:spPr>
          <a:xfrm rot="19014600">
            <a:off x="7143840" y="761760"/>
            <a:ext cx="857160" cy="75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78"/>
          <p:cNvSpPr/>
          <p:nvPr/>
        </p:nvSpPr>
        <p:spPr>
          <a:xfrm rot="19014600">
            <a:off x="7161120" y="1276200"/>
            <a:ext cx="679680" cy="736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78"/>
          <p:cNvSpPr/>
          <p:nvPr/>
        </p:nvSpPr>
        <p:spPr>
          <a:xfrm rot="19014600">
            <a:off x="5393880" y="1226880"/>
            <a:ext cx="784440" cy="833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78"/>
          <p:cNvSpPr/>
          <p:nvPr/>
        </p:nvSpPr>
        <p:spPr>
          <a:xfrm rot="19014600">
            <a:off x="5208120" y="4064040"/>
            <a:ext cx="655920" cy="660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rc 78"/>
          <p:cNvSpPr/>
          <p:nvPr/>
        </p:nvSpPr>
        <p:spPr>
          <a:xfrm rot="19014600">
            <a:off x="2813040" y="4001760"/>
            <a:ext cx="731880" cy="785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4"/>
          <p:cNvSpPr/>
          <p:nvPr/>
        </p:nvSpPr>
        <p:spPr>
          <a:xfrm>
            <a:off x="2220120" y="2643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5"/>
          <p:cNvSpPr/>
          <p:nvPr/>
        </p:nvSpPr>
        <p:spPr>
          <a:xfrm>
            <a:off x="1362600" y="1500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6"/>
          <p:cNvSpPr/>
          <p:nvPr/>
        </p:nvSpPr>
        <p:spPr>
          <a:xfrm>
            <a:off x="505440" y="928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7"/>
          <p:cNvSpPr/>
          <p:nvPr/>
        </p:nvSpPr>
        <p:spPr>
          <a:xfrm>
            <a:off x="7935120" y="11430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8"/>
          <p:cNvSpPr/>
          <p:nvPr/>
        </p:nvSpPr>
        <p:spPr>
          <a:xfrm>
            <a:off x="3577320" y="1500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9"/>
          <p:cNvSpPr/>
          <p:nvPr/>
        </p:nvSpPr>
        <p:spPr>
          <a:xfrm>
            <a:off x="2362680" y="928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0"/>
          <p:cNvSpPr/>
          <p:nvPr/>
        </p:nvSpPr>
        <p:spPr>
          <a:xfrm>
            <a:off x="6077520" y="4357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1"/>
          <p:cNvSpPr/>
          <p:nvPr/>
        </p:nvSpPr>
        <p:spPr>
          <a:xfrm>
            <a:off x="505440" y="2071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2"/>
          <p:cNvSpPr/>
          <p:nvPr/>
        </p:nvSpPr>
        <p:spPr>
          <a:xfrm>
            <a:off x="505440" y="2643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3"/>
          <p:cNvSpPr/>
          <p:nvPr/>
        </p:nvSpPr>
        <p:spPr>
          <a:xfrm>
            <a:off x="434160" y="32860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4"/>
          <p:cNvSpPr/>
          <p:nvPr/>
        </p:nvSpPr>
        <p:spPr>
          <a:xfrm>
            <a:off x="5791680" y="4357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5"/>
          <p:cNvSpPr/>
          <p:nvPr/>
        </p:nvSpPr>
        <p:spPr>
          <a:xfrm>
            <a:off x="6006240" y="16430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6"/>
          <p:cNvSpPr/>
          <p:nvPr/>
        </p:nvSpPr>
        <p:spPr>
          <a:xfrm>
            <a:off x="8220600" y="11430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7"/>
          <p:cNvSpPr/>
          <p:nvPr/>
        </p:nvSpPr>
        <p:spPr>
          <a:xfrm>
            <a:off x="1577160" y="32860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8"/>
          <p:cNvSpPr/>
          <p:nvPr/>
        </p:nvSpPr>
        <p:spPr>
          <a:xfrm>
            <a:off x="3291480" y="2071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9"/>
          <p:cNvSpPr/>
          <p:nvPr/>
        </p:nvSpPr>
        <p:spPr>
          <a:xfrm>
            <a:off x="4148640" y="20001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0"/>
          <p:cNvSpPr/>
          <p:nvPr/>
        </p:nvSpPr>
        <p:spPr>
          <a:xfrm>
            <a:off x="8006400" y="16430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2"/>
          <p:cNvSpPr/>
          <p:nvPr/>
        </p:nvSpPr>
        <p:spPr>
          <a:xfrm>
            <a:off x="6215040" y="1143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3"/>
          <p:cNvSpPr/>
          <p:nvPr/>
        </p:nvSpPr>
        <p:spPr>
          <a:xfrm>
            <a:off x="3571920" y="43578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4"/>
          <p:cNvSpPr/>
          <p:nvPr/>
        </p:nvSpPr>
        <p:spPr>
          <a:xfrm>
            <a:off x="7858080" y="16430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840" y="1142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Безударные гласны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2920" y="285768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Звонкие и глухие согласны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42920" y="428580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-Непроизносимые согласны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49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8072280" y="85716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785880" y="535788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38 -0.37014 C 0.36302 -0.42824 0.44167 -0.41783 0.48507 -0.34676 C 0.52865 -0.27524 0.52084 -0.17014 0.46736 -0.11227 C 0.41459 -0.05417 0.33559 -0.06482 0.29184 -0.13588 C 0.24809 -0.20695 0.25625 -0.31181 0.30938 -0.37014 Z">
                                      <p:cBhvr>
                                        <p:cTn id="24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05 -0.0926 L 0.23993 0.22453 E">
                                      <p:cBhvr>
                                        <p:cTn id="244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0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285840" y="785880"/>
            <a:ext cx="1065240" cy="1224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785520" y="22147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Орфограммы в корнях слов (закрепление)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7095960" y="4357800"/>
            <a:ext cx="20480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37"/>
          <p:cNvSpPr/>
          <p:nvPr/>
        </p:nvSpPr>
        <p:spPr>
          <a:xfrm rot="1261200">
            <a:off x="5363640" y="3357360"/>
            <a:ext cx="1059120" cy="125388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 flipH="1" flipV="1" rot="2333400">
            <a:off x="2050200" y="3141720"/>
            <a:ext cx="1173240" cy="133812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"/>
          <p:cNvSpPr/>
          <p:nvPr/>
        </p:nvSpPr>
        <p:spPr>
          <a:xfrm>
            <a:off x="2987640" y="3284640"/>
            <a:ext cx="2736720" cy="2160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"/>
          <p:cNvSpPr/>
          <p:nvPr/>
        </p:nvSpPr>
        <p:spPr>
          <a:xfrm>
            <a:off x="3492360" y="2060640"/>
            <a:ext cx="1727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sneg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179280" y="5516640"/>
            <a:ext cx="1041480" cy="119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17928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179280" y="17002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179280" y="18900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197964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4140360" y="1890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594036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8244000" y="1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7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7885080" y="17733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8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817236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9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788508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6227640" y="5734080"/>
            <a:ext cx="790560" cy="907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1" descr="sneg"/>
          <p:cNvPicPr/>
          <p:nvPr/>
        </p:nvPicPr>
        <p:blipFill>
          <a:blip r:embed="rId13">
            <a:lum bright="72000"/>
          </a:blip>
          <a:stretch/>
        </p:blipFill>
        <p:spPr>
          <a:xfrm>
            <a:off x="421164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2" descr="sneg"/>
          <p:cNvPicPr/>
          <p:nvPr/>
        </p:nvPicPr>
        <p:blipFill>
          <a:blip r:embed="rId14">
            <a:lum bright="72000"/>
          </a:blip>
          <a:stretch/>
        </p:blipFill>
        <p:spPr>
          <a:xfrm>
            <a:off x="2195640" y="5734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3" descr="varezki2_resize"/>
          <p:cNvPicPr/>
          <p:nvPr/>
        </p:nvPicPr>
        <p:blipFill>
          <a:blip r:embed="rId15"/>
          <a:srcRect l="43946" t="0" r="0" b="0"/>
          <a:stretch/>
        </p:blipFill>
        <p:spPr>
          <a:xfrm rot="13259400">
            <a:off x="1348920" y="3450960"/>
            <a:ext cx="993960" cy="1508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4" descr="varezki2_resize"/>
          <p:cNvPicPr/>
          <p:nvPr/>
        </p:nvPicPr>
        <p:blipFill>
          <a:blip r:embed="rId16"/>
          <a:srcRect l="0" t="0" r="48602" b="0"/>
          <a:stretch/>
        </p:blipFill>
        <p:spPr>
          <a:xfrm rot="1797600">
            <a:off x="6149520" y="256716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313" name="Oval 38"/>
          <p:cNvSpPr/>
          <p:nvPr/>
        </p:nvSpPr>
        <p:spPr>
          <a:xfrm rot="830400">
            <a:off x="2913120" y="5183280"/>
            <a:ext cx="1150920" cy="503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9"/>
          <p:cNvSpPr/>
          <p:nvPr/>
        </p:nvSpPr>
        <p:spPr>
          <a:xfrm rot="20934600">
            <a:off x="4795920" y="5176440"/>
            <a:ext cx="1146240" cy="504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0"/>
          <p:cNvSpPr/>
          <p:nvPr/>
        </p:nvSpPr>
        <p:spPr>
          <a:xfrm>
            <a:off x="3995640" y="2421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1"/>
          <p:cNvSpPr/>
          <p:nvPr/>
        </p:nvSpPr>
        <p:spPr>
          <a:xfrm>
            <a:off x="4572000" y="2349360"/>
            <a:ext cx="28728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3"/>
          <p:cNvSpPr/>
          <p:nvPr/>
        </p:nvSpPr>
        <p:spPr>
          <a:xfrm rot="15840000">
            <a:off x="4431960" y="2776680"/>
            <a:ext cx="2095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92" y="1504"/>
                  <a:pt x="8383" y="5080"/>
                  <a:pt x="8383" y="10800"/>
                </a:cubicBezTo>
                <a:cubicBezTo>
                  <a:pt x="8383" y="16520"/>
                  <a:pt x="14992" y="200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7" descr="1198423906_0lik"/>
          <p:cNvPicPr/>
          <p:nvPr/>
        </p:nvPicPr>
        <p:blipFill>
          <a:blip r:embed="rId17">
            <a:lum bright="6000"/>
          </a:blip>
          <a:srcRect l="0" t="27176" r="54173" b="36532"/>
          <a:stretch/>
        </p:blipFill>
        <p:spPr>
          <a:xfrm rot="20854200">
            <a:off x="2840040" y="812880"/>
            <a:ext cx="2519280" cy="1741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5" descr="sneg"/>
          <p:cNvPicPr/>
          <p:nvPr/>
        </p:nvPicPr>
        <p:blipFill>
          <a:blip r:embed="rId18">
            <a:lum bright="72000"/>
          </a:blip>
          <a:stretch/>
        </p:blipFill>
        <p:spPr>
          <a:xfrm>
            <a:off x="1187280" y="76500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6" descr="sneg"/>
          <p:cNvPicPr/>
          <p:nvPr/>
        </p:nvPicPr>
        <p:blipFill>
          <a:blip r:embed="rId19">
            <a:lum bright="72000"/>
          </a:blip>
          <a:stretch/>
        </p:blipFill>
        <p:spPr>
          <a:xfrm>
            <a:off x="6300720" y="1197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7" descr="sneg"/>
          <p:cNvPicPr/>
          <p:nvPr/>
        </p:nvPicPr>
        <p:blipFill>
          <a:blip r:embed="rId20">
            <a:lum bright="72000"/>
          </a:blip>
          <a:stretch/>
        </p:blipFill>
        <p:spPr>
          <a:xfrm>
            <a:off x="183528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8" descr="sneg"/>
          <p:cNvPicPr/>
          <p:nvPr/>
        </p:nvPicPr>
        <p:blipFill>
          <a:blip r:embed="rId21">
            <a:lum bright="72000"/>
          </a:blip>
          <a:stretch/>
        </p:blipFill>
        <p:spPr>
          <a:xfrm>
            <a:off x="4356000" y="26028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9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468360" y="386064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0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781200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1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48360" y="3789360"/>
            <a:ext cx="728640" cy="83664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42"/>
          <p:cNvSpPr/>
          <p:nvPr/>
        </p:nvSpPr>
        <p:spPr>
          <a:xfrm rot="4162800">
            <a:off x="4739040" y="2097720"/>
            <a:ext cx="288720" cy="108108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1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2" descr=""/>
          <p:cNvPicPr/>
          <p:nvPr/>
        </p:nvPicPr>
        <p:blipFill>
          <a:blip r:embed="rId25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5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9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2 C 0.10816 -0.01042 0.19687 0.10231 0.19687 0.2412 C 0.19687 0.38009 0.10816 0.49352 -0.00035 0.49352 C -0.10868 0.49352 -0.19688 0.38009 -0.19688 0.2412 C -0.19688 0.10231 -0.10868 -0.01042 -0.00035 -0.01042 Z">
                                      <p:cBhvr>
                                        <p:cTn id="399" dur="3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3000"/>
                            </p:stCondLst>
                            <p:childTnLst>
                              <p:par>
                                <p:cTn id="4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6000"/>
                            </p:stCondLst>
                            <p:childTnLst>
                              <p:par>
                                <p:cTn id="41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0"/>
                            </p:stCondLst>
                            <p:childTnLst>
                              <p:par>
                                <p:cTn id="4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1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2000"/>
                            </p:stCondLst>
                            <p:childTnLst>
                              <p:par>
                                <p:cTn id="4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3000"/>
                            </p:stCondLst>
                            <p:childTnLst>
                              <p:par>
                                <p:cTn id="4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4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6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3000"/>
                            </p:stCondLst>
                            <p:childTnLst>
                              <p:par>
                                <p:cTn id="516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9236 C 0.03455 -0.12477 0.10677 -0.08125 0.13125 0.00486 C 0.15556 0.09074 0.12292 0.18703 0.05833 0.21967 C -0.00608 0.25208 -0.0783 0.20856 -0.10278 0.12245 C -0.12708 0.03657 -0.09444 -0.05973 -0.02986 -0.09236 Z">
                                      <p:cBhvr>
                                        <p:cTn id="517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7000"/>
                            </p:stCondLst>
                            <p:childTnLst>
                              <p:par>
                                <p:cTn id="519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5347 -0.05833 0.13229 -0.04769 0.17569 0.02338 C 0.21927 0.09468 0.21146 0.19977 0.15798 0.25787 C 0.10503 0.31597 0.02604 0.30532 -0.01771 0.23426 C -0.06129 0.16319 -0.05313 0.0581 2.5E-006 7.40741E-007 Z">
                                      <p:cBhvr>
                                        <p:cTn id="520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1000"/>
                            </p:stCondLst>
                            <p:childTnLst>
                              <p:par>
                                <p:cTn id="5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0.64051 E">
                                      <p:cBhvr>
                                        <p:cTn id="523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62000"/>
                            </p:stCondLst>
                            <p:childTnLst>
                              <p:par>
                                <p:cTn id="5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05469 0.60047 E">
                                      <p:cBhvr>
                                        <p:cTn id="526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3000"/>
                            </p:stCondLst>
                            <p:childTnLst>
                              <p:par>
                                <p:cTn id="5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3976 0.77917 E">
                                      <p:cBhvr>
                                        <p:cTn id="52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4000"/>
                            </p:stCondLst>
                            <p:childTnLst>
                              <p:par>
                                <p:cTn id="5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0034 0.19097 E">
                                      <p:cBhvr>
                                        <p:cTn id="532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5000"/>
                            </p:stCondLst>
                            <p:childTnLst>
                              <p:par>
                                <p:cTn id="5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11788 0.55856 E">
                                      <p:cBhvr>
                                        <p:cTn id="535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6000"/>
                            </p:stCondLst>
                            <p:childTnLst>
                              <p:par>
                                <p:cTn id="5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31528 0.55856 E">
                                      <p:cBhvr>
                                        <p:cTn id="538" dur="1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700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59259E-006 L 0.0783 0.22269 E">
                                      <p:cBhvr>
                                        <p:cTn id="541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31:33Z</dcterms:created>
  <dc:creator>www.PHILka.RU</dc:creator>
  <dc:description/>
  <dc:language>en-US</dc:language>
  <cp:lastModifiedBy>Вий</cp:lastModifiedBy>
  <dcterms:modified xsi:type="dcterms:W3CDTF">2011-07-04T16:55:59Z</dcterms:modified>
  <cp:revision>134</cp:revision>
  <dc:subject/>
  <dc:title>Слайд 1</dc:title>
</cp:coreProperties>
</file>