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3.png" ContentType="image/png"/>
  <Override PartName="/ppt/media/image27.jpeg" ContentType="image/jpeg"/>
  <Override PartName="/ppt/media/image4.jpeg" ContentType="image/jpeg"/>
  <Override PartName="/ppt/media/image25.png" ContentType="image/png"/>
  <Override PartName="/ppt/media/image2.png" ContentType="image/png"/>
  <Override PartName="/ppt/media/image28.jpeg" ContentType="image/jpeg"/>
  <Override PartName="/ppt/media/image7.jpeg" ContentType="image/jpeg"/>
  <Override PartName="/ppt/media/image6.png" ContentType="image/png"/>
  <Override PartName="/ppt/media/image11.png" ContentType="image/png"/>
  <Override PartName="/ppt/media/image8.png" ContentType="image/png"/>
  <Override PartName="/ppt/media/image14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jpeg" ContentType="image/jpeg"/>
  <Override PartName="/ppt/media/image12.png" ContentType="image/pn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93F3-5F1A-405E-ABC5-7FDD02C20B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552E-B44E-40B6-9CD8-BA0FE6CB4C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6520-5B4B-4381-84C5-A8EF57FCA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EDDC-FD47-4D68-8C4A-6800572F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59B3-5B1B-40D4-8E6B-590CF4A6F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A31A-7305-4AA0-B523-2AE13951C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8AE1-1C75-468D-964C-3D25CB2C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5B00-A289-4FCC-8485-A02C27BB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C3C2-1544-4A07-8C13-3A080E10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8A40-0A53-4C18-B0BE-28F81E60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1495-B1CD-4656-B66B-51EE75E4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C49E-03AF-4509-A7FC-E10B500F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4649-BC5C-439C-AC64-C58A27E0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EA3C-6400-42EF-AC1B-93D55898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D5CE-9E2E-4F83-908A-DDED7C03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DE9D-DE58-4A05-A6E2-988B6420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B603-0961-48B8-90BA-ECE96DA5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6F55-F9B0-4359-80BD-B7AFF0A0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78ED-678A-4104-A184-1F77A772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A667D-B4A2-4B29-9D6E-D08D8FBA1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753D9-0D45-48BA-A702-A61677DA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AAA6B-FD07-4217-9594-8149EA68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83F79-E708-42B2-AFEC-5BEE3EC3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9693C-E1F8-44AE-8594-A6F5273D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8994-88B2-4039-914C-2B203871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AC862-4473-468A-9424-E17F655E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42BCE-4865-4839-839C-C2261D55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EF235-0C32-42F2-9678-CA0A96E4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3C2F8-DEAF-41A1-A4F2-3C5EC00A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73E2F-804C-4EE6-AA83-A6B65899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B8C5D-C60E-4A82-9662-C620DCF3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16734-057E-4CCD-B488-371B32DB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19652-9521-4D99-9E51-D81ED4101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E7CF7-2EB2-404A-A887-29B1C204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F69BA-8796-4B67-9593-C0495299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F8F4-795F-41A7-8A5B-90151BBF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885DD-FBBA-4E93-9810-1FDA8DEF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19BC3-B9E0-495E-B1D0-70A3A8DE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2FA36-440F-444F-9D83-3703D002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04CBC-A494-461F-B253-BD2669BC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1720A-2E1A-4045-B479-F25F8C55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E0087-0A88-436C-803B-07317F6C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E0559-77CC-4A7C-95C0-816A510F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E7AC6-C5C7-4764-87A6-C7DD69DB9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708E1-22F9-4AF5-B8DF-3A2850492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7ED4-6502-4D40-BD69-A79E413E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41CB-CFB1-4FFE-A0A3-F5801846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ACDC-FCE9-4981-81B6-57E569EF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6939-6DCD-4571-9B8F-FD561125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35D4-E5DB-46DE-A924-52DBFF1A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A088-9C61-47FB-87A3-4F62CA8F920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B6A5-F11E-40D1-AEA1-91753D2C290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E20F-E26E-4735-ABE6-3240F33C3D3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23BB-D685-4A65-B299-10B7EAF7C2A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8564400" cy="19209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одготовили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Сигова Ольг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Хетчикова Екатерин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28400" y="642600"/>
            <a:ext cx="8358120" cy="56055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Жидкий  хлор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ызывает  серьезные   ожоги   кож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Газообразный хлор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казывает  сильное  раздражающее  действие,  особенно  на глаза и дыхательную систему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C:\Documents and Settings\User\Рабочий стол\химия. Оля\1.jpg"/>
          <p:cNvPicPr/>
          <p:nvPr/>
        </p:nvPicPr>
        <p:blipFill>
          <a:blip r:embed="rId2"/>
          <a:stretch/>
        </p:blipFill>
        <p:spPr>
          <a:xfrm>
            <a:off x="285840" y="1285920"/>
            <a:ext cx="8643960" cy="281952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5" descr=""/>
          <p:cNvPicPr/>
          <p:nvPr/>
        </p:nvPicPr>
        <p:blipFill>
          <a:blip r:embed="rId3"/>
          <a:stretch/>
        </p:blipFill>
        <p:spPr>
          <a:xfrm>
            <a:off x="-96840" y="3852720"/>
            <a:ext cx="9144000" cy="3456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3670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0000"/>
                </a:solidFill>
                <a:latin typeface="Calibri"/>
              </a:rPr>
              <a:t>БРОМ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28400" y="1499760"/>
            <a:ext cx="4647960" cy="50007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Constantia"/>
              </a:rPr>
              <a:t>NaBr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и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70c0"/>
                </a:solidFill>
                <a:latin typeface="Constantia"/>
              </a:rPr>
              <a:t>KBr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– одни из лучших средств против бессонницы и усталости!!!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Constantia"/>
              </a:rPr>
              <a:t>LiBr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едотвращает коррозию в холодильных установках, обезвоживает минеральные масла, помогает кондиционировать воздух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Constantia"/>
              </a:rPr>
              <a:t>NaBr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обавляют в дубильные  растворы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требность в </a:t>
            </a:r>
            <a:r>
              <a:rPr b="0" lang="en-US" sz="2200" spc="-1" strike="noStrike">
                <a:solidFill>
                  <a:srgbClr val="0070c0"/>
                </a:solidFill>
                <a:latin typeface="Constantia"/>
              </a:rPr>
              <a:t>Br 2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 органов практически всех живых существ! В особенности, в этом вещ-ве нуждается человеческий мозг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2" descr="C:\Documents and Settings\User\Рабочий стол\химия. Оля\Br.jpg"/>
          <p:cNvPicPr/>
          <p:nvPr/>
        </p:nvPicPr>
        <p:blipFill>
          <a:blip r:embed="rId2"/>
          <a:stretch/>
        </p:blipFill>
        <p:spPr>
          <a:xfrm>
            <a:off x="5214960" y="1643040"/>
            <a:ext cx="3714840" cy="438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C:\Documents and Settings\User\Рабочий стол\химия. Оля\0_c8c3_9496c0bc_XL.jpg"/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C:\Documents and Settings\User\Рабочий стол\химия. Оля\vodorosli1.jpg"/>
          <p:cNvPicPr/>
          <p:nvPr/>
        </p:nvPicPr>
        <p:blipFill>
          <a:blip r:embed="rId3"/>
          <a:stretch/>
        </p:blipFill>
        <p:spPr>
          <a:xfrm>
            <a:off x="5143680" y="0"/>
            <a:ext cx="402876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0000"/>
                </a:solidFill>
                <a:latin typeface="Calibri"/>
              </a:rPr>
              <a:t>ЙОД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85480" y="1676160"/>
            <a:ext cx="4429080" cy="48956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2000"/>
          </a:bodyPr>
          <a:p>
            <a:pPr marL="473040" indent="-47304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Антисептическое средство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73040" indent="-47304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2 играет огромную роль в человеческом организме!!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7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7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Нехватка в организме йода приводит к гормональным нарушениям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7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7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47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Picture 2" descr="C:\Documents and Settings\User\Рабочий стол\химия. Оля\z51109a2.jpg"/>
          <p:cNvPicPr/>
          <p:nvPr/>
        </p:nvPicPr>
        <p:blipFill>
          <a:blip r:embed="rId2"/>
          <a:stretch/>
        </p:blipFill>
        <p:spPr>
          <a:xfrm>
            <a:off x="5357880" y="749160"/>
            <a:ext cx="3429000" cy="57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500"/>
                            </p:stCondLst>
                            <p:childTnLst>
                              <p:par>
                                <p:cTn id="2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C:\Documents and Settings\User\Рабочий стол\химия. Оля\f02997_full.jpg"/>
          <p:cNvPicPr/>
          <p:nvPr/>
        </p:nvPicPr>
        <p:blipFill>
          <a:blip r:embed="rId2"/>
          <a:stretch/>
        </p:blipFill>
        <p:spPr>
          <a:xfrm>
            <a:off x="214200" y="1143000"/>
            <a:ext cx="4929480" cy="4929120"/>
          </a:xfrm>
          <a:prstGeom prst="rect">
            <a:avLst/>
          </a:prstGeom>
          <a:ln w="0">
            <a:noFill/>
          </a:ln>
        </p:spPr>
      </p:pic>
      <p:pic>
        <p:nvPicPr>
          <p:cNvPr id="237" name="Прямоугольник 5" descr=""/>
          <p:cNvPicPr/>
          <p:nvPr/>
        </p:nvPicPr>
        <p:blipFill>
          <a:blip r:embed="rId3"/>
          <a:stretch/>
        </p:blipFill>
        <p:spPr>
          <a:xfrm>
            <a:off x="4427640" y="927000"/>
            <a:ext cx="4722840" cy="5094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C:\Documents and Settings\User\Рабочий стол\химия. Оля\iyod.jpg"/>
          <p:cNvPicPr/>
          <p:nvPr/>
        </p:nvPicPr>
        <p:blipFill>
          <a:blip r:embed="rId2"/>
          <a:stretch/>
        </p:blipFill>
        <p:spPr>
          <a:xfrm>
            <a:off x="928800" y="857160"/>
            <a:ext cx="7588080" cy="5680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395748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0000"/>
                </a:solidFill>
                <a:latin typeface="Calibri"/>
              </a:rPr>
              <a:t>АСТАТ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Очень радиоактивен!!!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Необходим человеческому организму в небольших количествах (щитовидная железа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2" descr="C:\Documents and Settings\User\Рабочий стол\химия. Оля\at.jpg"/>
          <p:cNvPicPr/>
          <p:nvPr/>
        </p:nvPicPr>
        <p:blipFill>
          <a:blip r:embed="rId2"/>
          <a:stretch/>
        </p:blipFill>
        <p:spPr>
          <a:xfrm>
            <a:off x="4214880" y="2286000"/>
            <a:ext cx="4825800" cy="3619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C:\Documents and Settings\User\Рабочий стол\химия. Оля\stomach.jpg"/>
          <p:cNvPicPr/>
          <p:nvPr/>
        </p:nvPicPr>
        <p:blipFill>
          <a:blip r:embed="rId2"/>
          <a:stretch/>
        </p:blipFill>
        <p:spPr>
          <a:xfrm>
            <a:off x="1000080" y="928800"/>
            <a:ext cx="73580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C:\Documents and Settings\User\Рабочий стол\химия. Оля\Red_White_Blood_cells.jpg"/>
          <p:cNvPicPr/>
          <p:nvPr/>
        </p:nvPicPr>
        <p:blipFill>
          <a:blip r:embed="rId2"/>
          <a:stretch/>
        </p:blipFill>
        <p:spPr>
          <a:xfrm>
            <a:off x="357120" y="1071720"/>
            <a:ext cx="8429760" cy="54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21392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От греч.   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Галоген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Галс – «</a:t>
            </a: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соль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Ген – «</a:t>
            </a: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образовать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1" descr="C:\Documents and Settings\User\Рабочий стол\химия. Оля\CAXNA1BN.jpg"/>
          <p:cNvPicPr/>
          <p:nvPr/>
        </p:nvPicPr>
        <p:blipFill>
          <a:blip r:embed="rId2"/>
          <a:stretch/>
        </p:blipFill>
        <p:spPr>
          <a:xfrm>
            <a:off x="285840" y="3714840"/>
            <a:ext cx="3071880" cy="2663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C:\Documents and Settings\User\Рабочий стол\химия. Оля\1206530702.jpg"/>
          <p:cNvPicPr/>
          <p:nvPr/>
        </p:nvPicPr>
        <p:blipFill>
          <a:blip r:embed="rId2"/>
          <a:stretch/>
        </p:blipFill>
        <p:spPr>
          <a:xfrm>
            <a:off x="500040" y="1428840"/>
            <a:ext cx="82152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8760" y="2571480"/>
            <a:ext cx="511488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Элементы </a:t>
            </a:r>
            <a:r>
              <a:rPr b="0" lang="en-US" sz="6600" spc="-1" strike="noStrike">
                <a:solidFill>
                  <a:srgbClr val="04617b"/>
                </a:solidFill>
                <a:latin typeface="Calibri"/>
              </a:rPr>
              <a:t>VII </a:t>
            </a: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 «А» группы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Прямоугольник 3" descr=""/>
          <p:cNvPicPr/>
          <p:nvPr/>
        </p:nvPicPr>
        <p:blipFill>
          <a:blip r:embed="rId2"/>
          <a:stretch/>
        </p:blipFill>
        <p:spPr>
          <a:xfrm>
            <a:off x="6523200" y="536400"/>
            <a:ext cx="1292040" cy="1109880"/>
          </a:xfrm>
          <a:prstGeom prst="rect">
            <a:avLst/>
          </a:prstGeom>
          <a:ln w="0">
            <a:noFill/>
          </a:ln>
        </p:spPr>
      </p:pic>
      <p:pic>
        <p:nvPicPr>
          <p:cNvPr id="208" name="Прямоугольник 4" descr=""/>
          <p:cNvPicPr/>
          <p:nvPr/>
        </p:nvPicPr>
        <p:blipFill>
          <a:blip r:embed="rId3"/>
          <a:stretch/>
        </p:blipFill>
        <p:spPr>
          <a:xfrm>
            <a:off x="6492960" y="5035680"/>
            <a:ext cx="1633320" cy="1109520"/>
          </a:xfrm>
          <a:prstGeom prst="rect">
            <a:avLst/>
          </a:prstGeom>
          <a:ln w="0">
            <a:noFill/>
          </a:ln>
        </p:spPr>
      </p:pic>
      <p:pic>
        <p:nvPicPr>
          <p:cNvPr id="209" name="Прямоугольник 5" descr=""/>
          <p:cNvPicPr/>
          <p:nvPr/>
        </p:nvPicPr>
        <p:blipFill>
          <a:blip r:embed="rId4"/>
          <a:stretch/>
        </p:blipFill>
        <p:spPr>
          <a:xfrm>
            <a:off x="6686640" y="3895560"/>
            <a:ext cx="1171440" cy="1109880"/>
          </a:xfrm>
          <a:prstGeom prst="rect">
            <a:avLst/>
          </a:prstGeom>
          <a:ln w="0">
            <a:noFill/>
          </a:ln>
        </p:spPr>
      </p:pic>
      <p:pic>
        <p:nvPicPr>
          <p:cNvPr id="210" name="Прямоугольник 6" descr=""/>
          <p:cNvPicPr/>
          <p:nvPr/>
        </p:nvPicPr>
        <p:blipFill>
          <a:blip r:embed="rId5"/>
          <a:stretch/>
        </p:blipFill>
        <p:spPr>
          <a:xfrm>
            <a:off x="6437160" y="2749680"/>
            <a:ext cx="1659240" cy="1109520"/>
          </a:xfrm>
          <a:prstGeom prst="rect">
            <a:avLst/>
          </a:prstGeom>
          <a:ln w="0">
            <a:noFill/>
          </a:ln>
        </p:spPr>
      </p:pic>
      <p:pic>
        <p:nvPicPr>
          <p:cNvPr id="211" name="Прямоугольник 7" descr=""/>
          <p:cNvPicPr/>
          <p:nvPr/>
        </p:nvPicPr>
        <p:blipFill>
          <a:blip r:embed="rId6"/>
          <a:stretch/>
        </p:blipFill>
        <p:spPr>
          <a:xfrm>
            <a:off x="6407280" y="1609560"/>
            <a:ext cx="1584360" cy="1109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472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030a0"/>
                </a:solidFill>
                <a:latin typeface="Comic Sans MS"/>
              </a:rPr>
              <a:t>Общие свойства галогенов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зкий запах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заимодействуют с </a:t>
            </a:r>
            <a:r>
              <a:rPr b="0" lang="ru-RU" sz="3200" spc="-1" strike="noStrike">
                <a:solidFill>
                  <a:srgbClr val="00b0f0"/>
                </a:solidFill>
                <a:latin typeface="Comic Sans MS"/>
              </a:rPr>
              <a:t>Н2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большая растворимость в </a:t>
            </a:r>
            <a:r>
              <a:rPr b="0" lang="ru-RU" sz="3200" spc="-1" strike="noStrike">
                <a:solidFill>
                  <a:srgbClr val="00b0f0"/>
                </a:solidFill>
                <a:latin typeface="Comic Sans MS"/>
              </a:rPr>
              <a:t>Н2О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ольшая летучест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сокая электроотрицательност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сокая реакционная способност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Все галогены – токсичные вещ-ва!!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142920" y="1285920"/>
          <a:ext cx="8786880" cy="5408640"/>
        </p:xfrm>
        <a:graphic>
          <a:graphicData uri="http://schemas.openxmlformats.org/drawingml/2006/table">
            <a:tbl>
              <a:tblPr/>
              <a:tblGrid>
                <a:gridCol w="1757160"/>
                <a:gridCol w="1757520"/>
                <a:gridCol w="1757520"/>
                <a:gridCol w="1757160"/>
                <a:gridCol w="1757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ещ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Агрегат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остоя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Ц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Зап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роисхожде-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ТОР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2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ветло-жёл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ез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луо (лат.)          «Течь, текучи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ХЛОР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Cl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Жёлто-зелё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езкий (удушливы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хлорос (греч.)       «Зеленовато-желты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РО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r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Жидк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урова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езк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ромос (греч.)       «Зловонны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ЙО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I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вёрд. Вещ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ёмно-фиолетовый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  блес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ез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одес (греч.)      «Фиолетовый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СТА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At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статос (греч.)      «Неустойчивы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4200" y="514440"/>
            <a:ext cx="39290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0000"/>
                </a:solidFill>
                <a:latin typeface="Calibri"/>
              </a:rPr>
              <a:t>ФТОР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14200" y="1643040"/>
            <a:ext cx="4214880" cy="52149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вышает устойчивость зубов к кариесу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имулирует кроветворение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паративные процессы при переломах костей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акции иммунитет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частвует в росте скелет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упреждает развитие старческого остеопороз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1" descr="C:\Documents and Settings\User\Рабочий стол\химия. Оля\large_biokon_zub_pasta_zazhita_ot_kariesa.jpg"/>
          <p:cNvPicPr/>
          <p:nvPr/>
        </p:nvPicPr>
        <p:blipFill>
          <a:blip r:embed="rId2"/>
          <a:stretch/>
        </p:blipFill>
        <p:spPr>
          <a:xfrm>
            <a:off x="4643280" y="1071720"/>
            <a:ext cx="3857760" cy="5292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Comic Sans MS"/>
              </a:rPr>
              <a:t>Потребность во фторе взрослого человека - 2-3 мг/сут. Накапливается в костной ткани и зуб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00000"/>
                </a:solidFill>
                <a:uFillTx/>
                <a:latin typeface="Comic Sans MS"/>
              </a:rPr>
              <a:t>!!!При недостатке фтора развивается кариес!!!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3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3168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0000"/>
                </a:solidFill>
                <a:latin typeface="Calibri"/>
              </a:rPr>
              <a:t>ХЛОР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5840" y="2286000"/>
            <a:ext cx="392904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Убивает болезнетворные бактери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2" descr="C:\Documents and Settings\User\Рабочий стол\химия. Оля\хлор.jpg"/>
          <p:cNvPicPr/>
          <p:nvPr/>
        </p:nvPicPr>
        <p:blipFill>
          <a:blip r:embed="rId2"/>
          <a:stretch/>
        </p:blipFill>
        <p:spPr>
          <a:xfrm>
            <a:off x="4214880" y="2000160"/>
            <a:ext cx="4705200" cy="33148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77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770" fill="hold"/>
                                        <p:tgtEl>
                                          <p:spTgt spid="2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C:\Documents and Settings\User\Рабочий стол\химия. Оля\007.jpg"/>
          <p:cNvPicPr/>
          <p:nvPr/>
        </p:nvPicPr>
        <p:blipFill>
          <a:blip r:embed="rId2"/>
          <a:stretch/>
        </p:blipFill>
        <p:spPr>
          <a:xfrm>
            <a:off x="214200" y="357120"/>
            <a:ext cx="4791240" cy="4857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C:\Documents and Settings\User\Рабочий стол\химия. Оля\chlorine.jpg"/>
          <p:cNvPicPr/>
          <p:nvPr/>
        </p:nvPicPr>
        <p:blipFill>
          <a:blip r:embed="rId3"/>
          <a:stretch/>
        </p:blipFill>
        <p:spPr>
          <a:xfrm>
            <a:off x="5572080" y="357120"/>
            <a:ext cx="3191040" cy="4786560"/>
          </a:xfrm>
          <a:prstGeom prst="rect">
            <a:avLst/>
          </a:prstGeom>
          <a:ln w="0">
            <a:noFill/>
          </a:ln>
        </p:spPr>
      </p:pic>
      <p:pic>
        <p:nvPicPr>
          <p:cNvPr id="224" name="Прямоугольник 6" descr=""/>
          <p:cNvPicPr/>
          <p:nvPr/>
        </p:nvPicPr>
        <p:blipFill>
          <a:blip r:embed="rId4"/>
          <a:stretch/>
        </p:blipFill>
        <p:spPr>
          <a:xfrm>
            <a:off x="304920" y="4932360"/>
            <a:ext cx="8845560" cy="1932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2:36:41Z</dcterms:created>
  <dc:creator>User</dc:creator>
  <dc:description/>
  <dc:language>en-US</dc:language>
  <cp:lastModifiedBy>Учитель</cp:lastModifiedBy>
  <dcterms:modified xsi:type="dcterms:W3CDTF">2009-03-03T07:48:50Z</dcterms:modified>
  <cp:revision>21</cp:revision>
  <dc:subject/>
  <dc:title>Галогены.</dc:title>
</cp:coreProperties>
</file>