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27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AE8B-D3F8-46BF-A08B-715E0E9508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65D8-B826-4A7D-87C0-0E2CC15EF6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538-3930-4DEE-BDB2-5B86488A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690-5E08-4458-9A4B-5B3B7785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BE5-4A62-4F8F-A314-655DC363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734-6562-4D2D-A733-A28F9F2C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2CB1-9D8F-4284-B852-C0F0D115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AF34-8377-4C54-B383-F9BD9384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73D7-2FB6-4FE7-ABE0-49A41BD5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96C9-6902-4609-9A76-BE21B246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B5BB-FF4A-4DA6-AC20-1C79354F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CB46-E06B-4DBD-9E03-FB5253A1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BF49-C074-4782-B4BE-5586B87A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CEE-D352-4297-A118-77535DF1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946A-D006-4642-8DD5-D3AD259D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F75B-37DA-4D12-AB0D-BCACE542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2FEE-1186-451A-8631-718D99ED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D695-DAEB-472F-9602-26259C06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51D0-184D-4A25-A27F-ECC9A10C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88E2-EE0D-4C23-AD86-B1BC0EF1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612E-53B2-45DC-B769-B65DC7C4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F06B-F479-4976-9170-624640F5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67B3-5DD8-4C78-A637-94FE04F1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57699-25E9-4074-81CF-700C7D4C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05B-698A-44AB-880C-C54D98A4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B784-ACAD-47B5-A93D-C54DA443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6D88D-E759-4367-B034-15BE7FBC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7F9B-0A8C-4478-9EE1-1B9FC733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E5AD-6A8B-4F4C-9F38-475A3DF4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6180-1FD0-42BD-A414-7015B116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3A2F-3D30-4E6A-B013-B66240EF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54C4-EBD5-4B24-9E58-C957E1F4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29A7C-A1DA-4853-9D1B-5CDF80BA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59E03-A2D7-430A-BEBC-EB0301E9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1966-2E85-42D1-BFE8-9EC23F1C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290-AD33-4738-9276-FBADAFEB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F923E-0F96-4997-8AF4-1101A479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2AD86-B3DF-494F-8AC1-30BF6CC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670B4-A668-4D9C-880F-5C6C1759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DC06-ED66-462C-BDAA-39EE99ED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10D59-6B71-4199-8345-269AAD1F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97342-BAFC-403B-82EB-F26EB540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3CFB-8D75-44A6-8709-1E7CB1B6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C2D5C-26E2-4B50-B8B7-28D2D019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F865-1B4F-4EDD-9B55-7BCEE220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AB4-43B3-435A-B4F5-93F33ADE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C07-FE77-479F-A60A-D63C39DC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E09-0867-4EA5-9FF7-9282C204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976-43B2-423F-9899-2B52E335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693-C88D-420F-BC7F-3C85D58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1C16-6365-448A-A70D-24E25686C5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275B-529D-48B8-BA24-42F154DA1F7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05E6-C293-431D-B8A4-86BC550BA15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B342-FE14-4733-8714-8AE9551E4C4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564400" cy="1920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дготовил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игова Ольг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Хетчикова Екатерин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28400" y="642600"/>
            <a:ext cx="8358120" cy="5605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Жидкий  хлор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зывает  серьезные   ожоги   кож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азообразный хлор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казывает  сильное  раздражающее  действие,  особенно  на глаза и дыхательную систем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User\Рабочий стол\химия. Оля\1.jpg"/>
          <p:cNvPicPr/>
          <p:nvPr/>
        </p:nvPicPr>
        <p:blipFill>
          <a:blip r:embed="rId2"/>
          <a:stretch/>
        </p:blipFill>
        <p:spPr>
          <a:xfrm>
            <a:off x="285840" y="1285920"/>
            <a:ext cx="8643960" cy="281952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5" descr=""/>
          <p:cNvPicPr/>
          <p:nvPr/>
        </p:nvPicPr>
        <p:blipFill>
          <a:blip r:embed="rId3"/>
          <a:stretch/>
        </p:blipFill>
        <p:spPr>
          <a:xfrm>
            <a:off x="-96840" y="38527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БРОМ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28400" y="1499760"/>
            <a:ext cx="4647960" cy="50007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NaB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KBr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– одни из лучших средств против бессонницы и усталости!!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LiB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отвращает коррозию в холодильных установках, обезвоживает минеральные масла, помогает кондиционировать возду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NaBr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бавляют в дубильные  раствор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требность в </a:t>
            </a: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Br 2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 органов практически всех живых существ! В особенности, в этом вещ-ве нуждается человеческий мозг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C:\Documents and Settings\User\Рабочий стол\химия. Оля\Br.jpg"/>
          <p:cNvPicPr/>
          <p:nvPr/>
        </p:nvPicPr>
        <p:blipFill>
          <a:blip r:embed="rId2"/>
          <a:stretch/>
        </p:blipFill>
        <p:spPr>
          <a:xfrm>
            <a:off x="5214960" y="1643040"/>
            <a:ext cx="3714840" cy="438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Documents and Settings\User\Рабочий стол\химия. Оля\0_c8c3_9496c0bc_XL.jpg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Documents and Settings\User\Рабочий стол\химия. Оля\vodorosli1.jpg"/>
          <p:cNvPicPr/>
          <p:nvPr/>
        </p:nvPicPr>
        <p:blipFill>
          <a:blip r:embed="rId3"/>
          <a:stretch/>
        </p:blipFill>
        <p:spPr>
          <a:xfrm>
            <a:off x="5143680" y="0"/>
            <a:ext cx="40287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ЙОД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480" y="1676160"/>
            <a:ext cx="4429080" cy="489564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2000"/>
          </a:bodyPr>
          <a:p>
            <a:pPr marL="473040" indent="-4730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нтисептическое средств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-4730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 играет огромную роль в человеческом организме!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хватка в организме йода приводит к гормональным нарушениям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2" descr="C:\Documents and Settings\User\Рабочий стол\химия. Оля\z51109a2.jpg"/>
          <p:cNvPicPr/>
          <p:nvPr/>
        </p:nvPicPr>
        <p:blipFill>
          <a:blip r:embed="rId2"/>
          <a:stretch/>
        </p:blipFill>
        <p:spPr>
          <a:xfrm>
            <a:off x="5357880" y="749160"/>
            <a:ext cx="34290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Documents and Settings\User\Рабочий стол\химия. Оля\f02997_full.jpg"/>
          <p:cNvPicPr/>
          <p:nvPr/>
        </p:nvPicPr>
        <p:blipFill>
          <a:blip r:embed="rId2"/>
          <a:stretch/>
        </p:blipFill>
        <p:spPr>
          <a:xfrm>
            <a:off x="214200" y="1143000"/>
            <a:ext cx="4929480" cy="49291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5" descr=""/>
          <p:cNvPicPr/>
          <p:nvPr/>
        </p:nvPicPr>
        <p:blipFill>
          <a:blip r:embed="rId3"/>
          <a:stretch/>
        </p:blipFill>
        <p:spPr>
          <a:xfrm>
            <a:off x="4427640" y="927000"/>
            <a:ext cx="4722840" cy="5094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Documents and Settings\User\Рабочий стол\химия. Оля\iyod.jpg"/>
          <p:cNvPicPr/>
          <p:nvPr/>
        </p:nvPicPr>
        <p:blipFill>
          <a:blip r:embed="rId2"/>
          <a:stretch/>
        </p:blipFill>
        <p:spPr>
          <a:xfrm>
            <a:off x="928800" y="857160"/>
            <a:ext cx="7588080" cy="5680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957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АСТАТ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чень радиоактивен!!!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Необходим человеческому организму в небольших количествах (щитовидная желез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C:\Documents and Settings\User\Рабочий стол\химия. Оля\at.jpg"/>
          <p:cNvPicPr/>
          <p:nvPr/>
        </p:nvPicPr>
        <p:blipFill>
          <a:blip r:embed="rId2"/>
          <a:stretch/>
        </p:blipFill>
        <p:spPr>
          <a:xfrm>
            <a:off x="4214880" y="2286000"/>
            <a:ext cx="4825800" cy="361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:\Documents and Settings\User\Рабочий стол\химия. Оля\stomach.jpg"/>
          <p:cNvPicPr/>
          <p:nvPr/>
        </p:nvPicPr>
        <p:blipFill>
          <a:blip r:embed="rId2"/>
          <a:stretch/>
        </p:blipFill>
        <p:spPr>
          <a:xfrm>
            <a:off x="1000080" y="928800"/>
            <a:ext cx="73580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User\Рабочий стол\химия. Оля\Red_White_Blood_cells.jpg"/>
          <p:cNvPicPr/>
          <p:nvPr/>
        </p:nvPicPr>
        <p:blipFill>
          <a:blip r:embed="rId2"/>
          <a:stretch/>
        </p:blipFill>
        <p:spPr>
          <a:xfrm>
            <a:off x="357120" y="1071720"/>
            <a:ext cx="8429760" cy="54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От греч.  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Галоге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алс – «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сол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ен – «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образоват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C:\Documents and Settings\User\Рабочий стол\химия. Оля\CAXNA1BN.jpg"/>
          <p:cNvPicPr/>
          <p:nvPr/>
        </p:nvPicPr>
        <p:blipFill>
          <a:blip r:embed="rId2"/>
          <a:stretch/>
        </p:blipFill>
        <p:spPr>
          <a:xfrm>
            <a:off x="285840" y="3714840"/>
            <a:ext cx="3071880" cy="2663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Documents and Settings\User\Рабочий стол\химия. Оля\1206530702.jpg"/>
          <p:cNvPicPr/>
          <p:nvPr/>
        </p:nvPicPr>
        <p:blipFill>
          <a:blip r:embed="rId2"/>
          <a:stretch/>
        </p:blipFill>
        <p:spPr>
          <a:xfrm>
            <a:off x="500040" y="1428840"/>
            <a:ext cx="8215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511488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Элементы </a:t>
            </a: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VII </a:t>
            </a: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 «А» группы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6523200" y="536400"/>
            <a:ext cx="1292040" cy="110988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4" descr=""/>
          <p:cNvPicPr/>
          <p:nvPr/>
        </p:nvPicPr>
        <p:blipFill>
          <a:blip r:embed="rId3"/>
          <a:stretch/>
        </p:blipFill>
        <p:spPr>
          <a:xfrm>
            <a:off x="6492960" y="5035680"/>
            <a:ext cx="1633320" cy="110952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4"/>
          <a:stretch/>
        </p:blipFill>
        <p:spPr>
          <a:xfrm>
            <a:off x="6686640" y="3895560"/>
            <a:ext cx="1171440" cy="110988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" descr=""/>
          <p:cNvPicPr/>
          <p:nvPr/>
        </p:nvPicPr>
        <p:blipFill>
          <a:blip r:embed="rId5"/>
          <a:stretch/>
        </p:blipFill>
        <p:spPr>
          <a:xfrm>
            <a:off x="6437160" y="2749680"/>
            <a:ext cx="1659240" cy="110952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7" descr=""/>
          <p:cNvPicPr/>
          <p:nvPr/>
        </p:nvPicPr>
        <p:blipFill>
          <a:blip r:embed="rId6"/>
          <a:stretch/>
        </p:blipFill>
        <p:spPr>
          <a:xfrm>
            <a:off x="6407280" y="1609560"/>
            <a:ext cx="1584360" cy="11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472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030a0"/>
                </a:solidFill>
                <a:latin typeface="Comic Sans MS"/>
              </a:rPr>
              <a:t>Общие свойства галогенов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кий зап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заимодействуют с </a:t>
            </a:r>
            <a:r>
              <a:rPr b="0" lang="ru-RU" sz="3200" spc="-1" strike="noStrike">
                <a:solidFill>
                  <a:srgbClr val="00b0f0"/>
                </a:solidFill>
                <a:latin typeface="Comic Sans MS"/>
              </a:rPr>
              <a:t>Н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большая растворимость в </a:t>
            </a:r>
            <a:r>
              <a:rPr b="0" lang="ru-RU" sz="3200" spc="-1" strike="noStrike">
                <a:solidFill>
                  <a:srgbClr val="00b0f0"/>
                </a:solidFill>
                <a:latin typeface="Comic Sans MS"/>
              </a:rPr>
              <a:t>Н2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ольшая летуче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окая 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сокая реакционная способ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се галогены – токсичные вещ-ва!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42920" y="1285920"/>
          <a:ext cx="8786880" cy="5408640"/>
        </p:xfrm>
        <a:graphic>
          <a:graphicData uri="http://schemas.openxmlformats.org/drawingml/2006/table">
            <a:tbl>
              <a:tblPr/>
              <a:tblGrid>
                <a:gridCol w="1757160"/>
                <a:gridCol w="1757520"/>
                <a:gridCol w="1757520"/>
                <a:gridCol w="1757160"/>
                <a:gridCol w="1757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щ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Агрега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исхожде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ТОР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ветло-жё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луо (лат.)          «Течь, текуч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ЛОР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Cl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ёлто-зелё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 (удушлив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хлорос (греч.)       «Зеленовато-желт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Р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r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ид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урова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ромос (греч.)       «Зловонн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ЙО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I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вёрд. Вещ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ёмно-фиолетовы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  блес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одес (греч.)      «Фиолетовы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СТА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At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статос (греч.)      «Неустойчивы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514440"/>
            <a:ext cx="39290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ФТОР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4214880" cy="52149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ает устойчивость зубов к кариесу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имулирует кроветворение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паративные процессы при переломах косте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акции иммунитет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аствует в росте скелет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упреждает развитие старческого остеопороз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1" descr="C:\Documents and Settings\User\Рабочий стол\химия. Оля\large_biokon_zub_pasta_zazhita_ot_kariesa.jpg"/>
          <p:cNvPicPr/>
          <p:nvPr/>
        </p:nvPicPr>
        <p:blipFill>
          <a:blip r:embed="rId2"/>
          <a:stretch/>
        </p:blipFill>
        <p:spPr>
          <a:xfrm>
            <a:off x="4643280" y="1071720"/>
            <a:ext cx="3857760" cy="5292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mic Sans MS"/>
              </a:rPr>
              <a:t>Потребность во фторе взрослого человека - 2-3 мг/сут. Накапливается в костной ткани и зуб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!!!При недостатке фтора развивается кариес!!!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3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3168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Calibri"/>
              </a:rPr>
              <a:t>ХЛОР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2286000"/>
            <a:ext cx="39290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Убивает болезнетворные бактер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User\Рабочий стол\химия. Оля\хлор.jpg"/>
          <p:cNvPicPr/>
          <p:nvPr/>
        </p:nvPicPr>
        <p:blipFill>
          <a:blip r:embed="rId2"/>
          <a:stretch/>
        </p:blipFill>
        <p:spPr>
          <a:xfrm>
            <a:off x="4214880" y="2000160"/>
            <a:ext cx="4705200" cy="3314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Documents and Settings\User\Рабочий стол\химия. Оля\007.jpg"/>
          <p:cNvPicPr/>
          <p:nvPr/>
        </p:nvPicPr>
        <p:blipFill>
          <a:blip r:embed="rId2"/>
          <a:stretch/>
        </p:blipFill>
        <p:spPr>
          <a:xfrm>
            <a:off x="214200" y="357120"/>
            <a:ext cx="4791240" cy="4857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User\Рабочий стол\химия. Оля\chlorine.jpg"/>
          <p:cNvPicPr/>
          <p:nvPr/>
        </p:nvPicPr>
        <p:blipFill>
          <a:blip r:embed="rId3"/>
          <a:stretch/>
        </p:blipFill>
        <p:spPr>
          <a:xfrm>
            <a:off x="5572080" y="357120"/>
            <a:ext cx="3191040" cy="47865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6" descr=""/>
          <p:cNvPicPr/>
          <p:nvPr/>
        </p:nvPicPr>
        <p:blipFill>
          <a:blip r:embed="rId4"/>
          <a:stretch/>
        </p:blipFill>
        <p:spPr>
          <a:xfrm>
            <a:off x="304920" y="4932360"/>
            <a:ext cx="8845560" cy="1932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2:36:41Z</dcterms:created>
  <dc:creator>User</dc:creator>
  <dc:description/>
  <dc:language>en-US</dc:language>
  <cp:lastModifiedBy>Учитель</cp:lastModifiedBy>
  <dcterms:modified xsi:type="dcterms:W3CDTF">2009-03-03T07:48:50Z</dcterms:modified>
  <cp:revision>21</cp:revision>
  <dc:subject/>
  <dc:title>Галогены.</dc:title>
</cp:coreProperties>
</file>