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CEE1-276E-4E73-A149-2F61F159B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B67-7A17-4B3D-B868-9BF579D55C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9B9-C18E-4A9B-8938-90E471B6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A73-399D-4D8B-BBF5-C9C67640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A39-6E46-4D47-8FEE-30CA22B9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3F5-75A8-4217-A1D6-21941867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8CEC-EB8A-471E-BC79-D5B08AA2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F6E-61EC-4CBD-AD5C-8EE24742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D50D-9EC4-4CEC-932B-CDD21987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6F54-2DDD-4D7B-9266-D7FDEC01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1C25-111F-4D7F-91A9-32A612B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7120-E963-4F15-AFB2-57139D3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3E22-AD9E-4923-8DF6-0E82337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084-8832-4BCE-AD78-BB37C44A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945B-3D58-4C61-90CA-4FCF91C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A2E6-8108-4B74-BA50-ED3F105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6F8D-4303-4957-9E12-50357311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EB5A-4499-48B9-B5B4-32F42A5A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9D1B-06B9-45B3-966C-1FE5C701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D7E1-615D-44B7-93A5-7C6B6B56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3CF3-41E7-483B-AD2A-49C39EB1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21CC-437D-49F6-B041-81B63DC5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AEA9-787F-4EBC-A831-A58AFE1C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128E-3AD0-4533-8819-9C8EE9FC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76E-212C-4BD1-871B-081704B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17C2-8D1F-4345-BBA8-8CF85F0C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AF75-E078-447E-A0A6-235ECD5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D94F-9F6D-456C-9D55-21E65CF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FD29-9001-425A-845A-9151DA0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6600-DEAF-4455-8FB0-62B63273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13FF-A31D-409F-AA3A-B436E627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8602-E7BE-4A48-87EE-69467335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7A20-8A96-4993-8B8C-DD5802AE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F62F-8D69-4C89-9570-9F5CDC81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DD7D-FAA2-4493-99F6-58B7ED33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ABB-2D13-4232-B92F-6D6C07B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3F45-D736-454F-B1D6-14B6DBE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7AFA-2DC2-4513-8738-82428745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361C-A515-4AC2-9890-55E6ED4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3928-88AD-4A1F-823A-42C51D9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C23F-A199-49B5-BD93-79E5A725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6C4C-A55A-4843-8C8D-D70D842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4C90-60D1-47BB-9818-21ED8099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84A3-515D-46FE-B8EA-F367E6A9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AD10-4553-42D3-AFA9-2FDAB516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4C0-E18A-4BD8-B1DB-0D39705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6B5-2D70-4B1F-A0C7-0A0F9939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736-B02F-43F9-881E-A730A73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B0F-0358-4E46-AFA8-2BD39F5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C3A-7812-447F-8456-1F7D2517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B59-ADE4-432D-869A-A923E04683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9770-406C-4C0D-B445-C7F02FBDD6C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5846-4F0A-4D6B-B20E-430748F30E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4C47-F4D6-4C5D-8EFD-B015FBF124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л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игова Ольг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Хетчикова Екатери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28400" y="642600"/>
            <a:ext cx="8358120" cy="5605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идкий  хлор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зывает  серьезные   ожоги   кож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азообразный хлор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азывает  сильное  раздражающее  действие,  особенно  на глаза и дыхательную систем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User\Рабочий стол\химия. Оля\1.jpg"/>
          <p:cNvPicPr/>
          <p:nvPr/>
        </p:nvPicPr>
        <p:blipFill>
          <a:blip r:embed="rId2"/>
          <a:stretch/>
        </p:blipFill>
        <p:spPr>
          <a:xfrm>
            <a:off x="285840" y="1285920"/>
            <a:ext cx="864396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3"/>
          <a:stretch/>
        </p:blipFill>
        <p:spPr>
          <a:xfrm>
            <a:off x="-96840" y="38527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БРОМ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4647960" cy="50007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Na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KBr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одни из лучших средств против бессонницы и усталости!!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Li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твращает коррозию в холодильных установках, обезвоживает минеральные масла, помогает кондиционировать возду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Na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бавляют в дубильные  раствор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требность в 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Br 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органов практически всех живых существ! В особенности, в этом вещ-ве нуждается человеческий мозг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C:\Documents and Settings\User\Рабочий стол\химия. Оля\Br.jpg"/>
          <p:cNvPicPr/>
          <p:nvPr/>
        </p:nvPicPr>
        <p:blipFill>
          <a:blip r:embed="rId2"/>
          <a:stretch/>
        </p:blipFill>
        <p:spPr>
          <a:xfrm>
            <a:off x="5214960" y="1643040"/>
            <a:ext cx="3714840" cy="438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User\Рабочий стол\химия. Оля\0_c8c3_9496c0bc_XL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Documents and Settings\User\Рабочий стол\химия. Оля\vodorosli1.jpg"/>
          <p:cNvPicPr/>
          <p:nvPr/>
        </p:nvPicPr>
        <p:blipFill>
          <a:blip r:embed="rId3"/>
          <a:stretch/>
        </p:blipFill>
        <p:spPr>
          <a:xfrm>
            <a:off x="5143680" y="0"/>
            <a:ext cx="40287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ЙОД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1676160"/>
            <a:ext cx="4429080" cy="4895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marL="473040" indent="-4730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нтисептическое средст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-4730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 играет огромную роль в человеческом организме!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хватка в организме йода приводит к гормональным нарушениям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C:\Documents and Settings\User\Рабочий стол\химия. Оля\z51109a2.jpg"/>
          <p:cNvPicPr/>
          <p:nvPr/>
        </p:nvPicPr>
        <p:blipFill>
          <a:blip r:embed="rId2"/>
          <a:stretch/>
        </p:blipFill>
        <p:spPr>
          <a:xfrm>
            <a:off x="5357880" y="749160"/>
            <a:ext cx="3429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User\Рабочий стол\химия. Оля\f02997_full.jpg"/>
          <p:cNvPicPr/>
          <p:nvPr/>
        </p:nvPicPr>
        <p:blipFill>
          <a:blip r:embed="rId2"/>
          <a:stretch/>
        </p:blipFill>
        <p:spPr>
          <a:xfrm>
            <a:off x="214200" y="1143000"/>
            <a:ext cx="4929480" cy="49291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5" descr=""/>
          <p:cNvPicPr/>
          <p:nvPr/>
        </p:nvPicPr>
        <p:blipFill>
          <a:blip r:embed="rId3"/>
          <a:stretch/>
        </p:blipFill>
        <p:spPr>
          <a:xfrm>
            <a:off x="4427640" y="927000"/>
            <a:ext cx="4722840" cy="5094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User\Рабочий стол\химия. Оля\iyod.jpg"/>
          <p:cNvPicPr/>
          <p:nvPr/>
        </p:nvPicPr>
        <p:blipFill>
          <a:blip r:embed="rId2"/>
          <a:stretch/>
        </p:blipFill>
        <p:spPr>
          <a:xfrm>
            <a:off x="928800" y="857160"/>
            <a:ext cx="7588080" cy="5680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АСТАТ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чень радиоактивен!!!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Необходим человеческому организму в небольших количествах (щитовидная желез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C:\Documents and Settings\User\Рабочий стол\химия. Оля\at.jpg"/>
          <p:cNvPicPr/>
          <p:nvPr/>
        </p:nvPicPr>
        <p:blipFill>
          <a:blip r:embed="rId2"/>
          <a:stretch/>
        </p:blipFill>
        <p:spPr>
          <a:xfrm>
            <a:off x="4214880" y="2286000"/>
            <a:ext cx="4825800" cy="361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nts and Settings\User\Рабочий стол\химия. Оля\stomach.jpg"/>
          <p:cNvPicPr/>
          <p:nvPr/>
        </p:nvPicPr>
        <p:blipFill>
          <a:blip r:embed="rId2"/>
          <a:stretch/>
        </p:blipFill>
        <p:spPr>
          <a:xfrm>
            <a:off x="1000080" y="928800"/>
            <a:ext cx="73580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User\Рабочий стол\химия. Оля\Red_White_Blood_cells.jpg"/>
          <p:cNvPicPr/>
          <p:nvPr/>
        </p:nvPicPr>
        <p:blipFill>
          <a:blip r:embed="rId2"/>
          <a:stretch/>
        </p:blipFill>
        <p:spPr>
          <a:xfrm>
            <a:off x="357120" y="1071720"/>
            <a:ext cx="8429760" cy="54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т греч.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Галоге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алс – «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сол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ен – «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образоват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C:\Documents and Settings\User\Рабочий стол\химия. Оля\CAXNA1BN.jpg"/>
          <p:cNvPicPr/>
          <p:nvPr/>
        </p:nvPicPr>
        <p:blipFill>
          <a:blip r:embed="rId2"/>
          <a:stretch/>
        </p:blipFill>
        <p:spPr>
          <a:xfrm>
            <a:off x="285840" y="3714840"/>
            <a:ext cx="3071880" cy="2663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User\Рабочий стол\химия. Оля\1206530702.jpg"/>
          <p:cNvPicPr/>
          <p:nvPr/>
        </p:nvPicPr>
        <p:blipFill>
          <a:blip r:embed="rId2"/>
          <a:stretch/>
        </p:blipFill>
        <p:spPr>
          <a:xfrm>
            <a:off x="500040" y="142884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511488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Элементы </a:t>
            </a: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VII </a:t>
            </a: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 «А» группы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6523200" y="536400"/>
            <a:ext cx="1292040" cy="110988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" descr=""/>
          <p:cNvPicPr/>
          <p:nvPr/>
        </p:nvPicPr>
        <p:blipFill>
          <a:blip r:embed="rId3"/>
          <a:stretch/>
        </p:blipFill>
        <p:spPr>
          <a:xfrm>
            <a:off x="6492960" y="5035680"/>
            <a:ext cx="1633320" cy="110952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4"/>
          <a:stretch/>
        </p:blipFill>
        <p:spPr>
          <a:xfrm>
            <a:off x="6686640" y="3895560"/>
            <a:ext cx="1171440" cy="11098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5"/>
          <a:stretch/>
        </p:blipFill>
        <p:spPr>
          <a:xfrm>
            <a:off x="6437160" y="2749680"/>
            <a:ext cx="1659240" cy="110952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6"/>
          <a:stretch/>
        </p:blipFill>
        <p:spPr>
          <a:xfrm>
            <a:off x="6407280" y="1609560"/>
            <a:ext cx="1584360" cy="11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72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030a0"/>
                </a:solidFill>
                <a:latin typeface="Comic Sans MS"/>
              </a:rPr>
              <a:t>Общие свойства галоген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кий зап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заимодействуют с 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Н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большая растворимость в 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ольшая летуче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кая 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кая реакционная способ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се галогены – токсичные вещ-ва!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2920" y="1285920"/>
          <a:ext cx="8786880" cy="5408640"/>
        </p:xfrm>
        <a:graphic>
          <a:graphicData uri="http://schemas.openxmlformats.org/drawingml/2006/table">
            <a:tbl>
              <a:tblPr/>
              <a:tblGrid>
                <a:gridCol w="1757160"/>
                <a:gridCol w="1757520"/>
                <a:gridCol w="1757520"/>
                <a:gridCol w="1757160"/>
                <a:gridCol w="1757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грега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исхожд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ТОР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ветло-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луо (лат.)          «Течь, текуч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ЛО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Cl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ёлто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 (удушлив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лорос (греч.)       «Зеленовато-желт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r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ид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урова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омос (греч.)       «Зловонн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ЙО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вёрд. Вещ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ёмно-фиолетовы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  блес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одес (греч.)      «Фиолетовы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ТА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At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татос (греч.)      «Неустойчив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39290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ФТОР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421488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ает устойчивость зубов к кариесу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имулирует кроветворени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паративные процессы при переломах косте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акции иммунитет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ствует в росте скелет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упреждает развитие старческого остеопоро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" descr="C:\Documents and Settings\User\Рабочий стол\химия. Оля\large_biokon_zub_pasta_zazhita_ot_kariesa.jpg"/>
          <p:cNvPicPr/>
          <p:nvPr/>
        </p:nvPicPr>
        <p:blipFill>
          <a:blip r:embed="rId2"/>
          <a:stretch/>
        </p:blipFill>
        <p:spPr>
          <a:xfrm>
            <a:off x="4643280" y="1071720"/>
            <a:ext cx="3857760" cy="5292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Потребность во фторе взрослого человека - 2-3 мг/сут. Накапливается в костной ткани и зуб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!!!При недостатке фтора развивается кариес!!!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3168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ХЛОР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2286000"/>
            <a:ext cx="39290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Убивает болезнетворные бактер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User\Рабочий стол\химия. Оля\хлор.jpg"/>
          <p:cNvPicPr/>
          <p:nvPr/>
        </p:nvPicPr>
        <p:blipFill>
          <a:blip r:embed="rId2"/>
          <a:stretch/>
        </p:blipFill>
        <p:spPr>
          <a:xfrm>
            <a:off x="4214880" y="2000160"/>
            <a:ext cx="4705200" cy="331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User\Рабочий стол\химия. Оля\007.jpg"/>
          <p:cNvPicPr/>
          <p:nvPr/>
        </p:nvPicPr>
        <p:blipFill>
          <a:blip r:embed="rId2"/>
          <a:stretch/>
        </p:blipFill>
        <p:spPr>
          <a:xfrm>
            <a:off x="214200" y="357120"/>
            <a:ext cx="4791240" cy="4857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User\Рабочий стол\химия. Оля\chlorine.jpg"/>
          <p:cNvPicPr/>
          <p:nvPr/>
        </p:nvPicPr>
        <p:blipFill>
          <a:blip r:embed="rId3"/>
          <a:stretch/>
        </p:blipFill>
        <p:spPr>
          <a:xfrm>
            <a:off x="5572080" y="357120"/>
            <a:ext cx="3191040" cy="47865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6" descr=""/>
          <p:cNvPicPr/>
          <p:nvPr/>
        </p:nvPicPr>
        <p:blipFill>
          <a:blip r:embed="rId4"/>
          <a:stretch/>
        </p:blipFill>
        <p:spPr>
          <a:xfrm>
            <a:off x="304920" y="4932360"/>
            <a:ext cx="8845560" cy="193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2:36:41Z</dcterms:created>
  <dc:creator>User</dc:creator>
  <dc:description/>
  <dc:language>en-US</dc:language>
  <cp:lastModifiedBy>Учитель</cp:lastModifiedBy>
  <dcterms:modified xsi:type="dcterms:W3CDTF">2009-03-03T07:48:50Z</dcterms:modified>
  <cp:revision>21</cp:revision>
  <dc:subject/>
  <dc:title>Галогены.</dc:title>
</cp:coreProperties>
</file>