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jpeg" ContentType="image/jpeg"/>
  <Override PartName="/ppt/media/image14.png" ContentType="image/png"/>
  <Override PartName="/ppt/media/image10.png" ContentType="image/pn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518E7-5304-4991-BF05-EAFA0C003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90878-2E0F-4A16-911E-4CB56E61C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968E0-DC6D-4860-B0F2-7CD9B64E9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54C12-E1AA-4129-9D40-B3D6B17C6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FEAEB-3CFC-4D60-AE39-C50EB32AD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89DD4-8A94-4B63-A819-35D8E4394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306BC-E15B-4181-932E-8950957E4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FC5F4-51EB-42DE-ADCB-060AF61F4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CDF11-D67B-46DF-8C3F-B2D95D8A0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9D8FC-2F8E-44A2-8E04-FA98CDD68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918BE-7539-4051-AA6A-9D742DB02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A4637-2FEC-4D82-8C8F-8F3CACD93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B8010-D714-4441-8F5D-833426B6FA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mmsk.ru/people/unit/?id=28838" TargetMode="External"/><Relationship Id="rId3" Type="http://schemas.openxmlformats.org/officeDocument/2006/relationships/hyperlink" Target="http://ru.wikipedia.org/" TargetMode="External"/><Relationship Id="rId4" Type="http://schemas.openxmlformats.org/officeDocument/2006/relationships/hyperlink" Target="http://www.litra.ru/composition/get/coid/00011701184864172264/woid/00083801184773070169/" TargetMode="External"/><Relationship Id="rId5" Type="http://schemas.openxmlformats.org/officeDocument/2006/relationships/hyperlink" Target="http://www.litra.ru/composition/get/coid/00011701184864172264/woid/00083801184773070169/" TargetMode="External"/><Relationship Id="rId6" Type="http://schemas.openxmlformats.org/officeDocument/2006/relationships/hyperlink" Target="http://myguitara.narod.ru/istori16.htm" TargetMode="External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280" y="914040"/>
            <a:ext cx="50292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Любовь в жизни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Федора Тютчева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Федор Иванович Тютчев"/>
          <p:cNvPicPr/>
          <p:nvPr/>
        </p:nvPicPr>
        <p:blipFill>
          <a:blip r:embed="rId2"/>
          <a:stretch/>
        </p:blipFill>
        <p:spPr>
          <a:xfrm>
            <a:off x="3429000" y="2438280"/>
            <a:ext cx="2671920" cy="3581640"/>
          </a:xfrm>
          <a:prstGeom prst="rect">
            <a:avLst/>
          </a:prstGeom>
          <a:ln w="28440">
            <a:solidFill>
              <a:srgbClr val="800000"/>
            </a:solidFill>
            <a:prstDash val="dash"/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371600" y="746280"/>
            <a:ext cx="7086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Эрнестина была богатой женщиной и считалась красавицей. Тем не менее в 1850-е годы Тютчев увлёкся Еленой Денисьевой и фактически создал с ней вторую семью. После гибели Денисьевой примирился с женой и умер у неё на рука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896560" y="4724280"/>
            <a:ext cx="343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Она сидела на полу</a:t>
            </a:r>
            <a:br>
              <a:rPr sz="1800"/>
            </a:b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И груду писем разбирала,</a:t>
            </a:r>
            <a:br>
              <a:rPr sz="1800"/>
            </a:b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И, как остывшую золу,</a:t>
            </a:r>
            <a:br>
              <a:rPr sz="1800"/>
            </a:b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Брала их в руки и бросала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3657600" y="2438280"/>
            <a:ext cx="1793880" cy="2171880"/>
          </a:xfrm>
          <a:prstGeom prst="rect">
            <a:avLst/>
          </a:prstGeom>
          <a:ln w="28440">
            <a:solidFill>
              <a:srgbClr val="800000"/>
            </a:solidFill>
            <a:prstDash val="dash"/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62480" y="2438280"/>
            <a:ext cx="7631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От брака с Ф.И.Тютчевым у Эрнестины были дочь и два сын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Мария Фёдоровн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1840 -1873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Дмитрий Фёдорович (1841-1870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Иван Фёдорович (1846-190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Елена Александровна Денисьева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5181480" y="1523880"/>
            <a:ext cx="3333960" cy="4381560"/>
          </a:xfrm>
          <a:prstGeom prst="rect">
            <a:avLst/>
          </a:prstGeom>
          <a:ln w="28440">
            <a:solidFill>
              <a:srgbClr val="800000"/>
            </a:solidFill>
            <a:prstDash val="dash"/>
            <a:miter/>
          </a:ln>
        </p:spPr>
      </p:pic>
      <p:sp>
        <p:nvSpPr>
          <p:cNvPr id="70" name=""/>
          <p:cNvSpPr/>
          <p:nvPr/>
        </p:nvSpPr>
        <p:spPr>
          <a:xfrm>
            <a:off x="914400" y="2743200"/>
            <a:ext cx="426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, как на склоне наших л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ежней мы любим и суеверн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ияй! Сияй, прощальный свет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Любви последней, зари вечерней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3505320" y="762120"/>
            <a:ext cx="2562120" cy="3352680"/>
          </a:xfrm>
          <a:prstGeom prst="rect">
            <a:avLst/>
          </a:prstGeom>
          <a:ln w="28440">
            <a:solidFill>
              <a:srgbClr val="800000"/>
            </a:solidFill>
            <a:prstDash val="dash"/>
            <a:miter/>
          </a:ln>
        </p:spPr>
      </p:pic>
      <p:sp>
        <p:nvSpPr>
          <p:cNvPr id="72" name=""/>
          <p:cNvSpPr/>
          <p:nvPr/>
        </p:nvSpPr>
        <p:spPr>
          <a:xfrm>
            <a:off x="2670120" y="4800240"/>
            <a:ext cx="398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Елена Александровна Денисье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с дочерью Еленой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048040" y="4723920"/>
            <a:ext cx="556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4 августа 1864 г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Леля скончалась на руках у Федора Иванович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от чахот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3505320" y="685800"/>
            <a:ext cx="2782800" cy="3581280"/>
          </a:xfrm>
          <a:prstGeom prst="rect">
            <a:avLst/>
          </a:prstGeom>
          <a:ln w="28440">
            <a:solidFill>
              <a:srgbClr val="800000"/>
            </a:solidFill>
            <a:prstDash val="dash"/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У Денисьевой и Тютчева </a:t>
            </a:r>
            <a:br>
              <a:rPr sz="2800"/>
            </a:b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было трое детей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94920" y="1523880"/>
            <a:ext cx="670572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очь Елена (1851-1865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ын Федор Федорович (1860-1916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ын Коленька (1864-1865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Елена Александровна  Денисьева. Дагерротип. ."/>
          <p:cNvPicPr/>
          <p:nvPr/>
        </p:nvPicPr>
        <p:blipFill>
          <a:blip r:embed="rId2"/>
          <a:stretch/>
        </p:blipFill>
        <p:spPr>
          <a:xfrm>
            <a:off x="3581280" y="3352680"/>
            <a:ext cx="2133720" cy="2781360"/>
          </a:xfrm>
          <a:prstGeom prst="rect">
            <a:avLst/>
          </a:prstGeom>
          <a:ln w="28440">
            <a:solidFill>
              <a:srgbClr val="800000"/>
            </a:solidFill>
            <a:prstDash val="dash"/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3885120" y="2622600"/>
            <a:ext cx="398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О, как убийственно мы любим,</a:t>
            </a:r>
            <a:br>
              <a:rPr sz="1800"/>
            </a:b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Как в буйной слепоте страстей</a:t>
            </a:r>
            <a:br>
              <a:rPr sz="1800"/>
            </a:b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Мы то всего вернее губим,</a:t>
            </a:r>
            <a:br>
              <a:rPr sz="1800"/>
            </a:b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Что сердцу нашему милей!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51 г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1371600" y="2286000"/>
            <a:ext cx="2262240" cy="25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438280" y="2286000"/>
            <a:ext cx="4876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mmsk.ru/people/unit/?id=2883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ru.wikipedia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www.litra.ru/composition/get/coid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00011701184864172264/woid/00083801184773070169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http://myguitara.narod.ru/istori16.htm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 и др. источни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685800" y="2666880"/>
            <a:ext cx="82296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 середине 1822 года в русскую дипломатическую миссию в столицу Баварии Мюнхен прибыл новый сотрудник, Федор Иванович Тютче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На одной из светских встреч он увидел девушку поразительной красоты и почувствовал себя околдованным и влюбленным. Звали ее Амалия Лерхенфельд. Тогда в первую встречу с Тютчевым, Амалии было всего... -14 лет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4038480" y="457200"/>
            <a:ext cx="1333800" cy="1952640"/>
          </a:xfrm>
          <a:prstGeom prst="rect">
            <a:avLst/>
          </a:prstGeom>
          <a:ln w="28440">
            <a:solidFill>
              <a:srgbClr val="800000"/>
            </a:solidFill>
            <a:prstDash val="dash"/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2362320" y="121932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Я помню время золотое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Я помню сердцу милый кра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нь вечерел; мы были двое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низу, в тени, шумел Дуна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ты с веселостью беспечн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частливый провожала день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сладко жизни быстротечн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д нами пролетала тен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прель 1836 г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Амалия Лерхенфель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72720" y="4648320"/>
            <a:ext cx="3359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 Black"/>
              </a:rPr>
              <a:t>Я встретил вас - и все был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 Black"/>
              </a:rPr>
              <a:t>В отжившем сердце ожило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 Black"/>
              </a:rPr>
              <a:t>Я вспомнил время золотое 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 Black"/>
              </a:rPr>
              <a:t>И сердцу стало так тепло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1870 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952880" y="1752480"/>
            <a:ext cx="3303720" cy="3781440"/>
          </a:xfrm>
          <a:prstGeom prst="rect">
            <a:avLst/>
          </a:prstGeom>
          <a:ln w="38160">
            <a:solidFill>
              <a:srgbClr val="800000"/>
            </a:solidFill>
            <a:prstDash val="dash"/>
            <a:miter/>
          </a:ln>
        </p:spPr>
      </p:pic>
      <p:pic>
        <p:nvPicPr>
          <p:cNvPr id="49" name="" descr=""/>
          <p:cNvPicPr/>
          <p:nvPr/>
        </p:nvPicPr>
        <p:blipFill>
          <a:blip r:embed="rId3">
            <a:lum contrast="12000"/>
          </a:blip>
          <a:stretch/>
        </p:blipFill>
        <p:spPr>
          <a:xfrm>
            <a:off x="1828800" y="1676520"/>
            <a:ext cx="2031840" cy="2438280"/>
          </a:xfrm>
          <a:prstGeom prst="rect">
            <a:avLst/>
          </a:prstGeom>
          <a:ln w="38160">
            <a:solidFill>
              <a:srgbClr val="800000"/>
            </a:solidFill>
            <a:prstDash val="dash"/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Элеонора Петерсон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5410080" y="1447920"/>
            <a:ext cx="3326040" cy="41814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838080" y="2590920"/>
            <a:ext cx="4114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Первая жена поэта с 1826 го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Вдова с четырьмя сыновья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В браке родилось трое дочерей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В 1836 году пыталась све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счеты с жизнью. Умерла в 1938 году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200400" y="1752480"/>
            <a:ext cx="3381480" cy="4305600"/>
          </a:xfrm>
          <a:prstGeom prst="rect">
            <a:avLst/>
          </a:prstGeom>
          <a:ln w="28440">
            <a:solidFill>
              <a:srgbClr val="800000"/>
            </a:solidFill>
            <a:prstDash val="dash"/>
            <a:miter/>
          </a:ln>
        </p:spPr>
      </p:pic>
      <p:sp>
        <p:nvSpPr>
          <p:cNvPr id="54" name=""/>
          <p:cNvSpPr/>
          <p:nvPr/>
        </p:nvSpPr>
        <p:spPr>
          <a:xfrm>
            <a:off x="1523880" y="533160"/>
            <a:ext cx="7010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Брак был счастливым. В лице Элеоноры Тютчев обрел любящую жену, преданного друга и неизменную опору в трудные минуты жиз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23720" y="1296000"/>
            <a:ext cx="53715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У Элеоноры было семеро детей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Четыре сына от первого брак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Карл (1819—1875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Оттон (1820—1883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лександр (1823- 18..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льфред (1825—1860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Три дочери от второго брак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нна (1829—1889),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фрейл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Дарья (1834—1903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фрейли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Екатерина (1835—1882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фрейл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1600200" y="2133720"/>
            <a:ext cx="1876320" cy="24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990720" y="15228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Эрнестина Дерпбер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219320" y="4800600"/>
            <a:ext cx="7238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пустя год (в 1839 г.)Тютчев обвенчался с красавицей Эрнестиной Дерпберг, встреча с которой впервые состоялась в 1833 году. В Эрнестине поэт нашёл, помимо красоты, ума, блестящей образованности, глубокую духовную близост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581280" y="1371600"/>
            <a:ext cx="2703600" cy="3176640"/>
          </a:xfrm>
          <a:prstGeom prst="rect">
            <a:avLst/>
          </a:prstGeom>
          <a:ln w="28440">
            <a:solidFill>
              <a:srgbClr val="800000"/>
            </a:solidFill>
            <a:prstDash val="dash"/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4876920" y="457200"/>
            <a:ext cx="3492360" cy="4229280"/>
          </a:xfrm>
          <a:prstGeom prst="rect">
            <a:avLst/>
          </a:prstGeom>
          <a:ln w="28440">
            <a:solidFill>
              <a:srgbClr val="800000"/>
            </a:solidFill>
            <a:prstDash val="dash"/>
            <a:miter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838080" y="1981080"/>
            <a:ext cx="3629160" cy="4143600"/>
          </a:xfrm>
          <a:prstGeom prst="rect">
            <a:avLst/>
          </a:prstGeom>
          <a:ln w="28440">
            <a:solidFill>
              <a:srgbClr val="800000"/>
            </a:solidFill>
            <a:prstDash val="dash"/>
            <a:miter/>
          </a:ln>
        </p:spPr>
      </p:pic>
      <p:sp>
        <p:nvSpPr>
          <p:cNvPr id="62" name=""/>
          <p:cNvSpPr/>
          <p:nvPr/>
        </p:nvSpPr>
        <p:spPr>
          <a:xfrm>
            <a:off x="306000" y="1370880"/>
            <a:ext cx="431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Эрнестина Тютчева, фото 1862 г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192280" y="5105160"/>
            <a:ext cx="286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Эрнестина Тютчева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Художник Ф.Дюрк, 18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1-11-13T16:20:1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