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CDC-D080-4988-8A9F-35EB108A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64E-6ED2-4BB2-B4E8-58162631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A11-EE18-44BB-99EA-11F92AB8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519-8190-4CBC-A73D-4ACB9514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4AB-5DFD-4F44-97F0-98E0B97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354-AEFC-4F0C-84AA-31EA619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53A-6C88-43FC-8EC2-94CB50E4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2D7-F21D-4153-B9A9-1FF80B9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51A-B8D9-4C47-A2D0-D400C8A4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1AB-2491-4D58-B52D-DAF9CF83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B91-F340-4422-9A90-C218B2B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E6A-DEAD-40E6-8362-EBC92922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6E99-0495-4388-8BEE-065F99B0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msk.ru/people/unit/?id=28838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www.litra.ru/composition/get/coid/00011701184864172264/woid/00083801184773070169/" TargetMode="External"/><Relationship Id="rId5" Type="http://schemas.openxmlformats.org/officeDocument/2006/relationships/hyperlink" Target="http://www.litra.ru/composition/get/coid/00011701184864172264/woid/00083801184773070169/" TargetMode="External"/><Relationship Id="rId6" Type="http://schemas.openxmlformats.org/officeDocument/2006/relationships/hyperlink" Target="http://myguitara.narod.ru/istori16.htm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Любовь в жизн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едора Тютчев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Федор Иванович Тютчев"/>
          <p:cNvPicPr/>
          <p:nvPr/>
        </p:nvPicPr>
        <p:blipFill>
          <a:blip r:embed="rId2"/>
          <a:stretch/>
        </p:blipFill>
        <p:spPr>
          <a:xfrm>
            <a:off x="3429000" y="2438280"/>
            <a:ext cx="2671920" cy="3581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746280"/>
            <a:ext cx="708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была богатой женщиной и считалась красавицей. Тем не менее в 1850-е годы Тютчев увлёкся Еленой Денисьевой и фактически создал с ней вторую семью. После гибели Денисьевой примирился с женой и умер у неё на ру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6560" y="472428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а сидела на полу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груду писем разбирала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, как остывшую золу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рала их в руки и броса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657600" y="2438280"/>
            <a:ext cx="1793880" cy="21718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480" y="2438280"/>
            <a:ext cx="763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 брака с Ф.И.Тютчевым у Эрнестины были дочь и два сы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ия Фёдор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 -187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митрий Фёдорович (1841-187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ван Фёдорович (1846-1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Елена Александровна Денисье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333960" cy="43815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70" name=""/>
          <p:cNvSpPr/>
          <p:nvPr/>
        </p:nvSpPr>
        <p:spPr>
          <a:xfrm>
            <a:off x="914400" y="2743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, как на склоне наших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жней мы любим и суеве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яй! Сияй, прощальный све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ви последней, зари вечерн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2562120" cy="33526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72" name=""/>
          <p:cNvSpPr/>
          <p:nvPr/>
        </p:nvSpPr>
        <p:spPr>
          <a:xfrm>
            <a:off x="2670120" y="480024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лена Александровна Денис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 дочерью Еле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48040" y="472392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августа 186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ля скончалась на руках у Федора Ивано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чах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505320" y="685800"/>
            <a:ext cx="2782800" cy="35812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Денисьевой и Тютчев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о трое де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6705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чь Елена (1851-186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Федор Федорович (1860-191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н Коленька (1864-186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Елена Александровна  Денисьева. Дагерротип. ."/>
          <p:cNvPicPr/>
          <p:nvPr/>
        </p:nvPicPr>
        <p:blipFill>
          <a:blip r:embed="rId2"/>
          <a:stretch/>
        </p:blipFill>
        <p:spPr>
          <a:xfrm>
            <a:off x="3581280" y="3352680"/>
            <a:ext cx="2133720" cy="278136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5120" y="2622600"/>
            <a:ext cx="398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, как убийственно мы люби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 в буйной слепоте страстей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ы то всего вернее губим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то сердцу нашему милей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51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2262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38280" y="2286000"/>
            <a:ext cx="4876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sk.ru/people/unit/?id=28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itra.ru/composition/get/coid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00011701184864172264/woid/0008380118477307016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yguitara.narod.ru/istori16.ht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и др. 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ередине 1822 года в русскую дипломатическую миссию в столицу Баварии Мюнхен прибыл новый сотрудник, Федор Иванович Тютч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 одной из светских встреч он увидел девушку поразительной красоты и почувствовал себя околдованным и влюбленным. Звали ее Амалия Лерхенфельд. Тогда в первую встречу с Тютчевым, Амалии было всего... -14 л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1333800" cy="1952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62320" y="12193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ню время золот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ню сердцу милый кра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ь вечерел; мы были дво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зу, в тени, шумел Дун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ы с веселостью бесп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астливый провожала д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ладко жизни быстрот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 нами пролетала т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1836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малия Лерхенфель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2720" y="4648320"/>
            <a:ext cx="335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Я встретил вас - и все бы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В отжившем сердце ожи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Я вспомнил время золото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И сердцу стало так теп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870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303720" cy="378144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1828800" y="1676520"/>
            <a:ext cx="2031840" cy="2438280"/>
          </a:xfrm>
          <a:prstGeom prst="rect">
            <a:avLst/>
          </a:prstGeom>
          <a:ln w="3816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леонора Петерс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326040" cy="4181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25909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ая жена поэта с 182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дова с четырьмя сынов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браке родилось трое дочер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1836 году пыталась св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четы с жизнью. Умерла в 1938 го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3381480" cy="430560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54" name=""/>
          <p:cNvSpPr/>
          <p:nvPr/>
        </p:nvSpPr>
        <p:spPr>
          <a:xfrm>
            <a:off x="1523880" y="53316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рак был счастливым. В лице Элеоноры Тютчев обрел любящую жену, преданного друга и неизменную опору в трудные минуты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23720" y="1296000"/>
            <a:ext cx="537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Элеоноры было семеро дет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тыре сына от первого бр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рл (1819—18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тон (1820—188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(1823- 18..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ьфред (1825—186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и дочери от второго бра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на (1829—1889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рей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рья (1834—190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ей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катерина (1835—188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рей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2133720"/>
            <a:ext cx="1876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Эрнестина Дерп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устя год (в 1839 г.)Тютчев обвенчался с красавицей Эрнестиной Дерпберг, встреча с которой впервые состоялась в 1833 году. В Эрнестине поэт нашёл, помимо красоты, ума, блестящей образованности, глубокую духовную близ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2703600" cy="317664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492360" cy="422928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38080" y="1981080"/>
            <a:ext cx="3629160" cy="4143600"/>
          </a:xfrm>
          <a:prstGeom prst="rect">
            <a:avLst/>
          </a:prstGeom>
          <a:ln w="28440">
            <a:solidFill>
              <a:srgbClr val="800000"/>
            </a:solidFill>
            <a:prstDash val="dash"/>
            <a:miter/>
          </a:ln>
        </p:spPr>
      </p:pic>
      <p:sp>
        <p:nvSpPr>
          <p:cNvPr id="62" name=""/>
          <p:cNvSpPr/>
          <p:nvPr/>
        </p:nvSpPr>
        <p:spPr>
          <a:xfrm>
            <a:off x="306000" y="1370880"/>
            <a:ext cx="43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Тютчева, фото 186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92280" y="510516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рнестина Тютче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удожник Ф.Дюрк, 1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13T16:20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