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35C-0955-442E-A550-5A839EB1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351-13C0-4DE7-932E-2BF7AFE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747-85DB-40C6-AEB6-DD85E2B4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DB-1A71-40E6-B553-9E478148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E2E-88B4-4FA5-B942-5831A87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A2B-9734-438B-894F-43FE643C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2DD-277E-467F-8FD5-A66F95CA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085-C733-4347-955E-AAF267D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DEB-F70D-4C90-8FD4-AD6A2AA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4E6-A091-43F0-888F-E4F4C0A0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EC8-B619-4BBF-AEF7-A2B9145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8DB-21C9-45F8-AE3D-E06A4A8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CAF-DB62-4FA2-9132-7E7483F99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msk.ru/people/unit/?id=28838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litra.ru/composition/get/coid/00011701184864172264/woid/00083801184773070169/" TargetMode="External"/><Relationship Id="rId5" Type="http://schemas.openxmlformats.org/officeDocument/2006/relationships/hyperlink" Target="http://www.litra.ru/composition/get/coid/00011701184864172264/woid/00083801184773070169/" TargetMode="External"/><Relationship Id="rId6" Type="http://schemas.openxmlformats.org/officeDocument/2006/relationships/hyperlink" Target="http://myguitara.narod.ru/istori16.ht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ь в жиз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едора Тютчев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Федор Иванович Тютчев"/>
          <p:cNvPicPr/>
          <p:nvPr/>
        </p:nvPicPr>
        <p:blipFill>
          <a:blip r:embed="rId2"/>
          <a:stretch/>
        </p:blipFill>
        <p:spPr>
          <a:xfrm>
            <a:off x="3429000" y="2438280"/>
            <a:ext cx="2671920" cy="3581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74628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была богатой женщиной и считалась красавицей. Тем не менее в 1850-е годы Тютчев увлёкся Еленой Денисьевой и фактически создал с ней вторую семью. После гибели Денисьевой примирился с женой и умер у неё на ру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6560" y="47242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сидела на полу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груду писем разбирала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, как остывшую золу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ла их в руки и броса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793880" cy="21718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480" y="2438280"/>
            <a:ext cx="763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брака с Ф.И.Тютчевым у Эрнестины были дочь и два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ия Фёдор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 -187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митрий Фёдорович (1841-187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 Фёдорович (1846-1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33960" cy="43815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0" name=""/>
          <p:cNvSpPr/>
          <p:nvPr/>
        </p:nvSpPr>
        <p:spPr>
          <a:xfrm>
            <a:off x="914400" y="2743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, как на склоне наших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жней мы любим и суеве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яй! Сияй, прощальный све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ви последней, зари вечерн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2562120" cy="33526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2" name=""/>
          <p:cNvSpPr/>
          <p:nvPr/>
        </p:nvSpPr>
        <p:spPr>
          <a:xfrm>
            <a:off x="2670120" y="480024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дочерью Еле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48040" y="472392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августа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ля скончалась на руках у Федора Иван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чах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505320" y="685800"/>
            <a:ext cx="2782800" cy="3581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Денисьевой и Тютчев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о трое де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6705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чь Елена (1851-186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Федор Федорович (1860-191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Коленька (1864-186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Елена Александровна  Денисьева. Дагерротип. ."/>
          <p:cNvPicPr/>
          <p:nvPr/>
        </p:nvPicPr>
        <p:blipFill>
          <a:blip r:embed="rId2"/>
          <a:stretch/>
        </p:blipFill>
        <p:spPr>
          <a:xfrm>
            <a:off x="3581280" y="3352680"/>
            <a:ext cx="2133720" cy="27813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5120" y="2622600"/>
            <a:ext cx="398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, как убийственно мы лю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 в буйной слепоте страсте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ы то всего вернее гу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сердцу нашему миле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5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262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2286000"/>
            <a:ext cx="487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sk.ru/people/unit/?id=28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itra.ru/composition/get/coi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00011701184864172264/woid/0008380118477307016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yguitara.narod.ru/istori16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и др.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ередине 1822 года в русскую дипломатическую миссию в столицу Баварии Мюнхен прибыл новый сотрудник, Федор Иванович Тютч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одной из светских встреч он увидел девушку поразительной красоты и почувствовал себя околдованным и влюбленным. Звали ее Амалия Лерхенфельд. Тогда в первую встречу с Тютчевым, Амалии было всего... -14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1333800" cy="1952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6232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время золот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сердцу милый кра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вечерел; мы были д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у, в тени, шумел Ду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ы с веселостью бесп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ый провожала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ладко жизни быстрот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нами пролетала 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183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малия Лерхенфел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2720" y="4648320"/>
            <a:ext cx="335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третил вас - и все бы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В отжившем сердце ожи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помнил время золото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И сердцу стало так теп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870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303720" cy="37814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828800" y="1676520"/>
            <a:ext cx="2031840" cy="24382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леонора 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26040" cy="418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5909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ая жена поэта с 182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дова с четырьмя сынов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браке родилось трое дочер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836 году пыталась с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четы с жизнью. Умерла в 1938 го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3381480" cy="4305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54" name=""/>
          <p:cNvSpPr/>
          <p:nvPr/>
        </p:nvSpPr>
        <p:spPr>
          <a:xfrm>
            <a:off x="1523880" y="53316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к был счастливым. В лице Элеоноры Тютчев обрел любящую жену, преданного друга и неизменную опору в трудные минут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23720" y="1296000"/>
            <a:ext cx="537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Элеоноры было семеро де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тыре сына от перв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л (1819—18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тон (1820—188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(1823- 18.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ьфред (1825—186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и дочери от втор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на (1829—1889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рья (1834—190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атерина (1835—188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1876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рнестина Дерп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устя год (в 1839 г.)Тютчев обвенчался с красавицей Эрнестиной Дерпберг, встреча с которой впервые состоялась в 1833 году. В Эрнестине поэт нашёл, помимо красоты, ума, блестящей образованности, глубокую духовную близ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2703600" cy="3176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492360" cy="4229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3629160" cy="4143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62" name=""/>
          <p:cNvSpPr/>
          <p:nvPr/>
        </p:nvSpPr>
        <p:spPr>
          <a:xfrm>
            <a:off x="306000" y="137088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, фото 186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92280" y="510516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ожник Ф.Дюрк, 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3T16:2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