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DFF-4B8B-4705-895B-AAE73218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C54-ED9E-4A79-B19D-8BB44A53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4E6-7F22-4DE6-8317-A30BAAE2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D40-4E42-4B94-95EF-D47020EB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6DB-71AE-4861-88E9-C7E7C5B9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1BD-2227-4BE3-9136-C59D1CA0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49D-A785-4581-A9A1-8D950147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872-E9B4-4E14-902D-693AB74A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3E2-5112-401F-A419-D6E6C17C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D45-F466-42B5-AB03-C2936F1A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ACF-7D4C-4AA4-839F-FDD08B78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F93-0EFD-456B-ADDC-E43046B0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C437-ABBD-4316-B091-A3EC401F1B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4-tub-ru.yandex.net/i?id=16903848-33-72" TargetMode="External"/><Relationship Id="rId2" Type="http://schemas.openxmlformats.org/officeDocument/2006/relationships/hyperlink" Target="http://im8-tub-ru.yandex.net/i?id=441830287-50-72" TargetMode="External"/><Relationship Id="rId3" Type="http://schemas.openxmlformats.org/officeDocument/2006/relationships/hyperlink" Target="http://im8-tub-ru.yandex.net/i?id=441830287-50-72" TargetMode="External"/><Relationship Id="rId4" Type="http://schemas.openxmlformats.org/officeDocument/2006/relationships/hyperlink" Target="http://im8-tub-ru.yandex.net/i?id=441830287-50-72" TargetMode="External"/><Relationship Id="rId5" Type="http://schemas.openxmlformats.org/officeDocument/2006/relationships/hyperlink" Target="http://im8-tub-ru.yandex.net/i?id=441830287-50-72" TargetMode="External"/><Relationship Id="rId6" Type="http://schemas.openxmlformats.org/officeDocument/2006/relationships/hyperlink" Target="http://im8-tub-ru.yandex.net/i?id=441830287-50-72" TargetMode="External"/><Relationship Id="rId7" Type="http://schemas.openxmlformats.org/officeDocument/2006/relationships/hyperlink" Target="http://im8-tub-ru.yandex.net/i?id=441830287-50-72" TargetMode="External"/><Relationship Id="rId8" Type="http://schemas.openxmlformats.org/officeDocument/2006/relationships/hyperlink" Target="http://im8-tub-ru.yandex.net/i?id=441830287-50-72" TargetMode="External"/><Relationship Id="rId9" Type="http://schemas.openxmlformats.org/officeDocument/2006/relationships/hyperlink" Target="http://im8-tub-ru.yandex.net/i?id=441830287-50-72" TargetMode="External"/><Relationship Id="rId10" Type="http://schemas.openxmlformats.org/officeDocument/2006/relationships/hyperlink" Target="http://im8-tub-ru.yandex.net/i?id=441830287-50-72" TargetMode="External"/><Relationship Id="rId11" Type="http://schemas.openxmlformats.org/officeDocument/2006/relationships/hyperlink" Target="http://im8-tub-ru.yandex.net/i?id=441830287-50-72" TargetMode="External"/><Relationship Id="rId12" Type="http://schemas.openxmlformats.org/officeDocument/2006/relationships/hyperlink" Target="http://im8-tub-ru.yandex.net/i?id=441830287-50-72" TargetMode="External"/><Relationship Id="rId13" Type="http://schemas.openxmlformats.org/officeDocument/2006/relationships/hyperlink" Target="http://im8-tub-ru.yandex.net/i?id=441830287-50-72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MS Mincho"/>
              </a:rPr>
              <a:t>Количество</a:t>
            </a:r>
            <a:r>
              <a:rPr b="1" lang="ru-RU" sz="4000" spc="-1" strike="noStrike">
                <a:solidFill>
                  <a:srgbClr val="009999"/>
                </a:solidFill>
                <a:latin typeface="MS Mincho"/>
              </a:rPr>
              <a:t> </a:t>
            </a:r>
            <a:r>
              <a:rPr b="1" lang="ru-RU" sz="5400" spc="-1" strike="noStrike">
                <a:solidFill>
                  <a:srgbClr val="009999"/>
                </a:solidFill>
                <a:latin typeface="MS Mincho"/>
              </a:rPr>
              <a:t>информ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785880" y="457200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онова Татья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СОШ №8 г. Т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619280" y="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Алфавитный подход к измерению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68360" y="836640"/>
            <a:ext cx="8424720" cy="54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подход используется в вычислительной техн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ы для расчетов 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=2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=log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=lnN/ln2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асчетов на калькулятор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щность алфавита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информации, содержащейся в одном символе алфав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мощностью алфавита понимают количество символов алфавита (заглавные и прописные буквы, цифры, знаки препинания, специальные символ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Правил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измерения информации с точки зрения алфавитного подх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мощность алфави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информационный объем одного симво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количество символов в сообщ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информационный объем всего со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34000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69228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84360" y="620640"/>
            <a:ext cx="78483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Найти объем информации, содержащейся в тексте на русском языке.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равните объем информации, содержащейся на странице русского текста и китай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йти информационный объем страницы компьютерного текста. Произвести приблизительные расч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 информации, представленной в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500040" y="1428840"/>
            <a:ext cx="792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 Угринови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форматика и информационные технологии. 10 – 11 класс, м. БИНОМ. Лаборатория знаний. 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4-tub-ru.yandex.net/i?id=16903848-33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8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tub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yandex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net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=441830287-50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5byte.ru/z10/0001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5byte.ru/z10/0002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Можно назвать </a:t>
            </a: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3 различных подхода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к определению количества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2"/>
          <p:cNvSpPr/>
          <p:nvPr/>
        </p:nvSpPr>
        <p:spPr>
          <a:xfrm>
            <a:off x="928800" y="1928880"/>
            <a:ext cx="3214440" cy="107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одерж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3"/>
          <p:cNvSpPr/>
          <p:nvPr/>
        </p:nvSpPr>
        <p:spPr>
          <a:xfrm>
            <a:off x="3000240" y="3357720"/>
            <a:ext cx="3214800" cy="107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ероятност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4"/>
          <p:cNvSpPr/>
          <p:nvPr/>
        </p:nvSpPr>
        <p:spPr>
          <a:xfrm>
            <a:off x="5286240" y="4929120"/>
            <a:ext cx="3214800" cy="107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Алфавит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611280" y="476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95280" y="1052640"/>
            <a:ext cx="8280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бщение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информатив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в нем содержатся новые и понятные с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больше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информатив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тем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ольшее количе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формации содержится в сооб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258920" y="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одержательный способ определения количества информ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39640" y="2565360"/>
            <a:ext cx="8136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пределите количество информации в сообщениях с позиции «много», «мало» или «нет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Столица России-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умма квадратов катетов равна половине гипотену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Дифракцией света называется совокупность явлений, которые обусловлены волновой природой света и наблюдаются при его распространении в среде с резко выраженной оптической неоднород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Эйфелева башня имеет высоту 300 метров и вес 9000 тон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ероятностный подход в измерени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6072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изошло одно и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вероятных событий , то неопределенность наших знаний уменьшаетс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При броске монеты возможен один результат из двух. После броска неопределенность зна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ится в 2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При броске кубика возможен один результат из шести. После броска неопределенность знаний уменьшится в 6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Во втором случае мы получаем большее количество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Если происходит одно из одного возможного события , мы не получаем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5" descr="2.jpg"/>
          <p:cNvPicPr/>
          <p:nvPr/>
        </p:nvPicPr>
        <p:blipFill>
          <a:blip r:embed="rId1"/>
          <a:stretch/>
        </p:blipFill>
        <p:spPr>
          <a:xfrm rot="17765400">
            <a:off x="6149880" y="1979280"/>
            <a:ext cx="3170520" cy="1585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3.jpg"/>
          <p:cNvPicPr/>
          <p:nvPr/>
        </p:nvPicPr>
        <p:blipFill>
          <a:blip r:embed="rId2"/>
          <a:stretch/>
        </p:blipFill>
        <p:spPr>
          <a:xfrm>
            <a:off x="6500880" y="428616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личество информации, которое содержится в сообщении, что произошло одно событие из двух равновероятных , принято за единицу информации и равно 1 биту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 бит – это такое количество информации, которое уменьшает неопределенность наших знаний в 2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Рассмотрим задачу определения количества информации, необходимой для угадывания числа(5) из дипазона 1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3056040"/>
        </p:xfrm>
        <a:graphic>
          <a:graphicData uri="http://schemas.openxmlformats.org/drawingml/2006/table">
            <a:tbl>
              <a:tblPr/>
              <a:tblGrid>
                <a:gridCol w="2057400"/>
                <a:gridCol w="1770120"/>
                <a:gridCol w="234468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т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еопределенность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лученное кол.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больше 8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больше 4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больше 6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5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б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57"/>
          <p:cNvSpPr/>
          <p:nvPr/>
        </p:nvSpPr>
        <p:spPr>
          <a:xfrm>
            <a:off x="468360" y="508464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: количество информации, необходимое для угадывания одного из 16 чисел равно 4 б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пределения количества информации можно использовать формулу:</a:t>
            </a:r>
            <a:br>
              <a:rPr sz="28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=2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68360" y="206064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возможных </a:t>
            </a:r>
            <a:r>
              <a:rPr b="0" lang="ru-RU" sz="1800" spc="-1" strike="noStrike" u="sng">
                <a:solidFill>
                  <a:srgbClr val="990099"/>
                </a:solidFill>
                <a:uFillTx/>
                <a:latin typeface="Arial"/>
              </a:rPr>
              <a:t>равновероят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бы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информации, полученное при совершении собы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11280" y="3068640"/>
            <a:ext cx="77058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ется подбором или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=log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=lnN/ln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у на отгадывание числа можно реш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с использованием формул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тодом под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сю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по формул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log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lnN/ln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я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ln16/ln2=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Для неравновероятных событий следует использовать формулу:</a:t>
            </a:r>
            <a:br>
              <a:rPr sz="24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=log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1/p),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гд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=k/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55640" y="2060640"/>
            <a:ext cx="7416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ь собы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а, показывающая, сколько раз произошло интересующее нас собы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е количество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908000" y="189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9640" y="981000"/>
            <a:ext cx="820908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ыразите из формулы определения количества информации величины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, k,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 выходите на следующей остановке?»,- спросили человека в автобусе. «Нет.»,- ответил он. Сколько информации содержит отв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Вы подошли к остановке, когда горел желтый свет. После этого загорелся зеленый. Сколько информации вы при этом получи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ри угадывании целого числа в некотором диапазоне было получено 8 бит информации. Сколько чисел содержит этот диапаз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В корзине лежат 8 черных шаров и 24 белых. Сколько информации несет сообщение о том, что достали черный ш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В ящике лежат перчатки (белые и черные). Среди них 2 пары черных. Сообщение о том, что из ящика достали пару черных перчаток, несет 4 бита информации. Сколько пар белых перчаток было в ящ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5:39:24Z</dcterms:created>
  <dc:creator>Evgen</dc:creator>
  <dc:description/>
  <dc:language>en-US</dc:language>
  <cp:lastModifiedBy>Tatyna</cp:lastModifiedBy>
  <dcterms:modified xsi:type="dcterms:W3CDTF">2012-02-12T19:33:51Z</dcterms:modified>
  <cp:revision>15</cp:revision>
  <dc:subject/>
  <dc:title>Количество информации</dc:title>
</cp:coreProperties>
</file>