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514-2FDA-465A-9435-903EE6F9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2E0-8F8F-422A-810D-D4BC5D28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4AD-4980-4EF8-A41F-3D225560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8B15-8F71-49BF-B848-955BFA22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15E-F7D7-4E15-98C0-08B9070C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8EB-BFAA-47C0-8F45-4F449C52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43B-9A3A-42BC-943C-D2527545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696-0473-4FB0-A0B2-1DD033DC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6EF-8999-41BB-99CA-7B0517D2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719A-EA56-4AC5-982F-7F95763B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177-34DB-4E2C-BB0D-96B3800B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590-B457-4F4B-9A61-FD316105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18CD-1033-4995-8FEC-960504A12B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4-tub-ru.yandex.net/i?id=16903848-33-72" TargetMode="External"/><Relationship Id="rId2" Type="http://schemas.openxmlformats.org/officeDocument/2006/relationships/hyperlink" Target="http://im8-tub-ru.yandex.net/i?id=441830287-50-72" TargetMode="External"/><Relationship Id="rId3" Type="http://schemas.openxmlformats.org/officeDocument/2006/relationships/hyperlink" Target="http://im8-tub-ru.yandex.net/i?id=441830287-50-72" TargetMode="External"/><Relationship Id="rId4" Type="http://schemas.openxmlformats.org/officeDocument/2006/relationships/hyperlink" Target="http://im8-tub-ru.yandex.net/i?id=441830287-50-72" TargetMode="External"/><Relationship Id="rId5" Type="http://schemas.openxmlformats.org/officeDocument/2006/relationships/hyperlink" Target="http://im8-tub-ru.yandex.net/i?id=441830287-50-72" TargetMode="External"/><Relationship Id="rId6" Type="http://schemas.openxmlformats.org/officeDocument/2006/relationships/hyperlink" Target="http://im8-tub-ru.yandex.net/i?id=441830287-50-72" TargetMode="External"/><Relationship Id="rId7" Type="http://schemas.openxmlformats.org/officeDocument/2006/relationships/hyperlink" Target="http://im8-tub-ru.yandex.net/i?id=441830287-50-72" TargetMode="External"/><Relationship Id="rId8" Type="http://schemas.openxmlformats.org/officeDocument/2006/relationships/hyperlink" Target="http://im8-tub-ru.yandex.net/i?id=441830287-50-72" TargetMode="External"/><Relationship Id="rId9" Type="http://schemas.openxmlformats.org/officeDocument/2006/relationships/hyperlink" Target="http://im8-tub-ru.yandex.net/i?id=441830287-50-72" TargetMode="External"/><Relationship Id="rId10" Type="http://schemas.openxmlformats.org/officeDocument/2006/relationships/hyperlink" Target="http://im8-tub-ru.yandex.net/i?id=441830287-50-72" TargetMode="External"/><Relationship Id="rId11" Type="http://schemas.openxmlformats.org/officeDocument/2006/relationships/hyperlink" Target="http://im8-tub-ru.yandex.net/i?id=441830287-50-72" TargetMode="External"/><Relationship Id="rId12" Type="http://schemas.openxmlformats.org/officeDocument/2006/relationships/hyperlink" Target="http://im8-tub-ru.yandex.net/i?id=441830287-50-72" TargetMode="External"/><Relationship Id="rId13" Type="http://schemas.openxmlformats.org/officeDocument/2006/relationships/hyperlink" Target="http://im8-tub-ru.yandex.net/i?id=441830287-50-72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99"/>
                </a:solidFill>
                <a:latin typeface="MS Mincho"/>
              </a:rPr>
              <a:t>Количество</a:t>
            </a:r>
            <a:r>
              <a:rPr b="1" lang="ru-RU" sz="4000" spc="-1" strike="noStrike">
                <a:solidFill>
                  <a:srgbClr val="009999"/>
                </a:solidFill>
                <a:latin typeface="MS Mincho"/>
              </a:rPr>
              <a:t> </a:t>
            </a:r>
            <a:r>
              <a:rPr b="1" lang="ru-RU" sz="5400" spc="-1" strike="noStrike">
                <a:solidFill>
                  <a:srgbClr val="009999"/>
                </a:solidFill>
                <a:latin typeface="MS Mincho"/>
              </a:rPr>
              <a:t>информ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785880" y="457200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онова Татья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СОШ №8 г. Т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619280" y="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Алфавитный подход к измерению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68360" y="836640"/>
            <a:ext cx="8424720" cy="54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подход используется в вычислительной техн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ы для расчетов 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=2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=log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=lnN/ln2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асчетов на калькулятор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щность алфавита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информации, содержащейся в одном символе алфав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мощностью алфавита понимают количество символов алфавита (заглавные и прописные буквы, цифры, знаки препинания, специальные символ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Правил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измерения информации с точки зрения алфавитного подх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мощность алфави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информационный объем одного симво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количество символов в сообщ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информационный объем всего со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34000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692280"/>
            <a:ext cx="80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84360" y="620640"/>
            <a:ext cx="78483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Найти объем информации, содержащейся в тексте на русском языке.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равните объем информации, содержащейся на странице русского текста и китай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айти информационный объем страницы компьютерного текста. Произвести приблизительные расч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и информации, представленной в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500040" y="1428840"/>
            <a:ext cx="792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 Угринови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форматика и информационные технологии. 10 – 11 класс, м. БИНОМ. Лаборатория знаний. 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m4-tub-ru.yandex.net/i?id=16903848-33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8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tub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yandex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net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=441830287-50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5byte.ru/z10/0001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5byte.ru/z10/0002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Можно назвать </a:t>
            </a:r>
            <a:r>
              <a:rPr b="1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3 различных подхода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к определению количества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2"/>
          <p:cNvSpPr/>
          <p:nvPr/>
        </p:nvSpPr>
        <p:spPr>
          <a:xfrm>
            <a:off x="928800" y="1928880"/>
            <a:ext cx="3214440" cy="107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одерж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3"/>
          <p:cNvSpPr/>
          <p:nvPr/>
        </p:nvSpPr>
        <p:spPr>
          <a:xfrm>
            <a:off x="3000240" y="3357720"/>
            <a:ext cx="3214800" cy="107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ероятност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4"/>
          <p:cNvSpPr/>
          <p:nvPr/>
        </p:nvSpPr>
        <p:spPr>
          <a:xfrm>
            <a:off x="5286240" y="4929120"/>
            <a:ext cx="3214800" cy="107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Алфавит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611280" y="476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95280" y="1052640"/>
            <a:ext cx="8280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бщение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информатив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в нем содержатся новые и понятные с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 больше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информатив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тем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ольшее количе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нформации содержится в сооб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258920" y="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Содержательный способ определения количества информ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39640" y="2565360"/>
            <a:ext cx="8136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пределите количество информации в сообщениях с позиции «много», «мало» или «нет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Столица России-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умма квадратов катетов равна половине гипотену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Дифракцией света называется совокупность явлений, которые обусловлены волновой природой света и наблюдаются при его распространении в среде с резко выраженной оптической неоднород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Эйфелева башня имеет высоту 300 метров и вес 9000 тон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ероятностный подход в измерени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6072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изошло одно и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вероятных событий , то неопределенность наших знаний уменьшаетс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При броске монеты возможен один результат из двух. После броска неопределенность зна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ится в 2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При броске кубика возможен один результат из шести. После броска неопределенность знаний уменьшится в 6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Во втором случае мы получаем большее количество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Если происходит одно из одного возможного события , мы не получаем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5" descr="2.jpg"/>
          <p:cNvPicPr/>
          <p:nvPr/>
        </p:nvPicPr>
        <p:blipFill>
          <a:blip r:embed="rId1"/>
          <a:stretch/>
        </p:blipFill>
        <p:spPr>
          <a:xfrm rot="17765400">
            <a:off x="6149880" y="1979280"/>
            <a:ext cx="3170520" cy="1585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3.jpg"/>
          <p:cNvPicPr/>
          <p:nvPr/>
        </p:nvPicPr>
        <p:blipFill>
          <a:blip r:embed="rId2"/>
          <a:stretch/>
        </p:blipFill>
        <p:spPr>
          <a:xfrm>
            <a:off x="6500880" y="428616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личество информации, которое содержится в сообщении, что произошло одно событие из двух равновероятных , принято за единицу информации и равно 1 биту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 бит – это такое количество информации, которое уменьшает неопределенность наших знаний в 2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Рассмотрим задачу определения количества информации, необходимой для угадывания числа(5) из дипазона 1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3056040"/>
        </p:xfrm>
        <a:graphic>
          <a:graphicData uri="http://schemas.openxmlformats.org/drawingml/2006/table">
            <a:tbl>
              <a:tblPr/>
              <a:tblGrid>
                <a:gridCol w="2057400"/>
                <a:gridCol w="1770120"/>
                <a:gridCol w="2344680"/>
                <a:gridCol w="20574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пр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т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еопределенность зн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лученное кол.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больше 8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больше 4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больше 6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5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б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57"/>
          <p:cNvSpPr/>
          <p:nvPr/>
        </p:nvSpPr>
        <p:spPr>
          <a:xfrm>
            <a:off x="468360" y="508464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ывод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: количество информации, необходимое для угадывания одного из 16 чисел равно 4 б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пределения количества информации можно использовать формулу:</a:t>
            </a:r>
            <a:br>
              <a:rPr sz="28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=2</a:t>
            </a:r>
            <a:r>
              <a:rPr b="0" lang="en-US" sz="3200" spc="-1" strike="noStrike" baseline="30000">
                <a:solidFill>
                  <a:srgbClr val="0000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68360" y="2060640"/>
            <a:ext cx="82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возможных </a:t>
            </a:r>
            <a:r>
              <a:rPr b="0" lang="ru-RU" sz="1800" spc="-1" strike="noStrike" u="sng">
                <a:solidFill>
                  <a:srgbClr val="990099"/>
                </a:solidFill>
                <a:uFillTx/>
                <a:latin typeface="Arial"/>
              </a:rPr>
              <a:t>равновероят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бы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информации, полученное при совершении собы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611280" y="3068640"/>
            <a:ext cx="77058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ется подбором или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=log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=lnN/ln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у на отгадывание числа можно реш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с использованием формул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тодом под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сю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по формул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log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lnN/ln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я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ln16/ln2=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Для неравновероятных событий следует использовать формулу:</a:t>
            </a:r>
            <a:br>
              <a:rPr sz="24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=log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1/p),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где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=k/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55640" y="2060640"/>
            <a:ext cx="7416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ь собы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а, показывающая, сколько раз произошло интересующее нас собы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е количество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908000" y="189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9640" y="981000"/>
            <a:ext cx="820908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ыразите из формулы определения количества информации величины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, k,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 выходите на следующей остановке?»,- спросили человека в автобусе. «Нет.»,- ответил он. Сколько информации содержит отв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Вы подошли к остановке, когда горел желтый свет. После этого загорелся зеленый. Сколько информации вы при этом получи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ри угадывании целого числа в некотором диапазоне было получено 8 бит информации. Сколько чисел содержит этот диапаз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В корзине лежат 8 черных шаров и 24 белых. Сколько информации несет сообщение о том, что достали черный ша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В ящике лежат перчатки (белые и черные). Среди них 2 пары черных. Сообщение о том, что из ящика достали пару черных перчаток, несет 4 бита информации. Сколько пар белых перчаток было в ящ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5:39:24Z</dcterms:created>
  <dc:creator>Evgen</dc:creator>
  <dc:description/>
  <dc:language>en-US</dc:language>
  <cp:lastModifiedBy>Tatyna</cp:lastModifiedBy>
  <dcterms:modified xsi:type="dcterms:W3CDTF">2012-02-12T19:33:51Z</dcterms:modified>
  <cp:revision>15</cp:revision>
  <dc:subject/>
  <dc:title>Количество информации</dc:title>
</cp:coreProperties>
</file>