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71BF-72BB-43C1-AA46-E800FED6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978E-D82F-40A7-B99A-A9EAC04B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728-5D7F-47F1-966C-A9CE9C18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762-A225-4B7D-B0CE-A05A1B7C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EAEB4-85CA-4EC3-AAEE-DB657796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3EA8D-A642-4697-9CEA-686766DC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422B2-EED0-4FF6-AE84-9823FF13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C2645-CC76-4F9F-B41A-1F62D3E4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47E03-E2C7-4D8D-B3AA-F8BF2457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B66E8-1A69-4AE4-BC17-AACEB433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80E13-FB03-4361-8830-0CCD76F5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8B3-1A39-4DFE-8D0B-D8BC8733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C73B2-C57E-4F16-AC49-31D94FBE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7E4EE-4C74-4113-B165-43BBA11A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C6A07-0953-4C2C-85F6-93ED3E92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DCCC8-BAB3-4A1C-920B-312D9FD8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F6BD3-B334-482D-BF82-6AA66402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EE8F5-1C64-4551-A098-B1158177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26B9F-610A-4C41-99E4-F7DFF871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78328-8DF1-49BE-9592-B2859960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D75C5-41ED-4609-8E1E-2A5F4953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60201-6100-47B6-ADE9-842D7CF7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DC8D-61CC-4D1B-AE2B-40E2228E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57212-2157-4B8D-8394-DCCB57E1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D6D3-DF4C-4C94-B5B0-34648B14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2A122-3C6B-4734-8CD4-EE13589E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D22F-9AD1-4B07-B60C-F86B781E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179C9-2DE8-4930-AB07-334CF339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8BEBF-8F8F-4787-BA9F-E26B54D9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DD228-73C6-4ED3-A5B3-BD12783B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9D10BD-3B83-4E33-A9B6-5F5E1529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822EE9-43B6-47FC-8C47-C039A802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3F7E3A-EB74-4E0D-AB59-789D8023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47AE-A325-4C1E-B411-91A1C9BC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5CF0F3-EA54-411E-A6A4-80EF1BBF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956863-55A0-41C1-B88C-7C712D7B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6EB248-12C1-4E27-82EC-B039554A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544296-42D2-4BD5-B4DC-A7CEE6B6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10D60D-8DBF-43F1-B012-7CF85D85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92BE71-18F5-4EEF-909D-90C87311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A03ADC-AB37-4228-94BF-1F45ACDE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49B749-B182-43F5-88AF-8E746CB8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6BDCCC-D85A-4A38-AFE2-523B59CE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D2C24-A842-414A-8DE0-4231A859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7E4-409B-4590-9CE4-6FF3DE8A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033D27-9327-457D-AEFC-D0B2D6AE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A205C5-CC2B-4D20-8F51-AB305A92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013976-7B4E-4D04-B8A5-A8536F89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9011A4-DDB4-44C7-950C-1DE1CF1E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6B67EC-A7BB-4F42-9A45-3A4F781F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3DAFCE-56C3-40EA-8D50-8231901A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CEE97B-D2E1-4CDC-BC56-370DCA2F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135B9A-3582-4146-8C4D-3A7FCDE6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665EA4-328F-48E2-B9F3-E6BC871D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9A75B-B9D1-4964-8FF1-EE2F51A2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8C4-8C66-41C2-81BB-23D744C0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018F3A-04CF-4281-84D5-257494B3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20E235-4C31-4740-853D-966D45D6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60EC1C-5724-4EFC-B3BA-B64A2C5D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EDF75D-EA1E-4617-9305-C9D81E50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DCC798-9710-4501-A076-5B5BDDB8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9E360A-3DB3-4890-A716-635EC7B6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20E3D1-C543-4260-B141-ACDF582A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855F26-1C41-4B85-BB12-E9A12AC5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1DE8DD-A3DE-4528-A30C-6088BC86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248386-223E-4DF5-8089-EAE61413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F573-08E1-40ED-8C6A-836F63DB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C0D273-6796-4C00-9A24-F4E0BFA0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511C39-816E-40FD-A6C9-0543A721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7FCAE6-621F-4979-96D2-D0128BC0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2756-2AE8-47F5-8F14-29DA5BAC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607D-D78C-4B36-9D7B-C0DDDEA1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6BF1-9795-4170-B97C-E81E24E1929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FD4B-CBE4-4467-9F86-A9CB6779E48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BB18-C677-4A9F-B2DD-627CAA22778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4EB9-D349-4E4E-B88D-AEBD9DF5ED4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B2B3-944F-4CB8-8998-6B32FE745FC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B57C-6AD3-47B9-A2D4-5F56F7B6272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2"/>
          <a:stretch/>
        </p:blipFill>
        <p:spPr>
          <a:xfrm>
            <a:off x="457200" y="1238400"/>
            <a:ext cx="8308800" cy="217476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4"/>
          <p:cNvSpPr/>
          <p:nvPr/>
        </p:nvSpPr>
        <p:spPr>
          <a:xfrm>
            <a:off x="4561560" y="5732640"/>
            <a:ext cx="469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«Это маленькое и незаметное место…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7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Объект 3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3008160" cy="4525920"/>
          </a:xfrm>
          <a:prstGeom prst="rect">
            <a:avLst/>
          </a:prstGeom>
          <a:ln w="0">
            <a:noFill/>
          </a:ln>
        </p:spPr>
      </p:pic>
      <p:pic>
        <p:nvPicPr>
          <p:cNvPr id="276" name="Заголовок 1" descr=""/>
          <p:cNvPicPr/>
          <p:nvPr/>
        </p:nvPicPr>
        <p:blipFill>
          <a:blip r:embed="rId3"/>
          <a:stretch/>
        </p:blipFill>
        <p:spPr>
          <a:xfrm>
            <a:off x="3657600" y="476280"/>
            <a:ext cx="5162400" cy="45720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push dir="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3" descr=""/>
          <p:cNvPicPr/>
          <p:nvPr/>
        </p:nvPicPr>
        <p:blipFill>
          <a:blip r:embed="rId2"/>
          <a:stretch/>
        </p:blipFill>
        <p:spPr>
          <a:xfrm>
            <a:off x="512640" y="414360"/>
            <a:ext cx="8326440" cy="2951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C:\Users\AlexYa\Desktop\6.jpg"/>
          <p:cNvPicPr/>
          <p:nvPr/>
        </p:nvPicPr>
        <p:blipFill>
          <a:blip r:embed="rId3"/>
          <a:stretch/>
        </p:blipFill>
        <p:spPr>
          <a:xfrm>
            <a:off x="390600" y="3429000"/>
            <a:ext cx="3960720" cy="3095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C:\Users\AlexYa\Desktop\x_639884d0.jpg"/>
          <p:cNvPicPr/>
          <p:nvPr/>
        </p:nvPicPr>
        <p:blipFill>
          <a:blip r:embed="rId4"/>
          <a:stretch/>
        </p:blipFill>
        <p:spPr>
          <a:xfrm>
            <a:off x="4643280" y="3429000"/>
            <a:ext cx="396108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ircl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Объект 6" descr=""/>
          <p:cNvPicPr/>
          <p:nvPr/>
        </p:nvPicPr>
        <p:blipFill>
          <a:blip r:embed="rId2"/>
          <a:stretch/>
        </p:blipFill>
        <p:spPr>
          <a:xfrm>
            <a:off x="4094280" y="620640"/>
            <a:ext cx="4581360" cy="5715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3008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5000"/>
          </a:bodyPr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nstantia"/>
              </a:rPr>
              <a:t>Имение приобретено отцом писателя в 1831 году. Будущий писатель бывал здесь ежегодно с 1832 по 1838 год. Тайну Ф.М.Достоевского во многом объясняют детские годы, проведенные им в этой усадьб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95280" y="259920"/>
            <a:ext cx="3008160" cy="12114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Даровое</a:t>
            </a:r>
            <a:br>
              <a:rPr sz="2800"/>
            </a:br>
            <a:endParaRPr b="0" lang="en-US" sz="3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 spd="slow" advTm="13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3" descr=""/>
          <p:cNvPicPr/>
          <p:nvPr/>
        </p:nvPicPr>
        <p:blipFill>
          <a:blip r:embed="rId2"/>
          <a:stretch/>
        </p:blipFill>
        <p:spPr>
          <a:xfrm>
            <a:off x="360360" y="96840"/>
            <a:ext cx="8326440" cy="1420920"/>
          </a:xfrm>
          <a:prstGeom prst="rect">
            <a:avLst/>
          </a:prstGeom>
          <a:ln w="0">
            <a:noFill/>
          </a:ln>
        </p:spPr>
      </p:pic>
      <p:pic>
        <p:nvPicPr>
          <p:cNvPr id="258" name="Объект 6" descr=""/>
          <p:cNvPicPr/>
          <p:nvPr/>
        </p:nvPicPr>
        <p:blipFill>
          <a:blip r:embed="rId3"/>
          <a:stretch/>
        </p:blipFill>
        <p:spPr>
          <a:xfrm>
            <a:off x="977760" y="1523880"/>
            <a:ext cx="3017880" cy="4572000"/>
          </a:xfrm>
          <a:prstGeom prst="rect">
            <a:avLst/>
          </a:prstGeom>
          <a:ln w="0">
            <a:noFill/>
          </a:ln>
        </p:spPr>
      </p:pic>
      <p:pic>
        <p:nvPicPr>
          <p:cNvPr id="259" name="Объект 7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2951280" cy="4562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Объект 5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209080" cy="4525920"/>
          </a:xfrm>
          <a:prstGeom prst="rect">
            <a:avLst/>
          </a:prstGeom>
          <a:ln w="0">
            <a:noFill/>
          </a:ln>
        </p:spPr>
      </p:pic>
      <p:pic>
        <p:nvPicPr>
          <p:cNvPr id="261" name="Заголовок 3" descr=""/>
          <p:cNvPicPr/>
          <p:nvPr/>
        </p:nvPicPr>
        <p:blipFill>
          <a:blip r:embed="rId3"/>
          <a:stretch/>
        </p:blipFill>
        <p:spPr>
          <a:xfrm>
            <a:off x="365040" y="109440"/>
            <a:ext cx="8334360" cy="18050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Объект 6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5113440" cy="41767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796000" y="2492280"/>
            <a:ext cx="2705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2000"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В 1993 году на средства Гражданина России Писарева здесь поставлен памятник писателю работы скульптора Ю.Ф.Иванова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2050920" y="691920"/>
            <a:ext cx="5113440" cy="121284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Что представляет собой усадьба сегодня?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 spd="med" advTm="11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Объект 7" descr=""/>
          <p:cNvPicPr/>
          <p:nvPr/>
        </p:nvPicPr>
        <p:blipFill>
          <a:blip r:embed="rId2"/>
          <a:stretch/>
        </p:blipFill>
        <p:spPr>
          <a:xfrm>
            <a:off x="1547640" y="836640"/>
            <a:ext cx="6248520" cy="36669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50560" y="4941360"/>
            <a:ext cx="87138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Из всех построек на территории усадьбы сохранилось единственное здание, относящееся ко второй половине 19 века - флигель усадьб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9000">
    <p:push dir="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3" descr=""/>
          <p:cNvPicPr/>
          <p:nvPr/>
        </p:nvPicPr>
        <p:blipFill>
          <a:blip r:embed="rId2"/>
          <a:stretch/>
        </p:blipFill>
        <p:spPr>
          <a:xfrm>
            <a:off x="225360" y="554040"/>
            <a:ext cx="4213440" cy="5614920"/>
          </a:xfrm>
          <a:prstGeom prst="rect">
            <a:avLst/>
          </a:prstGeom>
          <a:ln w="0">
            <a:noFill/>
          </a:ln>
        </p:spPr>
      </p:pic>
      <p:pic>
        <p:nvPicPr>
          <p:cNvPr id="268" name="Объект 6" descr=""/>
          <p:cNvPicPr/>
          <p:nvPr/>
        </p:nvPicPr>
        <p:blipFill>
          <a:blip r:embed="rId3"/>
          <a:stretch/>
        </p:blipFill>
        <p:spPr>
          <a:xfrm>
            <a:off x="4643280" y="33336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269" name="Объект 7" descr=""/>
          <p:cNvPicPr/>
          <p:nvPr/>
        </p:nvPicPr>
        <p:blipFill>
          <a:blip r:embed="rId4"/>
          <a:stretch/>
        </p:blipFill>
        <p:spPr>
          <a:xfrm>
            <a:off x="4643280" y="3573360"/>
            <a:ext cx="4040280" cy="302112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randomBar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Объект 3" descr=""/>
          <p:cNvPicPr/>
          <p:nvPr/>
        </p:nvPicPr>
        <p:blipFill>
          <a:blip r:embed="rId2"/>
          <a:stretch/>
        </p:blipFill>
        <p:spPr>
          <a:xfrm>
            <a:off x="971640" y="476280"/>
            <a:ext cx="7488000" cy="4525920"/>
          </a:xfrm>
          <a:prstGeom prst="rect">
            <a:avLst/>
          </a:prstGeom>
          <a:ln w="0">
            <a:noFill/>
          </a:ln>
        </p:spPr>
      </p:pic>
      <p:pic>
        <p:nvPicPr>
          <p:cNvPr id="271" name="Заголовок 1" descr=""/>
          <p:cNvPicPr/>
          <p:nvPr/>
        </p:nvPicPr>
        <p:blipFill>
          <a:blip r:embed="rId3"/>
          <a:stretch/>
        </p:blipFill>
        <p:spPr>
          <a:xfrm>
            <a:off x="341280" y="5010120"/>
            <a:ext cx="8358120" cy="13240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Объект 3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3873600" cy="49546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5076720" y="1700280"/>
            <a:ext cx="368928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7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Constantia"/>
              </a:rPr>
              <a:t>В одном километре от Дарового расположено село Моногарово с церковью Сошествия Святого Духа(1763) -приходской церковью семьи Достоевских. Все летние церковные праздники были связаны с посещением этого сел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79236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Моногарово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 spd="slow" advTm="10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08:48:51Z</dcterms:created>
  <dc:creator>AlexYa</dc:creator>
  <dc:description/>
  <dc:language>en-US</dc:language>
  <cp:lastModifiedBy>nadezhda.pronskaya</cp:lastModifiedBy>
  <dcterms:modified xsi:type="dcterms:W3CDTF">2012-12-07T11:19:01Z</dcterms:modified>
  <cp:revision>15</cp:revision>
  <dc:subject/>
  <dc:title>Ф.М.Достоевский и Даровое</dc:title>
</cp:coreProperties>
</file>