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7.jpeg" ContentType="image/jpeg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705C-A082-4D5F-9FAE-93599D4B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B043-171C-43EE-A79F-F7D958EF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C7CD-93C2-460C-8DCB-D70C799E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3227-4143-4E7B-9C95-7DAFD31FB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66FDA-CA4B-4A54-9CB8-7D808DE11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A036B-F8F8-403E-953F-27DE2946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23F49-9D00-45D6-8809-2392BE25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795B1-6D60-445B-BF88-B1D1D1E2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2FB7C-703E-4AA8-80B5-F170325A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5D652-6037-4F25-B124-6CF9CAF4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573FB-7FA6-412B-B490-E10BEEEA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CD45-8BD0-4CEF-90C3-C1719C59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D700F-E297-4023-9F86-17A719AA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AFB11-AB33-4A1A-9CBF-C0ECA15F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A9184-33D8-4CFC-9231-5CF34CB5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2D441-3C19-45A5-A201-FC3C865D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4247B-3D92-42F6-8C86-473AE3BB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92AE5-73EE-4F95-91FD-D756E7476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7FBA5-5426-45B6-B519-C498CD5A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E2CFB-0245-4807-9BDF-6AC24E9E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4D623-82EF-47FD-B9BA-896DB50A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FB479-17EF-4DFD-B469-2DEFAEC9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F8C0-F4DE-46F9-BA4F-69A834C8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3ECE2-503D-447A-AA8E-79F8D70E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4F434-B038-42D5-8071-0E378FD1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2D6D4-239F-448D-A7FA-44F4EF76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14BD4-306D-483D-A2A5-56A5C46C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9E4D8-0DCF-44C4-B340-58A257A5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A911F-21F0-4BBF-A943-0E1C1C93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1FBD4-8783-4FA9-BE71-61603E3E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AC8287-5182-494C-BD18-7202797B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EFA77A-6955-4BE3-B80F-94B95C2B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931335-B411-4B8C-81AF-535324CD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C167-9CEB-471B-8BA6-CC324368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73DB60-DC9A-4D7A-9B8D-735C54D0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15838F-4B40-4594-9934-9F343768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77290A-A401-4761-BCE1-9D1BE78A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333239-266B-4635-A3BA-A95581F5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4F1C36-18D6-4B2C-8C4E-836CA3FA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7D0995-B348-4AF3-9CA6-3547B650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9CE818-D67E-4AFB-BEDC-45FA4E6D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2D9F9E-2E28-4076-B635-A1D3C0C9E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A42941-53F7-4870-AA0E-852256787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93E4CD-DF4C-4C42-95DE-091332DEB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2E8B-EF81-48AE-81BB-0603146A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719010-EDAA-457B-AEEF-9918050B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21D8CC-A331-4CF7-916F-64CE3EAD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69D158-68B7-427B-88EF-C42C73B2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A87090-EB9A-49B6-9357-20CF23B2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ABDF5E-DD0B-4C1B-A3D8-0554F805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13E4C8-DFAD-40BA-874B-94CB6141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8F0B66-26FC-4438-BEDB-7D4D496B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8B6378-C60E-4DD0-95CA-E8EB3DDB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60B352-45C5-4042-87AB-11AE049A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862F31-3796-47E3-BFE5-D0E85BBFD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C2BF-8ACB-4789-B7A6-9F5B431A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23FE87-CC3A-4EB1-A47A-E1759A0A2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E679F9-C2E1-4982-998F-467088176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C338C6-259A-4DBE-8349-1C533240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3178BC-7C81-4CA0-B722-3FFD81D6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79F450-0973-4FD4-83DC-8F556876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33CCD0-4EDA-4A07-A4F9-7E9FD78C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C5F7B9-903E-4C94-B2D0-CC075276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33B1E3-27D8-4B4F-A4B9-078958A4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D57511-D70E-4195-BDDA-7E7A7FBA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FDD118-45D9-42FE-A617-B0151BFB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F678-F8BC-4DDC-945D-5F79C16D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2407C0-AFB0-4769-A8F9-BEF5B4AA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6B7AE1-FE7A-43D8-A2CF-4157F744A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0349B3-35A3-4740-8524-287F1AF6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449F-5633-446C-B318-EC41D620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BA39-4963-4C41-BAD6-DAA25A8A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FCD6-92E8-4A7F-BE2B-D121711CC967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EA43-7F7E-4FDB-ADCD-6674205B118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DFE0-816D-4948-8A3F-E272471A2B0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99DA-A203-4785-A872-FEE86AF6081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290D-1F26-41F2-B8C4-BE7B8FE6007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3694-6D0F-4849-B2C4-7CD60A7BD4C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2"/>
          <a:stretch/>
        </p:blipFill>
        <p:spPr>
          <a:xfrm>
            <a:off x="457200" y="1238400"/>
            <a:ext cx="8308800" cy="217476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4"/>
          <p:cNvSpPr/>
          <p:nvPr/>
        </p:nvSpPr>
        <p:spPr>
          <a:xfrm>
            <a:off x="4561560" y="5732640"/>
            <a:ext cx="469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nstantia"/>
              </a:rPr>
              <a:t>«Это маленькое и незаметное место…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7000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Объект 3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3008160" cy="4525920"/>
          </a:xfrm>
          <a:prstGeom prst="rect">
            <a:avLst/>
          </a:prstGeom>
          <a:ln w="0">
            <a:noFill/>
          </a:ln>
        </p:spPr>
      </p:pic>
      <p:pic>
        <p:nvPicPr>
          <p:cNvPr id="276" name="Заголовок 1" descr=""/>
          <p:cNvPicPr/>
          <p:nvPr/>
        </p:nvPicPr>
        <p:blipFill>
          <a:blip r:embed="rId3"/>
          <a:stretch/>
        </p:blipFill>
        <p:spPr>
          <a:xfrm>
            <a:off x="3657600" y="476280"/>
            <a:ext cx="5162400" cy="457200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push dir="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Заголовок 3" descr=""/>
          <p:cNvPicPr/>
          <p:nvPr/>
        </p:nvPicPr>
        <p:blipFill>
          <a:blip r:embed="rId2"/>
          <a:stretch/>
        </p:blipFill>
        <p:spPr>
          <a:xfrm>
            <a:off x="512640" y="414360"/>
            <a:ext cx="8326440" cy="2951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C:\Users\AlexYa\Desktop\6.jpg"/>
          <p:cNvPicPr/>
          <p:nvPr/>
        </p:nvPicPr>
        <p:blipFill>
          <a:blip r:embed="rId3"/>
          <a:stretch/>
        </p:blipFill>
        <p:spPr>
          <a:xfrm>
            <a:off x="390600" y="3429000"/>
            <a:ext cx="3960720" cy="30956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C:\Users\AlexYa\Desktop\x_639884d0.jpg"/>
          <p:cNvPicPr/>
          <p:nvPr/>
        </p:nvPicPr>
        <p:blipFill>
          <a:blip r:embed="rId4"/>
          <a:stretch/>
        </p:blipFill>
        <p:spPr>
          <a:xfrm>
            <a:off x="4643280" y="3429000"/>
            <a:ext cx="3961080" cy="309564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circl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Объект 6" descr=""/>
          <p:cNvPicPr/>
          <p:nvPr/>
        </p:nvPicPr>
        <p:blipFill>
          <a:blip r:embed="rId2"/>
          <a:stretch/>
        </p:blipFill>
        <p:spPr>
          <a:xfrm>
            <a:off x="4094280" y="620640"/>
            <a:ext cx="4581360" cy="5715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30081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95000"/>
          </a:bodyPr>
          <a:p>
            <a:pPr indent="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nstantia"/>
              </a:rPr>
              <a:t>Имение приобретено отцом писателя в 1831 году. Будущий писатель бывал здесь ежегодно с 1832 по 1838 год. Тайну Ф.М.Достоевского во многом объясняют детские годы, проведенные им в этой усадьб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395280" y="259920"/>
            <a:ext cx="3008160" cy="121140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Даровое</a:t>
            </a:r>
            <a:br>
              <a:rPr sz="2800"/>
            </a:br>
            <a:endParaRPr b="0" lang="en-US" sz="3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transition spd="slow" advTm="13000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3" descr=""/>
          <p:cNvPicPr/>
          <p:nvPr/>
        </p:nvPicPr>
        <p:blipFill>
          <a:blip r:embed="rId2"/>
          <a:stretch/>
        </p:blipFill>
        <p:spPr>
          <a:xfrm>
            <a:off x="360360" y="96840"/>
            <a:ext cx="8326440" cy="1420920"/>
          </a:xfrm>
          <a:prstGeom prst="rect">
            <a:avLst/>
          </a:prstGeom>
          <a:ln w="0">
            <a:noFill/>
          </a:ln>
        </p:spPr>
      </p:pic>
      <p:pic>
        <p:nvPicPr>
          <p:cNvPr id="258" name="Объект 6" descr=""/>
          <p:cNvPicPr/>
          <p:nvPr/>
        </p:nvPicPr>
        <p:blipFill>
          <a:blip r:embed="rId3"/>
          <a:stretch/>
        </p:blipFill>
        <p:spPr>
          <a:xfrm>
            <a:off x="977760" y="1523880"/>
            <a:ext cx="3017880" cy="4572000"/>
          </a:xfrm>
          <a:prstGeom prst="rect">
            <a:avLst/>
          </a:prstGeom>
          <a:ln w="0">
            <a:noFill/>
          </a:ln>
        </p:spPr>
      </p:pic>
      <p:pic>
        <p:nvPicPr>
          <p:cNvPr id="259" name="Объект 7" descr=""/>
          <p:cNvPicPr/>
          <p:nvPr/>
        </p:nvPicPr>
        <p:blipFill>
          <a:blip r:embed="rId4"/>
          <a:stretch/>
        </p:blipFill>
        <p:spPr>
          <a:xfrm>
            <a:off x="5292720" y="1557360"/>
            <a:ext cx="2951280" cy="4562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Объект 5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8209080" cy="4525920"/>
          </a:xfrm>
          <a:prstGeom prst="rect">
            <a:avLst/>
          </a:prstGeom>
          <a:ln w="0">
            <a:noFill/>
          </a:ln>
        </p:spPr>
      </p:pic>
      <p:pic>
        <p:nvPicPr>
          <p:cNvPr id="261" name="Заголовок 3" descr=""/>
          <p:cNvPicPr/>
          <p:nvPr/>
        </p:nvPicPr>
        <p:blipFill>
          <a:blip r:embed="rId3"/>
          <a:stretch/>
        </p:blipFill>
        <p:spPr>
          <a:xfrm>
            <a:off x="365040" y="109440"/>
            <a:ext cx="8334360" cy="18050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Объект 6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5113440" cy="417672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5796000" y="2492280"/>
            <a:ext cx="2705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92000"/>
          </a:bodyPr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nstantia"/>
              </a:rPr>
              <a:t>В 1993 году на средства Гражданина России Писарева здесь поставлен памятник писателю работы скульптора Ю.Ф.Иванова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2050920" y="691920"/>
            <a:ext cx="5113440" cy="121284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nstantia"/>
              </a:rPr>
              <a:t>Что представляет собой усадьба сегодня?</a:t>
            </a:r>
            <a:endParaRPr b="0" lang="en-US" sz="28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transition spd="med" advTm="11000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Объект 7" descr=""/>
          <p:cNvPicPr/>
          <p:nvPr/>
        </p:nvPicPr>
        <p:blipFill>
          <a:blip r:embed="rId2"/>
          <a:stretch/>
        </p:blipFill>
        <p:spPr>
          <a:xfrm>
            <a:off x="1547640" y="836640"/>
            <a:ext cx="6248520" cy="366696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50560" y="4941360"/>
            <a:ext cx="871380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nstantia"/>
              </a:rPr>
              <a:t>Из всех построек на территории усадьбы сохранилось единственное здание, относящееся ко второй половине 19 века - флигель усадьбы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9000">
    <p:push dir="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Заголовок 3" descr=""/>
          <p:cNvPicPr/>
          <p:nvPr/>
        </p:nvPicPr>
        <p:blipFill>
          <a:blip r:embed="rId2"/>
          <a:stretch/>
        </p:blipFill>
        <p:spPr>
          <a:xfrm>
            <a:off x="225360" y="554040"/>
            <a:ext cx="4213440" cy="5614920"/>
          </a:xfrm>
          <a:prstGeom prst="rect">
            <a:avLst/>
          </a:prstGeom>
          <a:ln w="0">
            <a:noFill/>
          </a:ln>
        </p:spPr>
      </p:pic>
      <p:pic>
        <p:nvPicPr>
          <p:cNvPr id="268" name="Объект 6" descr=""/>
          <p:cNvPicPr/>
          <p:nvPr/>
        </p:nvPicPr>
        <p:blipFill>
          <a:blip r:embed="rId3"/>
          <a:stretch/>
        </p:blipFill>
        <p:spPr>
          <a:xfrm>
            <a:off x="4643280" y="333360"/>
            <a:ext cx="4032360" cy="2878200"/>
          </a:xfrm>
          <a:prstGeom prst="rect">
            <a:avLst/>
          </a:prstGeom>
          <a:ln w="0">
            <a:noFill/>
          </a:ln>
        </p:spPr>
      </p:pic>
      <p:pic>
        <p:nvPicPr>
          <p:cNvPr id="269" name="Объект 7" descr=""/>
          <p:cNvPicPr/>
          <p:nvPr/>
        </p:nvPicPr>
        <p:blipFill>
          <a:blip r:embed="rId4"/>
          <a:stretch/>
        </p:blipFill>
        <p:spPr>
          <a:xfrm>
            <a:off x="4643280" y="3573360"/>
            <a:ext cx="4040280" cy="3021120"/>
          </a:xfrm>
          <a:prstGeom prst="rect">
            <a:avLst/>
          </a:prstGeom>
          <a:ln w="0">
            <a:noFill/>
          </a:ln>
        </p:spPr>
      </p:pic>
    </p:spTree>
  </p:cSld>
  <p:transition spd="slow" advTm="21000">
    <p:randomBar dir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Объект 3" descr=""/>
          <p:cNvPicPr/>
          <p:nvPr/>
        </p:nvPicPr>
        <p:blipFill>
          <a:blip r:embed="rId2"/>
          <a:stretch/>
        </p:blipFill>
        <p:spPr>
          <a:xfrm>
            <a:off x="971640" y="476280"/>
            <a:ext cx="7488000" cy="4525920"/>
          </a:xfrm>
          <a:prstGeom prst="rect">
            <a:avLst/>
          </a:prstGeom>
          <a:ln w="0">
            <a:noFill/>
          </a:ln>
        </p:spPr>
      </p:pic>
      <p:pic>
        <p:nvPicPr>
          <p:cNvPr id="271" name="Заголовок 1" descr=""/>
          <p:cNvPicPr/>
          <p:nvPr/>
        </p:nvPicPr>
        <p:blipFill>
          <a:blip r:embed="rId3"/>
          <a:stretch/>
        </p:blipFill>
        <p:spPr>
          <a:xfrm>
            <a:off x="341280" y="5010120"/>
            <a:ext cx="8358120" cy="132408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split dir="out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Объект 3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3873600" cy="49546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5076720" y="1700280"/>
            <a:ext cx="368928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97000"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Constantia"/>
              </a:rPr>
              <a:t>В одном километре от Дарового расположено село Моногарово с церковью Сошествия Святого Духа(1763) -приходской церковью семьи Достоевских. Все летние церковные праздники были связаны с посещением этого сел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79236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Моногарово</a:t>
            </a:r>
            <a:endParaRPr b="0" lang="en-US" sz="28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transition spd="slow" advTm="10000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08:48:51Z</dcterms:created>
  <dc:creator>AlexYa</dc:creator>
  <dc:description/>
  <dc:language>en-US</dc:language>
  <cp:lastModifiedBy>nadezhda.pronskaya</cp:lastModifiedBy>
  <dcterms:modified xsi:type="dcterms:W3CDTF">2012-12-07T11:19:01Z</dcterms:modified>
  <cp:revision>15</cp:revision>
  <dc:subject/>
  <dc:title>Ф.М.Достоевский и Даровое</dc:title>
</cp:coreProperties>
</file>