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A2D-5F7B-4DBC-9F59-8844B0E1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D7D-BCB7-4461-8095-AC0A699A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006-EAC3-4CB4-A38D-AB131509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E02-382D-411B-A5DB-0D9A43B3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814A3-0444-4EF8-AED7-BDBF97DE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63DCA-5B47-4069-BB27-9BD7A113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0ABB4-80FB-4F96-BC2E-CED0A7B1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82BA5-EC65-4CD7-9B43-9C90C589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5566B-3C81-49DE-9C59-ADC8BFF7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674D4-C059-4BA9-90D0-8EF2D067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6D523-61C7-4168-81B6-5E35DDD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C84-1BC3-428E-B148-8F2BD37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7C337-A2BA-48CE-A200-9E6945D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0705D-98BA-4E5C-B21C-D7D33AC7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406FA-9E1A-415E-91A1-580A10BF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034A1-F795-48E9-AD59-DF3F511B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F54E4-16B6-46F5-AEC9-2712776D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82495-C877-493D-8DA5-608792F5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21EF-B464-429E-A77A-7D61C30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AD979-90B8-4F0F-8253-40D70B08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A365-C127-48D5-B3E8-C19C8AB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3D69-DD9E-46A5-9932-0828E171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AF8-ACE6-435B-93F5-DA1AB02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6DF2-A495-4BDA-8D03-3112474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B706-05A0-4DA4-9DE6-24D00116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E7B0-77EF-449A-A5B0-1474656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E846-7AF6-4FA2-A0F3-ADC1D306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94C4-DC9A-4EE8-99E5-245C9EDA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BC27-1290-4562-8E47-C9394B48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3A75-04EE-41B1-8269-3170BC4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95E79-0137-4293-9AA3-E566660F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7D68DB-CE78-4A4E-8432-563E1FE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DA085-5B32-489A-881E-0D1C087A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6AC-9746-46FD-878F-E4FE918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EB7C7-6F8B-48F6-91CC-F52F151B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18886-45C5-4599-B046-0427D0B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86D06-D193-4720-94CE-3E8C794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78872-FE36-4037-AE54-A4992D5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AE6D4-A00A-4241-8033-A0F65F3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41F2F-6A4C-48F9-B42F-32B5E94B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5BC99-EFD6-4F94-8DDE-02991382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4060B-05D8-4376-A43B-A013EE37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331E4-2827-4878-9FCC-DA4A9BFF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49F42-2C0E-4EAB-BF9B-40675ADD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8C3-E06B-43F1-AEA0-4684EA3A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BBA11-5963-4568-A8C1-775D0128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EAB15-43E8-47A2-B435-A76A955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453CC-15D7-4061-AD50-929608EC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6CB95-F53C-4501-8BDC-E4DDA29C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7BA8A-F43F-4BAF-8B6B-B0600DD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FDE03-ABE8-48D0-855F-EB06B39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1FD76-909A-4A6D-AD33-6EEDA0A7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329C9-A5CA-40C9-BD81-0FEAD54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686A5-0972-4588-B74A-7FC3C8A9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CFCB9-D6DE-4F29-BF6A-BCEB9B5A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914-5A2B-4F01-AB18-B2F636D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91AB9-74BC-4D86-A58D-2E57795F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D137D-61F0-421C-9389-2FDD1D8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8F89ED-A184-4F81-BD93-DBF6FFEC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5A6CB-D505-49CF-BCC0-A8B53EA2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28AF2-6121-470B-B065-0E25594E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99531C-0A99-4F45-A7C8-5931AE64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19E726-553F-4212-9DFB-02112FA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D65799-A98B-4342-95FF-7FA005FC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05BB7-C032-4487-9CA1-408EF46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B4402-B6B3-405F-9866-919EE23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4C1-37CF-405D-8302-B840F17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888E1-DDDE-43C2-8925-8109544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EE111-DA98-4FCD-A27F-41D98FA0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3E8E7-AFC9-47D3-A81D-A3AD1713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450-4D80-4054-B124-5C9D83C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CF6-1DDD-4509-8CF7-C278072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1F38-025A-4838-AC83-FEB3ED41FCA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D189-107C-41CE-B325-C22DE61362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A6E-E991-4802-B3F6-3D6595A8038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B118-F0F5-4336-B7A4-F1CFBF3E93D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C9D6-3F81-4E53-8994-4D39CCE1CCA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F2C0-6D23-4C66-968E-162ACED9AF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57200" y="1238400"/>
            <a:ext cx="8308800" cy="217476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561560" y="5732640"/>
            <a:ext cx="46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«Это маленькое и незаметное место…»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7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00816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Заголовок 1" descr=""/>
          <p:cNvPicPr/>
          <p:nvPr/>
        </p:nvPicPr>
        <p:blipFill>
          <a:blip r:embed="rId3"/>
          <a:stretch/>
        </p:blipFill>
        <p:spPr>
          <a:xfrm>
            <a:off x="3657600" y="476280"/>
            <a:ext cx="516240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sh dir="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3" descr=""/>
          <p:cNvPicPr/>
          <p:nvPr/>
        </p:nvPicPr>
        <p:blipFill>
          <a:blip r:embed="rId2"/>
          <a:stretch/>
        </p:blipFill>
        <p:spPr>
          <a:xfrm>
            <a:off x="512640" y="414360"/>
            <a:ext cx="8326440" cy="295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lexYa\Desktop\6.jpg"/>
          <p:cNvPicPr/>
          <p:nvPr/>
        </p:nvPicPr>
        <p:blipFill>
          <a:blip r:embed="rId3"/>
          <a:stretch/>
        </p:blipFill>
        <p:spPr>
          <a:xfrm>
            <a:off x="390600" y="3429000"/>
            <a:ext cx="3960720" cy="3095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AlexYa\Desktop\x_639884d0.jpg"/>
          <p:cNvPicPr/>
          <p:nvPr/>
        </p:nvPicPr>
        <p:blipFill>
          <a:blip r:embed="rId4"/>
          <a:stretch/>
        </p:blipFill>
        <p:spPr>
          <a:xfrm>
            <a:off x="4643280" y="3429000"/>
            <a:ext cx="39610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6" descr=""/>
          <p:cNvPicPr/>
          <p:nvPr/>
        </p:nvPicPr>
        <p:blipFill>
          <a:blip r:embed="rId2"/>
          <a:stretch/>
        </p:blipFill>
        <p:spPr>
          <a:xfrm>
            <a:off x="4094280" y="620640"/>
            <a:ext cx="458136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3008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5000"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Constantia"/>
              </a:rPr>
              <a:t>Имение приобретено отцом писателя в 1831 году. Будущий писатель бывал здесь ежегодно с 1832 по 1838 год. Тайну Ф.М.Достоевского во многом объясняют детские годы, проведенные им в этой усадь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3008160" cy="1211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Даровое</a:t>
            </a:r>
            <a:br>
              <a:rPr sz="28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3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2"/>
          <a:stretch/>
        </p:blipFill>
        <p:spPr>
          <a:xfrm>
            <a:off x="360360" y="96840"/>
            <a:ext cx="8326440" cy="1420920"/>
          </a:xfrm>
          <a:prstGeom prst="rect">
            <a:avLst/>
          </a:prstGeom>
          <a:ln w="0">
            <a:noFill/>
          </a:ln>
        </p:spPr>
      </p:pic>
      <p:pic>
        <p:nvPicPr>
          <p:cNvPr id="258" name="Объект 6" descr=""/>
          <p:cNvPicPr/>
          <p:nvPr/>
        </p:nvPicPr>
        <p:blipFill>
          <a:blip r:embed="rId3"/>
          <a:stretch/>
        </p:blipFill>
        <p:spPr>
          <a:xfrm>
            <a:off x="977760" y="1523880"/>
            <a:ext cx="3017880" cy="4572000"/>
          </a:xfrm>
          <a:prstGeom prst="rect">
            <a:avLst/>
          </a:prstGeom>
          <a:ln w="0">
            <a:noFill/>
          </a:ln>
        </p:spPr>
      </p:pic>
      <p:pic>
        <p:nvPicPr>
          <p:cNvPr id="259" name="Объект 7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951280" cy="4562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Объект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209080" cy="4525920"/>
          </a:xfrm>
          <a:prstGeom prst="rect">
            <a:avLst/>
          </a:prstGeom>
          <a:ln w="0">
            <a:noFill/>
          </a:ln>
        </p:spPr>
      </p:pic>
      <p:pic>
        <p:nvPicPr>
          <p:cNvPr id="261" name="Заголовок 3" descr=""/>
          <p:cNvPicPr/>
          <p:nvPr/>
        </p:nvPicPr>
        <p:blipFill>
          <a:blip r:embed="rId3"/>
          <a:stretch/>
        </p:blipFill>
        <p:spPr>
          <a:xfrm>
            <a:off x="365040" y="109440"/>
            <a:ext cx="8334360" cy="1805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Объект 6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1134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796000" y="2492280"/>
            <a:ext cx="270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В 1993 году на средства Гражданина России Писарева здесь поставлен памятник писателю работы скульптора Ю.Ф.Иванов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050920" y="691920"/>
            <a:ext cx="5113440" cy="12128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Что представляет собой усадьба сегодня?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med" advTm="11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6248520" cy="3666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7138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Из всех построек на территории усадьбы сохранилось единственное здание, относящееся ко второй половине 19 века - флигель усадьб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 advTm="9000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3" descr=""/>
          <p:cNvPicPr/>
          <p:nvPr/>
        </p:nvPicPr>
        <p:blipFill>
          <a:blip r:embed="rId2"/>
          <a:stretch/>
        </p:blipFill>
        <p:spPr>
          <a:xfrm>
            <a:off x="225360" y="554040"/>
            <a:ext cx="4213440" cy="5614920"/>
          </a:xfrm>
          <a:prstGeom prst="rect">
            <a:avLst/>
          </a:prstGeom>
          <a:ln w="0">
            <a:noFill/>
          </a:ln>
        </p:spPr>
      </p:pic>
      <p:pic>
        <p:nvPicPr>
          <p:cNvPr id="268" name="Объект 6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269" name="Объект 7" descr=""/>
          <p:cNvPicPr/>
          <p:nvPr/>
        </p:nvPicPr>
        <p:blipFill>
          <a:blip r:embed="rId4"/>
          <a:stretch/>
        </p:blipFill>
        <p:spPr>
          <a:xfrm>
            <a:off x="4643280" y="3573360"/>
            <a:ext cx="4040280" cy="302112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randomBar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Объект 3" descr=""/>
          <p:cNvPicPr/>
          <p:nvPr/>
        </p:nvPicPr>
        <p:blipFill>
          <a:blip r:embed="rId2"/>
          <a:stretch/>
        </p:blipFill>
        <p:spPr>
          <a:xfrm>
            <a:off x="971640" y="476280"/>
            <a:ext cx="748800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Заголовок 1" descr=""/>
          <p:cNvPicPr/>
          <p:nvPr/>
        </p:nvPicPr>
        <p:blipFill>
          <a:blip r:embed="rId3"/>
          <a:stretch/>
        </p:blipFill>
        <p:spPr>
          <a:xfrm>
            <a:off x="341280" y="5010120"/>
            <a:ext cx="8358120" cy="1324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Объект 3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3873600" cy="4954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076720" y="1700280"/>
            <a:ext cx="36892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nstantia"/>
              </a:rPr>
              <a:t>В одном километре от Дарового расположено село Моногарово с церковью Сошествия Святого Духа(1763) -приходской церковью семьи Достоевских. Все летние церковные праздники были связаны с посещением этого сел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оногарово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 spd="slow" advTm="10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8:48:51Z</dcterms:created>
  <dc:creator>AlexYa</dc:creator>
  <dc:description/>
  <dc:language>en-US</dc:language>
  <cp:lastModifiedBy>nadezhda.pronskaya</cp:lastModifiedBy>
  <dcterms:modified xsi:type="dcterms:W3CDTF">2012-12-07T11:19:01Z</dcterms:modified>
  <cp:revision>15</cp:revision>
  <dc:subject/>
  <dc:title>Ф.М.Достоевский и Даровое</dc:title>
</cp:coreProperties>
</file>