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FE0-D28B-48EA-8208-A7B291260E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сть приг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F232-5645-400E-ABAD-69EDDB8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9EFF-E41D-4E23-8FE4-12BED1E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19EB-D90E-4B71-BD69-B0A4756C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B9F1-D401-4BBD-898D-DD4CBD3D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F1B4-531B-4FFF-B139-0AB90C84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CBC-5D3C-4DB4-B425-F8D028B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387-F462-4C6C-8E8F-2CB44ACD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1AF2-9417-453D-BB82-B28B586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818-1A8D-450D-B5D1-2C69E45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DDC-C4C0-4097-B8E8-157513B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61DF-60D3-41C1-9024-37F769C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177D-409C-41E7-9054-7DD96D5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81FF-850F-4C61-B536-470AC3C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DC3B-109E-421A-A0DE-B7035E3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B74A-46C3-4CFA-ABCF-411996A0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5373-226C-445B-B3BD-5C2DF4C9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277-5511-4484-BD03-E228B79B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742A-69F4-40B6-97E9-5C717E84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161F-A952-4AC3-85FC-6210119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F604-6E11-4D1C-BE97-D883EBCD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1239-146F-432E-87A1-99F87167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8D4C-7D80-4DA3-9976-4BB0BBF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F0B7-0723-4FC0-BB1C-00D0D4E2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6CFA-6637-4E8D-9FB7-812E411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655-D9D6-47C0-B0C1-E957ECF99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29D-0E32-4386-A4EC-FFB609617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Урок в 11 классе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по рассказу В.Токаревой «Центр памят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685440"/>
            <a:ext cx="4038480" cy="5791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520" y="761760"/>
            <a:ext cx="3581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Чего приш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Совесть приг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А раньше где твоя совесть была? Тридцать лет наз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Так там любовь была. А поперек любви какая совесть усто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270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У литературы одна цель – помочь человеку, дохн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  <a:ea typeface="Arial"/>
              </a:rPr>
              <a:t>ý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ть на него при чтении книги теплом и доб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                                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В. Распу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362960" y="7391160"/>
            <a:ext cx="327636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7680" y="-56084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4191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Виктория Токарева не просто «золотой классик», но  -       СОЗДАТЕЛЬ современной отечественной женской прозы. Не просто талантливый писатель, но – абсолютный знаток женской души и подлинный мастер СЛОВА</a:t>
            </a:r>
            <a:r>
              <a:rPr b="1" lang="en-US" sz="2800" spc="-1" strike="noStrike">
                <a:solidFill>
                  <a:srgbClr val="00007d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829800" y="8534520"/>
            <a:ext cx="4968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195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53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Ваш неповторимый стиль, тонкий юмор, серьёзность и глубина изменили традиционные представления о женской прозе. Замечательные рассказы принесли Вам настоящий успех и признание, стали яркой страницей отечественн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                               </a:t>
            </a:r>
            <a:r>
              <a:rPr b="1" lang="en-US" sz="3200" spc="-1" strike="noStrike">
                <a:solidFill>
                  <a:srgbClr val="00007d"/>
                </a:solidFill>
                <a:latin typeface="바탕"/>
              </a:rPr>
              <a:t>Владимир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3640" y="-380880"/>
            <a:ext cx="15228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С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ока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ся деревня Сюхино состояла из одной улицы. Улица выходила к мелкому оврагу. Там обычно шло гуля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4920" y="60948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436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685440"/>
            <a:ext cx="62481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Она бежала по пол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 посреди поля горел та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5943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45684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Это память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GA</cp:lastModifiedBy>
  <dcterms:modified xsi:type="dcterms:W3CDTF">2002-12-31T22:21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