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265E-C2B7-4D9E-8F62-C2701EAFA1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сть пригн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96E2A-F32E-4D98-828F-793FDA586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1E0CE-BB6D-4D4D-9118-595FC5E3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0AB06-37EC-4F13-A834-15D9FE32F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6CBF6-08A5-4C16-A3CE-FE173A03A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DB78-944D-48D4-8BC6-6063C996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96DF-5618-49A7-8116-70D9F0FC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802B-B239-4890-A6CF-4739BD2A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C915-8BA5-4980-B31F-EA421839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B1B1-7B3E-4828-AC48-1B99C214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A16B-058A-4EBB-8516-94F73148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6F77-7BDE-462A-BA30-60828599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FF832-B68F-4025-9F8F-B85502FD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DAB1-1CA8-45E2-A07E-EC0FC09F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ABDA-ABB3-4A64-AEF5-2125C9B3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6F07-CEF7-42CF-98F4-1705233A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3771-D5B6-41C6-98C1-8FD600E3D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467A-029F-4726-8859-7B12A9DE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5ADE4-E5A9-4BEB-8A01-311734B6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CBF1D-A087-4ADE-812D-0FBBAEB9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461FB-9F2A-4152-9651-37735BCD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6854D-7F23-4BB7-9F36-D96D901A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90FFE-BD9F-49B1-AC49-C838E73D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C38B4-61FF-4D5F-954E-4810BD35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8662F-AF72-4CF6-958E-DFFB3339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634B-1FE6-4E5A-89CC-5DD0BC6CB5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B1AE-4C92-4EA3-8F1B-1F8F995AE3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1371600"/>
            <a:ext cx="79250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Урок в 11 классе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по рассказу В.Токаревой «Центр памяти»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685440"/>
            <a:ext cx="4038480" cy="57913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05520" y="761760"/>
            <a:ext cx="3581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- Чего приш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- Совесть пригн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- А раньше где твоя совесть была? Тридцать лет наза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- Так там любовь была. А поперек любви какая совесть устои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4270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У литературы одна цель – помочь человеку, дохн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  <a:ea typeface="Arial"/>
              </a:rPr>
              <a:t>ý</a:t>
            </a: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ть на него при чтении книги теплом и добр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                                   </a:t>
            </a: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В. Распут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4037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362960" y="7391160"/>
            <a:ext cx="3276360" cy="2057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67680" y="-560844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41911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7d"/>
                </a:solidFill>
                <a:latin typeface="Times New Roman"/>
              </a:rPr>
              <a:t>Виктория Токарева не просто «золотой классик», но  -       СОЗДАТЕЛЬ современной отечественной женской прозы. Не просто талантливый писатель, но – абсолютный знаток женской души и подлинный мастер СЛОВА</a:t>
            </a:r>
            <a:r>
              <a:rPr b="1" lang="en-US" sz="2800" spc="-1" strike="noStrike">
                <a:solidFill>
                  <a:srgbClr val="00007d"/>
                </a:solidFill>
                <a:latin typeface="바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49760" y="1980720"/>
            <a:ext cx="4037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829800" y="8534520"/>
            <a:ext cx="496800" cy="761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72000" y="457200"/>
            <a:ext cx="421956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53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7d"/>
                </a:solidFill>
                <a:latin typeface="바탕"/>
              </a:rPr>
              <a:t>Ваш неповторимый стиль, тонкий юмор, серьёзность и глубина изменили традиционные представления о женской прозе. Замечательные рассказы принесли Вам настоящий успех и признание, стали яркой страницей отечественной литер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바탕"/>
              </a:rPr>
              <a:t>                               </a:t>
            </a:r>
            <a:r>
              <a:rPr b="1" lang="en-US" sz="3200" spc="-1" strike="noStrike">
                <a:solidFill>
                  <a:srgbClr val="00007d"/>
                </a:solidFill>
                <a:latin typeface="바탕"/>
              </a:rPr>
              <a:t>Владимир Пут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3640" y="-380880"/>
            <a:ext cx="152280" cy="1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2819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Ключевые сл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Со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Пам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Б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Покая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124080" y="1066680"/>
            <a:ext cx="58676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47242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Вся деревня Сюхино состояла из одной улицы. Улица выходила к мелкому оврагу. Там обычно шло гулян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94920" y="609480"/>
            <a:ext cx="6629400" cy="3657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295280" y="609480"/>
            <a:ext cx="6858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23880" y="457200"/>
            <a:ext cx="5943600" cy="35812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790960"/>
            <a:ext cx="82296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815328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47920" y="685440"/>
            <a:ext cx="6248160" cy="39625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4876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Она бежала по пол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 посреди поля горел тан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600200" y="838080"/>
            <a:ext cx="59436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38080" y="456840"/>
            <a:ext cx="7467840" cy="51814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943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Это память ст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38080" y="533520"/>
            <a:ext cx="7391520" cy="5105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GA</cp:lastModifiedBy>
  <dcterms:modified xsi:type="dcterms:W3CDTF">2002-12-31T22:21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