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72C8-C6BF-4270-9728-2D478EAA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E561-6A1A-45A3-830A-EB5A3F9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5A0F-5558-4776-8786-5D43B228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F052-8609-4719-8DE9-ED40A216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EA88-5D2B-42CF-86CF-7A14EFD2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5933-6292-4DDC-B0BF-F0FB1C1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2BB-EA66-4417-AD67-17B69A77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70C5-352C-444D-ADA2-BBAEA7D9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0E45-40C5-4267-B88A-D2C4EDDD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529-9233-437E-AA97-FD1221E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1963-D7E0-4714-B96F-676894C2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8946-A797-42BB-A5B2-BF7D3BF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23A-ED04-4852-AD5E-15DA8F6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548F-95A7-4191-AE7A-28BE07A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1B1-B991-4B54-BCC8-8C8FC300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C81F-BC0A-42FE-B844-B2F1FB44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7351-4C59-4FBB-8595-9D194FB6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42B0-D521-48BB-B2D2-2215B02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A4EC-DF47-41E6-AE3E-58933DA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622A-537E-4247-8214-8DEDA85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1C75-8721-4CF3-BE7C-01841DA1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627D-C903-4E2D-90B6-31F653E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315B-6CC1-4E98-B10C-FED05E2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77CC-EA69-4A08-9154-66C95047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1DBD-022A-4777-848B-A8819CF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1001-089F-4C9A-A965-0FB0229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8094-1BD3-4E7F-A5F6-B01D6F5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086A-24AC-4665-886D-4867A8F5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BF53-38A5-4CBB-9B37-A6310477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C544-CDD2-4481-B528-5B3BD244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7CBE-80F1-46F4-BCDA-36E5073B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6BB1-159D-4456-9AB3-833C2FC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8E49-00A8-46F3-922F-8DF94C35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E435-2C1A-495F-9B87-E46DBD8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4A710-4E75-41B9-BFA2-823BFD37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1FDE-97E8-4748-8469-9BE2942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6F6C-C949-455D-8E0A-A5D3799D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E73D-5635-471E-954A-283A9D0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076F-259B-4B70-B6A1-9D628FD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5FC9-E7BA-4A21-84C0-B03EFC1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E2D2-36B3-45D4-BA65-A9D0739A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2468C-C640-49A9-95E4-324FF241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1A69-A472-4DD8-A0E3-4FF1045D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7EF8-E275-46EC-A26B-731A38B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EF6A-C3C9-416C-BE44-0D5E6D0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A255-48E4-4CA4-9EF3-988EB79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1759-A394-4D02-9D8A-267B8685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20CB-4962-406C-8C65-4E462503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8CEA-0451-477F-96DD-FBB9132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2D5D-3A9A-46E0-9099-AC0FE66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DA65-6DB5-43D6-AAFC-7E48D82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F993-A7AC-41C5-BFE6-AFAF80D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18AA-B7E4-4F06-B3AA-2092488F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FA42-3D72-461C-9E05-492228B7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A95A-DA86-4471-BB58-00736BFE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8633-977C-4654-9504-50EE364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86FF-7692-4A63-94CD-B7A9B3AB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6C15-0A11-453D-9476-0615F6EE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DC76-8ABB-4601-9E96-5E8F960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5077-BEEE-4858-88EC-1CFC3072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9F0-2130-4A73-938B-7D7407880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2F3F-8AC1-4A1E-829F-192CFAD22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F337-3DBA-44BA-84C6-5728F7EB5F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879F-4333-43F4-9934-77998E1BCF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5A3-3C00-4ED1-A699-6A5E04B4BE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96472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500" spc="-1" strike="noStrike">
                <a:solidFill>
                  <a:srgbClr val="ffff00"/>
                </a:solidFill>
                <a:latin typeface="Franklin Gothic Medium"/>
              </a:rPr>
              <a:t>«Построение изображения в линзе»</a:t>
            </a: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438880" y="4292280"/>
            <a:ext cx="260496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Акульшина М.Г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учитель физ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МБОУ СОШ №6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Г. Ноябрьс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69600" y="44604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езентация к уроку физики (8 кла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3"/>
          <p:cNvSpPr/>
          <p:nvPr/>
        </p:nvSpPr>
        <p:spPr>
          <a:xfrm>
            <a:off x="471960" y="260280"/>
            <a:ext cx="208152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9"/>
          <p:cNvGrpSpPr/>
          <p:nvPr/>
        </p:nvGrpSpPr>
        <p:grpSpPr>
          <a:xfrm>
            <a:off x="1258920" y="1052640"/>
            <a:ext cx="6481800" cy="3310920"/>
            <a:chOff x="1258920" y="1052640"/>
            <a:chExt cx="6481800" cy="3310920"/>
          </a:xfrm>
        </p:grpSpPr>
        <p:grpSp>
          <p:nvGrpSpPr>
            <p:cNvPr id="436" name="Group 4"/>
            <p:cNvGrpSpPr/>
            <p:nvPr/>
          </p:nvGrpSpPr>
          <p:grpSpPr>
            <a:xfrm>
              <a:off x="1258920" y="1052640"/>
              <a:ext cx="6481800" cy="2251080"/>
              <a:chOff x="1258920" y="1052640"/>
              <a:chExt cx="6481800" cy="2251080"/>
            </a:xfrm>
          </p:grpSpPr>
          <p:grpSp>
            <p:nvGrpSpPr>
              <p:cNvPr id="437" name="Group 5"/>
              <p:cNvGrpSpPr/>
              <p:nvPr/>
            </p:nvGrpSpPr>
            <p:grpSpPr>
              <a:xfrm>
                <a:off x="1258920" y="1052640"/>
                <a:ext cx="6481800" cy="2251080"/>
                <a:chOff x="1258920" y="1052640"/>
                <a:chExt cx="6481800" cy="2251080"/>
              </a:xfrm>
            </p:grpSpPr>
            <p:sp>
              <p:nvSpPr>
                <p:cNvPr id="438" name="Line 6"/>
                <p:cNvSpPr/>
                <p:nvPr/>
              </p:nvSpPr>
              <p:spPr>
                <a:xfrm>
                  <a:off x="3957480" y="1052640"/>
                  <a:ext cx="0" cy="225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7"/>
                <p:cNvSpPr/>
                <p:nvPr/>
              </p:nvSpPr>
              <p:spPr>
                <a:xfrm>
                  <a:off x="1258920" y="217800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8"/>
                <p:cNvSpPr/>
                <p:nvPr/>
              </p:nvSpPr>
              <p:spPr>
                <a:xfrm>
                  <a:off x="30574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"/>
                <p:cNvSpPr/>
                <p:nvPr/>
              </p:nvSpPr>
              <p:spPr>
                <a:xfrm>
                  <a:off x="215892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0"/>
                <p:cNvSpPr/>
                <p:nvPr/>
              </p:nvSpPr>
              <p:spPr>
                <a:xfrm>
                  <a:off x="48592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"/>
                <p:cNvSpPr/>
                <p:nvPr/>
              </p:nvSpPr>
              <p:spPr>
                <a:xfrm>
                  <a:off x="575784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Text Box 12"/>
              <p:cNvSpPr/>
              <p:nvPr/>
            </p:nvSpPr>
            <p:spPr>
              <a:xfrm>
                <a:off x="1909800" y="2178000"/>
                <a:ext cx="435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Line 14"/>
            <p:cNvSpPr/>
            <p:nvPr/>
          </p:nvSpPr>
          <p:spPr>
            <a:xfrm flipV="1">
              <a:off x="2627280" y="1315440"/>
              <a:ext cx="0" cy="85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>
              <a:off x="2627280" y="1315440"/>
              <a:ext cx="1297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3924360" y="1315440"/>
              <a:ext cx="324000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2627280" y="1315440"/>
              <a:ext cx="4608720" cy="29811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6732720" y="2178000"/>
              <a:ext cx="0" cy="17870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Text Box 20"/>
          <p:cNvSpPr/>
          <p:nvPr/>
        </p:nvSpPr>
        <p:spPr>
          <a:xfrm>
            <a:off x="509760" y="4653000"/>
            <a:ext cx="86342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Характеристика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1"/>
          <p:cNvGrpSpPr/>
          <p:nvPr/>
        </p:nvGrpSpPr>
        <p:grpSpPr>
          <a:xfrm>
            <a:off x="1258920" y="1341360"/>
            <a:ext cx="6481800" cy="2808360"/>
            <a:chOff x="1258920" y="1341360"/>
            <a:chExt cx="6481800" cy="2808360"/>
          </a:xfrm>
        </p:grpSpPr>
        <p:grpSp>
          <p:nvGrpSpPr>
            <p:cNvPr id="452" name="Group 4"/>
            <p:cNvGrpSpPr/>
            <p:nvPr/>
          </p:nvGrpSpPr>
          <p:grpSpPr>
            <a:xfrm>
              <a:off x="1258920" y="1341360"/>
              <a:ext cx="6481800" cy="2448000"/>
              <a:chOff x="1258920" y="1341360"/>
              <a:chExt cx="6481800" cy="2448000"/>
            </a:xfrm>
          </p:grpSpPr>
          <p:grpSp>
            <p:nvGrpSpPr>
              <p:cNvPr id="453" name="Group 5"/>
              <p:cNvGrpSpPr/>
              <p:nvPr/>
            </p:nvGrpSpPr>
            <p:grpSpPr>
              <a:xfrm>
                <a:off x="1258920" y="1341360"/>
                <a:ext cx="6481800" cy="2448000"/>
                <a:chOff x="1258920" y="1341360"/>
                <a:chExt cx="6481800" cy="2448000"/>
              </a:xfrm>
            </p:grpSpPr>
            <p:sp>
              <p:nvSpPr>
                <p:cNvPr id="454" name="Line 6"/>
                <p:cNvSpPr/>
                <p:nvPr/>
              </p:nvSpPr>
              <p:spPr>
                <a:xfrm>
                  <a:off x="3957480" y="134136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"/>
                <p:cNvSpPr/>
                <p:nvPr/>
              </p:nvSpPr>
              <p:spPr>
                <a:xfrm>
                  <a:off x="1258920" y="256536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8"/>
                <p:cNvSpPr/>
                <p:nvPr/>
              </p:nvSpPr>
              <p:spPr>
                <a:xfrm>
                  <a:off x="30574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9"/>
                <p:cNvSpPr/>
                <p:nvPr/>
              </p:nvSpPr>
              <p:spPr>
                <a:xfrm>
                  <a:off x="215892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0"/>
                <p:cNvSpPr/>
                <p:nvPr/>
              </p:nvSpPr>
              <p:spPr>
                <a:xfrm>
                  <a:off x="48592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"/>
                <p:cNvSpPr/>
                <p:nvPr/>
              </p:nvSpPr>
              <p:spPr>
                <a:xfrm>
                  <a:off x="575784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Text Box 12"/>
              <p:cNvSpPr/>
              <p:nvPr/>
            </p:nvSpPr>
            <p:spPr>
              <a:xfrm>
                <a:off x="1909800" y="2565360"/>
                <a:ext cx="43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Line 13"/>
            <p:cNvSpPr/>
            <p:nvPr/>
          </p:nvSpPr>
          <p:spPr>
            <a:xfrm flipV="1">
              <a:off x="2124000" y="1701720"/>
              <a:ext cx="0" cy="8654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4"/>
            <p:cNvSpPr/>
            <p:nvPr/>
          </p:nvSpPr>
          <p:spPr>
            <a:xfrm>
              <a:off x="2124000" y="170172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5"/>
            <p:cNvSpPr/>
            <p:nvPr/>
          </p:nvSpPr>
          <p:spPr>
            <a:xfrm>
              <a:off x="3924360" y="1701720"/>
              <a:ext cx="2592360" cy="2448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6"/>
            <p:cNvSpPr/>
            <p:nvPr/>
          </p:nvSpPr>
          <p:spPr>
            <a:xfrm>
              <a:off x="2124000" y="1701720"/>
              <a:ext cx="1871640" cy="1727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7"/>
            <p:cNvSpPr/>
            <p:nvPr/>
          </p:nvSpPr>
          <p:spPr>
            <a:xfrm>
              <a:off x="3924360" y="3429000"/>
              <a:ext cx="273528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5761080" y="2565360"/>
              <a:ext cx="0" cy="863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0" y="4508640"/>
            <a:ext cx="914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йствительное, перевернутое, равное дан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3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20"/>
          <p:cNvGrpSpPr/>
          <p:nvPr/>
        </p:nvGrpSpPr>
        <p:grpSpPr>
          <a:xfrm>
            <a:off x="1476360" y="1484280"/>
            <a:ext cx="6481800" cy="2592360"/>
            <a:chOff x="1476360" y="1484280"/>
            <a:chExt cx="6481800" cy="2592360"/>
          </a:xfrm>
        </p:grpSpPr>
        <p:grpSp>
          <p:nvGrpSpPr>
            <p:cNvPr id="471" name="Group 4"/>
            <p:cNvGrpSpPr/>
            <p:nvPr/>
          </p:nvGrpSpPr>
          <p:grpSpPr>
            <a:xfrm>
              <a:off x="1476360" y="1484280"/>
              <a:ext cx="6481800" cy="2448000"/>
              <a:chOff x="1476360" y="1484280"/>
              <a:chExt cx="6481800" cy="2448000"/>
            </a:xfrm>
          </p:grpSpPr>
          <p:grpSp>
            <p:nvGrpSpPr>
              <p:cNvPr id="472" name="Group 5"/>
              <p:cNvGrpSpPr/>
              <p:nvPr/>
            </p:nvGrpSpPr>
            <p:grpSpPr>
              <a:xfrm>
                <a:off x="1476360" y="1484280"/>
                <a:ext cx="6481800" cy="2448000"/>
                <a:chOff x="1476360" y="1484280"/>
                <a:chExt cx="6481800" cy="2448000"/>
              </a:xfrm>
            </p:grpSpPr>
            <p:sp>
              <p:nvSpPr>
                <p:cNvPr id="473" name="Line 6"/>
                <p:cNvSpPr/>
                <p:nvPr/>
              </p:nvSpPr>
              <p:spPr>
                <a:xfrm>
                  <a:off x="4174920" y="148428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7"/>
                <p:cNvSpPr/>
                <p:nvPr/>
              </p:nvSpPr>
              <p:spPr>
                <a:xfrm>
                  <a:off x="1476360" y="270828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"/>
                <p:cNvSpPr/>
                <p:nvPr/>
              </p:nvSpPr>
              <p:spPr>
                <a:xfrm>
                  <a:off x="32749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9"/>
                <p:cNvSpPr/>
                <p:nvPr/>
              </p:nvSpPr>
              <p:spPr>
                <a:xfrm>
                  <a:off x="237636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0"/>
                <p:cNvSpPr/>
                <p:nvPr/>
              </p:nvSpPr>
              <p:spPr>
                <a:xfrm>
                  <a:off x="50767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1"/>
                <p:cNvSpPr/>
                <p:nvPr/>
              </p:nvSpPr>
              <p:spPr>
                <a:xfrm>
                  <a:off x="597528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Text Box 12"/>
              <p:cNvSpPr/>
              <p:nvPr/>
            </p:nvSpPr>
            <p:spPr>
              <a:xfrm>
                <a:off x="2127240" y="2708280"/>
                <a:ext cx="42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Line 14"/>
            <p:cNvSpPr/>
            <p:nvPr/>
          </p:nvSpPr>
          <p:spPr>
            <a:xfrm flipV="1">
              <a:off x="1693800" y="1700280"/>
              <a:ext cx="0" cy="1008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1693800" y="1700280"/>
              <a:ext cx="2448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141800" y="1700280"/>
              <a:ext cx="2160360" cy="237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1693800" y="1700280"/>
              <a:ext cx="5327640" cy="2160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5583240" y="2708280"/>
              <a:ext cx="0" cy="576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19"/>
          <p:cNvSpPr/>
          <p:nvPr/>
        </p:nvSpPr>
        <p:spPr>
          <a:xfrm>
            <a:off x="250920" y="4653000"/>
            <a:ext cx="856908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меньш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564000" y="1773360"/>
            <a:ext cx="3456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6 – 67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. 34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изучить действия собирающей и рассеивающей линз, научить строить ход лучей в линзах, производить анализ изобра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350040" cy="110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ьте на вопросы: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1268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такое линза? Каковы её свой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называется фокусом линзы? Сколько фокусов у линз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 по внешнему виду линзы можно узнать, у которой из них короче фокусное расстоя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ая из двух линз, имеющая разные фокусные расстояния, дает большее увелич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63230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ение нового материал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49228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Построение изображ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в собирающей  линз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4103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395280" y="404640"/>
            <a:ext cx="2592360" cy="1224000"/>
            <a:chOff x="395280" y="404640"/>
            <a:chExt cx="2592360" cy="1224000"/>
          </a:xfrm>
        </p:grpSpPr>
        <p:grpSp>
          <p:nvGrpSpPr>
            <p:cNvPr id="313" name="Group 3"/>
            <p:cNvGrpSpPr/>
            <p:nvPr/>
          </p:nvGrpSpPr>
          <p:grpSpPr>
            <a:xfrm>
              <a:off x="395280" y="404640"/>
              <a:ext cx="2592360" cy="1224000"/>
              <a:chOff x="395280" y="404640"/>
              <a:chExt cx="2592360" cy="1224000"/>
            </a:xfrm>
          </p:grpSpPr>
          <p:sp>
            <p:nvSpPr>
              <p:cNvPr id="314" name="Line 4"/>
              <p:cNvSpPr/>
              <p:nvPr/>
            </p:nvSpPr>
            <p:spPr>
              <a:xfrm>
                <a:off x="395280" y="102528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5"/>
              <p:cNvSpPr/>
              <p:nvPr/>
            </p:nvSpPr>
            <p:spPr>
              <a:xfrm>
                <a:off x="1654200" y="40464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6"/>
              <p:cNvSpPr/>
              <p:nvPr/>
            </p:nvSpPr>
            <p:spPr>
              <a:xfrm>
                <a:off x="129384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>
                <a:off x="201312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>
                <a:off x="2373480" y="94428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93348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Line 10"/>
            <p:cNvSpPr/>
            <p:nvPr/>
          </p:nvSpPr>
          <p:spPr>
            <a:xfrm>
              <a:off x="611280" y="620280"/>
              <a:ext cx="1079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619280" y="620280"/>
              <a:ext cx="1079640" cy="100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682560" y="980640"/>
              <a:ext cx="20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395280" y="1700280"/>
            <a:ext cx="2592360" cy="1511280"/>
            <a:chOff x="395280" y="1700280"/>
            <a:chExt cx="2592360" cy="1511280"/>
          </a:xfrm>
        </p:grpSpPr>
        <p:grpSp>
          <p:nvGrpSpPr>
            <p:cNvPr id="324" name="Group 14"/>
            <p:cNvGrpSpPr/>
            <p:nvPr/>
          </p:nvGrpSpPr>
          <p:grpSpPr>
            <a:xfrm>
              <a:off x="395280" y="1700280"/>
              <a:ext cx="2592360" cy="1511280"/>
              <a:chOff x="395280" y="1700280"/>
              <a:chExt cx="2592360" cy="1511280"/>
            </a:xfrm>
          </p:grpSpPr>
          <p:grpSp>
            <p:nvGrpSpPr>
              <p:cNvPr id="325" name="Group 15"/>
              <p:cNvGrpSpPr/>
              <p:nvPr/>
            </p:nvGrpSpPr>
            <p:grpSpPr>
              <a:xfrm>
                <a:off x="395280" y="1842840"/>
                <a:ext cx="2592360" cy="1223640"/>
                <a:chOff x="395280" y="1842840"/>
                <a:chExt cx="2592360" cy="1223640"/>
              </a:xfrm>
            </p:grpSpPr>
            <p:sp>
              <p:nvSpPr>
                <p:cNvPr id="326" name="Line 16"/>
                <p:cNvSpPr/>
                <p:nvPr/>
              </p:nvSpPr>
              <p:spPr>
                <a:xfrm>
                  <a:off x="395280" y="2463120"/>
                  <a:ext cx="259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7"/>
                <p:cNvSpPr/>
                <p:nvPr/>
              </p:nvSpPr>
              <p:spPr>
                <a:xfrm>
                  <a:off x="1654200" y="1842840"/>
                  <a:ext cx="0" cy="12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8"/>
                <p:cNvSpPr/>
                <p:nvPr/>
              </p:nvSpPr>
              <p:spPr>
                <a:xfrm>
                  <a:off x="129384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9"/>
                <p:cNvSpPr/>
                <p:nvPr/>
              </p:nvSpPr>
              <p:spPr>
                <a:xfrm>
                  <a:off x="201312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0"/>
                <p:cNvSpPr/>
                <p:nvPr/>
              </p:nvSpPr>
              <p:spPr>
                <a:xfrm>
                  <a:off x="2373480" y="23821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1"/>
                <p:cNvSpPr/>
                <p:nvPr/>
              </p:nvSpPr>
              <p:spPr>
                <a:xfrm>
                  <a:off x="93348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Line 22"/>
              <p:cNvSpPr/>
              <p:nvPr/>
            </p:nvSpPr>
            <p:spPr>
              <a:xfrm>
                <a:off x="898560" y="1700280"/>
                <a:ext cx="1512720" cy="151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Text Box 23"/>
            <p:cNvSpPr/>
            <p:nvPr/>
          </p:nvSpPr>
          <p:spPr>
            <a:xfrm>
              <a:off x="826920" y="241920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395280" y="4724280"/>
            <a:ext cx="2592360" cy="1295640"/>
            <a:chOff x="395280" y="4724280"/>
            <a:chExt cx="2592360" cy="1295640"/>
          </a:xfrm>
        </p:grpSpPr>
        <p:grpSp>
          <p:nvGrpSpPr>
            <p:cNvPr id="335" name="Group 37"/>
            <p:cNvGrpSpPr/>
            <p:nvPr/>
          </p:nvGrpSpPr>
          <p:grpSpPr>
            <a:xfrm>
              <a:off x="395280" y="4724280"/>
              <a:ext cx="2592360" cy="1295640"/>
              <a:chOff x="395280" y="4724280"/>
              <a:chExt cx="2592360" cy="1295640"/>
            </a:xfrm>
          </p:grpSpPr>
          <p:grpSp>
            <p:nvGrpSpPr>
              <p:cNvPr id="336" name="Group 38"/>
              <p:cNvGrpSpPr/>
              <p:nvPr/>
            </p:nvGrpSpPr>
            <p:grpSpPr>
              <a:xfrm>
                <a:off x="395280" y="4724280"/>
                <a:ext cx="2592360" cy="1280160"/>
                <a:chOff x="395280" y="4724280"/>
                <a:chExt cx="2592360" cy="1280160"/>
              </a:xfrm>
            </p:grpSpPr>
            <p:grpSp>
              <p:nvGrpSpPr>
                <p:cNvPr id="337" name="Group 39"/>
                <p:cNvGrpSpPr/>
                <p:nvPr/>
              </p:nvGrpSpPr>
              <p:grpSpPr>
                <a:xfrm>
                  <a:off x="395280" y="4724280"/>
                  <a:ext cx="2592360" cy="1224000"/>
                  <a:chOff x="395280" y="4724280"/>
                  <a:chExt cx="2592360" cy="1224000"/>
                </a:xfrm>
              </p:grpSpPr>
              <p:sp>
                <p:nvSpPr>
                  <p:cNvPr id="338" name="Line 40"/>
                  <p:cNvSpPr/>
                  <p:nvPr/>
                </p:nvSpPr>
                <p:spPr>
                  <a:xfrm>
                    <a:off x="395280" y="534492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41"/>
                  <p:cNvSpPr/>
                  <p:nvPr/>
                </p:nvSpPr>
                <p:spPr>
                  <a:xfrm>
                    <a:off x="1654200" y="472428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42"/>
                  <p:cNvSpPr/>
                  <p:nvPr/>
                </p:nvSpPr>
                <p:spPr>
                  <a:xfrm>
                    <a:off x="129384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43"/>
                  <p:cNvSpPr/>
                  <p:nvPr/>
                </p:nvSpPr>
                <p:spPr>
                  <a:xfrm>
                    <a:off x="201312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44"/>
                  <p:cNvSpPr/>
                  <p:nvPr/>
                </p:nvSpPr>
                <p:spPr>
                  <a:xfrm>
                    <a:off x="2373480" y="52639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45"/>
                  <p:cNvSpPr/>
                  <p:nvPr/>
                </p:nvSpPr>
                <p:spPr>
                  <a:xfrm>
                    <a:off x="93348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Text Box 46"/>
                <p:cNvSpPr/>
                <p:nvPr/>
              </p:nvSpPr>
              <p:spPr>
                <a:xfrm>
                  <a:off x="684000" y="5300640"/>
                  <a:ext cx="2019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Line 47"/>
              <p:cNvSpPr/>
              <p:nvPr/>
            </p:nvSpPr>
            <p:spPr>
              <a:xfrm flipV="1">
                <a:off x="1042920" y="5084280"/>
                <a:ext cx="288720" cy="1429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 flipV="1">
                <a:off x="971280" y="5011560"/>
                <a:ext cx="1224000" cy="7207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49"/>
              <p:cNvSpPr/>
              <p:nvPr/>
            </p:nvSpPr>
            <p:spPr>
              <a:xfrm>
                <a:off x="2012760" y="4724280"/>
                <a:ext cx="0" cy="1295640"/>
              </a:xfrm>
              <a:prstGeom prst="line">
                <a:avLst/>
              </a:prstGeom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50"/>
              <p:cNvSpPr/>
              <p:nvPr/>
            </p:nvSpPr>
            <p:spPr>
              <a:xfrm flipV="1">
                <a:off x="1331640" y="4939920"/>
                <a:ext cx="287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51"/>
            <p:cNvSpPr/>
            <p:nvPr/>
          </p:nvSpPr>
          <p:spPr>
            <a:xfrm>
              <a:off x="1619280" y="4941720"/>
              <a:ext cx="136836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52"/>
          <p:cNvSpPr/>
          <p:nvPr/>
        </p:nvSpPr>
        <p:spPr>
          <a:xfrm>
            <a:off x="3203640" y="189000"/>
            <a:ext cx="5940360" cy="1281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параллельно главной оптической оси, после преломления пойдёт через фоку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3"/>
          <p:cNvSpPr/>
          <p:nvPr/>
        </p:nvSpPr>
        <p:spPr>
          <a:xfrm>
            <a:off x="1080" y="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4"/>
          <p:cNvSpPr/>
          <p:nvPr/>
        </p:nvSpPr>
        <p:spPr>
          <a:xfrm>
            <a:off x="1080" y="14842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3132000" y="1793880"/>
            <a:ext cx="6012000" cy="9165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оптический центр, идёт не преломляясь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3760560" y="26575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0" y="299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63"/>
          <p:cNvGrpSpPr/>
          <p:nvPr/>
        </p:nvGrpSpPr>
        <p:grpSpPr>
          <a:xfrm>
            <a:off x="395280" y="2924280"/>
            <a:ext cx="2592360" cy="1512720"/>
            <a:chOff x="395280" y="2924280"/>
            <a:chExt cx="2592360" cy="1512720"/>
          </a:xfrm>
        </p:grpSpPr>
        <p:grpSp>
          <p:nvGrpSpPr>
            <p:cNvPr id="357" name="Group 24"/>
            <p:cNvGrpSpPr/>
            <p:nvPr/>
          </p:nvGrpSpPr>
          <p:grpSpPr>
            <a:xfrm>
              <a:off x="395280" y="3213000"/>
              <a:ext cx="2592360" cy="1224000"/>
              <a:chOff x="395280" y="3213000"/>
              <a:chExt cx="2592360" cy="1224000"/>
            </a:xfrm>
          </p:grpSpPr>
          <p:grpSp>
            <p:nvGrpSpPr>
              <p:cNvPr id="358" name="Group 25"/>
              <p:cNvGrpSpPr/>
              <p:nvPr/>
            </p:nvGrpSpPr>
            <p:grpSpPr>
              <a:xfrm>
                <a:off x="395280" y="3213000"/>
                <a:ext cx="2592360" cy="1224000"/>
                <a:chOff x="395280" y="3213000"/>
                <a:chExt cx="2592360" cy="1224000"/>
              </a:xfrm>
            </p:grpSpPr>
            <p:grpSp>
              <p:nvGrpSpPr>
                <p:cNvPr id="359" name="Group 26"/>
                <p:cNvGrpSpPr/>
                <p:nvPr/>
              </p:nvGrpSpPr>
              <p:grpSpPr>
                <a:xfrm>
                  <a:off x="395280" y="3213000"/>
                  <a:ext cx="2592360" cy="1224000"/>
                  <a:chOff x="395280" y="3213000"/>
                  <a:chExt cx="2592360" cy="1224000"/>
                </a:xfrm>
              </p:grpSpPr>
              <p:sp>
                <p:nvSpPr>
                  <p:cNvPr id="360" name="Line 27"/>
                  <p:cNvSpPr/>
                  <p:nvPr/>
                </p:nvSpPr>
                <p:spPr>
                  <a:xfrm>
                    <a:off x="395280" y="383364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8"/>
                  <p:cNvSpPr/>
                  <p:nvPr/>
                </p:nvSpPr>
                <p:spPr>
                  <a:xfrm>
                    <a:off x="1654200" y="321300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9"/>
                  <p:cNvSpPr/>
                  <p:nvPr/>
                </p:nvSpPr>
                <p:spPr>
                  <a:xfrm>
                    <a:off x="129384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0"/>
                  <p:cNvSpPr/>
                  <p:nvPr/>
                </p:nvSpPr>
                <p:spPr>
                  <a:xfrm>
                    <a:off x="201312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1"/>
                  <p:cNvSpPr/>
                  <p:nvPr/>
                </p:nvSpPr>
                <p:spPr>
                  <a:xfrm>
                    <a:off x="2373480" y="375264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2"/>
                  <p:cNvSpPr/>
                  <p:nvPr/>
                </p:nvSpPr>
                <p:spPr>
                  <a:xfrm>
                    <a:off x="93348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33"/>
                <p:cNvSpPr/>
                <p:nvPr/>
              </p:nvSpPr>
              <p:spPr>
                <a:xfrm>
                  <a:off x="900000" y="3355920"/>
                  <a:ext cx="791640" cy="936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4"/>
                <p:cNvSpPr/>
                <p:nvPr/>
              </p:nvSpPr>
              <p:spPr>
                <a:xfrm>
                  <a:off x="1690560" y="4244760"/>
                  <a:ext cx="1150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5"/>
              <p:cNvSpPr/>
              <p:nvPr/>
            </p:nvSpPr>
            <p:spPr>
              <a:xfrm>
                <a:off x="514080" y="3786120"/>
                <a:ext cx="215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Text Box 59"/>
            <p:cNvSpPr/>
            <p:nvPr/>
          </p:nvSpPr>
          <p:spPr>
            <a:xfrm>
              <a:off x="395280" y="2924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60"/>
          <p:cNvSpPr/>
          <p:nvPr/>
        </p:nvSpPr>
        <p:spPr>
          <a:xfrm>
            <a:off x="1080" y="4221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3276720" y="4384800"/>
            <a:ext cx="5867280" cy="2469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падающий на линзу параллель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какой-либо оптической оси, после  преломления пойдёт через точк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ересечения этой оси с фокально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лоск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2"/>
          <p:cNvSpPr/>
          <p:nvPr/>
        </p:nvSpPr>
        <p:spPr>
          <a:xfrm>
            <a:off x="3276720" y="2898720"/>
            <a:ext cx="5867280" cy="128196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фокус посл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реломления, пойдет параллельн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главной оптической ось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2133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Franklin Gothic Medium"/>
              </a:rPr>
              <a:t>Построение изображения в рассеивающей линз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4103640" cy="22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Группа 50"/>
          <p:cNvGrpSpPr/>
          <p:nvPr/>
        </p:nvGrpSpPr>
        <p:grpSpPr>
          <a:xfrm>
            <a:off x="1258920" y="1989000"/>
            <a:ext cx="6481800" cy="2403720"/>
            <a:chOff x="1258920" y="1989000"/>
            <a:chExt cx="6481800" cy="2403720"/>
          </a:xfrm>
        </p:grpSpPr>
        <p:grpSp>
          <p:nvGrpSpPr>
            <p:cNvPr id="376" name="Group 4"/>
            <p:cNvGrpSpPr/>
            <p:nvPr/>
          </p:nvGrpSpPr>
          <p:grpSpPr>
            <a:xfrm>
              <a:off x="1258920" y="3079440"/>
              <a:ext cx="6481800" cy="579960"/>
              <a:chOff x="1258920" y="3079440"/>
              <a:chExt cx="6481800" cy="579960"/>
            </a:xfrm>
          </p:grpSpPr>
          <p:grpSp>
            <p:nvGrpSpPr>
              <p:cNvPr id="377" name="Group 5"/>
              <p:cNvGrpSpPr/>
              <p:nvPr/>
            </p:nvGrpSpPr>
            <p:grpSpPr>
              <a:xfrm>
                <a:off x="1258920" y="3079440"/>
                <a:ext cx="6481800" cy="119880"/>
                <a:chOff x="1258920" y="3079440"/>
                <a:chExt cx="6481800" cy="119880"/>
              </a:xfrm>
            </p:grpSpPr>
            <p:sp>
              <p:nvSpPr>
                <p:cNvPr id="378" name="Line 7"/>
                <p:cNvSpPr/>
                <p:nvPr/>
              </p:nvSpPr>
              <p:spPr>
                <a:xfrm>
                  <a:off x="1258920" y="319932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8"/>
                <p:cNvSpPr/>
                <p:nvPr/>
              </p:nvSpPr>
              <p:spPr>
                <a:xfrm>
                  <a:off x="30574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9"/>
                <p:cNvSpPr/>
                <p:nvPr/>
              </p:nvSpPr>
              <p:spPr>
                <a:xfrm>
                  <a:off x="215892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0"/>
                <p:cNvSpPr/>
                <p:nvPr/>
              </p:nvSpPr>
              <p:spPr>
                <a:xfrm>
                  <a:off x="48592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1"/>
                <p:cNvSpPr/>
                <p:nvPr/>
              </p:nvSpPr>
              <p:spPr>
                <a:xfrm>
                  <a:off x="575784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12"/>
              <p:cNvSpPr/>
              <p:nvPr/>
            </p:nvSpPr>
            <p:spPr>
              <a:xfrm>
                <a:off x="1908000" y="3199680"/>
                <a:ext cx="420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Группа 49"/>
            <p:cNvGrpSpPr/>
            <p:nvPr/>
          </p:nvGrpSpPr>
          <p:grpSpPr>
            <a:xfrm>
              <a:off x="3924000" y="1989000"/>
              <a:ext cx="123120" cy="2403720"/>
              <a:chOff x="3924000" y="1989000"/>
              <a:chExt cx="123120" cy="2403720"/>
            </a:xfrm>
          </p:grpSpPr>
          <p:grpSp>
            <p:nvGrpSpPr>
              <p:cNvPr id="385" name="Группа 48"/>
              <p:cNvGrpSpPr/>
              <p:nvPr/>
            </p:nvGrpSpPr>
            <p:grpSpPr>
              <a:xfrm>
                <a:off x="3924000" y="1989000"/>
                <a:ext cx="123120" cy="2358360"/>
                <a:chOff x="3924000" y="1989000"/>
                <a:chExt cx="123120" cy="2358360"/>
              </a:xfrm>
            </p:grpSpPr>
            <p:sp>
              <p:nvSpPr>
                <p:cNvPr id="386" name="Прямая соединительная линия 35"/>
                <p:cNvSpPr/>
                <p:nvPr/>
              </p:nvSpPr>
              <p:spPr>
                <a:xfrm>
                  <a:off x="3987000" y="2034360"/>
                  <a:ext cx="0" cy="231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Группа 44"/>
                <p:cNvGrpSpPr/>
                <p:nvPr/>
              </p:nvGrpSpPr>
              <p:grpSpPr>
                <a:xfrm>
                  <a:off x="3924000" y="1989000"/>
                  <a:ext cx="123120" cy="72000"/>
                  <a:chOff x="3924000" y="1989000"/>
                  <a:chExt cx="123120" cy="72000"/>
                </a:xfrm>
              </p:grpSpPr>
              <p:sp>
                <p:nvSpPr>
                  <p:cNvPr id="388" name="Прямая соединительная линия 38"/>
                  <p:cNvSpPr/>
                  <p:nvPr/>
                </p:nvSpPr>
                <p:spPr>
                  <a:xfrm>
                    <a:off x="392400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Прямая соединительная линия 40"/>
                  <p:cNvSpPr/>
                  <p:nvPr/>
                </p:nvSpPr>
                <p:spPr>
                  <a:xfrm flipV="1">
                    <a:off x="397584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Группа 45"/>
              <p:cNvGrpSpPr/>
              <p:nvPr/>
            </p:nvGrpSpPr>
            <p:grpSpPr>
              <a:xfrm>
                <a:off x="3924000" y="4320000"/>
                <a:ext cx="108000" cy="72720"/>
                <a:chOff x="3924000" y="4320000"/>
                <a:chExt cx="108000" cy="72720"/>
              </a:xfrm>
            </p:grpSpPr>
            <p:sp>
              <p:nvSpPr>
                <p:cNvPr id="391" name="Прямая соединительная линия 46"/>
                <p:cNvSpPr/>
                <p:nvPr/>
              </p:nvSpPr>
              <p:spPr>
                <a:xfrm flipV="1">
                  <a:off x="392400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Прямая соединительная линия 47"/>
                <p:cNvSpPr/>
                <p:nvPr/>
              </p:nvSpPr>
              <p:spPr>
                <a:xfrm>
                  <a:off x="396936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Line 14"/>
          <p:cNvSpPr/>
          <p:nvPr/>
        </p:nvSpPr>
        <p:spPr>
          <a:xfrm flipV="1">
            <a:off x="2484360" y="2276280"/>
            <a:ext cx="0" cy="936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5"/>
          <p:cNvSpPr/>
          <p:nvPr/>
        </p:nvSpPr>
        <p:spPr>
          <a:xfrm>
            <a:off x="2484360" y="2276640"/>
            <a:ext cx="151128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16"/>
          <p:cNvSpPr/>
          <p:nvPr/>
        </p:nvSpPr>
        <p:spPr>
          <a:xfrm flipV="1">
            <a:off x="3059280" y="620280"/>
            <a:ext cx="2592360" cy="259236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 flipV="1">
            <a:off x="3419640" y="2852280"/>
            <a:ext cx="0" cy="36036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2484360" y="2276640"/>
            <a:ext cx="3888000" cy="23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4797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мнимое, уменьшенное, прям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0320" y="444600"/>
            <a:ext cx="20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 &lt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02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03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Text Box 13"/>
            <p:cNvSpPr/>
            <p:nvPr/>
          </p:nvSpPr>
          <p:spPr>
            <a:xfrm>
              <a:off x="1909800" y="3213000"/>
              <a:ext cx="43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о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Line 14"/>
          <p:cNvSpPr/>
          <p:nvPr/>
        </p:nvSpPr>
        <p:spPr>
          <a:xfrm flipV="1">
            <a:off x="3564000" y="2421000"/>
            <a:ext cx="0" cy="792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3564000" y="2421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3924360" y="2421000"/>
            <a:ext cx="2735280" cy="23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>
            <a:off x="3564000" y="2421000"/>
            <a:ext cx="1295280" cy="2663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 flipV="1">
            <a:off x="2410920" y="907560"/>
            <a:ext cx="1513080" cy="15130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 flipV="1">
            <a:off x="2627280" y="981000"/>
            <a:ext cx="936720" cy="14400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V="1">
            <a:off x="2843280" y="1341000"/>
            <a:ext cx="0" cy="1871640"/>
          </a:xfrm>
          <a:prstGeom prst="line">
            <a:avLst/>
          </a:prstGeom>
          <a:ln w="7632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755640" y="5300640"/>
            <a:ext cx="770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ображения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2f43"/>
                </a:solidFill>
                <a:uFillTx/>
                <a:latin typeface="Times New Roman"/>
                <a:ea typeface="Times New Roman"/>
              </a:rPr>
              <a:t>мнимое, прям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20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21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Text Box 13"/>
            <p:cNvSpPr/>
            <p:nvPr/>
          </p:nvSpPr>
          <p:spPr>
            <a:xfrm>
              <a:off x="1909800" y="3213000"/>
              <a:ext cx="42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Line 14"/>
          <p:cNvSpPr/>
          <p:nvPr/>
        </p:nvSpPr>
        <p:spPr>
          <a:xfrm flipV="1">
            <a:off x="3059280" y="2205000"/>
            <a:ext cx="0" cy="1008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3059280" y="2205000"/>
            <a:ext cx="3457440" cy="2808360"/>
            <a:chOff x="3059280" y="2205000"/>
            <a:chExt cx="3457440" cy="2808360"/>
          </a:xfrm>
        </p:grpSpPr>
        <p:sp>
          <p:nvSpPr>
            <p:cNvPr id="430" name="Line 15"/>
            <p:cNvSpPr/>
            <p:nvPr/>
          </p:nvSpPr>
          <p:spPr>
            <a:xfrm>
              <a:off x="3059280" y="2205000"/>
              <a:ext cx="93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3924360" y="2205000"/>
              <a:ext cx="2592360" cy="2808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Line 17"/>
          <p:cNvSpPr/>
          <p:nvPr/>
        </p:nvSpPr>
        <p:spPr>
          <a:xfrm>
            <a:off x="3059280" y="2205000"/>
            <a:ext cx="2881080" cy="324000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928800" y="5429160"/>
            <a:ext cx="7124760" cy="106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Изобра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  бесконечности в вид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20:18:53Z</dcterms:created>
  <dc:creator>Оксана</dc:creator>
  <dc:description/>
  <dc:language>en-US</dc:language>
  <cp:lastModifiedBy>Маргарита</cp:lastModifiedBy>
  <dcterms:modified xsi:type="dcterms:W3CDTF">2013-01-28T10:58:57Z</dcterms:modified>
  <cp:revision>7</cp:revision>
  <dc:subject/>
  <dc:title>Урок-презентация по физике по теме «Линза. Построение изображения в линзе"  </dc:title>
</cp:coreProperties>
</file>