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3CC-D574-4256-BC4F-10D2D33A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E48-D0EC-4738-9717-37D2151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9CC9D-0366-4653-81AF-6A310B7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33F26-81B0-4A81-921D-849CC8E5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3765F-3AA0-497B-82BE-9434329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917A8-2E35-4661-906E-71F1E5D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8951-55EA-48CB-8A82-5DA7AB6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5A65A-D9AD-423D-81E8-1B42A6F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7D96-AD01-4837-BF16-B42DCA7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7526-F88B-4AD4-8479-4999FC28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63188-67F7-47AA-846C-9D9EC835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BF2-B670-4C74-87AC-36402932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B3F-8D9C-4FA3-8865-9D5DDB8E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BF1E-BAEA-406B-919C-AD6F5A9A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F1CB-A0AD-43C6-ABA0-8FDA4AC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0D8-02DB-4843-8924-AF64A2C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3C1C-0D8C-48DB-B9D9-E946471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7AF-4C77-4C44-9BBC-6D6303A6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7612-B406-4E09-BB28-68A8E1D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1B53-1A71-4A82-B9EA-351D853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094-7207-4A9F-B0D5-E9719F8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E5B-7732-4C49-A3F2-027CE395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1A3-232E-4B3D-8315-F4A43F2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64E9-EED5-4F78-AAAE-9FD37B2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50F6-126F-46E6-869F-C6D416DB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F656-4820-4E6D-A7FC-388ADFD7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9A8A-5534-4FB1-B5DB-E15942AF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C03E-986F-4CFF-BAD4-4DD66B5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0CB5-6CF5-4838-90D5-B9CEFA6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7C1CF-532F-4C27-A654-C030227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F020-7C1A-47CC-8314-7A1CAF0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103-FE6E-442E-95E6-F0E71600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CE47-5592-4544-AA14-5B3A9848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6E50-F154-4984-BD8F-546D02F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8D99-D297-423E-99CD-CF0D3EA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8AB8-80ED-4FFE-B93E-29B39A7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758A-ABC6-4FD4-BCC1-C6E9265F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5D7E-686B-4F3B-91F0-1EFD8A9C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0F2D-3911-4C8A-A06E-72E5DA0B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7D3B-1E76-4E84-98F9-339A0049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0112-0E39-40D9-A286-89DDC87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0577-16BB-4382-9B38-0EC08C86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C62-D475-4F47-A269-FE65823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7AFE-D337-45C1-90C6-C165547A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29C8-1824-4B87-B8D0-3E0C5D0E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3C24-E219-48D6-9341-07148827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4F502-526F-4DDE-98D7-8E874000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3905D-7D60-4AC2-B334-04C9EFBF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9623-6D98-4B56-AD3F-CEE148E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7660-DE1C-4CDD-8FFB-C38E6AD8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EB92-9B75-44FA-B3FA-CDB3F551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1B00-CE7D-4119-9B35-8368CA70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48AB-7D99-4238-8A46-A2BC8675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D77-AAF9-4567-ACBF-399199B2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F5A6-9A0A-4255-B4B4-1DE36C45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4796B-31B2-4D03-823B-B94ACFD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F228-3F2C-4B35-A4A4-C2E1BE0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396C-0B1F-4160-BA91-2D625E0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3C527-0374-42B6-9822-B0459AAB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8A24-4805-4DC8-9680-6984EAEB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E23A-5ED6-41C9-9261-02E528E1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0C90B-B5D3-4AA1-90FD-1A9E326D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289E-151E-4B1E-920E-ABF1F3C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D6DDE-9675-4C23-B180-82C45A9F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294-E9C9-48FC-B44F-E7A02E1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6583C-8041-4C1A-9082-0053CF28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A334E-DB70-4B28-9ACA-0CAB931B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531A-72DC-42E0-99A8-4C65685B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67DF-7F31-4BEC-8EBE-648E9DE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837D-AA27-4FD7-ACBA-6970E76E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CF583-C225-43C9-AEE9-17589B6D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850A-361A-4E6C-9CA4-8B7DC318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D9003-B452-4FC7-A9C4-5E5355E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613F7-5D01-4F14-8C1E-6629033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41E13-CB69-4AC0-A044-89AE9E6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C00-0E2D-42C9-8A15-72360E3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8D55-5B0E-4631-9C43-93F233D6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44D0-4509-4DFC-9114-0D30BB46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AAAED-167A-4FE9-A9E9-B44A7CA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829F3-BE53-4EB6-8C92-248EFC4F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7284F-6BCD-4E96-9B94-E9AB268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BA79-6BE0-4AAD-A953-B28C2923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A578-83B9-45F3-89CA-08294FB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04EF2-5F57-4E74-9D1B-DDCD87F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F5ACD-A133-4E02-B558-6154E8A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6E2F-749A-4941-A89F-4CE05F58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F53-4E28-42D2-85E4-AD04258D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66F3-8F2D-464C-A957-6BF90F9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54688-A1DB-4C89-904E-0F66EB33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6B4F-7306-4A4A-9322-0C45DBF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9FA1-CAE1-4922-BA3E-406C8DD6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1F0C-3CE1-4188-B6EC-23EE0873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6FEA1-7057-4280-ACDC-923FDA58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8429-E0D8-4778-832B-C8463C5A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C863-B7A5-4A89-980A-B0F6C743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7D8A-F534-43C9-A358-E743B49B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B8C26-E5F0-45B4-AAB5-9F3B361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5D6-FB75-4942-A39F-62A842A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636ED-78D8-44E7-8300-B582F24D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3F69C-7F7B-4EDA-85F7-1DC9CB5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7489C-77F6-4A29-B50A-AF9F68F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5EB2D-7880-4E8C-B200-AF12E5E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16616-CEA0-4445-AD98-FF1391E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7072F-EB04-42A7-ACB2-F06A14F3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E569-8A2F-465F-B9FB-2BE8A605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F4A9A-3BA4-4413-AABB-EA3B8E64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32C98-E420-4635-8DEE-D4A950F2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132BD-74D0-4E41-B6ED-2A920EE8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7E3-EDAF-47BA-A28A-DD44A5EC7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2872-1494-44AE-9DBB-424D7E9266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F9C1-E58B-4D3C-8ED9-D75735F0850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ED6-6B72-40AB-ACDF-3AAB52FA34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97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9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00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4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A4A-6746-4C14-9704-EE6C993E72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502B-0E60-4B6D-996B-255A3CD35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61AA-6A21-49F9-98CF-25B3A643A1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08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18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2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83E3-4366-4A24-9DC2-B4609D1112B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71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6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3687-063B-4E48-AE50-5A3AF8A4A2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J0178632"/>
          <p:cNvPicPr/>
          <p:nvPr/>
        </p:nvPicPr>
        <p:blipFill>
          <a:blip r:embed="rId1"/>
          <a:stretch/>
        </p:blipFill>
        <p:spPr>
          <a:xfrm rot="21596400">
            <a:off x="-996480" y="4680"/>
            <a:ext cx="9470880" cy="7024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79185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Некоторые аспекты воспитания в семь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8357760" y="5810400"/>
            <a:ext cx="785880" cy="17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-324000" y="5661000"/>
            <a:ext cx="9468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2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еразлучные друзья – родители и дет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J0316862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482472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сь быть своему ребенку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ритикуйте, не унижая, а поддержив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е своего ребенка быть честным с друзьями и не искать выгоды от др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глашайте друзей своего ребенка в дом, общайтесь с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 ваш ребенок поверят вам свои тайны как друзьям, не шантажируйте его 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5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50"/>
                            </p:stCondLst>
                            <p:childTnLst>
                              <p:par>
                                <p:cTn id="3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50"/>
                            </p:stCondLst>
                            <p:childTnLst>
                              <p:par>
                                <p:cTn id="3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5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5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50"/>
                            </p:stCondLst>
                            <p:childTnLst>
                              <p:par>
                                <p:cTn id="4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4050"/>
                            </p:stCondLst>
                            <p:childTnLst>
                              <p:par>
                                <p:cTn id="4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05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50"/>
                            </p:stCondLst>
                            <p:childTnLst>
                              <p:par>
                                <p:cTn id="4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5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205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 Старца Филоф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71320" y="1071360"/>
            <a:ext cx="8143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дерево, когда оно мало, подует ветер и согнет его, а мы подставим столбик, то оно станет прямым, если же мы не подставим столбик, то оно навсегда останется кривым, если оно вырастет и хорошо укоренится, а мы захотим его выровнять, тогда оно треснет и сломается. Так и наши дети. Пока они малы, будем укреплять их в вере и страхе Божием. Соорудим для них ограду и стену из поучений и добрых примеров, доколе они не укоренятся в добродетели, когда им не будет страшна никакая опас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1dc"/>
            </a:gs>
            <a:gs pos="100000">
              <a:srgbClr val="b7ebe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7"/>
          <p:cNvSpPr/>
          <p:nvPr/>
        </p:nvSpPr>
        <p:spPr>
          <a:xfrm>
            <a:off x="2124000" y="2060640"/>
            <a:ext cx="56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3" descr="Flowers_0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8"/>
          <p:cNvSpPr/>
          <p:nvPr/>
        </p:nvSpPr>
        <p:spPr>
          <a:xfrm>
            <a:off x="324000" y="219240"/>
            <a:ext cx="7056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По поводу воспитания детей существует множество теорий, созданных в основном теми, кто детей не имеет. Те же, кто воспитывает собственных детей, обычно не теоретизируют по этому поводу, а ведут себя так, как им подсказывает интуиция, жизненный опыт и складывающиеся обстоятельства. Короче -  как получ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7280" y="33336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Аспекты воспитания детей:</a:t>
            </a: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Courier New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J0223735"/>
          <p:cNvPicPr/>
          <p:nvPr/>
        </p:nvPicPr>
        <p:blipFill>
          <a:blip r:embed="rId1"/>
          <a:stretch/>
        </p:blipFill>
        <p:spPr>
          <a:xfrm>
            <a:off x="0" y="260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J0336887"/>
          <p:cNvPicPr/>
          <p:nvPr/>
        </p:nvPicPr>
        <p:blipFill>
          <a:blip r:embed="rId2"/>
          <a:stretch/>
        </p:blipFill>
        <p:spPr>
          <a:xfrm flipH="1">
            <a:off x="7316640" y="5013360"/>
            <a:ext cx="1827360" cy="216072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0"/>
          <p:cNvSpPr/>
          <p:nvPr/>
        </p:nvSpPr>
        <p:spPr>
          <a:xfrm>
            <a:off x="2484360" y="1557360"/>
            <a:ext cx="5183280" cy="417672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132000" y="2276640"/>
            <a:ext cx="37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шевная теп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ство и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четко разделять отцовские и материнские обяза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6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6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одительская поддержка – это процесс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В ходе которого родитель сосредотачивается на достоинствах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могает ребенку поверить в себя и в свои способ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оторый поддерживает ребенка при неудач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Picture 8" descr="J0316850"/>
          <p:cNvPicPr/>
          <p:nvPr/>
        </p:nvPicPr>
        <p:blipFill>
          <a:blip r:embed="rId1"/>
          <a:stretch/>
        </p:blipFill>
        <p:spPr>
          <a:xfrm>
            <a:off x="5435640" y="1989000"/>
            <a:ext cx="2665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6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60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6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6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дительская ответственн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ую духовную простуду дети схватывают от чувств родителей, больше всего их простужает мать своим поведением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ятая жизнь родителей извещает души детей, они вырастают послушным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дители воспитывают своих детей с колыбели, пресекая их стремления и порывы к дурным вкуса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Для того, чтобы показать веру в ребенка, родитель должен иметь мужество и желание сделать следующее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067280" y="1915920"/>
            <a:ext cx="4619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Забыть о прошлых неудач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очь ребенку обрести уверенность в том, что он справится с данной задач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зволить  ребенку начать «с нуля», опираясь на то, что родитель верит в него, в его способность достичь успех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Garamond"/>
              </a:rPr>
              <a:t>Помнить о прошлых удачах и возвращаться к ним, а не к ошибка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3" name="Picture 7" descr="J0223740"/>
          <p:cNvPicPr/>
          <p:nvPr/>
        </p:nvPicPr>
        <p:blipFill>
          <a:blip r:embed="rId1"/>
          <a:stretch/>
        </p:blipFill>
        <p:spPr>
          <a:xfrm>
            <a:off x="762120" y="1628640"/>
            <a:ext cx="30798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468360" y="1989000"/>
            <a:ext cx="791352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Опираться на сильные стороны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подчеркивания промах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Уметь и хотеть демонстрировать любовь к реб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Внести юмор во взаимоотношения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водить больше времени с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оявлять эмпатию к ребенку и веру в Вашего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ринимать индивидуальнос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озволить ребенку самому решать проблемы там, где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Избегать дисциплинарных поощрений и наказаний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4600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Для того, чтобы поддержать ребенка, необходим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поддерж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я тебя, я уверен, что вы все сделали,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ы делаешь это очень хорош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тебя есть некоторые соображения по этому поводу? Готов ли ты нача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 серьезный вызов. Но я уверен. Что ты готов к н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 разочарова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Поддерживать можно посредством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4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х слов (красиво, прекрасно, здоров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казываний («Я горжусь тобой», «Спасибо», «Все идет хорошо»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основений (дотронуться до руки, обнять его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ых действий (сидеть, стоять рядом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лица (улыбка, кивок, сме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7" descr="J0282750"/>
          <p:cNvPicPr/>
          <p:nvPr/>
        </p:nvPicPr>
        <p:blipFill>
          <a:blip r:embed="rId1"/>
          <a:stretch/>
        </p:blipFill>
        <p:spPr>
          <a:xfrm>
            <a:off x="7924680" y="1628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3" descr="J0282747"/>
          <p:cNvPicPr/>
          <p:nvPr/>
        </p:nvPicPr>
        <p:blipFill>
          <a:blip r:embed="rId2"/>
          <a:stretch/>
        </p:blipFill>
        <p:spPr>
          <a:xfrm>
            <a:off x="0" y="5157720"/>
            <a:ext cx="1219320" cy="1435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J0283640"/>
          <p:cNvPicPr/>
          <p:nvPr/>
        </p:nvPicPr>
        <p:blipFill>
          <a:blip r:embed="rId3"/>
          <a:stretch/>
        </p:blipFill>
        <p:spPr>
          <a:xfrm>
            <a:off x="0" y="1773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9" descr="J0283653"/>
          <p:cNvPicPr/>
          <p:nvPr/>
        </p:nvPicPr>
        <p:blipFill>
          <a:blip r:embed="rId4"/>
          <a:stretch/>
        </p:blipFill>
        <p:spPr>
          <a:xfrm>
            <a:off x="7404120" y="4941720"/>
            <a:ext cx="173988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5:58:06Z</dcterms:created>
  <dc:creator>х</dc:creator>
  <dc:description/>
  <dc:language>en-US</dc:language>
  <cp:lastModifiedBy>Marina</cp:lastModifiedBy>
  <dcterms:modified xsi:type="dcterms:W3CDTF">2010-03-22T14:10:00Z</dcterms:modified>
  <cp:revision>8</cp:revision>
  <dc:subject/>
  <dc:title>Психологическая поддержка в семье</dc:title>
</cp:coreProperties>
</file>