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4D8-A444-4C52-818E-CFC9690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86D-5D70-488B-B9AC-51E55C7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A7F36-3305-47B8-8B5D-F618FF1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4B097-EE1C-47F3-B82B-BBB54ED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27FB7-CFA2-4D73-BD12-92873E65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0DA4E-E2AE-478D-93ED-3622A85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5D45F-10F7-4D8A-9EF2-A4354E0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A9E6-285A-4325-8B2E-979B0AB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9D878-FA5B-43B6-9E70-39E1F0D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D70E-6991-4F64-8DE6-F7C9268A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2DDCB-27E3-4113-8CEC-F82CDEE8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1A8-92BD-4983-B656-1D2162CF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E54-75C4-4E0D-B0FD-6CE033ED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506-571E-492D-BAB9-24E7805C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5816-F4B5-4675-9002-FC02A65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A2B-7106-4DA2-B6B3-4AEBEE5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2ED5-D78E-4258-AA56-481669E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5856-4895-4A8E-A25E-456CB85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8B1-564E-42BC-84D3-C2163BA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181E-509A-4280-9533-67FAE2C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D6D-9685-4EEC-BDB4-456C138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594-B993-41D7-A2F2-726CB1E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BDBC-1307-44D7-A85A-7D3A528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60C-0229-4AD8-B5C8-BBCB289C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DA3F-8254-4C58-9214-BF479E90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3DF-9C33-4235-A182-397AB9A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B7C1-D877-4F8F-B803-DF0AB20C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848D-8EF4-487E-A95B-8F8872E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107C-9492-4D4F-9196-3E630CD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5191-0231-426A-A4DE-DE4142B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B470-6CAF-4B40-AE27-4DF94FA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17D-A848-495F-A330-5DDF72E8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2EA0-55B8-46E6-AF3B-78C3566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4F6B-78F6-4418-81F7-43D1CE2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AA15-D89F-41D6-9909-25BCB6E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C347-2F5D-4396-B0CA-30528B8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3FCB-371C-4A5B-A91B-E0BDE49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5683-4E4D-4271-B284-2E70EE1A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DC63-5562-444E-BF05-D9891D0F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4163-32D6-4553-BEAA-2DF8B9E9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78EF-7581-47F5-BE92-D9C4768D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8DE6-B03F-4123-AB97-1CAE144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6CA-46D1-4FFA-95EF-DF30A142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DAC1-597B-4C50-A6DF-93F9875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6F88-C3E1-430D-8842-091E371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AF91-A70C-4062-AD60-3B6DAFF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4742-C262-4A5E-85D2-DF8D58C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B45A-5095-4B0F-B9DF-2DEA450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BF61-7911-48E6-9BE6-AD5367B2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3085-7E9C-4A73-8DD2-6568257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1581-4ED1-49EE-A278-0D8277BE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A598-FE54-4437-9290-A8F8210C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FEF6-5FE7-464C-BA05-DBA8E18B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174-B617-42E2-A249-FC51B11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88CB-FB80-4798-A901-9D4927B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C035-D08D-492A-8FA3-9CC68B2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AC27-B813-4A27-B8DA-07EF8D6E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62F2-1663-4AD2-8C60-BB38123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D9E9-EFAD-4B7F-BE9D-B9ED28E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98F8-9687-4E12-83EC-ABAEC0C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07DD-C2F7-4D24-A400-1D501D7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D907-E577-434E-BA11-025C011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DDD4-31C7-4DE3-BF6C-F4CEFA16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DB72-4A79-4CC3-BDB8-9DF9B611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451-7974-4470-8B4B-1356834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2AFD5-5E73-4F5F-9702-4C05FF19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3FE7-0EBA-4C9D-8AE6-311F866F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B368-4EA1-47B7-BDED-3724653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66DF-90EB-4CE5-BD77-F564170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B072-A89C-4337-BFEA-A250590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B0FD-4D3F-4DBF-AE9C-D9DC416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6757-2E52-4501-BDAF-CED21F5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3EDD-43CC-4E05-A4AD-A2EC42E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6324-0FF0-49F4-96C5-BB10BF1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0EFE-DB8B-42C1-BFE9-E36F6FC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0EB-A4D3-4A7F-A73F-48AE91D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AD23-16FC-42D8-8211-C7531AAA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F9FA-7A9B-4FB2-B4A2-BD77AA0E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79BB-59F3-4B6C-B946-D0C5A1C1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EFC2A-733D-4DB8-9D3B-B85A6D75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AB62D-EA04-4941-BEE6-75879DBA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B6CE-F52B-4B44-9751-485D915E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CA4C-2949-4EBA-ABAB-B1A59A5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2806B-BF7B-451B-AC05-E76C2D0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FE27-2CE6-4E83-BE00-C5879845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D1AF-A859-4F02-93BA-B452415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8FE-56AD-4245-8857-2681ED8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DBAB-E658-4CED-8838-13DF7A0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D1CA-7933-4605-AAE2-EBF0866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66BE-DC65-4D98-9E13-4487D4D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6562-A6FB-427F-9357-5611B790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C6461-2380-4A2F-BCE3-DA91D454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B09C5-345F-4A97-9019-31F95A10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937DB-0E86-45EB-AA88-55C34149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BF550-D40A-46BB-A710-5BD27A6A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6C5D6-62D6-4661-8389-62BDC12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D3072-5B14-4AB1-A58C-13086A2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E95-FB63-4F48-8D8A-E9CAD5D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51A8-A3DA-434C-AD98-696BB85B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4FE6C-0871-4AE1-ABC0-2411C7C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5344A-7AFC-4FBB-9731-98FCBAE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223B-4441-4B08-9427-F8B88FC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A812E-12B0-4892-9FCE-6B59AB8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52D6-8584-4E0B-9B18-FE5E553F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1CE3-BB9A-440B-86A8-DA24389C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61CF-3E9E-40F8-8C73-EF51A369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A849-0633-4890-AF28-12F830B1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AB099-2654-4702-B73C-F5B6C33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B877-AB31-46C1-A017-A67828CE1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E9B3-7BDF-4BC9-A731-1C07276F26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F21-762E-4912-9C48-0C1862FDAD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A498-8EED-454E-98D1-089114D6A1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9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9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0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4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795F-D560-46B3-B5C4-CAF2BAFEB4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EFDE-81F4-4022-A999-059AC90B5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0C28-1C74-4102-A436-A228501846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1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2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76F4-7283-4DA1-A871-7484E1140A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7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6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CAA-0C31-4913-8023-C547CF3C7B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J0178632"/>
          <p:cNvPicPr/>
          <p:nvPr/>
        </p:nvPicPr>
        <p:blipFill>
          <a:blip r:embed="rId1"/>
          <a:stretch/>
        </p:blipFill>
        <p:spPr>
          <a:xfrm rot="21596400">
            <a:off x="-996480" y="468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79185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Некоторые аспекты воспитания в сем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8357760" y="5810400"/>
            <a:ext cx="78588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-324000" y="5661000"/>
            <a:ext cx="946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2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J0316862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4824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5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5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5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5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5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5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050"/>
                            </p:stCondLst>
                            <p:childTnLst>
                              <p:par>
                                <p:cTn id="4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05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5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5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205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Старца Филоф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71320" y="1071360"/>
            <a:ext cx="8143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дерево, когда оно мало, подует ветер и согнет его, а мы подставим столбик, то оно станет прямым, если же мы не подставим столбик, то оно навсегда останется кривым, если оно вырастет и хорошо укоренится, а мы захотим его выровнять, тогда оно треснет и сломается. Так и наши дети. Пока они малы, будем укреплять их в вере и страхе Божием. Соорудим для них ограду и стену из поучений и добрых примеров, доколе они не укоренятся в добродетели, когда им не будет страшна никакая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1dc"/>
            </a:gs>
            <a:gs pos="100000">
              <a:srgbClr val="b7eb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2124000" y="2060640"/>
            <a:ext cx="56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Flowers_0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8"/>
          <p:cNvSpPr/>
          <p:nvPr/>
        </p:nvSpPr>
        <p:spPr>
          <a:xfrm>
            <a:off x="324000" y="219240"/>
            <a:ext cx="705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По поводу воспитания детей существует множество теорий, созданных в основном теми, кто детей не имеет. Те же, кто воспитывает собственных детей, обычно не теоретизируют по этому поводу, а ведут себя так, как им подсказывает интуиция, жизненный опыт и складывающиеся обстоятельства. Короче -  как получ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Аспекты воспитания детей: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J0223735"/>
          <p:cNvPicPr/>
          <p:nvPr/>
        </p:nvPicPr>
        <p:blipFill>
          <a:blip r:embed="rId1"/>
          <a:stretch/>
        </p:blipFill>
        <p:spPr>
          <a:xfrm>
            <a:off x="0" y="260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J0336887"/>
          <p:cNvPicPr/>
          <p:nvPr/>
        </p:nvPicPr>
        <p:blipFill>
          <a:blip r:embed="rId2"/>
          <a:stretch/>
        </p:blipFill>
        <p:spPr>
          <a:xfrm flipH="1">
            <a:off x="7316640" y="5013360"/>
            <a:ext cx="1827360" cy="216072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0"/>
          <p:cNvSpPr/>
          <p:nvPr/>
        </p:nvSpPr>
        <p:spPr>
          <a:xfrm>
            <a:off x="2484360" y="1557360"/>
            <a:ext cx="5183280" cy="417672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132000" y="2276640"/>
            <a:ext cx="37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евная теп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и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четко разделять отцовские и матерински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6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6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дительская поддержка – это процес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 ходе которого родитель сосредотачивается на достоинствах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могает ребенку поверить в себя и в свои способ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ддерживает ребенка при неудач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8" descr="J0316850"/>
          <p:cNvPicPr/>
          <p:nvPr/>
        </p:nvPicPr>
        <p:blipFill>
          <a:blip r:embed="rId1"/>
          <a:stretch/>
        </p:blipFill>
        <p:spPr>
          <a:xfrm>
            <a:off x="5435640" y="1989000"/>
            <a:ext cx="2665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6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6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6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6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ьская ответственн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ую духовную простуду дети схватывают от чувств родителей, больше всего их простужает мать своим поведение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тая жизнь родителей извещает души детей, они вырастают послушны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тели воспитывают своих детей с колыбели, пресекая их стремления и порывы к дурным вкус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067280" y="1915920"/>
            <a:ext cx="4619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Забыть о прошлых неудач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3" name="Picture 7" descr="J0223740"/>
          <p:cNvPicPr/>
          <p:nvPr/>
        </p:nvPicPr>
        <p:blipFill>
          <a:blip r:embed="rId1"/>
          <a:stretch/>
        </p:blipFill>
        <p:spPr>
          <a:xfrm>
            <a:off x="762120" y="1628640"/>
            <a:ext cx="30798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468360" y="1989000"/>
            <a:ext cx="791352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Для того, чтобы поддержать ребенка, необходим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поддерж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делаешь это очень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разочар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4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3" descr="J0282747"/>
          <p:cNvPicPr/>
          <p:nvPr/>
        </p:nvPicPr>
        <p:blipFill>
          <a:blip r:embed="rId2"/>
          <a:stretch/>
        </p:blipFill>
        <p:spPr>
          <a:xfrm>
            <a:off x="0" y="5157720"/>
            <a:ext cx="1219320" cy="1435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J0283640"/>
          <p:cNvPicPr/>
          <p:nvPr/>
        </p:nvPicPr>
        <p:blipFill>
          <a:blip r:embed="rId3"/>
          <a:stretch/>
        </p:blipFill>
        <p:spPr>
          <a:xfrm>
            <a:off x="0" y="1773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9" descr="J0283653"/>
          <p:cNvPicPr/>
          <p:nvPr/>
        </p:nvPicPr>
        <p:blipFill>
          <a:blip r:embed="rId4"/>
          <a:stretch/>
        </p:blipFill>
        <p:spPr>
          <a:xfrm>
            <a:off x="7404120" y="494172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58:06Z</dcterms:created>
  <dc:creator>х</dc:creator>
  <dc:description/>
  <dc:language>en-US</dc:language>
  <cp:lastModifiedBy>Marina</cp:lastModifiedBy>
  <dcterms:modified xsi:type="dcterms:W3CDTF">2010-03-22T14:10:00Z</dcterms:modified>
  <cp:revision>8</cp:revision>
  <dc:subject/>
  <dc:title>Психологическая поддержка в семье</dc:title>
</cp:coreProperties>
</file>