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F7B-7B92-4439-8693-9FDB84E2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DB2-623C-42DE-80DA-3100CD0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6A27-9058-466A-B4D1-8DFF4A70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0B4CF-6EE1-4802-892F-1E4989A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15068-F74A-4B99-936A-8B5C2D1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3DA2B-387D-44A2-88C8-6902ED2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03F8A-04ED-423B-AF78-4FFEA81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9B4F8-1014-4E99-BD8E-6173CED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9FB9E-32F3-4DA7-8363-63304A68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C5678-BBD8-4468-A450-BE310573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AEAE1-85F8-4A8D-B27B-00CF40C1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7AD-6387-4E74-BE2B-64905366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1D9-3E2B-4407-9609-C8D3DE19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50A5-9420-4E56-817A-2B5FB825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352-2130-4247-AE35-7F7862CA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7218-A070-4F73-8586-661CB28C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CDC5-C28D-4829-BCD4-CF04A1C0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D988-5BB1-47D4-9BC3-7F23A44C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633A-EE8D-4308-8529-A26070B1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3806-A602-4AE5-A9B7-2BEE988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9BB-0D6C-4236-9B26-CE919080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016D-4721-4192-AC86-E808721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431-785F-405B-94AE-7AD4E96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1A4F-5994-45DB-AD15-421F1FA2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4F66-1F60-4028-977E-C459813D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277-F6BC-4065-8ADA-BFE3FC5C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02DE-CA78-448E-AADC-DC5E0079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887B-7861-4E39-936D-94512D85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AC59-5E81-41A4-AEDE-22B4B13C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CC66-3A7D-4FA1-8BA1-FD3351E3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C692E-7D66-449F-B326-D65468FB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F3F-3DC6-49F6-A7FE-5B5426FE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FF58-6C2A-4424-B08E-D18BC67C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FFB5-517B-40D7-BC42-0120664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5B9D-DD71-4E8B-AA28-D51EB68E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CA14-8B75-4883-899D-C5006005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97BB-3CFD-44AE-81F0-CD11CDF9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3D86-9F15-42C8-AEBD-18451EE7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2441-E4B3-456D-8525-0307622A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AB74-B89A-4091-8B67-FB8CF651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8C45D-4522-4858-8868-F3F46CF7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2530D-E581-4B8E-89E3-758DB402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685-ABDC-422F-AA39-B5E99B26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E59BC-6314-4728-BE63-025484CE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A3CE-9620-438E-B8C3-C2C1D9EB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5977-6C49-4B92-BFD9-3471A0DD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1E83-723C-46BE-BF7C-5E94F6D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77DDE-15B9-4E9B-B31F-3785DEC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CA26-7D6D-4D34-AFAC-15B9D82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ECE5-4985-45E4-BFE9-9C141735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134C9-630D-4A4F-A353-03BD8FDE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6822-C89B-414C-965E-FEDDFCDC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5611A-D745-4E43-A12F-F2D1EF49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E08-A0F8-475A-83D2-2A90E887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4AD3-DA3B-4072-91F9-3A514C03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7EB27-1DB8-4D6B-AC0C-5AC213E0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314BD-4756-4C58-9BE7-FBF67C43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2DAD6-2E84-4C8A-952A-425672FC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EB1D-924A-42C2-B1D8-2A0AC90F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F223B-78C8-46E9-98A0-357B8343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D54E-60B6-4EFA-BCF5-9218442D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FC06-C328-4834-B589-D8EDBB52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6DB37-98B2-47E9-B675-31C18E3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55B9-9AEB-4F9B-A33D-55DC49C8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CF9-5731-43BA-92B3-3AADAE26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6655-5854-4047-8116-15B8F440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A4D28-5DF4-4635-B72F-4764BDF6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8E043-2871-481D-A072-48396263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2A99-3C6B-4919-8A33-49EA786A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3B03-7614-4C1C-89C6-967C2D4B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270BF-C36F-4733-B79D-12F823EF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69F0-79CF-4A0E-AE04-DBC8DFC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DF132-F1AF-4F49-BDA7-4413C9D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B8D27-CAA6-4743-BD76-9EDE5E8B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A48FB-7A24-4620-B249-265738F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7A2-0259-4B36-981B-3CDA7A31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E7B0C-313E-47D6-A0D3-0BF0A21A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007A-3134-45E3-9909-47DF95A5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0406F-EB8E-414D-B3BA-ECE6CA9E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D86CC-DD0B-4142-8A10-2B8EFF2B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1F942-B091-4BC2-B9BD-D7E2106F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7696-65DF-40D4-8476-F3021183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04774-EFEB-432C-9ED6-E2C10914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EBFB2-E4D7-4F55-AF1C-4F052FD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99FD3-566D-4B3E-8C55-D16CCA14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2231-6F2E-482E-8A93-D275317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C53-25AE-4103-BCEA-27F6ED2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B6207-3C51-4F19-AC69-7E3A0B51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01D9-728B-4524-9677-AAF1EA7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A6AF-A6F7-4F20-BB15-13521257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0D45D-0697-44C5-A60D-2255A300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573CB-7122-474E-B451-91DBB20B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0B2F-B9C6-4D6A-A7D5-49CA1FDC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0556-D1B1-4C84-A396-D04047EE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FDE7-1802-491C-B29A-B289F319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02AC4-3B41-43D1-AAFD-AF1A4054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2EABC-BDB8-4F07-B048-753DD707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261-E24E-46D9-BF03-E311E9C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2FA3F-60D3-4569-81C3-B7C9A249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1AB0E-E1B2-47BA-97A0-5D03791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51FA-C7B5-461F-A9A5-F2F4D22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45AA-9467-4D9A-80A7-B75E9AD9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CF8F-4B39-49AB-A232-C63FC150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A1DF-7F69-4744-8602-B5644D9B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2A988-3123-40D7-B03B-AAFB9E92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64714-42DF-424E-9A1F-C1C221C4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8632F-8370-4E0F-825B-A0687C59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FE106-EC2D-406B-BEFC-7578648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B186-76A6-43D1-9440-F541B7385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3196-1ABA-449E-8A43-7E9548DBED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679D-FA31-4C19-B311-0E109739D7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EB13-3E3C-4346-8FF7-1D19455AE85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97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9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0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46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45E-0CBE-4552-B4D4-15BE92577A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D1FC-B851-483F-B887-E5143E838C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7D90-6F81-426A-91A6-ABF299D19F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0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1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2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18D3-6643-45CB-ABEE-8EA4ADA22A4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71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6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27F2-C97B-44EC-BAFD-CDB6A2CB0A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J0178632"/>
          <p:cNvPicPr/>
          <p:nvPr/>
        </p:nvPicPr>
        <p:blipFill>
          <a:blip r:embed="rId1"/>
          <a:stretch/>
        </p:blipFill>
        <p:spPr>
          <a:xfrm rot="21596400">
            <a:off x="-996480" y="4680"/>
            <a:ext cx="9470880" cy="7024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79185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Некоторые аспекты воспитания в сем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8357760" y="5810400"/>
            <a:ext cx="785880" cy="17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-324000" y="5661000"/>
            <a:ext cx="9468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2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разлучные друзья – родители и 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7" descr="J0316862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48247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5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50"/>
                            </p:stCondLst>
                            <p:childTnLst>
                              <p:par>
                                <p:cTn id="3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5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50"/>
                            </p:stCondLst>
                            <p:childTnLst>
                              <p:par>
                                <p:cTn id="3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5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50"/>
                            </p:stCondLst>
                            <p:childTnLst>
                              <p:par>
                                <p:cTn id="4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4050"/>
                            </p:stCondLst>
                            <p:childTnLst>
                              <p:par>
                                <p:cTn id="4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050"/>
                            </p:stCondLst>
                            <p:childTnLst>
                              <p:par>
                                <p:cTn id="4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5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5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2050"/>
                            </p:stCondLst>
                            <p:childTnLst>
                              <p:par>
                                <p:cTn id="4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Старца Филоф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71320" y="1071360"/>
            <a:ext cx="8143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дерево, когда оно мало, подует ветер и согнет его, а мы подставим столбик, то оно станет прямым, если же мы не подставим столбик, то оно навсегда останется кривым, если оно вырастет и хорошо укоренится, а мы захотим его выровнять, тогда оно треснет и сломается. Так и наши дети. Пока они малы, будем укреплять их в вере и страхе Божием. Соорудим для них ограду и стену из поучений и добрых примеров, доколе они не укоренятся в добродетели, когда им не будет страшна никакая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1dc"/>
            </a:gs>
            <a:gs pos="100000">
              <a:srgbClr val="b7eb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7"/>
          <p:cNvSpPr/>
          <p:nvPr/>
        </p:nvSpPr>
        <p:spPr>
          <a:xfrm>
            <a:off x="2124000" y="2060640"/>
            <a:ext cx="568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Flowers_0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8"/>
          <p:cNvSpPr/>
          <p:nvPr/>
        </p:nvSpPr>
        <p:spPr>
          <a:xfrm>
            <a:off x="324000" y="219240"/>
            <a:ext cx="705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По поводу воспитания детей существует множество теорий, созданных в основном теми, кто детей не имеет. Те же, кто воспитывает собственных детей, обычно не теоретизируют по этому поводу, а ведут себя так, как им подсказывает интуиция, жизненный опыт и складывающиеся обстоятельства. Короче -  как получ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54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Courier New"/>
              </a:rPr>
              <a:t>Аспекты воспитания детей: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ourier New"/>
              </a:rPr>
              <a:t>Чего хотят сам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J0223735"/>
          <p:cNvPicPr/>
          <p:nvPr/>
        </p:nvPicPr>
        <p:blipFill>
          <a:blip r:embed="rId1"/>
          <a:stretch/>
        </p:blipFill>
        <p:spPr>
          <a:xfrm>
            <a:off x="0" y="260280"/>
            <a:ext cx="3024360" cy="28814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J0336887"/>
          <p:cNvPicPr/>
          <p:nvPr/>
        </p:nvPicPr>
        <p:blipFill>
          <a:blip r:embed="rId2"/>
          <a:stretch/>
        </p:blipFill>
        <p:spPr>
          <a:xfrm flipH="1">
            <a:off x="7316640" y="5013360"/>
            <a:ext cx="1827360" cy="216072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10"/>
          <p:cNvSpPr/>
          <p:nvPr/>
        </p:nvSpPr>
        <p:spPr>
          <a:xfrm>
            <a:off x="2484360" y="1557360"/>
            <a:ext cx="5183280" cy="417672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132000" y="2276640"/>
            <a:ext cx="37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уход (еда, тепло, одежд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евная теп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 и ограни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четко разделять отцовские и материнские обяз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6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6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дительская поддержка – это процесс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В ходе которого родитель сосредотачивается на достоинствах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оторый помогает ребенку поверить в себя и в свои способ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оторый поддерживает ребенка при неудач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Picture 8" descr="J0316850"/>
          <p:cNvPicPr/>
          <p:nvPr/>
        </p:nvPicPr>
        <p:blipFill>
          <a:blip r:embed="rId1"/>
          <a:stretch/>
        </p:blipFill>
        <p:spPr>
          <a:xfrm>
            <a:off x="5435640" y="1989000"/>
            <a:ext cx="2665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6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6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6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6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6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дительская ответственност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ую духовную простуду дети схватывают от чувств родителей, больше всего их простужает мать своим поведение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ятая жизнь родителей извещает души детей, они вырастают послушны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тели воспитывают своих детей с колыбели, пресекая их стремления и порывы к дурным вкуса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Garamond"/>
              </a:rPr>
              <a:t>Для того, чтобы показать веру в ребенка, родитель должен иметь мужество и желание сделать следующее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067280" y="1915920"/>
            <a:ext cx="4619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Забыть о прошлых неудач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мочь ребенку обрести уверенность в том, что он справится с данной задач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зволить  ребенку начать «с нуля», опираясь на то, что родитель верит в него, в его способность достичь успех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мнить о прошлых удачах и возвращаться к ним, а не к ошибка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3" name="Picture 7" descr="J0223740"/>
          <p:cNvPicPr/>
          <p:nvPr/>
        </p:nvPicPr>
        <p:blipFill>
          <a:blip r:embed="rId1"/>
          <a:stretch/>
        </p:blipFill>
        <p:spPr>
          <a:xfrm>
            <a:off x="762120" y="1628640"/>
            <a:ext cx="30798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468360" y="1989000"/>
            <a:ext cx="791352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Опираться на сильные стороны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подчеркивания промах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Уметь и хотеть демонстрировать любовь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Внести юмор во взаимоотношения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водить больше времени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являть эмпатию к ребенку и веру в Ваш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инимать индивидуальность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озволить ребенку самому решать проблемы там, где это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дисциплинарных поощрений и наказаний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460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Для того, чтобы поддержать ребенка, необходим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а поддерж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ы делаешь это очень хорош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а разочаров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Поддерживать можно посредством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4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х слов (красиво, прекрасно, здор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й («Я горжусь тобой», «Спасибо», «Все идет хорошо»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основений (дотронуться до руки, обнять его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ых действий (сидеть, стоять рядом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лица (улыбка, кивок, сме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7" descr="J0282750"/>
          <p:cNvPicPr/>
          <p:nvPr/>
        </p:nvPicPr>
        <p:blipFill>
          <a:blip r:embed="rId1"/>
          <a:stretch/>
        </p:blipFill>
        <p:spPr>
          <a:xfrm>
            <a:off x="7924680" y="1628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3" descr="J0282747"/>
          <p:cNvPicPr/>
          <p:nvPr/>
        </p:nvPicPr>
        <p:blipFill>
          <a:blip r:embed="rId2"/>
          <a:stretch/>
        </p:blipFill>
        <p:spPr>
          <a:xfrm>
            <a:off x="0" y="5157720"/>
            <a:ext cx="1219320" cy="1435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6" descr="J0283640"/>
          <p:cNvPicPr/>
          <p:nvPr/>
        </p:nvPicPr>
        <p:blipFill>
          <a:blip r:embed="rId3"/>
          <a:stretch/>
        </p:blipFill>
        <p:spPr>
          <a:xfrm>
            <a:off x="0" y="1773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9" descr="J0283653"/>
          <p:cNvPicPr/>
          <p:nvPr/>
        </p:nvPicPr>
        <p:blipFill>
          <a:blip r:embed="rId4"/>
          <a:stretch/>
        </p:blipFill>
        <p:spPr>
          <a:xfrm>
            <a:off x="7404120" y="4941720"/>
            <a:ext cx="17398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5:58:06Z</dcterms:created>
  <dc:creator>х</dc:creator>
  <dc:description/>
  <dc:language>en-US</dc:language>
  <cp:lastModifiedBy>Marina</cp:lastModifiedBy>
  <dcterms:modified xsi:type="dcterms:W3CDTF">2010-03-22T14:10:00Z</dcterms:modified>
  <cp:revision>8</cp:revision>
  <dc:subject/>
  <dc:title>Психологическая поддержка в семье</dc:title>
</cp:coreProperties>
</file>