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8E35-AECE-4294-99D8-E88BDB1A4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C25B-0FE1-4C3A-92A6-4D486F1789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21F2-79D1-46F9-B901-65E91C1EA1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2B8C-DFFC-4082-B75A-42BCF0A865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3E2-F635-4BC3-BCE3-17A2BC9C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560-3DC4-4847-B193-DC0BA32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927-A3C1-45F8-A93E-58DC208E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A00-F279-4D17-AD61-13547E03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DCD-8657-4863-8884-71355A2C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28A-6BFE-4D7D-B1DE-5C6EAF36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B28-8A34-4383-84CB-04849943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204-CB02-402B-B568-248660D7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8E1-6E3E-42AC-B500-B2F03E9D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F43-98E6-4C54-9706-06A3772B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8F3-3C5D-424A-BD4B-1947D3B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011-5EB3-454E-B15E-930DF7EE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C6E1-0BC3-42BD-9022-6A27B15BC76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ttp/4ege.ru" TargetMode="External"/><Relationship Id="rId2" Type="http://schemas.openxmlformats.org/officeDocument/2006/relationships/hyperlink" Target="http://http/4ege.ru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04436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Calibri"/>
              </a:rPr>
              <a:t>ЕГЭ - 20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227320"/>
            <a:ext cx="9358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Подготовка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и  проведение </a:t>
            </a:r>
            <a:br>
              <a:rPr sz="5500"/>
            </a:br>
            <a:r>
              <a:rPr b="1" lang="ru-RU" sz="5500" spc="-1" strike="noStrike">
                <a:solidFill>
                  <a:srgbClr val="0000ff"/>
                </a:solidFill>
                <a:latin typeface="Times New Roman"/>
              </a:rPr>
              <a:t>единого государственного экзамена</a:t>
            </a:r>
            <a:r>
              <a:rPr b="1" lang="ru-RU" sz="5500" spc="-1" strike="noStrike">
                <a:solidFill>
                  <a:srgbClr val="953735"/>
                </a:solidFill>
                <a:latin typeface="Times New Roman"/>
              </a:rPr>
              <a:t> </a:t>
            </a:r>
            <a:br>
              <a:rPr sz="2700"/>
            </a:br>
            <a:br>
              <a:rPr sz="2700"/>
            </a:b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На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ГЭ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 разрешается пользова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ЕГЭ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-2012 разрешается пользоватьс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ледующими дополнительными устройствами и материал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матика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зика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 и непрограммируемый калькулятор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имия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непрограммируемый калькулятор;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линейка, транспортир, непрограммируемый калькулятор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родолжительность ЕГЭ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математике, литературе, информатике и информационно-коммуникационным технологиям (ИКТ)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4 час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(24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физике, истории, обществознанию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3,5 часа (21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русскому языку, биологии, географии, химии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- 3 часа (180 мину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 иностранным языкам (английский, французский, немецкий, испанский) -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160 мину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тветственность участников ЕГЭ, родителей и организаторов ЕГЭ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мышленное искажение результатов государственной (итоговой) аттестации и предусмотренных законодательством Российской Федерации в области образования олимпиад школьников, а равно нарушение установленного законодательством РФ в области образования  порядка проведения государственной (итоговой) аттестации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лечет наложение штрафа на граждан в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азмере от 3 000 до 5 000 рубле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должностных лиц –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от 20 000 до 40 000 рубле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юридических лиц –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от 50 000 до 200 000 рублей.</a:t>
            </a:r>
            <a:r>
              <a:rPr b="0" lang="ru-RU" sz="2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тветственность  участника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оответствии с правилами проведения ЕГЭ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а экзамен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alibri"/>
              </a:rPr>
              <a:t>запрещено наличие и использование  мобильных телефонов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, других средств связи, электронно-вычислительной техни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лучае не соблюдения данного требования  участник  ЕГЭ-2012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будет удален с экзаме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ЭК 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ринимает решение  о допуске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е допуске)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удаленного участника экзамена  к повторной сдаче ЕГЭ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по данному  общеобразовательному предмету  в другой день в соответствии с расписанием ЕГ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ть  работу  по  подготовке  участника к ЕГЭ п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ам по выбору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 (посещение консультаций, дополнительных занятий в ОУ, самостоятельная работа, и т.д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сти  разъяснительную работу 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 правилах поведения  при проведении ЕГЭ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тсутствие  сотовых телефонов, шпаргалок, справочных материалов и др.,   не должно быть разговоров, нарушений дисциплины, неэтичного поведения)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тветственность ФЗ № 10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беспечить достойный  внешний  вид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участника                   ЕГЭ-2011 (строгий, офисный стиль)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еспечить </a:t>
            </a: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обязательное наличие  паспорта, пропуска, гелевой ручки черного цвета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  ЕГЭ-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сновные задачи родителей, педаг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Участник ЕГЭ имеет прав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я проведения экзамен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уважительной причине покидать аудитори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 сопровождении организатора либо дежурного по этаж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просить у организатора дополнительный бланк ответов № 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если до конца заполнен бланк ответов № 2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о сдать работ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не менее чем за 15 минут до окончания экзамена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ать апелляцию о нарушении процедуры проведения экзаме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Во время экзамена </a:t>
            </a:r>
            <a:r>
              <a:rPr b="1" lang="ru-RU" sz="2800" spc="-1" strike="noStrike">
                <a:solidFill>
                  <a:srgbClr val="c0504d"/>
                </a:solidFill>
                <a:latin typeface="Verdana"/>
              </a:rPr>
              <a:t>запрещ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980640"/>
            <a:ext cx="87868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Участникам ЕГЭ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меть при себе или пользоваться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бильным  телефоном, другими средствами связи, электронно-вычислительной техникой</a:t>
            </a:r>
            <a:r>
              <a:rPr b="1" lang="ru-RU" sz="24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. 36 Пр. МОин РФ № 170 от 09.03.201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льзоваться любыми другими техническими средств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кроме дополнительных материалов, которые можно использовать по отдельным предметам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(физика, химия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инейка и непрограммируемый калькулятор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; география –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Times New Roman"/>
              </a:rPr>
              <a:t>линейка (без записей в виде формул) и транспорт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мышленно портить бла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говари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ать с места без разрешения орган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бмениваться вариантами КИМ и бланками отв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тавать с места после окончания выполнения заданий (без разрешения организат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тавлять себе (не сдавать организатору) бланки ответов, черновики, варианты 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Приём апелля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00" y="1285920"/>
            <a:ext cx="8429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экзамена участник имеет право подать апелляцию о нарушении процедуры проведения экзаме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пелляция не приним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вопросам структуры и содержания структуры К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 вопросам, связанным с нарушением участником экзамена инструкции по заполнению бланков отв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экзамена должен заполнить форму апелляции в двух экземплярах и удостоверить ее у уполномоченного представителя ГЭК. Один экземпляр остается у участника экзамена, другой у уполномоченного представителя ГЭ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Интернет – ресурсы по вопросам ЕГЭ-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g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ip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a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kubanne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edu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och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Рекомендуемые издания по использованию учебно-методической литературы при подготовке к ЕГЭ-201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дания, получившие гриф Федерального института педагогических измерений (ФИПИ), а также созданных ФИПИ в рамках совместных проектов с издательствами, размещены на сай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www.fipi.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ff"/>
                </a:solidFill>
                <a:latin typeface="Verdana"/>
              </a:rPr>
              <a:t>Нормативные и инструктивные материалы единого государственного экзаме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28556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Федеральный 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 внесении изменений в закон Российской Федерации «Об образовании» и федеральный закон «О высшем и послевузовском профессиональном образовании» в части проведения Единого Государственного Экзамена» от 02.02.200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4.02.2009 г. № 5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Порядок проведения единого государственного экзаме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09.03.2010 г. № 170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«Об утверждении Порядка  проведения единого государственного экзамен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8 ноября 2008 г. №36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б утверждении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Положения о формах и поряд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оведения государственной (итоговой) аттестации обучающихся, освоивших основные общеобразовательные программы среднего (полного) общего образования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риказ Минобрнауки России от 21.10.2009 № 442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Об утверждении Порядка приема граждан в имеющие государственную аккредитацию образовательные учреждения высшего профессионального образован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исьмо Рособрнадзора  от 27.05.2009 № 01-123/10-0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«О недопустимости использовани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мобильных телефон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и проведении ЕГЭ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егиональные (краевые) документ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приказы, письма, инструкц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Горячая линия ЕГЭ-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тересующую вас информацию по вопросам организации и проведения ЕГЭ можно получит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управлении по образованию и науке администрации города Соч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по тел.: 64-65-96;  64-29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департаменте образования и науки Краснодарского края (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просы по проведению государственной аттестации выпускников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 тел.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(861)234-33-98;  231-79-77;   231-71-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alibri"/>
              </a:rPr>
              <a:t>УСПЕШНОЙ СДАЧИ ЕГЭ-201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замены по выбору  по  14 предмета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математика, русский язык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химия, физика, биология, география, история, обществознание, литература, информатика и ИКТ, иностранные языки (английский, немецкий, французский, испанск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СТО ПОДАЧИ ЗАЯВЛЕНИЯ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– Управление по образованию и науке города Соч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ул. Юных ленинцев, 5 каб. 15)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– ДО 1 МАРТА 2012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роки подачи заявлений для сдачи ЕГЭ и выборе предме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брать предметы, сдаваемые в форме ЕГЭ-201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до  1 марта 201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емная комиссия учреждения высшего и среднего профессионального образ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не позднее 1 феврал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2012 год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определяет и объявля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равила прием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еречень специальносте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 указанием форм обучения, на которые объявляется прием докумен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перечень вступительных испытаний по специальностя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ысшего и среднего профессионального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л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alibri"/>
              </a:rPr>
              <a:t>1 марта 2012 год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добавлять предметы или менять выбранные предметы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ельзя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График  проведения ЕГЭ в 2011г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(проек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27 м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тика и ИКТ, биология, литерату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30 м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усский язык (обязательны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3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иностранные языки, хим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6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атематика (обязательны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0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география, обществозн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14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история, физ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езервные д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6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резервный  день (иностранные языки, обществознание, биология, информатика и ИКТ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7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резервный  день (география, химия, литература, история,  физика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18 июн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зервный день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(русский язык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alibri"/>
              </a:rPr>
              <a:t>20 июн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резервный день 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(математи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частники ЕГЭ-20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ускники и обучающиеся учреждений системы начального и среднего  профессионального образования –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2012 году сдают ЕГЭ 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только в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ИЮНЕ   201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ок подачи заявлений на участие в 2012 году в ЕГЭ –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до 1 МАРТА  2012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июле  к участию в ЕГЭ допуска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ускники прошлых ле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пускники образовательных учреждений начального профессионального и среднего профессионального образования 2012 год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ца, освоившие программы среднего (полного) общего образования в иностранных образователь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реждения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не имевшие возможности участвовать в ЕГЭ в основные сроки (июнь 2012г.)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 особенностях проведения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ГЭ в 2012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Право сдачи ЕГЭ в резервные дн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-2012,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не сдавшие ЕГЭ по уважительным причи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-2012,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 не завершившие  выполнение экзаменационной работы по уважительным причина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астники ЕГЭ, </a:t>
            </a:r>
            <a:r>
              <a:rPr b="1" lang="ru-RU" sz="2800" spc="-1" strike="noStrike">
                <a:solidFill>
                  <a:srgbClr val="cc0000"/>
                </a:solidFill>
                <a:latin typeface="Calibri"/>
              </a:rPr>
              <a:t>результаты которых были  отменены ГЭК, однако по решению ГЭК им разрешено  повторно сдать экзамен в форме ЕГЭ-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а экзамене необходимо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иметь при себ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аспорт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гражданина РФ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ропус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экзаме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левую или капиллярную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ручку с черными чернил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день экзамена прибыть в ППЭ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не позднее 9ч. 30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7T15:04:53Z</dcterms:modified>
  <cp:revision>66</cp:revision>
  <dc:subject/>
  <dc:title>ЕГЭ - 2009</dc:title>
</cp:coreProperties>
</file>