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A07-63DF-4C37-A834-6A43BFA9C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0A14-7E15-4DE3-83C9-FB31DA8733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DBA1-9E0E-4053-8F5F-D3DFA91E2E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4B1-AB0A-41D8-BA2D-861A86F78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19F-C30B-467C-80E7-1AEB3051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6CE-9C0A-4296-A643-FCCB54C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06C-52B8-4DEE-AB03-952DF748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267-8839-4F53-94F8-6224E4DF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AC5-5D4C-4D7F-989D-AD98B2A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464-B675-41A1-9496-10537E0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2FB-F801-47BA-81AA-42A37C9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C17-D406-476E-AEC7-D6897CE2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D0C-24CB-4D95-A310-4F06F4A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0FC-17C0-446F-B0A2-5E2317D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1EC-A861-4E2A-9C28-0283C4E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B5A-4D62-4184-B82B-8A8EE5F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BA81-8B6C-406A-856F-694678FF2D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ttp/4ege.ru" TargetMode="External"/><Relationship Id="rId2" Type="http://schemas.openxmlformats.org/officeDocument/2006/relationships/hyperlink" Target="http://http/4ege.r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04436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alibri"/>
              </a:rPr>
              <a:t>ЕГЭ - 20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227320"/>
            <a:ext cx="9358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Подготовка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и  проведение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единого государственного экзамена</a:t>
            </a:r>
            <a:r>
              <a:rPr b="1" lang="ru-RU" sz="5500" spc="-1" strike="noStrike">
                <a:solidFill>
                  <a:srgbClr val="953735"/>
                </a:solidFill>
                <a:latin typeface="Times New Roman"/>
              </a:rPr>
              <a:t> </a:t>
            </a:r>
            <a:br>
              <a:rPr sz="2700"/>
            </a:br>
            <a:br>
              <a:rPr sz="2700"/>
            </a:b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а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ГЭ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разрешается пользов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ЕГЭ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-2012 разрешается пользовать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ледующими дополнительными устройствами и материал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 и 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им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, транспортир, непрограммируемый калькулятор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одолжительность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математике, литературе, информатике и информационно-коммуникационным технологиям (ИКТ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4 час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24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физике, истории, обществознанию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3,5 часа (21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русскому языку, биологии, географии, химии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3 часа (18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 иностранным языкам (английский, французский, немецкий, испанский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160 мину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участников ЕГЭ, родителей и организаторов ЕГ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ышленное искажение результатов государственной (итоговой) аттестации и предусмотренных законодательством Российской Федерации в области образования олимпиад школьников, а равно нарушение установленного законодательством РФ в области образования  порядка проведения государственной (итоговой) аттестаци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ечет наложение штрафа на граждан в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азмере от 3 000 до 5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олжностны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20 000 до 40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юридически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50 000 до 200 000 рублей.</a:t>
            </a:r>
            <a:r>
              <a:rPr b="0" lang="ru-RU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 участника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правилами проведения ЕГЭ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а экзамен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запрещено наличие и использование  мобильных телефонов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, других средств связи, электронно-вычислительной техни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учае не соблюдения данного требования  участник  ЕГЭ-2012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будет удален с экза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ЭК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ринимает решение  о допуске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 допуске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удаленного участника экзамена  к повторной сдаче ЕГЭ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о данному  общеобразовательному предмету  в другой день в соответствии с расписанием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 работу  по  подготовке  участника к ЕГЭ 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ам по выбору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 (посещение консультаций, дополнительных занятий в ОУ, самостоятельная работа,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сти  разъяснительную работу 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 правилах поведения  при проведении ЕГЭ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тсутствие  сотовых телефонов, шпаргалок, справочных материалов и др.,   не должно быть разговоров, нарушений дисциплины, неэтичного поведения)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тветственность ФЗ № 10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еспечить достойный  внешний  ви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участника                   ЕГЭ-2011 (строгий, офисный стиль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ть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язательное наличие  паспорта, пропуска, гелевой ручки черного цвета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  ЕГЭ-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задачи родителей, педаг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Участник ЕГЭ имеет прав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проведения экзамен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уважительной причине покидать аудитор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 сопровождении организатора либо дежурного по этаж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просить у организатора дополнительный бланк ответов №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если до конца заполнен бланк ответов № 2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о сдать работ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не менее чем за 15 минут до окончания экзамена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ать апелляцию о нарушении процедуры проведения экзаме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Во время экзамена </a:t>
            </a:r>
            <a:r>
              <a:rPr b="1" lang="ru-RU" sz="2800" spc="-1" strike="noStrike">
                <a:solidFill>
                  <a:srgbClr val="c0504d"/>
                </a:solidFill>
                <a:latin typeface="Verdana"/>
              </a:rPr>
              <a:t>запрещ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8064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Участникам ЕГЭ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меть при себе или пользоваться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бильным  телефоном, другими средствами связи, электронно-вычислительной техникой</a:t>
            </a: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. 36 Пр. МОин РФ № 170 от 09.03.201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льзоваться любыми другими техническими средств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кроме дополнительных материалов, которые можно использовать по отдельным предмет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(физика, хим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и непрограммируемый калькулятор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 географ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(без записей в виде формул) и транспорт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мышленно портить бл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овари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без разрешения орган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бмениваться вариантами КИМ и бланками отв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после окончания выполнения заданий (без разрешения организат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тавлять себе (не сдавать организатору) бланки ответов, черновики, варианты 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риём апелля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1285920"/>
            <a:ext cx="8429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экзамена участник имеет право подать апелляцию о нарушении процедуры проведения экзаме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пелляция не приним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вопросам структуры и содержания структуры К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вопросам, связанным с нарушением участником экзамена инструкции по заполнению бланков от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экзамена должен заполнить форму апелляции в двух экземплярах и удостоверить ее у уполномоченного представителя ГЭК. Один экземпляр остается у участника экзамена, другой у уполномоченного представителя ГЭ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нтернет – ресурсы по вопросам 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g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ip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a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kubanne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ch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екомендуемые издания по использованию учебно-методической литературы при подготовке к ЕГЭ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дания, получившие гриф Федерального института педагогических измерений (ФИПИ), а также созданных ФИПИ в рамках совместных проектов с издательствами, размещены на сай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www.fipi.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Verdana"/>
              </a:rPr>
              <a:t>Нормативные и инструктивные материалы единого государственного экза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2855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Федеральный 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внесении изменений в закон Российской Федерации «Об образовании» и федеральный закон «О высшем и послевузовском профессиональном образовании» в части проведения Единого Государственного Экзамена» от 02.02.200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4.02.2009 г. № 5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Порядок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09.03.2010 г. № 170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«Об утверждении Порядка 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8 ноября 2008 г. №36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ложения о формах и поряд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1.10.2009 № 442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приема граждан в имеющие государственную аккредитацию образовательные учреждения высшего профессионального образован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исьмо Рособрнадзора  от 27.05.2009 № 01-123/10-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недопустимости использовани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обильных телефон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и проведении ЕГЭ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егиональные (краевые) докумен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приказы, письма, инструк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Горячая линия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ресующую вас информацию по вопросам организации и проведения ЕГЭ можно получи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управлении по образованию и науке администрации города Со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о тел.: 64-65-96;  64-29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епартаменте образования и науки Краснодарского края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просы по проведению государственной аттестации выпускнико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тел.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861)234-33-98;  231-79-77;   231-71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УСПЕШНОЙ СДАЧИ ЕГЭ-201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замены по выбору  по  14 предмет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математика, русский язык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химия, физика, биология, география, история, обществознание, литература, информатика и ИКТ, иностранные языки (английский, немецкий, французский, испанск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СТО ПОДАЧИ ЗАЯВЛЕНИЯ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Управление по образованию и науке города Соч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л. Юных ленинцев, 5 каб. 15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ДО 1 МАРТА 2012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роки подачи заявлений для сдачи ЕГЭ и выборе предм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брать предметы, сдаваемые в форме ЕГЭ-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до  1 марта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мная комиссия учреждения высшего и среднего профессионального образ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не позднее 1 феврал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2012 год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пределяет и объяв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равила прие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специальносте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указанием форм обучения, на которые объявляется прием доку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вступительных испытаний по специальностя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ысшего и среднего профессионально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1 марта 2012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добавлять предметы или менять выбранные предметы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льзя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График  проведения ЕГЭ в 2011г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проек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7 м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тика и ИКТ, биология, литерату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0 м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усский язык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иностранные языки, хим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матика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0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география, обществозн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14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история, физ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ервные д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иностранные языки, обществознание, биология, информатика и ИКТ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7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география, химия, литература, история,  физика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8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русский язы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0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матема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астники ЕГЭ-20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ники и обучающиеся учреждений системы начального и среднего  профессионального образования –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2012 году сдают ЕГЭ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только в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ИЮНЕ  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ок подачи заявлений на участие в 2012 году в ЕГЭ –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до 1 МАРТА  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июле  к участию в ЕГЭ допуск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прошлых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образовательных учреждений начального профессионального и среднего профессионального образования 2012 го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ца, освоившие программы среднего (полного) общего образования в иностранных образовате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реждения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 имевшие возможности участвовать в ЕГЭ в основные сроки (июнь 2012г.)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аво сдачи ЕГЭ в резервные д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 сдавшие ЕГЭ по уважительным причи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не завершившие  выполнение экзаменационной работы по уважительным причина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езультаты которых были  отменены ГЭК, однако по решению ГЭК им разрешено  повторно сдать экзамен в форме ЕГЭ-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а экзамене необходимо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меть при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аспорт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ражданина Р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ропус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экзаме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левую или капиллярную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ручку с черными черни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день экзамена прибыть в ППЭ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не позднее 9ч. 30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4:53Z</dcterms:modified>
  <cp:revision>66</cp:revision>
  <dc:subject/>
  <dc:title>ЕГЭ - 2009</dc:title>
</cp:coreProperties>
</file>