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0EF3-BF54-421C-A92B-4557A67E26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B0BC-727A-490D-BE94-6805A85810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B137-A3DE-43EB-BF06-8265F88301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32E0-A0A3-4A4B-9164-64886E6C36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C117-7B24-4C66-99E6-91F97F51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2F1-C2A0-4B06-815F-0B06FD50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C45-0987-4EEF-A93B-AB0C30FD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1689-E857-4F3A-A3B6-1E5D21BB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2456-A88D-4479-B644-6BC684E0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D7B-4FAE-4A4F-8039-49F958F1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0B2-9F3D-4183-88B3-EC2BDA18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68D-2B3B-4037-826C-9A8437E6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D438-25FA-49D9-B4E4-5E68A71B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4E3C-2758-4204-A1B6-5F53C1C5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A0B5-52DA-4775-9B7F-AA2F890E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CE6C-6578-4226-A316-29891813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E663-C223-4D92-85E3-95C99A2C03D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ttp/4ege.ru" TargetMode="External"/><Relationship Id="rId2" Type="http://schemas.openxmlformats.org/officeDocument/2006/relationships/hyperlink" Target="http://http/4ege.ru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04436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ff"/>
                </a:solidFill>
                <a:latin typeface="Calibri"/>
              </a:rPr>
              <a:t>ЕГЭ - 201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2227320"/>
            <a:ext cx="9358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ff"/>
                </a:solidFill>
                <a:latin typeface="Times New Roman"/>
              </a:rPr>
              <a:t>Подготовка </a:t>
            </a:r>
            <a:br>
              <a:rPr sz="5500"/>
            </a:br>
            <a:r>
              <a:rPr b="1" lang="ru-RU" sz="5500" spc="-1" strike="noStrike">
                <a:solidFill>
                  <a:srgbClr val="0000ff"/>
                </a:solidFill>
                <a:latin typeface="Times New Roman"/>
              </a:rPr>
              <a:t>и  проведение </a:t>
            </a:r>
            <a:br>
              <a:rPr sz="5500"/>
            </a:br>
            <a:r>
              <a:rPr b="1" lang="ru-RU" sz="5500" spc="-1" strike="noStrike">
                <a:solidFill>
                  <a:srgbClr val="0000ff"/>
                </a:solidFill>
                <a:latin typeface="Times New Roman"/>
              </a:rPr>
              <a:t>единого государственного экзамена</a:t>
            </a:r>
            <a:r>
              <a:rPr b="1" lang="ru-RU" sz="5500" spc="-1" strike="noStrike">
                <a:solidFill>
                  <a:srgbClr val="953735"/>
                </a:solidFill>
                <a:latin typeface="Times New Roman"/>
              </a:rPr>
              <a:t> </a:t>
            </a:r>
            <a:br>
              <a:rPr sz="2700"/>
            </a:br>
            <a:br>
              <a:rPr sz="2700"/>
            </a:b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На 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ЕГЭ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 разрешается пользова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ЕГЭ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-2012 разрешается пользоватьс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ледующими дополнительными устройствами и материалам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ематика -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линейка;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зика -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линейка и непрограммируемый калькулятор;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имия -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непрограммируемый калькулятор;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графия -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линейка, транспортир, непрограммируемый калькулятор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Продолжительность ЕГЭ-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математике, литературе, информатике и информационно-коммуникационным технологиям (ИКТ) -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4 час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(240 мину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физике, истории, обществознанию -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3,5 часа (210 мину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русскому языку, биологии, географии, химии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- 3 часа (180 мину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 иностранным языкам (английский, французский, немецкий, испанский) -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160 мину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тветственность участников ЕГЭ, родителей и организаторов ЕГЭ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мышленное искажение результатов государственной (итоговой) аттестации и предусмотренных законодательством Российской Федерации в области образования олимпиад школьников, а равно нарушение установленного законодательством РФ в области образования  порядка проведения государственной (итоговой) аттестации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лечет наложение штрафа на граждан в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размере от 3 000 до 5 000 рубле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должностных лиц –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от 20 000 до 40 000 рубле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юридических лиц –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от 50 000 до 200 000 рублей.</a:t>
            </a:r>
            <a:r>
              <a:rPr b="0" lang="ru-RU" sz="28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тветственность  участника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ЕГЭ-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правилами проведения ЕГЭ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на экзамене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Calibri"/>
              </a:rPr>
              <a:t>запрещено наличие и использование  мобильных телефонов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, других средств связи, электронно-вычислительной техник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лучае не соблюдения данного требования  участник  ЕГЭ-2012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будет удален с экзаме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ЭК 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принимает решение  о допуске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не допуске)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 удаленного участника экзамена  к повторной сдаче ЕГЭ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по данному  общеобразовательному предмету  в другой день в соответствии с расписанием ЕГ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овать  работу  по  подготовке  участника к ЕГЭ п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метам по выбору</a:t>
            </a: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 (посещение консультаций, дополнительных занятий в ОУ, самостоятельная работа, и т.д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ести  разъяснительную работу  </a:t>
            </a: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о правилах поведения  при проведении ЕГЭ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отсутствие  сотовых телефонов, шпаргалок, справочных материалов и др.,   не должно быть разговоров, нарушений дисциплины, неэтичного поведения) –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тветственность ФЗ № 104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Обеспечить достойный  внешний  вид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участника                   ЕГЭ-2011 (строгий, офисный стиль)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еспечить </a:t>
            </a: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обязательное наличие  паспорта, пропуска, гелевой ручки черного цвета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   ЕГЭ-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сновные задачи родителей, педагог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Участник ЕГЭ имеет право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ремя проведения экзамена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уважительной причине покидать аудиторию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 сопровождении организатора либо дежурного по этаж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просить у организатора дополнительный бланк ответов № 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если до конца заполнен бланк ответов № 2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досрочно сдать работ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не менее чем за 15 минут до окончания экзамена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дать апелляцию о нарушении процедуры проведения экзаме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Во время экзамена </a:t>
            </a:r>
            <a:r>
              <a:rPr b="1" lang="ru-RU" sz="2800" spc="-1" strike="noStrike">
                <a:solidFill>
                  <a:srgbClr val="c0504d"/>
                </a:solidFill>
                <a:latin typeface="Verdana"/>
              </a:rPr>
              <a:t>запреща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980640"/>
            <a:ext cx="87868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Участникам ЕГЭ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меть при себе или пользоваться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обильным  телефоном, другими средствами связи, электронно-вычислительной техникой</a:t>
            </a:r>
            <a:r>
              <a:rPr b="1" lang="ru-RU" sz="24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. 36 Пр. МОин РФ № 170 от 09.03.2010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льзоваться любыми другими техническими средствам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кроме дополнительных материалов, которые можно использовать по отдельным предметам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(физика, химия –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линейка и непрограммируемый калькулятор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; география –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линейка (без записей в виде формул) и транспорти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Умышленно портить бла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говарива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тавать с места без разрешения организа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бмениваться вариантами КИМ и бланками отве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тавать с места после окончания выполнения заданий (без разрешения организато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ставлять себе (не сдавать организатору) бланки ответов, черновики, варианты К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Приём апелляц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400" y="1285920"/>
            <a:ext cx="8429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кончания экзамена участник имеет право подать апелляцию о нарушении процедуры проведения экзаме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пелляция не принимае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вопросам структуры и содержания структуры КИ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 вопросам, связанным с нарушением участником экзамена инструкции по заполнению бланков отв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экзамена должен заполнить форму апелляции в двух экземплярах и удостоверить ее у уполномоченного представителя ГЭК. Один экземпляр остается у участника экзамена, другой у уполномоченного представителя ГЭ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Интернет – ресурсы по вопросам ЕГЭ-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ge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du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du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fip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gas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kubannet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du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och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екомендуемые издания по использованию учебно-методической литературы при подготовке к ЕГЭ-201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дания, получившие гриф Федерального института педагогических измерений (ФИПИ), а также созданных ФИПИ в рамках совместных проектов с издательствами, размещены на сай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alibri"/>
              </a:rPr>
              <a:t>www.fipi.r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ff"/>
                </a:solidFill>
                <a:latin typeface="Verdana"/>
              </a:rPr>
              <a:t>Нормативные и инструктивные материалы единого государственного экзамен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128556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Федеральный зако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О внесении изменений в закон Российской Федерации «Об образовании» и федеральный закон «О высшем и послевузовском профессиональном образовании» в части проведения Единого Государственного Экзамена» от 02.02.200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риказ Минобрнауки России от 24.02.2009 г. № 57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Порядок проведения единого государственного экзамен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риказ Минобрнауки России от 09.03.2010 г. № 170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«Об утверждении Порядка  проведения единого государственного экзамен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риказ Минобрнауки России от 28 ноября 2008 г. №36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Об утверждении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ложения о формах и порядк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роведения государственной (итоговой) аттестации обучающихся, освоивших основные общеобразовательные программы среднего (полного) общего образования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риказ Минобрнауки России от 21.10.2009 № 442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б утверждении Порядка приема граждан в имеющие государственную аккредитацию образовательные учреждения высшего профессионального образования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исьмо Рособрнадзора  от 27.05.2009 № 01-123/10-0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О недопустимости использовани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мобильных телефон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ри проведении ЕГЭ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егиональные (краевые) документ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приказы, письма, инструкци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Горячая линия ЕГЭ-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тересующую вас информацию по вопросам организации и проведения ЕГЭ можно получит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управлении по образованию и науке администрации города Соч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по тел.: 64-65-96;  64-29-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департаменте образования и науки Краснодарского края (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опросы по проведению государственной аттестации выпускников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тел.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(861)234-33-98;  231-79-77;   231-71-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УСПЕШНОЙ СДАЧИ ЕГЭ-201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б особенностях проведения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ЕГЭ в 2012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кзамены по выбору  по  14 предмета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математика, русский язык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химия, физика, биология, география, история, обществознание, литература, информатика и ИКТ, иностранные языки (английский, немецкий, французский, испански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СТО ПОДАЧИ ЗАЯВЛЕНИЯ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 – Управление по образованию и науке города Соч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ул. Юных ленинцев, 5 каб. 15)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 – ДО 1 МАРТА 2012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Сроки подачи заявлений для сдачи ЕГЭ и выборе предме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брать предметы, сдаваемые в форме ЕГЭ-201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до  1 марта 2012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емная комиссия учреждения высшего и среднего профессионального образ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Calibri"/>
              </a:rPr>
              <a:t>не позднее 1 февраля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Calibri"/>
              </a:rPr>
              <a:t>2012 год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определяет и объявля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правила прием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перечень специальносте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 указанием форм обучения, на которые объявляется прием докумен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перечень вступительных испытаний по специальностям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ысшего и среднего профессионального образов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Calibri"/>
              </a:rPr>
              <a:t>1 марта 2012 год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добавлять предметы или менять выбранные предметы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нельзя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!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График  проведения ЕГЭ в 2011г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(проект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27 м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форматика и ИКТ, биология, литерату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30 м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усский язык (обязательны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3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иностранные языки, хим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6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математика (обязательны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10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география, обществозн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14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история, физ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Резервные д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16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резервный  день (иностранные языки, обществознание, биология, информатика и ИКТ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17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резервный  день (география, химия, литература, история,  физика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18 июн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резервный день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(русский язык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20 июн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резервный день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(математик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б особенностях проведения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ЕГЭ в 2012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Участники ЕГЭ-20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ускники и обучающиеся учреждений системы начального и среднего  профессионального образования –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 2012 году сдают ЕГЭ  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только в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              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ИЮНЕ   2012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ок подачи заявлений на участие в 2012 году в ЕГЭ – 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до 1 МАРТА  2012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б особенностях проведения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ЕГЭ в 2012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 июле  к участию в ЕГЭ допускаю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пускники прошлых ле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пускники образовательных учреждений начального профессионального и среднего профессионального образования 2012 год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ица, освоившие программы среднего (полного) общего образования в иностранных образовательных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реждениях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не имевшие возможности участвовать в ЕГЭ в основные сроки (июнь 2012г.)</a:t>
            </a: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б особенностях проведения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ЕГЭ в 2012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Право сдачи ЕГЭ в резервные дн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астники ЕГЭ-2012,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не сдавшие ЕГЭ по уважительным причин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астники ЕГЭ-2012,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 не завершившие  выполнение экзаменационной работы по уважительным причинам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астники ЕГЭ,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результаты которых были  отменены ГЭК, однако по решению ГЭК им разрешено  повторно сдать экзамен в форме ЕГЭ-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На экзамене необходимо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иметь при себ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паспорт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гражданина РФ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пропуск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 экзаме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елевую или капиллярную </a:t>
            </a: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ручку с черными чернил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день экзамена прибыть в ППЭ </a:t>
            </a: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не позднее 9ч. 30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17T15:04:53Z</dcterms:modified>
  <cp:revision>66</cp:revision>
  <dc:subject/>
  <dc:title>ЕГЭ - 2009</dc:title>
</cp:coreProperties>
</file>