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5.png" ContentType="image/png"/>
  <Override PartName="/ppt/media/image43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7AB-1634-4FC3-A1DB-156C5F0B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778-B0CF-4121-9BD1-253B6C8E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9FA-5457-44A9-B482-9B1F05C7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069-BA96-4966-A22D-59632CCD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EBB-3633-43FC-B4CD-762EDDF4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FEF-BFFB-4F64-AB67-AF222D99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100-DDA9-4CFC-B3D3-DB8DE316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6F2-724E-495C-846B-03B50E3E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DF9-A9AF-4CA3-A849-0878E46A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02E-DC7C-4FB9-A1A7-B47DEA4E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487-898C-464D-B8F0-FE6E359F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1A7-5CD4-4FA1-B5DD-8149413C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9F09-25CD-4D6B-87C3-2F45DB08F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-257400" y="0"/>
            <a:ext cx="63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AvanteLt"/>
              </a:rPr>
              <a:t>Мифологическая поэз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Картинка 6 из 2071"/>
          <p:cNvPicPr/>
          <p:nvPr/>
        </p:nvPicPr>
        <p:blipFill>
          <a:blip r:embed="rId2"/>
          <a:stretch/>
        </p:blipFill>
        <p:spPr>
          <a:xfrm>
            <a:off x="214200" y="1071720"/>
            <a:ext cx="4191120" cy="4333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1216800" y="542916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Monumento"/>
              </a:rPr>
              <a:t>Геси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7" descr=""/>
          <p:cNvPicPr/>
          <p:nvPr/>
        </p:nvPicPr>
        <p:blipFill>
          <a:blip r:embed="rId3"/>
          <a:stretch/>
        </p:blipFill>
        <p:spPr>
          <a:xfrm>
            <a:off x="4260960" y="2451240"/>
            <a:ext cx="4816440" cy="1809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3946320" y="3571920"/>
            <a:ext cx="549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no Pro Subhead"/>
              </a:rPr>
              <a:t>«Родословная бог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Скругленный прямоугольник 6"/>
          <p:cNvSpPr/>
          <p:nvPr/>
        </p:nvSpPr>
        <p:spPr>
          <a:xfrm>
            <a:off x="0" y="214200"/>
            <a:ext cx="9144000" cy="107172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а что Зевс боролся с Крон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и титан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7"/>
          <p:cNvSpPr/>
          <p:nvPr/>
        </p:nvSpPr>
        <p:spPr>
          <a:xfrm>
            <a:off x="0" y="1500120"/>
            <a:ext cx="9144000" cy="107172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2. Кого Зевс призвал на помощ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8"/>
          <p:cNvSpPr/>
          <p:nvPr/>
        </p:nvSpPr>
        <p:spPr>
          <a:xfrm>
            <a:off x="0" y="2857680"/>
            <a:ext cx="9144000" cy="107136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3. Какую помощь оказали Зев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9"/>
          <p:cNvSpPr/>
          <p:nvPr/>
        </p:nvSpPr>
        <p:spPr>
          <a:xfrm>
            <a:off x="0" y="4214880"/>
            <a:ext cx="9144000" cy="107136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4. Кто такой Тартар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Картинка 9 из 134603"/>
          <p:cNvPicPr/>
          <p:nvPr/>
        </p:nvPicPr>
        <p:blipFill>
          <a:blip r:embed="rId2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3"/>
          <a:stretch/>
        </p:blipFill>
        <p:spPr>
          <a:xfrm>
            <a:off x="-450720" y="262080"/>
            <a:ext cx="420048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Картинка 9 из 847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290160" y="0"/>
            <a:ext cx="866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Олимп – наиболее высок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горный массив в Грец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(2917 м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Картинка 1 из 12469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453400" y="0"/>
            <a:ext cx="706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Олимпийские игры – древней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и наиболее популя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в Древней Гре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праздненства и состяз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Картинка 8 из 124699"/>
          <p:cNvPicPr/>
          <p:nvPr/>
        </p:nvPicPr>
        <p:blipFill>
          <a:blip r:embed="rId2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f2f2"/>
                </a:solidFill>
                <a:latin typeface="Park Avenue"/>
              </a:rPr>
              <a:t>Устраивались, согласно традици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f2f2"/>
                </a:solidFill>
                <a:latin typeface="Park Avenue"/>
              </a:rPr>
              <a:t>с 776 до н.э.                1 раз в 4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Картинка 21 из 1360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382760" y="214200"/>
            <a:ext cx="65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cd5b5"/>
                </a:solidFill>
                <a:latin typeface="Arbat"/>
              </a:rPr>
              <a:t>«Священный ми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Картинка 19 из 38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5"/>
          <p:cNvSpPr/>
          <p:nvPr/>
        </p:nvSpPr>
        <p:spPr>
          <a:xfrm>
            <a:off x="214200" y="214200"/>
            <a:ext cx="8786880" cy="15004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ubhead"/>
              </a:rPr>
              <a:t>Проходила олимпиада в течение 5 д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ubhead"/>
              </a:rPr>
              <a:t>1 и 5 – торжественные процессии, жертвоприношения, цере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Картинка 2 из 2316"/>
          <p:cNvPicPr/>
          <p:nvPr/>
        </p:nvPicPr>
        <p:blipFill>
          <a:blip r:embed="rId2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487800" y="6072120"/>
            <a:ext cx="81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Monumento"/>
              </a:rPr>
              <a:t>остальные – состязания мужчин и маль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Скругленный прямоугольник 4"/>
          <p:cNvSpPr/>
          <p:nvPr/>
        </p:nvSpPr>
        <p:spPr>
          <a:xfrm>
            <a:off x="142920" y="214200"/>
            <a:ext cx="885816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В программу олимпиады вход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142920" y="1071720"/>
            <a:ext cx="464328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состязания в езде на колес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Картинка 21 из 251"/>
          <p:cNvPicPr/>
          <p:nvPr/>
        </p:nvPicPr>
        <p:blipFill>
          <a:blip r:embed="rId2"/>
          <a:stretch/>
        </p:blipFill>
        <p:spPr>
          <a:xfrm>
            <a:off x="1000080" y="1714680"/>
            <a:ext cx="2714760" cy="2036520"/>
          </a:xfrm>
          <a:prstGeom prst="rect">
            <a:avLst/>
          </a:prstGeom>
          <a:ln w="0">
            <a:noFill/>
          </a:ln>
        </p:spPr>
      </p:pic>
      <p:sp>
        <p:nvSpPr>
          <p:cNvPr id="137" name="Скругленный прямоугольник 7"/>
          <p:cNvSpPr/>
          <p:nvPr/>
        </p:nvSpPr>
        <p:spPr>
          <a:xfrm>
            <a:off x="4357800" y="2500200"/>
            <a:ext cx="464328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кулачный 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артинка 6 из 111"/>
          <p:cNvPicPr/>
          <p:nvPr/>
        </p:nvPicPr>
        <p:blipFill>
          <a:blip r:embed="rId3"/>
          <a:stretch/>
        </p:blipFill>
        <p:spPr>
          <a:xfrm>
            <a:off x="5072040" y="3143160"/>
            <a:ext cx="3357720" cy="2652840"/>
          </a:xfrm>
          <a:prstGeom prst="rect">
            <a:avLst/>
          </a:prstGeom>
          <a:ln w="0">
            <a:noFill/>
          </a:ln>
        </p:spPr>
      </p:pic>
      <p:sp>
        <p:nvSpPr>
          <p:cNvPr id="139" name="Скругленный прямоугольник 9"/>
          <p:cNvSpPr/>
          <p:nvPr/>
        </p:nvSpPr>
        <p:spPr>
          <a:xfrm>
            <a:off x="142920" y="3857760"/>
            <a:ext cx="464328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конкурс искус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Картинка 16 из 1957"/>
          <p:cNvPicPr/>
          <p:nvPr/>
        </p:nvPicPr>
        <p:blipFill>
          <a:blip r:embed="rId4"/>
          <a:stretch/>
        </p:blipFill>
        <p:spPr>
          <a:xfrm>
            <a:off x="1000080" y="4500720"/>
            <a:ext cx="2752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Скругленный прямоугольник 4"/>
          <p:cNvSpPr/>
          <p:nvPr/>
        </p:nvSpPr>
        <p:spPr>
          <a:xfrm>
            <a:off x="142920" y="142920"/>
            <a:ext cx="885816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пятиб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5"/>
          <p:cNvSpPr/>
          <p:nvPr/>
        </p:nvSpPr>
        <p:spPr>
          <a:xfrm>
            <a:off x="142920" y="785880"/>
            <a:ext cx="364320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5357880" y="785880"/>
            <a:ext cx="364320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метание копья и д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8"/>
          <p:cNvSpPr/>
          <p:nvPr/>
        </p:nvSpPr>
        <p:spPr>
          <a:xfrm>
            <a:off x="142920" y="3786120"/>
            <a:ext cx="364320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прыжки в дл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5357880" y="3786120"/>
            <a:ext cx="364320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Картинка 8 из 8747"/>
          <p:cNvPicPr/>
          <p:nvPr/>
        </p:nvPicPr>
        <p:blipFill>
          <a:blip r:embed="rId2"/>
          <a:stretch/>
        </p:blipFill>
        <p:spPr>
          <a:xfrm>
            <a:off x="714240" y="1428840"/>
            <a:ext cx="2428920" cy="2278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Картинка 31 из 117"/>
          <p:cNvPicPr/>
          <p:nvPr/>
        </p:nvPicPr>
        <p:blipFill>
          <a:blip r:embed="rId3"/>
          <a:stretch/>
        </p:blipFill>
        <p:spPr>
          <a:xfrm>
            <a:off x="6286680" y="1428840"/>
            <a:ext cx="1785600" cy="2324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Картинка 14 из 129"/>
          <p:cNvPicPr/>
          <p:nvPr/>
        </p:nvPicPr>
        <p:blipFill>
          <a:blip r:embed="rId4"/>
          <a:stretch/>
        </p:blipFill>
        <p:spPr>
          <a:xfrm>
            <a:off x="500040" y="4429080"/>
            <a:ext cx="2901960" cy="2219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Картинка 2 из 27741"/>
          <p:cNvPicPr/>
          <p:nvPr/>
        </p:nvPicPr>
        <p:blipFill>
          <a:blip r:embed="rId5"/>
          <a:stretch/>
        </p:blipFill>
        <p:spPr>
          <a:xfrm>
            <a:off x="5429160" y="4500720"/>
            <a:ext cx="3429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18600" y="1500120"/>
            <a:ext cx="846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Миф объясня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любое природное событ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волей божест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то есть вверяется бог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5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0" y="2500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girCTT"/>
              </a:rPr>
              <a:t>Полис</a:t>
            </a:r>
            <a:r>
              <a:rPr b="0" lang="ru-RU" sz="4400" spc="-1" strike="noStrike">
                <a:solidFill>
                  <a:srgbClr val="000000"/>
                </a:solidFill>
                <a:latin typeface="TagirCTT"/>
              </a:rPr>
              <a:t> (греч. </a:t>
            </a:r>
            <a:r>
              <a:rPr b="1" lang="ru-RU" sz="4400" spc="-1" strike="noStrike">
                <a:solidFill>
                  <a:srgbClr val="000000"/>
                </a:solidFill>
                <a:latin typeface="TagirCTT"/>
              </a:rPr>
              <a:t>pólis</a:t>
            </a:r>
            <a:r>
              <a:rPr b="0" lang="ru-RU" sz="4400" spc="-1" strike="noStrike">
                <a:solidFill>
                  <a:srgbClr val="000000"/>
                </a:solidFill>
                <a:latin typeface="TagirCTT"/>
              </a:rPr>
              <a:t>, лат. civitas)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girCTT"/>
              </a:rPr>
              <a:t>город-государ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Картинка 57 из 29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1957320" y="142920"/>
            <a:ext cx="55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Arbat"/>
              </a:rPr>
              <a:t>Женщины не допускал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Arbat"/>
              </a:rPr>
              <a:t>к месту Олимпи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4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0" y="142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ОЛИМПИОНИК - почетное пожизненное звание победителей Олимпийских игр Др. Гре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Картинка 16 из 318"/>
          <p:cNvPicPr/>
          <p:nvPr/>
        </p:nvPicPr>
        <p:blipFill>
          <a:blip r:embed="rId2"/>
          <a:stretch/>
        </p:blipFill>
        <p:spPr>
          <a:xfrm>
            <a:off x="0" y="4422600"/>
            <a:ext cx="2357280" cy="24354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4"/>
          <p:cNvSpPr/>
          <p:nvPr/>
        </p:nvSpPr>
        <p:spPr>
          <a:xfrm>
            <a:off x="142920" y="2143080"/>
            <a:ext cx="87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Победитель Олимпийских игр получал вместе с оливковым венком (эта традиция пошла с 752 до н.э.) и пурпурными лентами всеобщее призн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Картинка 7 из 318"/>
          <p:cNvPicPr/>
          <p:nvPr/>
        </p:nvPicPr>
        <p:blipFill>
          <a:blip r:embed="rId3"/>
          <a:stretch/>
        </p:blipFill>
        <p:spPr>
          <a:xfrm>
            <a:off x="6786720" y="450072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Картинка 2 из 59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-344880" y="285840"/>
            <a:ext cx="418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ubhead"/>
              </a:rPr>
              <a:t>Олимпийц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ubhead"/>
              </a:rPr>
              <a:t>боги, обитавши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ubhead"/>
              </a:rPr>
              <a:t>Олим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6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Схема 8" descr=""/>
          <p:cNvPicPr/>
          <p:nvPr/>
        </p:nvPicPr>
        <p:blipFill>
          <a:blip r:embed="rId2"/>
          <a:stretch/>
        </p:blipFill>
        <p:spPr>
          <a:xfrm>
            <a:off x="1054080" y="-19080"/>
            <a:ext cx="70102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0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Картинка 1 из 12183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-1830240" y="0"/>
            <a:ext cx="11828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Отличие олимпийц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от простых смертных греки видел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в их безучастном отношен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к страданиям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          </a:t>
            </a: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волнениям люд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5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Картинка 33 из 12364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0" y="0"/>
            <a:ext cx="900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Book Antiqua"/>
              </a:rPr>
              <a:t>Отсюда переносное значение слова «олимпиец» – человек, сохраняющий невозмутимое споко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Book Antiqua"/>
              </a:rPr>
              <a:t>и внешнюю величав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Book Antiqua"/>
              </a:rPr>
              <a:t>перед земными волн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529200" y="3643200"/>
            <a:ext cx="55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girCTT"/>
              </a:rPr>
              <a:t>«Олимпийск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girCTT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TagirCTT"/>
              </a:rPr>
              <a:t>спокойств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Картинка 1 из 12156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8"/>
          <p:cNvSpPr/>
          <p:nvPr/>
        </p:nvSpPr>
        <p:spPr>
          <a:xfrm>
            <a:off x="-673920" y="142920"/>
            <a:ext cx="477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Над всем ми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царит Зев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5564520" y="4857840"/>
            <a:ext cx="375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Бог бог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и все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7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Картинка 18 из 384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279360" y="5572080"/>
            <a:ext cx="854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Одно из семи чудес све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Статуя Зевса Олимпий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02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Картинка 7 из 4045"/>
          <p:cNvPicPr/>
          <p:nvPr/>
        </p:nvPicPr>
        <p:blipFill>
          <a:blip r:embed="rId2"/>
          <a:stretch/>
        </p:blipFill>
        <p:spPr>
          <a:xfrm>
            <a:off x="500040" y="1000080"/>
            <a:ext cx="3929040" cy="4489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4939920" y="3214800"/>
            <a:ext cx="326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_Romanus"/>
              </a:rPr>
              <a:t>Фид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img0.liveinternet.ru/images/attach/c/1/61/748/61748780_1279627416_55216a7a2286.jpg"/>
          <p:cNvPicPr/>
          <p:nvPr/>
        </p:nvPicPr>
        <p:blipFill>
          <a:blip r:embed="rId2"/>
          <a:stretch/>
        </p:blipFill>
        <p:spPr>
          <a:xfrm>
            <a:off x="857160" y="-17640"/>
            <a:ext cx="71438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07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Картинка 5 из 580"/>
          <p:cNvPicPr/>
          <p:nvPr/>
        </p:nvPicPr>
        <p:blipFill>
          <a:blip r:embed="rId2"/>
          <a:stretch/>
        </p:blipFill>
        <p:spPr>
          <a:xfrm>
            <a:off x="5429160" y="0"/>
            <a:ext cx="3714840" cy="68785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-739440" y="500040"/>
            <a:ext cx="774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_Romanus"/>
              </a:rPr>
              <a:t>Гиматий - отрез шерстяной тка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_Romanus"/>
              </a:rPr>
              <a:t>достигавший 1,7 метра в шири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_Romanus"/>
              </a:rPr>
              <a:t>и 4 метров в дл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2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Картинка 22 из 385"/>
          <p:cNvPicPr/>
          <p:nvPr/>
        </p:nvPicPr>
        <p:blipFill>
          <a:blip r:embed="rId2"/>
          <a:stretch/>
        </p:blipFill>
        <p:spPr>
          <a:xfrm>
            <a:off x="142920" y="214200"/>
            <a:ext cx="3133800" cy="38102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-772200" y="4429080"/>
            <a:ext cx="10694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Борода, волосы в кудр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Борода у греков – символ мудр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7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Скругленный прямоугольник 4"/>
          <p:cNvSpPr/>
          <p:nvPr/>
        </p:nvSpPr>
        <p:spPr>
          <a:xfrm>
            <a:off x="714240" y="2214720"/>
            <a:ext cx="7715520" cy="242856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_Romanus"/>
              </a:rPr>
              <a:t>Знакомо ли вам слово «атрибут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2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Скругленный прямоугольник 4"/>
          <p:cNvSpPr/>
          <p:nvPr/>
        </p:nvSpPr>
        <p:spPr>
          <a:xfrm>
            <a:off x="142920" y="214200"/>
            <a:ext cx="8858160" cy="135756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Атрибут – (от лат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attribuo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– придаю, наделяю) неотъемлемый вещественный отличи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признак героя, бож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5"/>
          <p:cNvSpPr/>
          <p:nvPr/>
        </p:nvSpPr>
        <p:spPr>
          <a:xfrm>
            <a:off x="2643120" y="1714680"/>
            <a:ext cx="3643560" cy="64260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Атрибуты Зев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6"/>
          <p:cNvSpPr/>
          <p:nvPr/>
        </p:nvSpPr>
        <p:spPr>
          <a:xfrm>
            <a:off x="214200" y="2500200"/>
            <a:ext cx="3857760" cy="3929040"/>
          </a:xfrm>
          <a:custGeom>
            <a:avLst/>
            <a:gdLst>
              <a:gd name="textAreaLeft" fmla="*/ 188280 w 3857760"/>
              <a:gd name="textAreaRight" fmla="*/ 3669480 w 3857760"/>
              <a:gd name="textAreaTop" fmla="*/ 188280 h 3929040"/>
              <a:gd name="textAreaBottom" fmla="*/ 3740760 h 3929040"/>
            </a:gdLst>
            <a:ahLst/>
            <a:rect l="textAreaLeft" t="textAreaTop" r="textAreaRight" b="textAreaBottom"/>
            <a:pathLst>
              <a:path w="21600" h="21999">
                <a:moveTo>
                  <a:pt x="3600" y="0"/>
                </a:moveTo>
                <a:arcTo wR="3600" hR="3600" stAng="16200000" swAng="-5400000"/>
                <a:lnTo>
                  <a:pt x="0" y="18399"/>
                </a:lnTo>
                <a:arcTo wR="3600" hR="3600" stAng="10800000" swAng="-5400000"/>
                <a:lnTo>
                  <a:pt x="18000" y="2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Эгида (от греч. а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igis)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– щит Зевса, символ покровительства и гнева б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Картинка 28 из 1356"/>
          <p:cNvPicPr/>
          <p:nvPr/>
        </p:nvPicPr>
        <p:blipFill>
          <a:blip r:embed="rId2"/>
          <a:stretch/>
        </p:blipFill>
        <p:spPr>
          <a:xfrm>
            <a:off x="1143000" y="4572000"/>
            <a:ext cx="1857240" cy="1762200"/>
          </a:xfrm>
          <a:prstGeom prst="rect">
            <a:avLst/>
          </a:prstGeom>
          <a:ln w="0">
            <a:noFill/>
          </a:ln>
        </p:spPr>
      </p:pic>
      <p:sp>
        <p:nvSpPr>
          <p:cNvPr id="226" name="Скругленный прямоугольник 8"/>
          <p:cNvSpPr/>
          <p:nvPr/>
        </p:nvSpPr>
        <p:spPr>
          <a:xfrm>
            <a:off x="4714920" y="2500200"/>
            <a:ext cx="3857760" cy="3929040"/>
          </a:xfrm>
          <a:custGeom>
            <a:avLst/>
            <a:gdLst>
              <a:gd name="textAreaLeft" fmla="*/ 188280 w 3857760"/>
              <a:gd name="textAreaRight" fmla="*/ 3669480 w 3857760"/>
              <a:gd name="textAreaTop" fmla="*/ 188280 h 3929040"/>
              <a:gd name="textAreaBottom" fmla="*/ 3740760 h 3929040"/>
            </a:gdLst>
            <a:ahLst/>
            <a:rect l="textAreaLeft" t="textAreaTop" r="textAreaRight" b="textAreaBottom"/>
            <a:pathLst>
              <a:path w="21600" h="21999">
                <a:moveTo>
                  <a:pt x="3600" y="0"/>
                </a:moveTo>
                <a:arcTo wR="3600" hR="3600" stAng="16200000" swAng="-5400000"/>
                <a:lnTo>
                  <a:pt x="0" y="18399"/>
                </a:lnTo>
                <a:arcTo wR="3600" hR="3600" stAng="10800000" swAng="-5400000"/>
                <a:lnTo>
                  <a:pt x="18000" y="2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Скипетр (от греч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skeptron) – 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жезл, один из знаков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Картинка 53 из 120862"/>
          <p:cNvPicPr/>
          <p:nvPr/>
        </p:nvPicPr>
        <p:blipFill>
          <a:blip r:embed="rId3"/>
          <a:stretch/>
        </p:blipFill>
        <p:spPr>
          <a:xfrm>
            <a:off x="5572080" y="400068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30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Скругленный прямоугольник 4"/>
          <p:cNvSpPr/>
          <p:nvPr/>
        </p:nvSpPr>
        <p:spPr>
          <a:xfrm>
            <a:off x="142920" y="214200"/>
            <a:ext cx="6286320" cy="307188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Ореол - (франц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aureole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, от лат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aureola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– «золотой венец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_Roman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в религии – символ  свят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_Roman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сияние вокруг  светя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_Roman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(в перен. знач) блеск, с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Картинка 16 из 944"/>
          <p:cNvPicPr/>
          <p:nvPr/>
        </p:nvPicPr>
        <p:blipFill>
          <a:blip r:embed="rId2"/>
          <a:stretch/>
        </p:blipFill>
        <p:spPr>
          <a:xfrm>
            <a:off x="6500880" y="4071960"/>
            <a:ext cx="2523960" cy="2000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ligaspace.my1.ru/picc/af_97431213449d11cf91a3a1.jpg"/>
          <p:cNvPicPr/>
          <p:nvPr/>
        </p:nvPicPr>
        <p:blipFill>
          <a:blip r:embed="rId3"/>
          <a:stretch/>
        </p:blipFill>
        <p:spPr>
          <a:xfrm>
            <a:off x="7429680" y="2000160"/>
            <a:ext cx="1714320" cy="1285920"/>
          </a:xfrm>
          <a:prstGeom prst="rect">
            <a:avLst/>
          </a:prstGeom>
          <a:ln w="0">
            <a:noFill/>
          </a:ln>
        </p:spPr>
      </p:pic>
      <p:sp>
        <p:nvSpPr>
          <p:cNvPr id="234" name="Скругленный прямоугольник 7"/>
          <p:cNvSpPr/>
          <p:nvPr/>
        </p:nvSpPr>
        <p:spPr>
          <a:xfrm>
            <a:off x="142920" y="3571920"/>
            <a:ext cx="6286320" cy="307188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Нимб – (от лат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nimbus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«облако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изображение сияния вокруг головы (символ святости, божествен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Картинка 26 из 1105"/>
          <p:cNvPicPr/>
          <p:nvPr/>
        </p:nvPicPr>
        <p:blipFill>
          <a:blip r:embed="rId4"/>
          <a:stretch/>
        </p:blipFill>
        <p:spPr>
          <a:xfrm>
            <a:off x="6286680" y="214200"/>
            <a:ext cx="164304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2"/>
          <a:stretch/>
        </p:blipFill>
        <p:spPr>
          <a:xfrm>
            <a:off x="628560" y="2352600"/>
            <a:ext cx="8021880" cy="1201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-162000" y="0"/>
            <a:ext cx="55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AvanteLt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-311040"/>
            <a:ext cx="9418680" cy="1761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-647280" y="107172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Koala Cyr"/>
              </a:rPr>
              <a:t>Древняя Гре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377240" y="1071720"/>
            <a:ext cx="47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Koala Cyr"/>
              </a:rPr>
              <a:t>Древний Ри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Картинка 1 из 826"/>
          <p:cNvPicPr/>
          <p:nvPr/>
        </p:nvPicPr>
        <p:blipFill>
          <a:blip r:embed="rId3"/>
          <a:stretch/>
        </p:blipFill>
        <p:spPr>
          <a:xfrm>
            <a:off x="2857680" y="1960560"/>
            <a:ext cx="30715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Картинка 2 из 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201600" y="0"/>
            <a:ext cx="901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2f2f2"/>
                </a:solidFill>
                <a:latin typeface="Parsek"/>
              </a:rPr>
              <a:t>Никола Пуссе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2f2f2"/>
                </a:solidFill>
                <a:latin typeface="Parsek"/>
              </a:rPr>
              <a:t>«Детство Юпитер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35 из 105723"/>
          <p:cNvPicPr/>
          <p:nvPr/>
        </p:nvPicPr>
        <p:blipFill>
          <a:blip r:embed="rId2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5072040" y="1928880"/>
            <a:ext cx="4071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Нимфы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обладательни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древней мудрост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тайн жиз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и смер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Картинка 1 из 779"/>
          <p:cNvPicPr/>
          <p:nvPr/>
        </p:nvPicPr>
        <p:blipFill>
          <a:blip r:embed="rId2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-100440" y="0"/>
            <a:ext cx="60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 Antiqua"/>
              </a:rPr>
              <a:t>Пергамский алт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 Antiqua"/>
              </a:rPr>
              <a:t>180 г. до н.э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Картинка 16 из 1527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4772880" y="0"/>
            <a:ext cx="45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AvanteLt"/>
              </a:rPr>
              <a:t>Пергамский муз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AvanteLt"/>
              </a:rPr>
              <a:t>(Берлин, Герман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58:08Z</dcterms:created>
  <dc:creator>FuckYouBill</dc:creator>
  <dc:description/>
  <dc:language>en-US</dc:language>
  <cp:lastModifiedBy>FuckYouBill</cp:lastModifiedBy>
  <dcterms:modified xsi:type="dcterms:W3CDTF">2011-10-23T14:27:16Z</dcterms:modified>
  <cp:revision>29</cp:revision>
  <dc:subject/>
  <dc:title>Слайд 1</dc:title>
</cp:coreProperties>
</file>