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A12-0366-4CD3-8369-2895CC3E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611-3ABC-490B-BAE7-121D8FEE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F75-2CA1-4727-A8CE-880C4E9D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AE3-C00F-493F-B943-B3F526EE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3F0-8AB7-4BD5-92F4-4F047ACA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4BB-9EE6-4CB6-A0A6-894E177C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099-FC57-41D1-96FD-ECB95025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CA3-5F2F-4EA5-984C-B725CB0F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5D2-E74C-443A-9DA9-E539EF88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AE7-9090-4F33-8198-0BE9C2EE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1CC-BFB5-42D1-BBF1-787A7763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DA9-C58F-44C6-B08A-873857D4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2192-790F-49F6-ABAE-B952EECE48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415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в 8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611280" y="1413000"/>
            <a:ext cx="8136000" cy="17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ворение. Раствор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57760" y="5286240"/>
            <a:ext cx="48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химии МОУ Кузнецкая СОШ              Харапаева В.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 №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686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ЕШЕНИЕ ЭКСПЕРИМЕНТАЛЬНЫХ   ЗАДАЧ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читать  массовую долю вещества в раств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товить раствор заданной концент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анте Август Аррени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790160" y="1236960"/>
            <a:ext cx="237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576c"/>
                </a:solidFill>
                <a:latin typeface="Arial"/>
                <a:ea typeface="Arial"/>
              </a:rPr>
              <a:t>1859-1927 г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492360" y="2134800"/>
            <a:ext cx="518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Шведский физико-химик. Автор теории электролитической диссоци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первые объяснил причины резкой зависимости скорости химической реакции от температу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 1903 г. награжден Нобелевской преми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Picture 10" descr="p07"/>
          <p:cNvPicPr/>
          <p:nvPr/>
        </p:nvPicPr>
        <p:blipFill>
          <a:blip r:embed="rId1"/>
          <a:stretch/>
        </p:blipFill>
        <p:spPr>
          <a:xfrm>
            <a:off x="468360" y="1484280"/>
            <a:ext cx="28843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коб Хендрик Вант-Гоф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00" y="1341000"/>
            <a:ext cx="5262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52-1911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ландский химик. Один из основателей физической химии и стереохимии. Предложил классификацию химических реакций. Установил, что при повышении температуры на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скорость реакции увеличивается в 2-4 раза. Вывел закон осмотического давления. Заложил основы количественной теории растворов, показав, что растворенные вещества аналогичны газ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вант-гофф"/>
          <p:cNvPicPr/>
          <p:nvPr/>
        </p:nvPicPr>
        <p:blipFill>
          <a:blip r:embed="rId1"/>
          <a:stretch/>
        </p:blipFill>
        <p:spPr>
          <a:xfrm>
            <a:off x="179280" y="1341360"/>
            <a:ext cx="3149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ихаил Васильевич 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ломоносов"/>
          <p:cNvPicPr/>
          <p:nvPr/>
        </p:nvPicPr>
        <p:blipFill>
          <a:blip r:embed="rId1"/>
          <a:stretch/>
        </p:blipFill>
        <p:spPr>
          <a:xfrm>
            <a:off x="324000" y="1557360"/>
            <a:ext cx="2939760" cy="4703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3637080" y="19882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500720" y="164952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11-1765 г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492360" y="2490840"/>
            <a:ext cx="504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тель многих химических производств в России (неорганических пигментов, глазурей, стекла, фарфора). Изложил в 1741-1750 гг. основы своего атомно-корпускулярного учения, выдвинул кинетическую теорию теплоты. Первым из русских академиков написал учебники по химии и металлургии. Основатель Московского Университета</a:t>
            </a:r>
            <a:r>
              <a:rPr b="1" lang="en-US" sz="1200" spc="-1" strike="noStrike">
                <a:solidFill>
                  <a:srgbClr val="007a8f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вор – это однородная система, состоящая из частиц растворённого вещества, растворителя и продуктов их взаимо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аты – это непрочные соединения, существующие в растворе, которые образуются при химическом взаимодействии растворённого вещества с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сталлогидраты – это твёрдые соли, в состав которых входит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творимость некоторых солей в воде при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˚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628640"/>
          <a:ext cx="8136000" cy="4810320"/>
        </p:xfrm>
        <a:graphic>
          <a:graphicData uri="http://schemas.openxmlformats.org/drawingml/2006/table">
            <a:tbl>
              <a:tblPr/>
              <a:tblGrid>
                <a:gridCol w="3990960"/>
                <a:gridCol w="41450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со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имость (г/100г вод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льфат мед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ат ка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     ( хорош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0    растворимы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льфат сереб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льфат каль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9    (мал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     растворимы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льфат ба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одид сереб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ид сереб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21(нерастворимы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ипы раств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насыщенный -  такой раствор, в котором при данной температуре вещество ещё может растворя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ыщенный - такой  раствор, в котором при данной температуре вещество больше не раствор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сыщенный – содержит больше вещества, чем его насыщенный раст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27T07:15:32Z</dcterms:modified>
  <cp:revision>66</cp:revision>
  <dc:subject/>
  <dc:title>PowerPoint Presentation</dc:title>
</cp:coreProperties>
</file>