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AD0-3560-46DE-B81C-A30D65A8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EFF-071D-4E02-A594-812EEF36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1B3B-8579-4BD4-BE26-E22BA3B5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2F6D-A08F-47EE-AD85-B00CE50C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5B67-B6EF-4AB7-B0F3-455BF9DB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AE22-5EBD-480D-9772-79E3E1CC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194-342E-4644-B1A8-C9FC04CD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EE1-CFA3-4555-9736-72026A51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B0F9-BCEE-4C6D-BD1B-0B6279E2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36E1-D6FD-496F-982F-01590DA3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B13-643F-4FE4-9E5B-22BD8D8F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BAA-0D8B-49B2-B660-FBEA0DDD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4315-DEB2-47C2-A072-D29073B27B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415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в 8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611280" y="1413000"/>
            <a:ext cx="8136000" cy="17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ворение. Раствор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857760" y="5286240"/>
            <a:ext cx="48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химии МОУ Кузнецкая СОШ              Харапаева В.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ая работа №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6868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-140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ЕШЕНИЕ ЭКСПЕРИМЕНТАЛЬНЫХ   ЗАДАЧ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читать  массовую долю вещества в раств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готовить раствор заданной концент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анте Август Аррени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790160" y="1236960"/>
            <a:ext cx="237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576c"/>
                </a:solidFill>
                <a:latin typeface="Arial"/>
                <a:ea typeface="Arial"/>
              </a:rPr>
              <a:t>1859-1927 г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492360" y="2134800"/>
            <a:ext cx="518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Шведский физико-химик. Автор теории электролитической диссоци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первые объяснил причины резкой зависимости скорости химической реакции от температур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 1903 г. награжден Нобелевской преми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Picture 10" descr="p07"/>
          <p:cNvPicPr/>
          <p:nvPr/>
        </p:nvPicPr>
        <p:blipFill>
          <a:blip r:embed="rId1"/>
          <a:stretch/>
        </p:blipFill>
        <p:spPr>
          <a:xfrm>
            <a:off x="468360" y="1484280"/>
            <a:ext cx="28843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коб Хендрик Вант-Гоф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00" y="1341000"/>
            <a:ext cx="5262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52-1911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ландский химик. Один из основателей физической химии и стереохимии. Предложил классификацию химических реакций. Установил, что при повышении температуры на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скорость реакции увеличивается в 2-4 раза. Вывел закон осмотического давления. Заложил основы количественной теории растворов, показав, что растворенные вещества аналогичны газ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вант-гофф"/>
          <p:cNvPicPr/>
          <p:nvPr/>
        </p:nvPicPr>
        <p:blipFill>
          <a:blip r:embed="rId1"/>
          <a:stretch/>
        </p:blipFill>
        <p:spPr>
          <a:xfrm>
            <a:off x="179280" y="1341360"/>
            <a:ext cx="3149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ихаил Васильевич Ломо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ломоносов"/>
          <p:cNvPicPr/>
          <p:nvPr/>
        </p:nvPicPr>
        <p:blipFill>
          <a:blip r:embed="rId1"/>
          <a:stretch/>
        </p:blipFill>
        <p:spPr>
          <a:xfrm>
            <a:off x="324000" y="1557360"/>
            <a:ext cx="2939760" cy="4703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3637080" y="198828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4500720" y="164952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11-1765 г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3492360" y="2490840"/>
            <a:ext cx="504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тель многих химических производств в России (неорганических пигментов, глазурей, стекла, фарфора). Изложил в 1741-1750 гг. основы своего атомно-корпускулярного учения, выдвинул кинетическую теорию теплоты. Первым из русских академиков написал учебники по химии и металлургии. Основатель Московского Университета</a:t>
            </a:r>
            <a:r>
              <a:rPr b="1" lang="en-US" sz="1200" spc="-1" strike="noStrike">
                <a:solidFill>
                  <a:srgbClr val="007a8f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вор – это однородная система, состоящая из частиц растворённого вещества, растворителя и продуктов их взаимо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аты – это непрочные соединения, существующие в растворе, которые образуются при химическом взаимодействии растворённого вещества с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сталлогидраты – это твёрдые соли, в состав которых входит 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творимость некоторых солей в воде при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˚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628640"/>
          <a:ext cx="8136000" cy="4810320"/>
        </p:xfrm>
        <a:graphic>
          <a:graphicData uri="http://schemas.openxmlformats.org/drawingml/2006/table">
            <a:tbl>
              <a:tblPr/>
              <a:tblGrid>
                <a:gridCol w="3990960"/>
                <a:gridCol w="41450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со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воримость (г/100г вод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льфат мед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ат ка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     ( хорош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0    растворимы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льфат сереб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льфат каль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9    (мало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0     растворимы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льфат бар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одид сереб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ид сереб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21(нерастворимые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ипы раств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насыщенный -  такой раствор, в котором при данной температуре вещество ещё может растворя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ыщенный - такой  раствор, в котором при данной температуре вещество больше не раствор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сыщенный – содержит больше вещества, чем его насыщенный раст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2-27T07:15:32Z</dcterms:modified>
  <cp:revision>66</cp:revision>
  <dc:subject/>
  <dc:title>PowerPoint Presentation</dc:title>
</cp:coreProperties>
</file>