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7B13-1C5B-430A-B93A-A529E6B6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9D56-9826-487F-A878-FDD890CC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C110-572F-4BA9-935F-185EABFA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ED19-8842-481A-9585-CA1862607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1EC7-B623-4321-BAA5-A0DBCEAA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982F-EB09-4CE2-B63D-58A1C26C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8546-2116-4DB8-B5DF-4C2E40D8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4541-9BFC-466A-8EC9-2C4338C8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2878-6D15-4A60-9B5E-16073EB0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FBA0-A805-4372-B92C-50904D9A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F76B-420B-4F01-AC95-0F9AB3A0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E6C1-41B5-4938-9DBD-4BD5DA5F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BA66-C262-41A0-9287-BAD52F0C3B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415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 в 8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8"/>
          <p:cNvSpPr txBox="1"/>
          <p:nvPr/>
        </p:nvSpPr>
        <p:spPr>
          <a:xfrm>
            <a:off x="611280" y="1413000"/>
            <a:ext cx="8136000" cy="17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творение. Растворы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857760" y="5286240"/>
            <a:ext cx="48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ель химии МОУ Кузнецкая СОШ              Харапаева В.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ктическая работа №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6868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40400" indent="-140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РЕШЕНИЕ ЭКСПЕРИМЕНТАЛЬНЫХ   ЗАДАЧ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читать  массовую долю вещества в раство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готовить раствор заданной концент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ванте Август Аррени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790160" y="1236960"/>
            <a:ext cx="237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576c"/>
                </a:solidFill>
                <a:latin typeface="Arial"/>
                <a:ea typeface="Arial"/>
              </a:rPr>
              <a:t>1859-1927 гг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3492360" y="2134800"/>
            <a:ext cx="518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Шведский физико-химик. Автор теории электролитической диссоци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первые объяснил причины резкой зависимости скорости химической реакции от температур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 1903 г. награжден Нобелевской преми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Picture 10" descr="p07"/>
          <p:cNvPicPr/>
          <p:nvPr/>
        </p:nvPicPr>
        <p:blipFill>
          <a:blip r:embed="rId1"/>
          <a:stretch/>
        </p:blipFill>
        <p:spPr>
          <a:xfrm>
            <a:off x="468360" y="1484280"/>
            <a:ext cx="288432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коб Хендрик Вант-Гоф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92000" y="1341000"/>
            <a:ext cx="5262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52-1911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лландский химик. Один из основателей физической химии и стереохимии. Предложил классификацию химических реакций. Установил, что при повышении температуры на 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скорость реакции увеличивается в 2-4 раза. Вывел закон осмотического давления. Заложил основы количественной теории растворов, показав, что растворенные вещества аналогичны газ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вант-гофф"/>
          <p:cNvPicPr/>
          <p:nvPr/>
        </p:nvPicPr>
        <p:blipFill>
          <a:blip r:embed="rId1"/>
          <a:stretch/>
        </p:blipFill>
        <p:spPr>
          <a:xfrm>
            <a:off x="179280" y="1341360"/>
            <a:ext cx="3149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ихаил Васильевич Ломоно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ломоносов"/>
          <p:cNvPicPr/>
          <p:nvPr/>
        </p:nvPicPr>
        <p:blipFill>
          <a:blip r:embed="rId1"/>
          <a:stretch/>
        </p:blipFill>
        <p:spPr>
          <a:xfrm>
            <a:off x="324000" y="1557360"/>
            <a:ext cx="2939760" cy="47037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3637080" y="19882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4500720" y="1649520"/>
            <a:ext cx="208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711-1765 г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3492360" y="2490840"/>
            <a:ext cx="504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оздатель многих химических производств в России (неорганических пигментов, глазурей, стекла, фарфора). Изложил в 1741-1750 гг. основы своего атомно-корпускулярного учения, выдвинул кинетическую теорию теплоты. Первым из русских академиков написал учебники по химии и металлургии. Основатель Московского Университета</a:t>
            </a:r>
            <a:r>
              <a:rPr b="1" lang="en-US" sz="1200" spc="-1" strike="noStrike">
                <a:solidFill>
                  <a:srgbClr val="007a8f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твор – это однородная система, состоящая из частиц растворённого вещества, растворителя и продуктов их взаимо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драты – это непрочные соединения, существующие в растворе, которые образуются при химическом взаимодействии растворённого вещества с во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сталлогидраты – это твёрдые соли, в состав которых входит в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створимость некоторых солей в воде при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˚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8360" y="1628640"/>
          <a:ext cx="8136000" cy="4810320"/>
        </p:xfrm>
        <a:graphic>
          <a:graphicData uri="http://schemas.openxmlformats.org/drawingml/2006/table">
            <a:tbl>
              <a:tblPr/>
              <a:tblGrid>
                <a:gridCol w="3990960"/>
                <a:gridCol w="41450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со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воримость (г/100г воды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льфат мед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трат кал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5     ( хорош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00    растворимые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льфат сереб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льфат каль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9    (мало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0     растворимые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льфат бар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одид сереб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ид сереб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21(нерастворимые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ипы раство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насыщенный -  такой раствор, в котором при данной температуре вещество ещё может растворя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ыщенный - такой  раствор, в котором при данной температуре вещество больше не растворя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сыщенный – содержит больше вещества, чем его насыщенный раст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27T07:15:32Z</dcterms:modified>
  <cp:revision>66</cp:revision>
  <dc:subject/>
  <dc:title>PowerPoint Presentation</dc:title>
</cp:coreProperties>
</file>