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6D3-01C8-4D10-BACC-B66373F8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4ED-FEE7-406E-B116-95F937B5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A72-3099-431B-8218-3EC17200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3A8D-44AC-481F-BF22-D7140824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EB48-BE8A-4AB8-BF09-BA09556A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3F41-F311-45F1-840B-708B270D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F3F9-8A63-4A9E-BC90-BC8902BE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EF37-D6C3-4FA4-BC53-B235E05B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80D2-2527-4018-8CEB-933F8545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584B-7B54-41DF-8BE2-684234B0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A25F-F2B8-4E31-9B15-480F8C10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D89-74C9-4BED-98E5-C87F4647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0D55-9680-44E3-98B1-2B7D7FCB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77CF-4295-40DA-99C3-DAF84156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93CC-998F-49B9-BAC2-3E762033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23A6-02E6-4E90-A0FF-FAF99BB1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25CB-2439-47D8-9E55-C2D43486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344A-551B-4504-928D-F257D078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9360-2492-4B26-B0FA-60C8D5C6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A475E-06D4-4F8F-AEA0-6262C215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51607-FF38-447B-B4D3-F8420D94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D1CF4-106C-49E2-86AF-E238DC08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06A-1091-4F4F-9D70-13DAC787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E3CCA-3839-4036-A709-75D35EA1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75B79-35BB-4393-85F6-2D4B455D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3978F-7D80-4DA1-B28E-1623C5F4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1D637-135A-4966-901C-0300CDEE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4F3F-932F-47A9-8D1F-CE66930F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12A58-B0AE-4BAF-A002-9E880325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63D81-CCF7-4206-A6E3-0FC9FB0E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D61F5-2448-4777-B1DF-1D05CCCD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E83C9-595D-4713-9555-5B01315C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5865E-0D08-42C0-850D-64418381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81B-AFAA-4712-9D15-3BE674F8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51D69-ECD1-4EB7-8E20-6407841B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83ED3-4697-4754-A90E-7BFDE6D2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DDB20-5381-4D18-8B42-F32554AA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52801-E200-4A33-81A1-0B96FE70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72FCC-FD96-4569-927A-8D6F8150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FE6B3-9F6F-4F01-AB8F-54CDF208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F9E4F-4908-442C-9A44-964635C8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69D5E-9925-4F83-8562-BC60F89C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35FA3-2029-4281-83BA-8E040656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1BB9-BD5D-4B26-AECC-8A2664D8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D03-4E7B-4092-9BD7-2D9FD884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31E-D202-4E52-94DC-BA43C1EE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B6F-D3E1-46CB-B0DA-0728FCE5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7AC-6B8D-478A-9EC7-71FC2A98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1CBB-42CC-48F3-A6FE-A09D61CF3B3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F59A-6200-4C90-BFB6-187D759E099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9FC4-8516-4AD1-AEC9-559CCEFBB75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5D00-6DF9-4688-B5FB-864B3F4048E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2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76280" y="993600"/>
            <a:ext cx="7948440" cy="1792440"/>
          </a:xfrm>
          <a:prstGeom prst="rect">
            <a:avLst/>
          </a:prstGeom>
          <a:ln w="0">
            <a:noFill/>
          </a:ln>
        </p:spPr>
      </p:pic>
      <p:pic>
        <p:nvPicPr>
          <p:cNvPr id="196" name="Подзаголовок 2" descr=""/>
          <p:cNvPicPr/>
          <p:nvPr/>
        </p:nvPicPr>
        <p:blipFill>
          <a:blip r:embed="rId2"/>
          <a:stretch/>
        </p:blipFill>
        <p:spPr>
          <a:xfrm>
            <a:off x="566640" y="3206880"/>
            <a:ext cx="8583840" cy="24447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437760" y="6500880"/>
            <a:ext cx="530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речанов Владимир Александрович МОУ « СОШ № 4» 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0" name="Picture 2" descr="M:\0918bebd7d9e4573a4eceb0015290d75.jpg"/>
          <p:cNvPicPr/>
          <p:nvPr/>
        </p:nvPicPr>
        <p:blipFill>
          <a:blip r:embed="rId1"/>
          <a:stretch/>
        </p:blipFill>
        <p:spPr>
          <a:xfrm>
            <a:off x="357120" y="0"/>
            <a:ext cx="8429760" cy="6643800"/>
          </a:xfrm>
          <a:prstGeom prst="rect">
            <a:avLst/>
          </a:prstGeom>
          <a:ln w="0">
            <a:noFill/>
          </a:ln>
        </p:spPr>
      </p:pic>
      <p:pic>
        <p:nvPicPr>
          <p:cNvPr id="231" name="ВЫСОЦКИЙ - Я НЕ ЛЮБЛЮ(+).MP3" descr=""/>
          <p:cNvPicPr/>
          <p:nvPr/>
        </p:nvPicPr>
        <p:blipFill>
          <a:blip r:embed="rId2"/>
          <a:stretch/>
        </p:blipFill>
        <p:spPr>
          <a:xfrm>
            <a:off x="28584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32046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2" descr="M:\3CA0PT966CA252DN8CASH2OYTCAPPGRXBCA8UZKUTCAPPSKL8CAIHGLSQCA2D3BZUCATWFI7GCAE0CT6KCA7NEHOXCAT339E9CATV9GVVCAZ3865NCABM9170CAUPFGEICAMA9P8RCAVD699ACALFUKJY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357960"/>
          </a:xfrm>
          <a:prstGeom prst="rect">
            <a:avLst/>
          </a:prstGeom>
          <a:ln w="0">
            <a:noFill/>
          </a:ln>
        </p:spPr>
      </p:pic>
      <p:pic>
        <p:nvPicPr>
          <p:cNvPr id="235" name="Б.ОКУДЖАВА - ДО СВИДАНИЯ, МАЛЬЧИКИ (Trimmed).mp3" descr=""/>
          <p:cNvPicPr/>
          <p:nvPr/>
        </p:nvPicPr>
        <p:blipFill>
          <a:blip r:embed="rId2"/>
          <a:stretch/>
        </p:blipFill>
        <p:spPr>
          <a:xfrm>
            <a:off x="571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6151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Picture 2" descr="M:\0CAWQ43YECAVGNUIQCA9OWIHHCAR01DQKCA3I1VZNCAYK9RD1CAAH3OWCCAUNTDCPCAWOT5CVCA3TKVKFCAS2I21QCAE4JG06CAB7Y7PUCAFE3I79CAUDK4D5CAQ06G26CATNRBK1CADQ708HCA73GDQ8.jpg"/>
          <p:cNvPicPr/>
          <p:nvPr/>
        </p:nvPicPr>
        <p:blipFill>
          <a:blip r:embed="rId1"/>
          <a:stretch/>
        </p:blipFill>
        <p:spPr>
          <a:xfrm>
            <a:off x="500040" y="285840"/>
            <a:ext cx="8215200" cy="6572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M:\3CA0PT966CA252DN8CASH2OYTCAPPGRXBCA8UZKUTCAPPSKL8CAIHGLSQCA2D3BZUCATWFI7GCAE0CT6KCA7NEHOXCAT339E9CATV9GVVCAZ3865NCABM9170CAUPFGEICAMA9P8RCAVD699ACALFUKJY.jpg"/>
          <p:cNvPicPr/>
          <p:nvPr/>
        </p:nvPicPr>
        <p:blipFill>
          <a:blip r:embed="rId2"/>
          <a:stretch/>
        </p:blipFill>
        <p:spPr>
          <a:xfrm>
            <a:off x="785880" y="500040"/>
            <a:ext cx="5572080" cy="5572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M:\3f4d5c21fd65.jpg"/>
          <p:cNvPicPr/>
          <p:nvPr/>
        </p:nvPicPr>
        <p:blipFill>
          <a:blip r:embed="rId3"/>
          <a:stretch/>
        </p:blipFill>
        <p:spPr>
          <a:xfrm>
            <a:off x="1428840" y="0"/>
            <a:ext cx="7500960" cy="6429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M:\0918bebd7d9e4573a4eceb0015290d75.jpg"/>
          <p:cNvPicPr/>
          <p:nvPr/>
        </p:nvPicPr>
        <p:blipFill>
          <a:blip r:embed="rId4"/>
          <a:stretch/>
        </p:blipFill>
        <p:spPr>
          <a:xfrm>
            <a:off x="214200" y="357120"/>
            <a:ext cx="7858080" cy="6215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M:\954f3c39175f.jpg"/>
          <p:cNvPicPr/>
          <p:nvPr/>
        </p:nvPicPr>
        <p:blipFill>
          <a:blip r:embed="rId5"/>
          <a:stretch/>
        </p:blipFill>
        <p:spPr>
          <a:xfrm>
            <a:off x="2143080" y="500040"/>
            <a:ext cx="6786720" cy="6143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M:\ACAOP1S58CA2718KFCA76TD9CCAFWE7BWCABBYTS6CAJXX9JJCAVI7826CA2T3W3KCA3JKCPUCAD00Z5GCAYC8W3ECA5IRSA4CAQX4G00CAM0VDCVCA05L39HCAKLVNN7CAXUFO4ACARD6PYRCAGYR1Z5.jpg"/>
          <p:cNvPicPr/>
          <p:nvPr/>
        </p:nvPicPr>
        <p:blipFill>
          <a:blip r:embed="rId6"/>
          <a:stretch/>
        </p:blipFill>
        <p:spPr>
          <a:xfrm>
            <a:off x="785880" y="357120"/>
            <a:ext cx="7929360" cy="5857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M:\YCA4U1WZ1CAUOPD6FCADCQUNUCAKDXS0PCALHU6ECCA8RZEIYCA12WVYCCAKKL5RXCA4FO19JCAUX0QTACALVP1CFCAFFJAZPCA4LP7X4CAR5Q62RCA9OIX70CA2D9T1YCAF9XYB2CA24MN8ICALUZZOF.jpg"/>
          <p:cNvPicPr/>
          <p:nvPr/>
        </p:nvPicPr>
        <p:blipFill>
          <a:blip r:embed="rId7"/>
          <a:stretch/>
        </p:blipFill>
        <p:spPr>
          <a:xfrm>
            <a:off x="1285920" y="500040"/>
            <a:ext cx="7858080" cy="5715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M:\front.jpg"/>
          <p:cNvPicPr/>
          <p:nvPr/>
        </p:nvPicPr>
        <p:blipFill>
          <a:blip r:embed="rId8"/>
          <a:stretch/>
        </p:blipFill>
        <p:spPr>
          <a:xfrm>
            <a:off x="1071720" y="214200"/>
            <a:ext cx="7858080" cy="628668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1"/>
          <p:cNvSpPr/>
          <p:nvPr/>
        </p:nvSpPr>
        <p:spPr>
          <a:xfrm>
            <a:off x="824400" y="6286680"/>
            <a:ext cx="56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 Владимир  Александрович МОУ « СОШ №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Picture 2" descr="M:\f_13049149.jpg"/>
          <p:cNvPicPr/>
          <p:nvPr/>
        </p:nvPicPr>
        <p:blipFill>
          <a:blip r:embed="rId1"/>
          <a:stretch/>
        </p:blipFill>
        <p:spPr>
          <a:xfrm>
            <a:off x="357120" y="285840"/>
            <a:ext cx="8572680" cy="6429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>
            <a:off x="609840" y="6429240"/>
            <a:ext cx="56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Прямоугольник 5" descr=""/>
          <p:cNvPicPr/>
          <p:nvPr/>
        </p:nvPicPr>
        <p:blipFill>
          <a:blip r:embed="rId1"/>
          <a:stretch/>
        </p:blipFill>
        <p:spPr>
          <a:xfrm>
            <a:off x="1219320" y="1133640"/>
            <a:ext cx="6387840" cy="2579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M:\0CAWQ43YECAVGNUIQCA9OWIHHCAR01DQKCA3I1VZNCAYK9RD1CAAH3OWCCAUNTDCPCAWOT5CVCA3TKVKFCAS2I21QCAE4JG06CAB7Y7PUCAFE3I79CAUDK4D5CAQ06G26CATNRBK1CADQ708HCA73GDQ8.jpg"/>
          <p:cNvPicPr/>
          <p:nvPr/>
        </p:nvPicPr>
        <p:blipFill>
          <a:blip r:embed="rId2"/>
          <a:stretch/>
        </p:blipFill>
        <p:spPr>
          <a:xfrm>
            <a:off x="2214720" y="2928960"/>
            <a:ext cx="4714560" cy="35002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161640" y="6572160"/>
            <a:ext cx="56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Rectangle 2"/>
          <p:cNvSpPr/>
          <p:nvPr/>
        </p:nvSpPr>
        <p:spPr>
          <a:xfrm flipV="1" rot="10800000">
            <a:off x="0" y="220680"/>
            <a:ext cx="9685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исследовательской работы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ближе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знакомиться  с жанро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вторской песн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общиться к бардовской песне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скрыть тематику бардовской песн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казать её огромный воспитательный потенциал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ключённый в сочетании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разительных стихов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искренней мелоди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538560" y="6500880"/>
            <a:ext cx="56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 Александрович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41440" y="2249280"/>
            <a:ext cx="8061120" cy="36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Rectangle 1"/>
          <p:cNvSpPr/>
          <p:nvPr/>
        </p:nvSpPr>
        <p:spPr>
          <a:xfrm flipV="1" rot="10800000">
            <a:off x="0" y="1159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исследовательской работы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роанализировать исторический материал по раскрытию данной темы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ладеть умениями и навыками поиска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стематизации и комплексного анализа исторической информации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467280" y="6429240"/>
            <a:ext cx="56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Rectangle 1"/>
          <p:cNvSpPr/>
          <p:nvPr/>
        </p:nvSpPr>
        <p:spPr>
          <a:xfrm flipV="1" rot="10800000">
            <a:off x="0" y="-7596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ками авторской песни являются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родской романс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нт (бытовая многоголосная песня)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естьянские песн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ворчество декабристов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волюционные молодёжные песн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-х годов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сни беспризорников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уденческий фольклор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466560" y="6572160"/>
            <a:ext cx="57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МОУ « СОШ  № 4» 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3" descr="D:\ДискС\лариса\музыка\природа\мпае.JPG"/>
          <p:cNvPicPr/>
          <p:nvPr/>
        </p:nvPicPr>
        <p:blipFill>
          <a:blip r:embed="rId1"/>
          <a:srcRect l="8334" t="0" r="3472" b="0"/>
          <a:stretch/>
        </p:blipFill>
        <p:spPr>
          <a:xfrm>
            <a:off x="0" y="-500040"/>
            <a:ext cx="9572760" cy="9753480"/>
          </a:xfrm>
          <a:prstGeom prst="rect">
            <a:avLst/>
          </a:prstGeom>
          <a:ln w="0">
            <a:noFill/>
          </a:ln>
        </p:spPr>
      </p:pic>
      <p:pic>
        <p:nvPicPr>
          <p:cNvPr id="213" name="Ночная дорога.mp3" descr=""/>
          <p:cNvPicPr/>
          <p:nvPr/>
        </p:nvPicPr>
        <p:blipFill>
          <a:blip r:embed="rId2"/>
          <a:stretch/>
        </p:blipFill>
        <p:spPr>
          <a:xfrm>
            <a:off x="28584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408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86840" cy="6286320"/>
          </a:xfrm>
          <a:prstGeom prst="rect">
            <a:avLst/>
          </a:prstGeom>
          <a:ln w="0">
            <a:noFill/>
          </a:ln>
        </p:spPr>
      </p:pic>
      <p:pic>
        <p:nvPicPr>
          <p:cNvPr id="217" name="Говоришь чтоб остался я.wav" descr=""/>
          <p:cNvPicPr/>
          <p:nvPr/>
        </p:nvPicPr>
        <p:blipFill>
          <a:blip r:embed="rId2"/>
          <a:stretch/>
        </p:blipFill>
        <p:spPr>
          <a:xfrm>
            <a:off x="78588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4217719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" name="Picture 2" descr="C:\Documents and Settings\Admin\Рабочий стол\картинки\Новая папка (2)\iCAOFU0KC.jpg"/>
          <p:cNvPicPr/>
          <p:nvPr/>
        </p:nvPicPr>
        <p:blipFill>
          <a:blip r:embed="rId1"/>
          <a:stretch/>
        </p:blipFill>
        <p:spPr>
          <a:xfrm>
            <a:off x="500040" y="285840"/>
            <a:ext cx="8143920" cy="6143400"/>
          </a:xfrm>
          <a:prstGeom prst="rect">
            <a:avLst/>
          </a:prstGeom>
          <a:ln w="0">
            <a:noFill/>
          </a:ln>
        </p:spPr>
      </p:pic>
      <p:pic>
        <p:nvPicPr>
          <p:cNvPr id="221" name="за туманом.mp3" descr=""/>
          <p:cNvPicPr/>
          <p:nvPr/>
        </p:nvPicPr>
        <p:blipFill>
          <a:blip r:embed="rId2"/>
          <a:stretch/>
        </p:blipFill>
        <p:spPr>
          <a:xfrm>
            <a:off x="64296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1394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41440" y="1071720"/>
            <a:ext cx="8061120" cy="4357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ТИКА ПРОИЗВЕДЕНИЙ БАРДОВ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ЖБА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РОДА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ЮБОВЬ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ЙНА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538560" y="6357960"/>
            <a:ext cx="56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41440" y="142920"/>
            <a:ext cx="8061120" cy="385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ДЫ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. ВЫСОЦКИЙ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. ОКУДЖАВ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. ГАЛИЧ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. МИТЯЕВ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.НИКИТИН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. НИКИТИН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Ю. ВИЗБОР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Ю. КУКИН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. ДОЛЬСКИЙ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. БЕРКОВСКИЙ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428760" y="6496200"/>
            <a:ext cx="514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Гречанов Владимир Александрович МОУ « СОШ № 4» учитель музык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0-02T19:40:48Z</dcterms:modified>
  <cp:revision>49</cp:revision>
  <dc:subject/>
  <dc:title>АВТОРСКАЯ ПЕСНЯ</dc:title>
</cp:coreProperties>
</file>