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A06-86EF-482D-9AAD-01628C37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8B0-74B9-438E-9FC7-31EAF318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0E1-79FF-4D5F-8270-3B5A8339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455-FC27-4BAD-8442-B0C820D0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10C0-CEF2-4BC6-B2CA-DE63B2B0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2106-0A37-4BDE-B897-4D55F958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0697-7814-47B4-9959-B663788F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A98D-A4F9-45EF-95F4-67F91889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FBA9-25FF-4FD8-8A32-50A15E24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87FE-AA43-4F74-A79B-95A0125A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D536-83E9-46EA-BCDB-2FE089E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ED0-A013-4CD8-9814-F3F7918C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1AA7-C92A-465D-BECE-9FC4135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22BD-0975-494A-BA2A-E21EF0B6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E1E3-EE24-408E-974A-874FD8DA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F8DD-E588-46DC-8151-E8C08A0A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A09-C090-4C3F-B685-5A7E138E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0EDE-8677-45C2-9008-A879C351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4848-9F57-4DE6-942D-5E339C38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05D9-607F-4337-A73D-008F7CD9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EE16-7678-4606-87BB-95EBD2B6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324A-325D-455F-9378-52B7DCA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811-39D4-491A-BED5-72F5D8F4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03B9-3766-406A-9D75-E7D7EBCA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AC17-56F3-4C27-9682-CC02122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F205-7C14-4E27-8AC6-5F7AA71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27CE-0F44-4DBC-983E-4BFE775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D3BF-8689-4C65-8608-607942B3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F03D-41A7-4304-B666-B2475F46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501A-E8F2-4F84-88DD-015B2E5F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26F77-B44D-429C-BA6E-9646738A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1A02-CFDA-4D58-AA56-12D08291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189C-4B54-49C7-84F7-A11063D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9FD-0900-4851-99C9-728743AB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614A-1265-4AFD-A79D-2F092278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3D11-603D-487B-98F7-E95AE415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5FA76-F8FB-49B1-9DAE-BF25E142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4856-9664-4139-98B4-00D72163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AE38-92B4-45A7-B9A3-33E1A0DE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3EEA-D51F-413E-A79F-D66D889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D4FFD-AAF9-44FF-9E2C-3B3FD4A7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282D-E907-4856-8972-0499600C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1A0D-481C-4BC0-AC71-34CEC45B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A24-7668-462D-8CAD-CC3D067B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700-A994-4755-A9C0-6AF197EC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CFB-5240-4D92-9856-1835331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36C-E596-40EB-8DF7-4CA22F49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73B-4A8A-4EAA-B87C-2980D110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88FC-7F48-4FCB-A8BD-82B9B1CAE3D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B713-8A48-4660-A05A-780A24C5608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3608-BC6F-48AB-A9F2-EBA2013545A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62A9-91CB-4F48-AAAD-5759A271B5B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2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76280" y="993600"/>
            <a:ext cx="7948440" cy="1792440"/>
          </a:xfrm>
          <a:prstGeom prst="rect">
            <a:avLst/>
          </a:prstGeom>
          <a:ln w="0">
            <a:noFill/>
          </a:ln>
        </p:spPr>
      </p:pic>
      <p:pic>
        <p:nvPicPr>
          <p:cNvPr id="196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206880"/>
            <a:ext cx="8583840" cy="2444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437760" y="6500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речанов Владимир Александрович МОУ « СОШ № 4» 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Picture 2" descr="M:\0918bebd7d9e4573a4eceb0015290d75.jpg"/>
          <p:cNvPicPr/>
          <p:nvPr/>
        </p:nvPicPr>
        <p:blipFill>
          <a:blip r:embed="rId1"/>
          <a:stretch/>
        </p:blipFill>
        <p:spPr>
          <a:xfrm>
            <a:off x="357120" y="0"/>
            <a:ext cx="8429760" cy="6643800"/>
          </a:xfrm>
          <a:prstGeom prst="rect">
            <a:avLst/>
          </a:prstGeom>
          <a:ln w="0">
            <a:noFill/>
          </a:ln>
        </p:spPr>
      </p:pic>
      <p:pic>
        <p:nvPicPr>
          <p:cNvPr id="231" name="ВЫСОЦКИЙ - Я НЕ ЛЮБЛЮ(+).MP3" descr=""/>
          <p:cNvPicPr/>
          <p:nvPr/>
        </p:nvPicPr>
        <p:blipFill>
          <a:blip r:embed="rId2"/>
          <a:stretch/>
        </p:blipFill>
        <p:spPr>
          <a:xfrm>
            <a:off x="2858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3204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2" descr="M:\3CA0PT966CA252DN8CASH2OYTCAPPGRXBCA8UZKUTCAPPSKL8CAIHGLSQCA2D3BZUCATWFI7GCAE0CT6KCA7NEHOXCAT339E9CATV9GVVCAZ3865NCABM9170CAUPFGEICAMA9P8RCAVD699ACALFUKJY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357960"/>
          </a:xfrm>
          <a:prstGeom prst="rect">
            <a:avLst/>
          </a:prstGeom>
          <a:ln w="0">
            <a:noFill/>
          </a:ln>
        </p:spPr>
      </p:pic>
      <p:pic>
        <p:nvPicPr>
          <p:cNvPr id="235" name="Б.ОКУДЖАВА - ДО СВИДАНИЯ, МАЛЬЧИКИ (Trimmed).mp3" descr=""/>
          <p:cNvPicPr/>
          <p:nvPr/>
        </p:nvPicPr>
        <p:blipFill>
          <a:blip r:embed="rId2"/>
          <a:stretch/>
        </p:blipFill>
        <p:spPr>
          <a:xfrm>
            <a:off x="571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151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M:\0CAWQ43YECAVGNUIQCA9OWIHHCAR01DQKCA3I1VZNCAYK9RD1CAAH3OWCCAUNTDCPCAWOT5CVCA3TKVKFCAS2I21QCAE4JG06CAB7Y7PUCAFE3I79CAUDK4D5CAQ06G26CATNRBK1CADQ708HCA73GDQ8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6572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M:\3CA0PT966CA252DN8CASH2OYTCAPPGRXBCA8UZKUTCAPPSKL8CAIHGLSQCA2D3BZUCATWFI7GCAE0CT6KCA7NEHOXCAT339E9CATV9GVVCAZ3865NCABM9170CAUPFGEICAMA9P8RCAVD699ACALFUKJY.jpg"/>
          <p:cNvPicPr/>
          <p:nvPr/>
        </p:nvPicPr>
        <p:blipFill>
          <a:blip r:embed="rId2"/>
          <a:stretch/>
        </p:blipFill>
        <p:spPr>
          <a:xfrm>
            <a:off x="785880" y="500040"/>
            <a:ext cx="5572080" cy="5572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M:\3f4d5c21fd65.jpg"/>
          <p:cNvPicPr/>
          <p:nvPr/>
        </p:nvPicPr>
        <p:blipFill>
          <a:blip r:embed="rId3"/>
          <a:stretch/>
        </p:blipFill>
        <p:spPr>
          <a:xfrm>
            <a:off x="1428840" y="0"/>
            <a:ext cx="7500960" cy="6429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M:\0918bebd7d9e4573a4eceb0015290d75.jpg"/>
          <p:cNvPicPr/>
          <p:nvPr/>
        </p:nvPicPr>
        <p:blipFill>
          <a:blip r:embed="rId4"/>
          <a:stretch/>
        </p:blipFill>
        <p:spPr>
          <a:xfrm>
            <a:off x="214200" y="357120"/>
            <a:ext cx="7858080" cy="6215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M:\954f3c39175f.jpg"/>
          <p:cNvPicPr/>
          <p:nvPr/>
        </p:nvPicPr>
        <p:blipFill>
          <a:blip r:embed="rId5"/>
          <a:stretch/>
        </p:blipFill>
        <p:spPr>
          <a:xfrm>
            <a:off x="2143080" y="500040"/>
            <a:ext cx="6786720" cy="6143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M:\ACAOP1S58CA2718KFCA76TD9CCAFWE7BWCABBYTS6CAJXX9JJCAVI7826CA2T3W3KCA3JKCPUCAD00Z5GCAYC8W3ECA5IRSA4CAQX4G00CAM0VDCVCA05L39HCAKLVNN7CAXUFO4ACARD6PYRCAGYR1Z5.jpg"/>
          <p:cNvPicPr/>
          <p:nvPr/>
        </p:nvPicPr>
        <p:blipFill>
          <a:blip r:embed="rId6"/>
          <a:stretch/>
        </p:blipFill>
        <p:spPr>
          <a:xfrm>
            <a:off x="785880" y="357120"/>
            <a:ext cx="7929360" cy="585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M:\YCA4U1WZ1CAUOPD6FCADCQUNUCAKDXS0PCALHU6ECCA8RZEIYCA12WVYCCAKKL5RXCA4FO19JCAUX0QTACALVP1CFCAFFJAZPCA4LP7X4CAR5Q62RCA9OIX70CA2D9T1YCAF9XYB2CA24MN8ICALUZZOF.jpg"/>
          <p:cNvPicPr/>
          <p:nvPr/>
        </p:nvPicPr>
        <p:blipFill>
          <a:blip r:embed="rId7"/>
          <a:stretch/>
        </p:blipFill>
        <p:spPr>
          <a:xfrm>
            <a:off x="1285920" y="500040"/>
            <a:ext cx="7858080" cy="571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M:\front.jpg"/>
          <p:cNvPicPr/>
          <p:nvPr/>
        </p:nvPicPr>
        <p:blipFill>
          <a:blip r:embed="rId8"/>
          <a:stretch/>
        </p:blipFill>
        <p:spPr>
          <a:xfrm>
            <a:off x="1071720" y="214200"/>
            <a:ext cx="7858080" cy="62866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1"/>
          <p:cNvSpPr/>
          <p:nvPr/>
        </p:nvSpPr>
        <p:spPr>
          <a:xfrm>
            <a:off x="824400" y="628668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 Владимир  Александрович МОУ « 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M:\f_13049149.jpg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9840" y="642924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Прямоугольник 5" descr=""/>
          <p:cNvPicPr/>
          <p:nvPr/>
        </p:nvPicPr>
        <p:blipFill>
          <a:blip r:embed="rId1"/>
          <a:stretch/>
        </p:blipFill>
        <p:spPr>
          <a:xfrm>
            <a:off x="1219320" y="1133640"/>
            <a:ext cx="6387840" cy="2579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M:\0CAWQ43YECAVGNUIQCA9OWIHHCAR01DQKCA3I1VZNCAYK9RD1CAAH3OWCCAUNTDCPCAWOT5CVCA3TKVKFCAS2I21QCAE4JG06CAB7Y7PUCAFE3I79CAUDK4D5CAQ06G26CATNRBK1CADQ708HCA73GDQ8.jpg"/>
          <p:cNvPicPr/>
          <p:nvPr/>
        </p:nvPicPr>
        <p:blipFill>
          <a:blip r:embed="rId2"/>
          <a:stretch/>
        </p:blipFill>
        <p:spPr>
          <a:xfrm>
            <a:off x="2214720" y="2928960"/>
            <a:ext cx="4714560" cy="35002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161640" y="657216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Rectangle 2"/>
          <p:cNvSpPr/>
          <p:nvPr/>
        </p:nvSpPr>
        <p:spPr>
          <a:xfrm flipV="1" rot="10800000">
            <a:off x="0" y="220680"/>
            <a:ext cx="9685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исследовательской работы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лиже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накомиться  с жанро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рской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общиться к бардовской песне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крыть тематику бардовской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азать её огромный воспитательный потенциал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лючённый в сочетани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разительных стих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искренней мелод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538560" y="650088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41440" y="2249280"/>
            <a:ext cx="8061120" cy="36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Rectangle 1"/>
          <p:cNvSpPr/>
          <p:nvPr/>
        </p:nvSpPr>
        <p:spPr>
          <a:xfrm flipV="1" rot="10800000">
            <a:off x="0" y="1159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исследовательской работ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анализировать исторический материал по раскрытию данной темы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ладеть умениями и навыками поиска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стематизации и комплексного анализа исторической информации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467280" y="642924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Rectangle 1"/>
          <p:cNvSpPr/>
          <p:nvPr/>
        </p:nvSpPr>
        <p:spPr>
          <a:xfrm flipV="1" rot="10800000">
            <a:off x="0" y="-759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ками авторской песни являются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одской романс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т (бытовая многоголосная песня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естьянские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орчество декабрист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волюционные молодёжные песн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-х год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сни беспризорник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денческий фольклор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466560" y="6572160"/>
            <a:ext cx="57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 № 4» 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3" descr="D:\ДискС\лариса\музыка\природа\мпае.JPG"/>
          <p:cNvPicPr/>
          <p:nvPr/>
        </p:nvPicPr>
        <p:blipFill>
          <a:blip r:embed="rId1"/>
          <a:srcRect l="8334" t="0" r="3472" b="0"/>
          <a:stretch/>
        </p:blipFill>
        <p:spPr>
          <a:xfrm>
            <a:off x="0" y="-500040"/>
            <a:ext cx="9572760" cy="9753480"/>
          </a:xfrm>
          <a:prstGeom prst="rect">
            <a:avLst/>
          </a:prstGeom>
          <a:ln w="0">
            <a:noFill/>
          </a:ln>
        </p:spPr>
      </p:pic>
      <p:pic>
        <p:nvPicPr>
          <p:cNvPr id="213" name="Ночная дорога.mp3" descr=""/>
          <p:cNvPicPr/>
          <p:nvPr/>
        </p:nvPicPr>
        <p:blipFill>
          <a:blip r:embed="rId2"/>
          <a:stretch/>
        </p:blipFill>
        <p:spPr>
          <a:xfrm>
            <a:off x="2858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40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  <p:pic>
        <p:nvPicPr>
          <p:cNvPr id="217" name="Говоришь чтоб остался я.wav" descr=""/>
          <p:cNvPicPr/>
          <p:nvPr/>
        </p:nvPicPr>
        <p:blipFill>
          <a:blip r:embed="rId2"/>
          <a:stretch/>
        </p:blipFill>
        <p:spPr>
          <a:xfrm>
            <a:off x="7858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4217719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Picture 2" descr="C:\Documents and Settings\Admin\Рабочий стол\картинки\Новая папка (2)\iCAOFU0KC.jpg"/>
          <p:cNvPicPr/>
          <p:nvPr/>
        </p:nvPicPr>
        <p:blipFill>
          <a:blip r:embed="rId1"/>
          <a:stretch/>
        </p:blipFill>
        <p:spPr>
          <a:xfrm>
            <a:off x="500040" y="285840"/>
            <a:ext cx="8143920" cy="6143400"/>
          </a:xfrm>
          <a:prstGeom prst="rect">
            <a:avLst/>
          </a:prstGeom>
          <a:ln w="0">
            <a:noFill/>
          </a:ln>
        </p:spPr>
      </p:pic>
      <p:pic>
        <p:nvPicPr>
          <p:cNvPr id="221" name="за туманом.mp3" descr=""/>
          <p:cNvPicPr/>
          <p:nvPr/>
        </p:nvPicPr>
        <p:blipFill>
          <a:blip r:embed="rId2"/>
          <a:stretch/>
        </p:blipFill>
        <p:spPr>
          <a:xfrm>
            <a:off x="6429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139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41440" y="1071720"/>
            <a:ext cx="80611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ТИКА ПРОИЗВЕДЕНИЙ БАРДОВ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ЖБ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ЮБОВЬ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ЙН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38560" y="635796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41440" y="142920"/>
            <a:ext cx="80611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ДЫ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ВЫСОЦ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. ОКУДЖАВ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ГАЛИЧ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. МИТЯЕВ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.НИКИТИ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. НИКИТИН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. ВИЗБОР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. КУКИ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ДОЛЬС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БЕРКОВС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28760" y="6496200"/>
            <a:ext cx="514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02T19:40:48Z</dcterms:modified>
  <cp:revision>49</cp:revision>
  <dc:subject/>
  <dc:title>АВТОРСКАЯ ПЕСНЯ</dc:title>
</cp:coreProperties>
</file>