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A03-A307-463B-90C4-BD8C57CD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8B7-ADCE-4D6C-AB90-55EEEB49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8DD-E208-4E60-B294-4085F21C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B6E-A310-44D6-820D-7C89D09A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53C-F28F-4741-9DF3-33CFD0C0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3108-FBA8-414C-8E10-F543E106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00B2-7C9B-4ABF-A42F-D7BE768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E0B-6D6B-42B4-A88A-010896A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BF3-C889-4D04-BC76-0C97E60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C7B-7DD5-4ACB-9076-CDA7682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D72-5ADE-40FF-ADC8-46BE6ED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EA8-BA05-4935-8D6D-160F35C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6EC7-B193-4654-88F2-88DFC35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1DC-F88B-4B71-9683-BFCCE8E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996-9EBD-446B-BAA2-4140012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62C1-9559-4AE2-83D9-B3E417D2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8FA8-D91C-49B2-8B4E-9B62DA21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6135-5F06-47F9-B224-A8CE304C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EFD4-D2CC-4E16-8D7D-A467B4E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DB32-14D1-4187-B914-7DD3312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7AA0-BD5B-4791-B23A-BDB393F0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BF33-F1B4-4FB8-BEB2-1A6E6DB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F94-BD10-43C0-988A-8FF40AE9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7D89-6524-48A4-B341-A394B4BF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1679-4BD5-4BA0-9C0E-49B2E83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A7ED-154A-437C-9D5D-4E6CABD6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FF68-7D78-40AC-8A92-ADFCC7F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E6FA-E298-4697-9799-3DFF24CC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BDE5-2316-4709-9A6F-4BC39D41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A008-99B1-418E-848B-365E07CB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697D-78C3-4A03-A003-D63C50B4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812A-6FA9-4012-B814-1CDDD648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C2BD-5631-4038-967F-AB1C9703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56D-9D24-435E-AC73-92518866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4CE0-E626-4269-9E6F-A16BF3D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9BCE-B2C5-4AD7-A8C0-80FAFC9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80A7-4083-40A3-8923-2AED000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941E-D090-4FD4-953D-4DA7E81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B5507-D6CE-44EB-AB55-2434060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9305-E334-46E7-A237-4B107F9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238D-66B6-483B-9B75-CFE04FA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2024-51F5-4AEF-80FD-4F9F1448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6E50-5914-4AA4-ABB9-734A79A7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D27-3B8D-44C1-BE79-A3518D3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125-F86C-479F-80A8-F6E7F38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FD1-17A0-4661-A333-EA9F2731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EAF-5000-4BB1-BB5D-738CE1A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830-3D2E-4A44-8B86-5EB920E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25D-2258-4613-9B26-B70FEC6839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49F-9BC0-4A19-97D4-C7BD7E89B21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780-838D-4201-BB09-9D9B1BBBBB8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01EA-5F69-4DD5-8A21-B52417F0EA3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2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76280" y="993600"/>
            <a:ext cx="7948440" cy="17924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206880"/>
            <a:ext cx="8583840" cy="244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437760" y="6500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речанов Владимир Александрович МОУ « СОШ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2" descr="M:\0918bebd7d9e4573a4eceb0015290d75.jpg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643800"/>
          </a:xfrm>
          <a:prstGeom prst="rect">
            <a:avLst/>
          </a:prstGeom>
          <a:ln w="0">
            <a:noFill/>
          </a:ln>
        </p:spPr>
      </p:pic>
      <p:pic>
        <p:nvPicPr>
          <p:cNvPr id="231" name="ВЫСОЦКИЙ - Я НЕ ЛЮБЛЮ(+)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3204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235" name="Б.ОКУДЖАВА - ДО СВИДАНИЯ, МАЛЬЧИКИ (Trimmed).mp3" descr=""/>
          <p:cNvPicPr/>
          <p:nvPr/>
        </p:nvPicPr>
        <p:blipFill>
          <a:blip r:embed="rId2"/>
          <a:stretch/>
        </p:blipFill>
        <p:spPr>
          <a:xfrm>
            <a:off x="571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151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57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2"/>
          <a:stretch/>
        </p:blipFill>
        <p:spPr>
          <a:xfrm>
            <a:off x="785880" y="50004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M:\3f4d5c21fd65.jpg"/>
          <p:cNvPicPr/>
          <p:nvPr/>
        </p:nvPicPr>
        <p:blipFill>
          <a:blip r:embed="rId3"/>
          <a:stretch/>
        </p:blipFill>
        <p:spPr>
          <a:xfrm>
            <a:off x="1428840" y="0"/>
            <a:ext cx="7500960" cy="6429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M:\0918bebd7d9e4573a4eceb0015290d75.jpg"/>
          <p:cNvPicPr/>
          <p:nvPr/>
        </p:nvPicPr>
        <p:blipFill>
          <a:blip r:embed="rId4"/>
          <a:stretch/>
        </p:blipFill>
        <p:spPr>
          <a:xfrm>
            <a:off x="214200" y="357120"/>
            <a:ext cx="7858080" cy="6215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M:\954f3c39175f.jpg"/>
          <p:cNvPicPr/>
          <p:nvPr/>
        </p:nvPicPr>
        <p:blipFill>
          <a:blip r:embed="rId5"/>
          <a:stretch/>
        </p:blipFill>
        <p:spPr>
          <a:xfrm>
            <a:off x="2143080" y="500040"/>
            <a:ext cx="6786720" cy="6143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M:\ACAOP1S58CA2718KFCA76TD9CCAFWE7BWCABBYTS6CAJXX9JJCAVI7826CA2T3W3KCA3JKCPUCAD00Z5GCAYC8W3ECA5IRSA4CAQX4G00CAM0VDCVCA05L39HCAKLVNN7CAXUFO4ACARD6PYRCAGYR1Z5.jpg"/>
          <p:cNvPicPr/>
          <p:nvPr/>
        </p:nvPicPr>
        <p:blipFill>
          <a:blip r:embed="rId6"/>
          <a:stretch/>
        </p:blipFill>
        <p:spPr>
          <a:xfrm>
            <a:off x="785880" y="357120"/>
            <a:ext cx="7929360" cy="585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M:\YCA4U1WZ1CAUOPD6FCADCQUNUCAKDXS0PCALHU6ECCA8RZEIYCA12WVYCCAKKL5RXCA4FO19JCAUX0QTACALVP1CFCAFFJAZPCA4LP7X4CAR5Q62RCA9OIX70CA2D9T1YCAF9XYB2CA24MN8ICALUZZOF.jpg"/>
          <p:cNvPicPr/>
          <p:nvPr/>
        </p:nvPicPr>
        <p:blipFill>
          <a:blip r:embed="rId7"/>
          <a:stretch/>
        </p:blipFill>
        <p:spPr>
          <a:xfrm>
            <a:off x="1285920" y="500040"/>
            <a:ext cx="7858080" cy="571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M:\front.jpg"/>
          <p:cNvPicPr/>
          <p:nvPr/>
        </p:nvPicPr>
        <p:blipFill>
          <a:blip r:embed="rId8"/>
          <a:stretch/>
        </p:blipFill>
        <p:spPr>
          <a:xfrm>
            <a:off x="1071720" y="214200"/>
            <a:ext cx="7858080" cy="6286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1"/>
          <p:cNvSpPr/>
          <p:nvPr/>
        </p:nvSpPr>
        <p:spPr>
          <a:xfrm>
            <a:off x="824400" y="62866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 Владимир  Александрович МОУ « 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M:\f_13049149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984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Прямоугольник 5" descr=""/>
          <p:cNvPicPr/>
          <p:nvPr/>
        </p:nvPicPr>
        <p:blipFill>
          <a:blip r:embed="rId1"/>
          <a:stretch/>
        </p:blipFill>
        <p:spPr>
          <a:xfrm>
            <a:off x="1219320" y="1133640"/>
            <a:ext cx="6387840" cy="2579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2"/>
          <a:stretch/>
        </p:blipFill>
        <p:spPr>
          <a:xfrm>
            <a:off x="2214720" y="2928960"/>
            <a:ext cx="4714560" cy="35002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161640" y="657216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Rectangle 2"/>
          <p:cNvSpPr/>
          <p:nvPr/>
        </p:nvSpPr>
        <p:spPr>
          <a:xfrm flipV="1" rot="10800000">
            <a:off x="0" y="220680"/>
            <a:ext cx="968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следовательской работы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лиже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накомиться  с жанр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общиться к бардовской песне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крыть тематику бардов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азать её огромный воспитательный потенциал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лючённый в сочетани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разительных стих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искренней мелод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38560" y="65008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41440" y="2249280"/>
            <a:ext cx="8061120" cy="36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 flipV="1" rot="10800000">
            <a:off x="0" y="1159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исследовательской работ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анализировать исторический материал по раскрытию данной темы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ть умениями и навыками поиска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атизации и комплексного анализа исторической информации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6728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Rectangle 1"/>
          <p:cNvSpPr/>
          <p:nvPr/>
        </p:nvSpPr>
        <p:spPr>
          <a:xfrm flipV="1" rot="10800000">
            <a:off x="0" y="-759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ками авторской песни являютс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одской романс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т (бытовая многоголосная песня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естьянские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рчество декабрист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волюционные молодёжные пес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-х год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сни беспризорник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денческий фолькло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466560" y="6572160"/>
            <a:ext cx="57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3" descr="D:\ДискС\лариса\музыка\природа\мпае.JPG"/>
          <p:cNvPicPr/>
          <p:nvPr/>
        </p:nvPicPr>
        <p:blipFill>
          <a:blip r:embed="rId1"/>
          <a:srcRect l="8334" t="0" r="3472" b="0"/>
          <a:stretch/>
        </p:blipFill>
        <p:spPr>
          <a:xfrm>
            <a:off x="0" y="-500040"/>
            <a:ext cx="9572760" cy="9753480"/>
          </a:xfrm>
          <a:prstGeom prst="rect">
            <a:avLst/>
          </a:prstGeom>
          <a:ln w="0">
            <a:noFill/>
          </a:ln>
        </p:spPr>
      </p:pic>
      <p:pic>
        <p:nvPicPr>
          <p:cNvPr id="213" name="Ночная дорога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  <p:pic>
        <p:nvPicPr>
          <p:cNvPr id="217" name="Говоришь чтоб остался я.wav" descr=""/>
          <p:cNvPicPr/>
          <p:nvPr/>
        </p:nvPicPr>
        <p:blipFill>
          <a:blip r:embed="rId2"/>
          <a:stretch/>
        </p:blipFill>
        <p:spPr>
          <a:xfrm>
            <a:off x="785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421771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C:\Documents and Settings\Admin\Рабочий стол\картинки\Новая папка (2)\iCAOFU0KC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6143400"/>
          </a:xfrm>
          <a:prstGeom prst="rect">
            <a:avLst/>
          </a:prstGeom>
          <a:ln w="0">
            <a:noFill/>
          </a:ln>
        </p:spPr>
      </p:pic>
      <p:pic>
        <p:nvPicPr>
          <p:cNvPr id="221" name="за туманом.mp3" descr=""/>
          <p:cNvPicPr/>
          <p:nvPr/>
        </p:nvPicPr>
        <p:blipFill>
          <a:blip r:embed="rId2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39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41440" y="1071720"/>
            <a:ext cx="80611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КА ПРОИЗВЕДЕНИЙ БАРДОВ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ЖБ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ОВЬ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ЙН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8560" y="635796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41440" y="142920"/>
            <a:ext cx="80611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ДЫ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ВЫСОЦ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ОКУДЖАВ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ГАЛИЧ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. МИТЯЕВ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.НИКИТ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. НИКИТИН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ВИЗБОР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КУК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ДОЛЬ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БЕРКОВ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28760" y="6496200"/>
            <a:ext cx="51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2T19:40:48Z</dcterms:modified>
  <cp:revision>49</cp:revision>
  <dc:subject/>
  <dc:title>АВТОРСКАЯ ПЕСНЯ</dc:title>
</cp:coreProperties>
</file>