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F8ADA-D767-4315-8E42-B221D504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64858-B1AC-4767-AA6F-709D6C92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8E3AD-52E3-4492-B6BB-4672908C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4CCD-E43A-432A-8031-AC75ED37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4FF8-3025-4242-B462-50408BFA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4E4D-44D8-42DB-A26B-547E975F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1949-DF3A-4B52-8929-DE7A9CCE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77DD-16D1-4F82-BA7E-D3509F83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CBD9-9DD2-4819-90F8-01C70AB7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21DA-C4C0-4631-954F-D714A00B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88C7-4ADE-40A1-B8DF-F4FD27C6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31B6-17B3-46E4-B1FE-02B1A037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87EC-EEB2-4AF6-9811-64C81D5E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01C5-80AA-481E-84B6-631EEBED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59EF-2092-496E-A687-656846CA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20D8-34AF-4F93-B36E-29D84A08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0D80-A771-4E0C-9B3C-2A3E347D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7516E-B737-453E-BD68-631EDF19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1A067-F547-42DC-B77F-EA7C63DE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7965B-E793-45AD-A21E-BEE841AD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379B0-FBAB-460B-AA00-CE007D67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7007E-83CD-4A54-AAFC-26E0BB00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6232-A34F-420C-8E81-EAD33E3C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1A63C-B1CD-406E-8DA1-30AA32EA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CD65-A352-43A6-A076-09106B4ED5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E50E-2649-47E6-BEFF-971E31F537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9171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886e0"/>
                </a:solidFill>
                <a:latin typeface="Garamond"/>
              </a:rPr>
              <a:t>Характеристика основных трудностей развития ребенка (система профилактики девиантного поведения и употребления ПАВ в образовательном учреждении)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84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полнил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дагог – психоло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ишанина Н.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2825640" cy="352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e5ff"/>
                </a:solidFill>
                <a:latin typeface="Garamond"/>
              </a:rPr>
              <a:t>Вторичная профилактика в 6-м класс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. Дети с прогрессирующей (начиная с 5-го класса) педагогической запущенностью и с признаками ее перехода в социальную запущенностью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2. Дети с эмоциональными расстройствами и стойкими нарушениями самооценки (неврозами, депрессиями)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3. Дети с патохарактерологическими нарушениями (формирующимися психопатиями) и агрессивным поведением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4. Дети с синдромом «детей отцов-алкоголиков»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5. Дети с инфантилизмом и психологически зависимым поведением от группы, лидеров-сверстников и взрослых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7-й класс (12—13 лет)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 данном возрасте развивается кризис тринадцати лет.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ставим основные типы детей «группы риска»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ети с невротическим или патохарактерологическим развитием личности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ети с синдромом уходов (уходы из школы, уходы и побеги из дома)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ети с агрессивным подростковым девиантным поведением — хулиганством, воровством (и вымогательством), в том числе в составе антисоциальной группы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4. Дети с эмоциональными расстройствами в связи с предразводным состоянием в семье и после развода родителей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4. Дети с зависимостью от поп-культуры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8-9 класс (13-15 лет)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 типичным особенностям развития детей «группы риска» в 8-9 классе относится: невротическое развития личности, патохарактелогические реакции, социально – психологический инфантилизм и неготовность к выбору профессии и дальнейшей учебе, ранняя зависимость от ПАВ или азартных игр, раннее начало сексуальной жиз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Первичная профилактик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хватывает всех учащихся детей и их родительские семьи, но в первую очередь — здоровых, нормативно развивающихся и не имеющих выраженных факторов риск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Цель первичной профилактик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еспечивать нормативное развити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ичности ребенка, формирова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равственные установки и в и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мках установки на здоровый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раз жизн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972040" y="2924280"/>
            <a:ext cx="30718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Monotype Corsiva"/>
              </a:rPr>
              <a:t>Вторичная </a:t>
            </a: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профилактика</a:t>
            </a:r>
            <a:r>
              <a:rPr b="0" i="1" lang="ru-RU" sz="4400" spc="-1" strike="noStrike">
                <a:solidFill>
                  <a:srgbClr val="e5e5ff"/>
                </a:solidFill>
                <a:latin typeface="Monotype Corsiva"/>
              </a:rPr>
              <a:t>.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ставляет собой систему работы с детьми «группы риска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367344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Третичная профилактика.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 психокоррекционная и реабилитационная работа с детьми, у которых уже выявлено социально девиантное поведение и развивающаяс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висимость о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сихоактивных веществ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алкоголя, никотин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ркотиков,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дурманивающих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716360" y="3308400"/>
            <a:ext cx="40672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собенности развития  личности в младшем школьном возрасте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Факторы школьной дезадаптации, психофизиологические факторы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вязанная с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неготовностью ребенка к сложной социальной роли ученик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оммуникативная неготовность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Группа эмоциональных факторо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Д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ети с высокой тревогой, невротическими расстройствами и инфантилизм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2. Дети с синдромом гипервозбудимости (моторной расторможенности) и патологией активного внимания (дети с минимальной мозговой дисфункцией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редняя школа</a:t>
            </a:r>
            <a:br>
              <a:rPr sz="4000"/>
            </a:br>
            <a:r>
              <a:rPr b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5-й класс (10—11 лет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сихофизиологическая адаптация к школе: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азвитие учебной деятельности как самостоятельной в рамках многопредметного обучени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азвиваются вне учебная деятельност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азвивается сфера общения по интересам и происходит дифференциация класса на малые группы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Завершается этап «латентного» либидо, или этап полоролевого развития личност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формируется вторичная самооценк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-543600" y="1340640"/>
            <a:ext cx="102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течение 5-го класса должны быть решены следующие задачи возрастного развит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625 L 0 -0.32709 E">
                                      <p:cBhvr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риведем краткий перечень типичных кризисов развития детей в 5-м классе, развитие которых необходимо предупредить первичной профилактикой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ризисы психофизиологической адаптации к школ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ризис, неготовности ребенка к переходу на многопредметное обучени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ризисы фрустрации потребности в самореализа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ризисы отношений дружбы, общения, «личность —группа»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сихологический инфантилизм и психологически зависимое поведени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Кризисы формирования самооценк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бъекты вторичной профилактики в 5 классе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Дети не готовые к переходу на многопредметное обучение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Дети с синдромом раннего детского воровства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076720" y="3273480"/>
            <a:ext cx="35607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58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6 класс (11-12 лет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чинаются предподростковые процессы группирования в 5 клас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 девочек и у половины мальчиков начинается платоническая (романтическая) фаза психосексуальног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т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5357880" y="3627360"/>
            <a:ext cx="37861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5:01:40Z</dcterms:created>
  <dc:creator>AdmiN</dc:creator>
  <dc:description/>
  <dc:language>en-US</dc:language>
  <cp:lastModifiedBy>Метод. кабинет</cp:lastModifiedBy>
  <dcterms:modified xsi:type="dcterms:W3CDTF">2008-05-19T06:14:15Z</dcterms:modified>
  <cp:revision>3</cp:revision>
  <dc:subject/>
  <dc:title>Слайд 1</dc:title>
</cp:coreProperties>
</file>