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A512-4EDE-4758-B50A-95A267AC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52A9-B794-4059-834C-438D6FEA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B2E4-7C16-4D05-853D-7F195D8C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0C03-0C20-495E-8915-5935BB59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2DD2-B4B7-4323-B7CE-A09DC211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9EA8-6D07-42E7-89B9-482551F8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E23-E22A-4B9E-B11B-87196C8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65C-50A3-4DC0-9EB2-D2475887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E1AD-961A-4D3C-AC82-DE7A7498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B415-EC74-4594-9BE5-7B33C16D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32CC-ACB9-437F-B0E3-C66D201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619B-6C3F-4AAF-A128-B07F4F3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0816-A2A1-4915-976C-64648AD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76B-1872-4FAC-BF67-3536204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0A98-D63F-4C30-935F-5C98B0BC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59E8-D345-480D-9E3D-0E821EAB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2C4C-44D5-44E4-A364-80BB5075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7D674-1C8F-4197-ACCB-53087E47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C199-08EF-4483-BC35-10AF330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509A-10BF-4F9C-9CB8-20CB6C93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0F78-9173-4716-941E-A075670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5042-DA9B-4805-BB1B-6E57958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AF4E-1EC3-4D5A-AEBD-1AA4A082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078C-FB4E-444E-99E2-D2A2F8F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DB00-651E-4FD5-A64F-0A8D53C441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2F26-548D-40FD-B8F9-B4387C4678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171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86e0"/>
                </a:solidFill>
                <a:latin typeface="Garamond"/>
              </a:rPr>
              <a:t>Характеристика основных трудностей развития ребенка (система профилактики девиантного поведения и употребления ПАВ в образовательном учреждении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 – психоло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шанина Н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282564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Вторичная профилактика в 6-м класс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. Дети с прогрессирующей (начиная с 5-го класса) педагогической запущенностью и с признаками ее перехода в социальную запущенностью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. Дети с эмоциональными расстройствами и стойкими нарушениями самооценки (неврозами, депрессиями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3. Дети с патохарактерологическими нарушениями (формирующимися психопатиями) и агрессивным поведением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4. Дети с синдромом «детей отцов-алкоголиков»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. Дети с инфантилизмом и психологически зависимым поведением от группы, лидеров-сверстников и взрослы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-й класс (12—13 лет)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данном возрасте развивается кризис тринадцати лет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им основные типы детей «группы риска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невротическим или патохарактерологическим развитием личности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синдромом уходов (уходы из школы, уходы и побеги из дома)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агрессивным подростковым девиантным поведением — хулиганством, воровством (и вымогательством), в том числе в составе антисоциальной групп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4. Дети с эмоциональными расстройствами в связи с предразводным состоянием в семье и после развода родителей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4. Дети с зависимостью от поп-культур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8-9 класс (13-15 лет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типичным особенностям развития детей «группы риска» в 8-9 классе относится: невротическое развития личности, патохарактелогические реакции, социально – психологический инфантилизм и неготовность к выбору профессии и дальнейшей учебе, ранняя зависимость от ПАВ или азартных игр, раннее начало сексуаль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ервичная профилакти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хватывает всех учащихся детей и их родительские семьи, но в первую очередь — здоровых, нормативно развивающихся и не имеющих выраженных факторов риск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 первичной профилакти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ивать нормативное развит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ичности ребенка, форм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равственные установки и в 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мках установки на здоровый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раз жизн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972040" y="2924280"/>
            <a:ext cx="3071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Monotype Corsiva"/>
              </a:rPr>
              <a:t>Вторичная </a:t>
            </a: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рофилактика</a:t>
            </a:r>
            <a:r>
              <a:rPr b="0" i="1" lang="ru-RU" sz="4400" spc="-1" strike="noStrike">
                <a:solidFill>
                  <a:srgbClr val="e5e5ff"/>
                </a:solidFill>
                <a:latin typeface="Monotype Corsiva"/>
              </a:rPr>
              <a:t>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ставляет собой систему работы с детьми «группы риск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734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Третичная профилактика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психокоррекционная и реабилитационная работа с детьми, у которых уже выявлено социально девиантное поведение и развивающаяс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висимость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сихоактивных вещест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лкоголя, никоти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котиков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урманивающих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716360" y="3308400"/>
            <a:ext cx="40672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обенности развития  личности в младшем школьном возрасте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акторы школьной дезадаптации, психофизиолог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язанная с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неготовностью ребенка к сложной социальной роли учени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оммуникативная неготовност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Группа эмоциональных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Д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ти с высокой тревогой, невротическими расстройствами и инфантилиз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2. Дети с синдромом гипервозбудимости (моторной расторможенности) и патологией активного внимания (дети с минимальной мозговой дисфункцией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редняя школа</a:t>
            </a:r>
            <a:br>
              <a:rPr sz="4000"/>
            </a:b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5-й класс (10—11 лет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сихофизиологическая адаптация к школе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тие учебной деятельности как самостоятельной в рамках многопредметного обучен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ются вне учебная дея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ется сфера общения по интересам и происходит дифференциация класса на малые групп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вершается этап «латентного» либидо, или этап полоролевого развития л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ормируется вторич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-543600" y="1340640"/>
            <a:ext cx="102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течение 5-го класса должны быть решены следующие задачи возрастного развит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625 L 0 -0.32709 E">
                                      <p:cBhvr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иведем краткий перечень типичных кризисов развития детей в 5-м классе, развитие которых необходимо предупредить первичной профилактикой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психофизиологической адаптации к школ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, неготовности ребенка к переходу на многопредметное обуч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фрустрации потребности в самореализ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отношений дружбы, общения, «личность —группа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сихологический инфантилизм и психологически зависим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формирования самооцен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бъекты вторичной профилактики в 5 класс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ети не готовые к переходу на многопредметное обуч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ети с синдромом раннего детского воровства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076720" y="3273480"/>
            <a:ext cx="3560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5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класс (11-12 лет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чинаются предподростковые процессы группирования в 5 клас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девочек и у половины мальчиков начинается платоническая (романтическая) фаза психосексуальн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357880" y="3627360"/>
            <a:ext cx="37861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01:40Z</dcterms:created>
  <dc:creator>AdmiN</dc:creator>
  <dc:description/>
  <dc:language>en-US</dc:language>
  <cp:lastModifiedBy>Метод. кабинет</cp:lastModifiedBy>
  <dcterms:modified xsi:type="dcterms:W3CDTF">2008-05-19T06:14:15Z</dcterms:modified>
  <cp:revision>3</cp:revision>
  <dc:subject/>
  <dc:title>Слайд 1</dc:title>
</cp:coreProperties>
</file>