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B1F2-2B4E-445D-A899-5AC5FADB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D5CC-49CE-4BB5-ADF0-A938B735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5F8A-FB09-4EB7-BEDD-F0EC5EE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F1F2-6A27-47D9-B2D6-3EC34EBD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BF08-B293-4783-8FCF-8EBEA37D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5CAD-AA94-46EE-9CC3-CEB42C58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1F1C-4C4A-49B3-A9B5-C87A35F9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C11A-5DAD-4E3D-AAAD-1F679AD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F06-E9FE-404F-BDE8-474B9A1E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12F8-5C0D-4A18-B7DF-715BB003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18D2-0801-4E89-9568-5ED368D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FB59-AA84-4197-B897-9019353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20F-FAC7-4C74-BD5D-E31689D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CBAE-460A-4185-B47F-74A1EAA1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D67-29A0-4A61-9451-5D9B6EAB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C11B-9C13-4F85-9BB3-F69ED956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942E-E2E2-4570-ABAC-3F9A537B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045F-8ED0-40D8-9581-2DD822ED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A6C1-D7F1-4394-B72C-D078407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9ECF-4A9E-4394-87D4-0A19929D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5FFB-75E3-4FD8-BEA8-E8E7224D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6375-79A9-40C0-9741-DF619A7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270C-23E6-4D0B-8337-EDEB8BE4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74E0-94A2-45D5-82BF-AA625D0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9625-FBE6-4E42-8223-3DFEA9EEB9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543-45CB-4663-8E2D-16F99B1795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171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86e0"/>
                </a:solidFill>
                <a:latin typeface="Garamond"/>
              </a:rPr>
              <a:t>Характеристика основных трудностей развития ребенка (система профилактики девиантного поведения и употребления ПАВ в образовательном учреждении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 – психоло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ишанина Н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282564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Вторичная профилактика в 6-м класс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. Дети с прогрессирующей (начиная с 5-го класса) педагогической запущенностью и с признаками ее перехода в социальную запущенностью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2. Дети с эмоциональными расстройствами и стойкими нарушениями самооценки (неврозами, депрессиями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3. Дети с патохарактерологическими нарушениями (формирующимися психопатиями) и агрессивным поведением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4. Дети с синдромом «детей отцов-алкоголиков»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5. Дети с инфантилизмом и психологически зависимым поведением от группы, лидеров-сверстников и взрослы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-й класс (12—13 лет)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данном возрасте развивается кризис тринадцати лет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им основные типы детей «группы риска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невротическим или патохарактерологическим развитием личности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синдромом уходов (уходы из школы, уходы и побеги из дома)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агрессивным подростковым девиантным поведением — хулиганством, воровством (и вымогательством), в том числе в составе антисоциальной групп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4. Дети с эмоциональными расстройствами в связи с предразводным состоянием в семье и после развода родителей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4. Дети с зависимостью от поп-культур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8-9 класс (13-15 лет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типичным особенностям развития детей «группы риска» в 8-9 классе относится: невротическое развития личности, патохарактелогические реакции, социально – психологический инфантилизм и неготовность к выбору профессии и дальнейшей учебе, ранняя зависимость от ПАВ или азартных игр, раннее начало сексуальной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ервичная профилакти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хватывает всех учащихся детей и их родительские семьи, но в первую очередь — здоровых, нормативно развивающихся и не имеющих выраженных факторов риск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ль первичной профилакти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ивать нормативное развит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ичности ребенка, формиро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равственные установки и в 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мках установки на здоровый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раз жизн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972040" y="2924280"/>
            <a:ext cx="3071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Monotype Corsiva"/>
              </a:rPr>
              <a:t>Вторичная </a:t>
            </a: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рофилактика</a:t>
            </a:r>
            <a:r>
              <a:rPr b="0" i="1" lang="ru-RU" sz="4400" spc="-1" strike="noStrike">
                <a:solidFill>
                  <a:srgbClr val="e5e5ff"/>
                </a:solidFill>
                <a:latin typeface="Monotype Corsiva"/>
              </a:rPr>
              <a:t>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ставляет собой систему работы с детьми «группы риск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6734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Третичная профилактика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психокоррекционная и реабилитационная работа с детьми, у которых уже выявлено социально девиантное поведение и развивающаяс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висимость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сихоактивных вещест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лкоголя, никоти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котиков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урманивающих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716360" y="3308400"/>
            <a:ext cx="40672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обенности развития  личности в младшем школьном возрасте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акторы школьной дезадаптации, психофизиолог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язанная с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неготовностью ребенка к сложной социальной роли учени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оммуникативная неготовност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Группа эмоциональных фактор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Д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ти с высокой тревогой, невротическими расстройствами и инфантилиз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2. Дети с синдромом гипервозбудимости (моторной расторможенности) и патологией активного внимания (дети с минимальной мозговой дисфункцией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редняя школа</a:t>
            </a:r>
            <a:br>
              <a:rPr sz="4000"/>
            </a:b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5-й класс (10—11 лет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сихофизиологическая адаптация к школе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тие учебной деятельности как самостоятельной в рамках многопредметного обучен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ются вне учебная дея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ется сфера общения по интересам и происходит дифференциация класса на малые групп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вершается этап «латентного» либидо, или этап полоролевого развития лич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ормируется вторич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-543600" y="1340640"/>
            <a:ext cx="102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течение 5-го класса должны быть решены следующие задачи возрастного развит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625 L 0 -0.32709 E">
                                      <p:cBhvr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иведем краткий перечень типичных кризисов развития детей в 5-м классе, развитие которых необходимо предупредить первичной профилактикой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психофизиологической адаптации к школ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, неготовности ребенка к переходу на многопредметное обуч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фрустрации потребности в самореализ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отношений дружбы, общения, «личность —группа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сихологический инфантилизм и психологически зависим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формирования самооцен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бъекты вторичной профилактики в 5 класс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ети не готовые к переходу на многопредметное обучение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ети с синдромом раннего детского воровства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076720" y="3273480"/>
            <a:ext cx="3560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5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класс (11-12 лет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чинаются предподростковые процессы группирования в 5 клас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девочек и у половины мальчиков начинается платоническая (романтическая) фаза психосексуальн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357880" y="3627360"/>
            <a:ext cx="37861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01:40Z</dcterms:created>
  <dc:creator>AdmiN</dc:creator>
  <dc:description/>
  <dc:language>en-US</dc:language>
  <cp:lastModifiedBy>Метод. кабинет</cp:lastModifiedBy>
  <dcterms:modified xsi:type="dcterms:W3CDTF">2008-05-19T06:14:15Z</dcterms:modified>
  <cp:revision>3</cp:revision>
  <dc:subject/>
  <dc:title>Слайд 1</dc:title>
</cp:coreProperties>
</file>