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B50-BF65-43E8-8107-22EA5246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EFE-4702-4941-BDDF-1C91493A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BA3-8A7E-40AF-9A3F-66A35368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9A9-D411-40FA-AE8D-8178EA15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BB7A-462F-4A9E-A762-6674B43E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C5E4-11E8-43E1-A5C2-DAA178F5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E5F1-0EFF-4A90-8EE3-2C57E632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BBB0-D18D-429A-AEB4-81B15D90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4ABC-003F-4EBC-936A-149AD47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0417-04F0-4874-9032-154B2E5F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60AE-6E7C-4D0D-B7BC-193309E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A90-5B13-4511-BF28-ED64D4F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1557-CB02-418C-BEEB-4111F2F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9379-B111-4409-A8CA-DBB2073C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FCC6-92F5-435D-A71B-82CC1425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BCC4-9BE3-4813-9851-AD3DE3BD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BEB6-7337-4740-9063-D5148EDF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9F2-07B7-4153-806A-3743BF2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32C-8E6B-40E9-AE55-2DFE095A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74F-6D68-4D48-A521-94A4AC6F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E3D-92D1-4B80-ABA8-CE184418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E50-EEBE-4E91-B055-D2DD14E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90A-E980-4E0F-B3A0-D539A2D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7A4-336B-4CCC-9B55-413D539A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AAC-F4F6-4D7F-8AF1-5892B0D0EE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0195-BBE7-4F6E-AD95-732CBC417B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7b46d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Тема уро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4400" spc="-1" strike="noStrike">
                <a:solidFill>
                  <a:srgbClr val="f54421"/>
                </a:solidFill>
                <a:latin typeface="Arial"/>
              </a:rPr>
              <a:t>«Скорость химических реакций.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19280" y="2349360"/>
            <a:ext cx="6400800" cy="31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45c984"/>
            </a:solidFill>
            <a:prstDash val="lgDashDotDot"/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54421"/>
                </a:solidFill>
                <a:latin typeface="Arial Black"/>
              </a:rPr>
              <a:t>Цель урока</a:t>
            </a:r>
            <a:r>
              <a:rPr b="0" i="1" lang="ru-RU" sz="2400" spc="-1" strike="noStrike">
                <a:solidFill>
                  <a:srgbClr val="00008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Знать определение скорости реагирующих веществ, от реакций; зависимости скорости от природы поверхности соприкосновения, от концентрации, от температуры, от катализа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Уметь объяснять влияние различных условий на скорость химических реакций</a:t>
            </a:r>
            <a:r>
              <a:rPr b="1" i="1" lang="ru-RU" sz="2400" spc="-1" strike="noStrike">
                <a:solidFill>
                  <a:srgbClr val="00008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j0293240"/>
          <p:cNvPicPr/>
          <p:nvPr/>
        </p:nvPicPr>
        <p:blipFill>
          <a:blip r:embed="rId1"/>
          <a:stretch/>
        </p:blipFill>
        <p:spPr>
          <a:xfrm>
            <a:off x="7578720" y="5734080"/>
            <a:ext cx="1565280" cy="1123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j0315447"/>
          <p:cNvPicPr/>
          <p:nvPr/>
        </p:nvPicPr>
        <p:blipFill>
          <a:blip r:embed="rId2"/>
          <a:stretch/>
        </p:blipFill>
        <p:spPr>
          <a:xfrm>
            <a:off x="250920" y="53737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20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гомоген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акци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химической реакции- это изменение концентрации одного из реагирующих веществ или одного из продуктов реакции в единицу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92000" y="3500280"/>
            <a:ext cx="511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  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∆</a:t>
            </a: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V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 --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 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∆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9933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етерогенны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реакций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орость определяется изменением количества вещества в единицу времени на единице поверхности твёрдого вещ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Факторы, влияющие на скорость реакц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Природа реагирующ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онцентрация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лощадь соприкосновения реагирующ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Темп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Катализа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Природа реагирующих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Взаимодейств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Взаимодействие галогенов с алюминием или водор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приведённых ОВР зависит от электронной природы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данную зависимость, применяя знания электронного строения атомов реагирующих вещест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11713302"/>
          <p:cNvPicPr/>
          <p:nvPr/>
        </p:nvPicPr>
        <p:blipFill>
          <a:blip r:embed="rId5"/>
          <a:stretch/>
        </p:blipFill>
        <p:spPr>
          <a:xfrm>
            <a:off x="7164360" y="393372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Концентрация веществ.</a:t>
            </a:r>
            <a:br>
              <a:rPr sz="4000"/>
            </a:br>
            <a:r>
              <a:rPr b="0" lang="ru-RU" sz="2800" spc="-1" strike="noStrike">
                <a:solidFill>
                  <a:srgbClr val="f54421"/>
                </a:solidFill>
                <a:latin typeface="Arial"/>
              </a:rPr>
              <a:t>(в растворённом или газообразном состоян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Горение серы на воздухе или в чистом кисло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Взаимодействи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 c HC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бавленной и концентрирова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реакции прямо пропорциональна концентрации реагирующи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 эту зависимость с т.зрения числа активных столкновений между молеку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4421"/>
                </a:solidFill>
                <a:latin typeface="Arial"/>
              </a:rPr>
              <a:t>Площадь поверхности соприкосновения реагирующих веществ</a:t>
            </a: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(для гетерогенных реак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: взаимодействие соляной кислоты 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виде гранул и в виде пор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е  измельчено вещество, тем больше площадь соприкосновения реагирующих веществ и тем реакция идёт быст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ь соприкосновения можно увеличить, применяя принцип « кипящего сло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ъясните данные я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54421"/>
                </a:solidFill>
                <a:latin typeface="Arial"/>
              </a:rPr>
              <a:t>Температу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 реакци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O c HC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натной температуре и нагрев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овышении температуры на каждые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скорость реакции увеличивается в 2-4 раза.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авило Вант- Гофф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ъясните данную зависимость с т. зрения повышения энергии активации молеку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тализато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ализаторы- это вещества, которые изменяют скорость реакции, оставаясь к концу её неизмен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: разложение перекиси водорода без и в присутствии диоксида марга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рменты- это биологические катализато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20780000"/>
          <p:cNvPicPr/>
          <p:nvPr/>
        </p:nvPicPr>
        <p:blipFill>
          <a:blip r:embed="rId4"/>
          <a:stretch/>
        </p:blipFill>
        <p:spPr>
          <a:xfrm>
            <a:off x="7308720" y="47628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11510383"/>
          <p:cNvPicPr/>
          <p:nvPr/>
        </p:nvPicPr>
        <p:blipFill>
          <a:blip r:embed="rId5"/>
          <a:stretch/>
        </p:blipFill>
        <p:spPr>
          <a:xfrm>
            <a:off x="7236000" y="5229360"/>
            <a:ext cx="12697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29:35Z</dcterms:created>
  <dc:creator>N1 - VSP</dc:creator>
  <dc:description/>
  <dc:language>en-US</dc:language>
  <cp:lastModifiedBy>venda 02</cp:lastModifiedBy>
  <dcterms:modified xsi:type="dcterms:W3CDTF">2008-01-09T08:07:59Z</dcterms:modified>
  <cp:revision>40</cp:revision>
  <dc:subject/>
  <dc:title>Тема урока: «Скорость химических реакций.»</dc:title>
</cp:coreProperties>
</file>