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22F-E44A-42BA-82C3-B9E1E1BD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F26-C06F-4C5E-8406-B69424B3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05D-566A-4A62-9212-8BA1C9E1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99F-E776-4A0A-A06E-1D35BD78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0496-ECF1-45E3-A3F8-E68AD266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93A4-FA5D-4A04-A217-60559499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79FB-549E-4FA2-BCDA-E972E692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35BC-4FD0-45C7-8A73-280F1B91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3632-E39D-4747-9FD0-FB445494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513E-B1FE-4C8E-8BDB-BBFDCBFA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A55A-FFD0-4B55-93AD-9C162E38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210-DD25-44EE-8808-4403936E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5A14-DAF1-4A8E-BE0C-E74D45F0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71A8-1F1C-4D63-A1D3-6BA9B5B3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AAED-488B-4C07-A529-7E8325EB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B9C7-7B5D-4C36-A829-22D6A91E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7BCD-075A-43E4-93DF-F0041555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D5E-0118-4BDF-8EA5-3CC993A8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4AD-9D3E-4C95-8C99-FA7ACCDA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A16-689A-409D-AC53-A9055E40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6AB-58DD-4C23-8FA7-FEDF87F7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424-DE03-45ED-87C9-A7E8BD35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B91-29C0-42D2-ADF2-B772B687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42B-7B89-4478-9967-AE19F608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6E5C-D080-4C77-9A3E-AA557C9BD0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16C0-058E-4890-8B28-198CC14936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7b46d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Тема урок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4400" spc="-1" strike="noStrike">
                <a:solidFill>
                  <a:srgbClr val="f54421"/>
                </a:solidFill>
                <a:latin typeface="Arial"/>
              </a:rPr>
              <a:t>«Скорость химических реакций.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619280" y="2349360"/>
            <a:ext cx="6400800" cy="31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45c984"/>
            </a:solidFill>
            <a:prstDash val="lgDashDotDot"/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54421"/>
                </a:solidFill>
                <a:latin typeface="Arial Black"/>
              </a:rPr>
              <a:t>Цель урока</a:t>
            </a:r>
            <a:r>
              <a:rPr b="0" i="1" lang="ru-RU" sz="2400" spc="-1" strike="noStrike">
                <a:solidFill>
                  <a:srgbClr val="00008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 Black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 Black"/>
              </a:rPr>
              <a:t>Знать определение скорости реагирующих веществ, от реакций; зависимости скорости от природы поверхности соприкосновения, от концентрации, от температуры, от катализа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 Black"/>
              </a:rPr>
              <a:t>Уметь объяснять влияние различных условий на скорость химических реакций</a:t>
            </a:r>
            <a:r>
              <a:rPr b="1" i="1" lang="ru-RU" sz="2400" spc="-1" strike="noStrike">
                <a:solidFill>
                  <a:srgbClr val="00008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j0293240"/>
          <p:cNvPicPr/>
          <p:nvPr/>
        </p:nvPicPr>
        <p:blipFill>
          <a:blip r:embed="rId1"/>
          <a:stretch/>
        </p:blipFill>
        <p:spPr>
          <a:xfrm>
            <a:off x="7578720" y="5734080"/>
            <a:ext cx="1565280" cy="1123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j0315447"/>
          <p:cNvPicPr/>
          <p:nvPr/>
        </p:nvPicPr>
        <p:blipFill>
          <a:blip r:embed="rId2"/>
          <a:stretch/>
        </p:blipFill>
        <p:spPr>
          <a:xfrm>
            <a:off x="250920" y="537372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20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гомогенн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еакций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рость химической реакции- это изменение концентрации одного из реагирующих веществ или одного из продуктов реакции в единицу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692000" y="3500280"/>
            <a:ext cx="511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  <a:ea typeface="Arial"/>
              </a:rPr>
              <a:t>    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∆</a:t>
            </a: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V</a:t>
            </a: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=</a:t>
            </a: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 --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  <a:ea typeface="Arial"/>
              </a:rPr>
              <a:t>   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∆</a:t>
            </a: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ff9933"/>
                </a:solidFill>
                <a:latin typeface="Arial"/>
              </a:rPr>
              <a:t>т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гетерогенных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реакций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корость определяется изменением количества вещества в единицу времени на единице поверхности твёрдого вещ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Факторы, влияющие на скорость реакц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Природа реагирующи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Концентрация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лощадь соприкосновения реагирующих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Темпера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Катализа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54421"/>
                </a:solidFill>
                <a:latin typeface="Arial"/>
              </a:rPr>
              <a:t>Природа реагирующих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Взаимодейств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вод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Взаимодействие галогенов с алюминием или водор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рость приведённых ОВР зависит от электронной природы веще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 данную зависимость, применяя знания электронного строения атомов реагирующих вещест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11713302"/>
          <p:cNvPicPr/>
          <p:nvPr/>
        </p:nvPicPr>
        <p:blipFill>
          <a:blip r:embed="rId5"/>
          <a:stretch/>
        </p:blipFill>
        <p:spPr>
          <a:xfrm>
            <a:off x="7164360" y="393372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54421"/>
                </a:solidFill>
                <a:latin typeface="Arial"/>
              </a:rPr>
              <a:t>Концентрация веществ.</a:t>
            </a:r>
            <a:br>
              <a:rPr sz="4000"/>
            </a:br>
            <a:r>
              <a:rPr b="0" lang="ru-RU" sz="2800" spc="-1" strike="noStrike">
                <a:solidFill>
                  <a:srgbClr val="f54421"/>
                </a:solidFill>
                <a:latin typeface="Arial"/>
              </a:rPr>
              <a:t>(в растворённом или газообразном состоян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Горение серы на воздухе или в чистом кислор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Взаимодействи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n c HCl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бавленной и концентрирован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рость реакции прямо пропорциональна концентрации реагирующих веще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ясните эту зависимость с т.зрения числа активных столкновений между молекул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4421"/>
                </a:solidFill>
                <a:latin typeface="Arial"/>
              </a:rPr>
              <a:t>Площадь поверхности соприкосновения реагирующих веществ</a:t>
            </a:r>
            <a:r>
              <a:rPr b="0" lang="ru-RU" sz="4000" spc="-1" strike="noStrike">
                <a:solidFill>
                  <a:srgbClr val="f54421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(для гетерогенных реак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: взаимодействие соляной кислоты с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виде гранул и в виде поро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е  измельчено вещество, тем больше площадь соприкосновения реагирующих веществ и тем реакция идёт быстр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верхность соприкосновения можно увеличить, применяя принцип « кипящего сло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ъясните данные яв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54421"/>
                </a:solidFill>
                <a:latin typeface="Arial"/>
              </a:rPr>
              <a:t>Температу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 реакци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O c HC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натной температуре и нагрев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повышении температуры на каждые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скорость реакции увеличивается в 2-4 раза.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авило Вант- Гофф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ъясните данную зависимость с т. зрения повышения энергии активации молеку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тализато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тализаторы- это вещества, которые изменяют скорость реакции, оставаясь к концу её неизмен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: разложение перекиси водорода без и в присутствии диоксида марган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рменты- это биологические катализато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20780000"/>
          <p:cNvPicPr/>
          <p:nvPr/>
        </p:nvPicPr>
        <p:blipFill>
          <a:blip r:embed="rId4"/>
          <a:stretch/>
        </p:blipFill>
        <p:spPr>
          <a:xfrm>
            <a:off x="7308720" y="476280"/>
            <a:ext cx="1009800" cy="1009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11510383"/>
          <p:cNvPicPr/>
          <p:nvPr/>
        </p:nvPicPr>
        <p:blipFill>
          <a:blip r:embed="rId5"/>
          <a:stretch/>
        </p:blipFill>
        <p:spPr>
          <a:xfrm>
            <a:off x="7236000" y="5229360"/>
            <a:ext cx="12697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29:35Z</dcterms:created>
  <dc:creator>N1 - VSP</dc:creator>
  <dc:description/>
  <dc:language>en-US</dc:language>
  <cp:lastModifiedBy>venda 02</cp:lastModifiedBy>
  <dcterms:modified xsi:type="dcterms:W3CDTF">2008-01-09T08:07:59Z</dcterms:modified>
  <cp:revision>40</cp:revision>
  <dc:subject/>
  <dc:title>Тема урока: «Скорость химических реакций.»</dc:title>
</cp:coreProperties>
</file>