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D5E-290A-4BBB-9E82-F339B2D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A50-EE90-48F4-91E3-36FB06BD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47E-DE4A-4D22-A0E6-8757A7AE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610-E870-4408-A9B8-0206BB72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BF45-ACEC-4048-BB21-C2B90B51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4B4-0665-4293-99CF-0A581E75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095-4D4C-41DB-9308-E57F7A0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FD32-2F39-4728-9E57-403ED575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E60C-7D39-4419-BF84-EFA013BD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E2E0-65C2-479A-88A5-4B9761C8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734-8716-4221-AE9B-C91D706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B6D-DE32-45D1-9649-90D6EBB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ACE1-971B-4F25-AF48-5386239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ADF0-00C9-48D4-9190-98388F5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26CB-33D6-4471-8064-7E92D799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2438-636F-4780-902F-9689C3FD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F9E2-0A5F-486B-9577-DFAD829D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501-244D-4669-B3C5-AE87680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9B0-DC52-485B-8AEF-38E652D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2E8-6182-4BF4-8515-4B14CF1E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E09-37A0-4B30-B0C2-B5BBB29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5CB-584C-41FA-B0B8-AD56A3B3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4B4-0C02-4BA8-8CEE-63268E95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BD7-EB10-4CED-933E-CB582811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462-B58D-4288-9C17-3AD319FFF5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ACB3-06A7-483F-80C9-37AEC88645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7b46d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«Скорость химических реакций.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19280" y="2349360"/>
            <a:ext cx="6400800" cy="31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45c984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54421"/>
                </a:solidFill>
                <a:latin typeface="Arial Black"/>
              </a:rPr>
              <a:t>Цель урока</a:t>
            </a:r>
            <a:r>
              <a:rPr b="0" i="1" lang="ru-RU" sz="2400" spc="-1" strike="noStrike">
                <a:solidFill>
                  <a:srgbClr val="00008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Знать определение скорости реагирующих веществ, от реакций; зависимости скорости от природы поверхности соприкосновения, от концентрации, от температуры, от катализа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Уметь объяснять влияние различных условий на скорость химических реакций</a:t>
            </a:r>
            <a:r>
              <a:rPr b="1" i="1" lang="ru-RU" sz="2400" spc="-1" strike="noStrike">
                <a:solidFill>
                  <a:srgbClr val="00008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j0293240"/>
          <p:cNvPicPr/>
          <p:nvPr/>
        </p:nvPicPr>
        <p:blipFill>
          <a:blip r:embed="rId1"/>
          <a:stretch/>
        </p:blipFill>
        <p:spPr>
          <a:xfrm>
            <a:off x="7578720" y="5734080"/>
            <a:ext cx="1565280" cy="112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j0315447"/>
          <p:cNvPicPr/>
          <p:nvPr/>
        </p:nvPicPr>
        <p:blipFill>
          <a:blip r:embed="rId2"/>
          <a:stretch/>
        </p:blipFill>
        <p:spPr>
          <a:xfrm>
            <a:off x="250920" y="5373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20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гомоген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химической реакции- это изменение концентрации одного из реагирующих веществ или одного из продуктов реакции в единицу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511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 --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9933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етерогенны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орость определяется изменением количества вещества в единицу времени на единице поверхности твёрдого ве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Факторы, влияющие на скорость реакц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рирода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онцентрация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лощадь соприкосновения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Темп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тализа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Природа реагирующих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Взаимодейств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Взаимодействие галогенов с алюминием или водор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приведённых ОВР зависит от электронной природы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данную зависимость, применяя знания электронного строения атомов реагирующих веще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11713302"/>
          <p:cNvPicPr/>
          <p:nvPr/>
        </p:nvPicPr>
        <p:blipFill>
          <a:blip r:embed="rId5"/>
          <a:stretch/>
        </p:blipFill>
        <p:spPr>
          <a:xfrm>
            <a:off x="7164360" y="393372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Концентрация веществ.</a:t>
            </a:r>
            <a:br>
              <a:rPr sz="4000"/>
            </a:b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(в растворённом или газообразном состоян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Горение серы на воздухе или в чистом кисл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Взаимодействи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 c HC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бавленной и концентрирова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реакции прямо пропорциональна концентрации реагирующи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 эту зависимость с т.зрения числа активных столкновений между молеку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Площадь поверхности соприкосновения реагирующих веществ</a:t>
            </a: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(для гетерогенных реак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: взаимодействие соляной кислоты 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виде гранул и в виде пор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е  измельчено вещество, тем больше площадь соприкосновения реагирующих веществ и тем реакция идёт быст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 соприкосновения можно увеличить, применяя принцип « кипящего сло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ясните данные я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Температу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 реакци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O c HC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натной температуре и нагре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вышении температуры на каждые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реакции увеличивается в 2-4 раза.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авило Вант- Гофф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ъясните данную зависимость с т. зрения повышения энергии активации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тализато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ализаторы- это вещества, которые изменяют скорость реакции, оставаясь к концу её неизмен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: разложение перекиси водорода без и в присутствии диоксида марга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рменты- это биологические катализато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0780000"/>
          <p:cNvPicPr/>
          <p:nvPr/>
        </p:nvPicPr>
        <p:blipFill>
          <a:blip r:embed="rId4"/>
          <a:stretch/>
        </p:blipFill>
        <p:spPr>
          <a:xfrm>
            <a:off x="7308720" y="47628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11510383"/>
          <p:cNvPicPr/>
          <p:nvPr/>
        </p:nvPicPr>
        <p:blipFill>
          <a:blip r:embed="rId5"/>
          <a:stretch/>
        </p:blipFill>
        <p:spPr>
          <a:xfrm>
            <a:off x="7236000" y="5229360"/>
            <a:ext cx="1269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29:35Z</dcterms:created>
  <dc:creator>N1 - VSP</dc:creator>
  <dc:description/>
  <dc:language>en-US</dc:language>
  <cp:lastModifiedBy>venda 02</cp:lastModifiedBy>
  <dcterms:modified xsi:type="dcterms:W3CDTF">2008-01-09T08:07:59Z</dcterms:modified>
  <cp:revision>40</cp:revision>
  <dc:subject/>
  <dc:title>Тема урока: «Скорость химических реакций.»</dc:title>
</cp:coreProperties>
</file>