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088-E4C3-4059-89A2-7E46B1D8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B45-8FC5-42C7-A202-3458680C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E53-4876-418F-8D30-DE93742B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FD4-19CA-418F-999D-BD57AC07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744-56A0-4F85-B021-873F4F59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22E-04E3-4BF9-B3D6-9D189207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41C-FA4A-4E4B-90ED-A7235D5D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B47-FA25-432C-85FE-9F5DF8C0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6E9-0573-41B6-AA81-AB438A7A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E8E-D13A-40B5-B367-2605C2C1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2090-6C5B-4F8C-B9B3-CD627530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3E4-D53C-4358-8327-218A217E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9AB3-8EFC-49B8-AF89-A8C4AAB89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1480" y="333360"/>
            <a:ext cx="864252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Электромагнитное пол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Электромагнитные вол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522936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. З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- 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54936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При постоянной скорости заряда возникает постоянное электрическое и постоянное магнитное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08360" y="3429000"/>
            <a:ext cx="31147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54936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ишите механизм возникновения индукционного тока, опираясь на знание о существование электромагнитного п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616720" cy="3686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333360"/>
            <a:ext cx="741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При </a:t>
            </a:r>
            <a:r>
              <a:rPr b="1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ускоренном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движении заряда возникает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электромагнитное поле</a:t>
            </a:r>
            <a:r>
              <a:rPr b="1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 и происходит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излучение электромагнитной волны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, которая распространяется в пространстве с конечной 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3640" y="3284640"/>
            <a:ext cx="4481280" cy="3270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71640" y="54936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33360"/>
            <a:ext cx="82803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сно гипотезе Максвелла однажды начавшийся в некоторой точке процесс изменения электромагнитного поля будет далее непрерывно захватывать все новые и новые области окружающего простр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84360" y="3587760"/>
            <a:ext cx="4481640" cy="3270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333360"/>
            <a:ext cx="85694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Изменяющееся во времени и распространяющееся в пространстве электромагнитное поле со скоростью 3*10</a:t>
            </a:r>
            <a:r>
              <a:rPr b="1" i="1" lang="en-US" sz="3200" spc="-1" strike="noStrike" u="sng" baseline="30000">
                <a:solidFill>
                  <a:srgbClr val="333399"/>
                </a:solidFill>
                <a:uFillTx/>
                <a:latin typeface="Arial"/>
              </a:rPr>
              <a:t>8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м/с образует электромагнитную вол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333360"/>
            <a:ext cx="856908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ериа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лектромагнитной вол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01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Можно зарегистриров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Существует независимо от нашей воли и жел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Имеет большую, но конечную скор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Электромагнитное поле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характеризу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вумя векто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напряженностью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и индукцией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В общем случае переменного поля оба вектора не равны нулю и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изменяются одновремен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333360"/>
            <a:ext cx="856908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свободном пространстве переменное электромагнитное поле распространяется в виде электромагнитной волны, у которой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векторы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Е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 В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перпендикулярны друг друг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лежат в плоскости перпендикулярной направлению распространения волн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Свет – электромагнитная волн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87280" y="90792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33360"/>
            <a:ext cx="8569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вободном пространстве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электромагнитная волна является поперечно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е скорости электромагнитной волны совпадает с направлением движения правого винта при повороте ручки буравчика векто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 вектор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Е = с*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3267360" cy="2557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5300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чения вектор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падают по фаз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Главное условие возникновения электромагнитной волны –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ускоренное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движение электрических заря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1280" y="907920"/>
            <a:ext cx="7632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88 г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. Герц доказал существование электромагнитных вол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860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404640"/>
            <a:ext cx="81374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Какая величина служит количественной характеристикой магнитного пол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В каком случае магнитное поле называется однородным, а в каком неоднородны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Что понимают под магнитным потоко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чего он зависи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404640"/>
            <a:ext cx="84978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Какой ток называют индукционны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При каком условии в катушке, замкнутой на  миллиамперметр, возникал индукционный то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В чем заключается явление электромагнитной индукци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33360"/>
            <a:ext cx="878508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Динамическая теория электромагнитного по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. Максвел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1865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333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04640"/>
            <a:ext cx="82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о теории Максвелл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еременные электрические и магнитные поля не могут существовать по отдельност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меняющееся магнитное поле порождает электрическое поле, а изменяющееся электрическое поле порождает магнитное п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628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еменное электрическое поле называется вихревым – силовые линии замкнуты подобно линиям индукции магнитного по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862280"/>
            <a:ext cx="8642160" cy="4057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42920" y="40464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ременное магнитное по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здает вихревое электрическо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920000" cy="3743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40464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ременное электрическое по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здает вихревое магнитно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03640" y="4365720"/>
            <a:ext cx="2210040" cy="1990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333360"/>
            <a:ext cx="8351640" cy="45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лектромагнитное поле – это особая форма материи, совокупность электрических и магнитных по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еременные электрические и магнитные поля существуют одновременно и образуют единое электромагнитное п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При скорости заряда, равной нулю, существует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 только электрическое по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7:50:43Z</dcterms:created>
  <dc:creator>Andrey</dc:creator>
  <dc:description/>
  <dc:language>en-US</dc:language>
  <cp:lastModifiedBy>alena</cp:lastModifiedBy>
  <dcterms:modified xsi:type="dcterms:W3CDTF">2010-04-04T14:56:55Z</dcterms:modified>
  <cp:revision>54</cp:revision>
  <dc:subject/>
  <dc:title>Слайд 1</dc:title>
</cp:coreProperties>
</file>