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5CF-ADA6-4C55-9E30-52A4EB86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ECF-F180-4A0D-A030-C97E3E1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073-FF9C-4F1B-BCB7-F3BB87E5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AE9-54EE-4400-A747-87B43455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955-5249-4198-AA5E-4D283B35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026-C4BD-48A5-A7AF-DF33312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EEA-FA09-481E-A8DA-BFE1A401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209-4ECC-4005-A581-DDC771DF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DB5-F2C2-4D16-A659-556694B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A3E-8CF1-44B5-87B8-10C31CE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1EE-03BD-4258-82D1-E680EA1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3D9-34E6-4895-A11D-BDA9CD6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6564-0967-44E2-9874-C244F1EBD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1480" y="333360"/>
            <a:ext cx="864252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Электромагнитное пол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Электромагнитные вол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229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. З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549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При постоянной скорости заряда возникает постоянное электрическое и постоянное магнитное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3114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54936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шите механизм возникновения индукционного тока, опираясь на знание о существование электромагнитн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616720" cy="3686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3336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и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ускоренном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движении заряда возникает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электромагнитное поле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 и происходит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злучение электромагнитной волны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, которая распространяется в пространстве с конеч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3284640"/>
            <a:ext cx="4481280" cy="327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549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33360"/>
            <a:ext cx="8280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о гипотезе Максвелла однажды начавшийся в некоторой точке процесс изменения электромагнитного поля будет далее непрерывно захватывать все новые и новые области окружающего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3587760"/>
            <a:ext cx="4481640" cy="327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333360"/>
            <a:ext cx="8569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Изменяющееся во времени и распространяющееся в пространстве электромагнитное поле со скоростью 3*10</a:t>
            </a:r>
            <a:r>
              <a:rPr b="1" i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/с образует электромагнитную вол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56908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риа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лектромагнитной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Можно зарегистриров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Существует независимо от нашей воли и жел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Имеет большую, но конечную скор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лектромагнитное поле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характеризу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умя ве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напряженностью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и индукцией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 общем случае переменного поля оба вектора не равны нулю и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изменяются одновремен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333360"/>
            <a:ext cx="8569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свободном пространстве переменное электромагнитное поле распространяется в виде электромагнитной волны, у которой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векторы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Е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перпендикулярны друг друг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лежат в плоскости перпендикулярной направлению распространения волн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Свет – электромагнитная вол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87280" y="90792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33360"/>
            <a:ext cx="856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ободном пространстве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электромагнитная волна является поперечно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е скорости электромагнитной волны совпадает с направлением движения правого винта при повороте ручки буравчика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вектор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Е = с*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267360" cy="255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300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я вектор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падают по фа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Главное условие возникновения электромагнитной волны –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ускоренное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движение электрических зар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90792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88 г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. Герц доказал существование электромагнитных вол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860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8137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Какая величина служит количественной характеристикой магнитного пол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В каком случае магнитное поле называется однородным, а в каком неоднородны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Что понимают под магнитным потоко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чего он зависи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04640"/>
            <a:ext cx="8497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Какой ток называют индукционны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ри каком условии в катушке, замкнутой на  миллиамперметр, возникал индукционный то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В чем заключается явление электромагнитной индук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33360"/>
            <a:ext cx="87850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Динамическая теория электромагнитного по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. Максве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1865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33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464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теории Максвел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еременные электрические и магнитные поля не могут существовать по отдельно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яющееся магнитное поле порождает электрическое поле, а изменяющееся электрическое поле порождает магнитное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628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менное электрическое поле называется вихревым – силовые линии замкнуты подобно линиям индукции магнитного по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62280"/>
            <a:ext cx="8642160" cy="405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404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менное магнитное п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ет вихревое электрическ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920000" cy="37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404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менное электрическое п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ет вихревое магнитн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2210040" cy="199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333360"/>
            <a:ext cx="835164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лектромагнитное поле – это особая форма материи, совокупность электрических и магнитных п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еременные электрические и магнитные поля существуют одновременно и образуют единое электромагнитное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При скорости заряда, равной нулю, существует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 только электрическое п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50:43Z</dcterms:created>
  <dc:creator>Andrey</dc:creator>
  <dc:description/>
  <dc:language>en-US</dc:language>
  <cp:lastModifiedBy>alena</cp:lastModifiedBy>
  <dcterms:modified xsi:type="dcterms:W3CDTF">2010-04-04T14:56:55Z</dcterms:modified>
  <cp:revision>54</cp:revision>
  <dc:subject/>
  <dc:title>Слайд 1</dc:title>
</cp:coreProperties>
</file>