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0D8-06AC-4932-8F15-A0CC17EC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48F-D591-4CA9-8657-9ABD3C43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1B7-2C7B-4A49-B64D-F1B0C7F8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885-4B5B-449B-998A-83B43D29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4AC-E9FD-4D9C-862C-ABBA87C4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779-7AA8-45C9-BDE1-C365E846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8BC5-2BB0-4571-87F5-364820F4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2D5F-F793-43F7-A5C5-A7CF186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3A51-D7A2-4AF8-B9BC-BBD42E8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5077-9FAC-43C6-B179-5680CAB2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155B-15CF-4301-B3B3-7D9496A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507-0AB9-4DAE-AB5F-8A402FAF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089D-0047-4EF8-8AE7-0C33C05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F855-0E41-4C34-B1CE-C9DAEA6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3D75-8A72-464A-B644-9FE2CA47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FE59-3391-4A49-9458-DCC76EE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353-34CC-47D8-B3C9-86444347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FAB-0C0A-47FB-9515-6C1ABCFD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69B-9DD6-44F7-9DBB-CDCD2333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1C4-8302-4EBA-B126-FC822B6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B31-8932-4249-B627-905520F3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812-5FE6-4634-A8BE-8D5EEF8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2C1-2172-4B2F-ACC1-01CCC5AA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71A-7204-445A-B11A-9177940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7F1-3DE7-49BC-AE38-DC52E9CE2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6E85-1983-4AE6-A876-047A4EE25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рашение пасхальных яиц. Старинный бабушкин способ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ая обработка матери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технолог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зубцева Елена Валер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«Дороховская СОШ» Рузский рай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3881520" cy="26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Писан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9240" y="1600200"/>
            <a:ext cx="27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48080" cy="252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258920" y="3933720"/>
            <a:ext cx="288144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3289320" cy="24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Луковая шелуха. 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Старинный «бабушкин» способ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651040"/>
            <a:ext cx="3771720" cy="3586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16360" y="2651040"/>
            <a:ext cx="395928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струменты и материал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стрю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проновый чу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уковая ше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истья петрушки и укро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йца кури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итки, нож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солнечное мас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ред началом рабо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йца помыть теплой водой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уковую шелуху промыть холодной водой и положить в кастрюл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ть яйца для окраши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следовательность выполнения работы:</a:t>
            </a:r>
            <a:br>
              <a:rPr sz="28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Капроновый чулок разрезают на небольшие широкие ленты, чтобы покрыть яйцо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На яйцо накладывают листик петрушки или укроп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481800" cy="475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Яйцо с листиком покрывают капроновой лентой, тем самым фиксируя листик на поверхности яйц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189840" cy="464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онцы  ленты скручивают и завязывают ниткой, чтобы лента плотно прилегала к яйцу 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188040" cy="464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олучается заготовка « яичко в мешочке»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259160" cy="3751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ленные яйца укладывают в кастрюлю с луковой шелухой, заливают холодной водой и ставят на огонь. Варят яйца 7-10 минут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товые яйца вынимают из кастрю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езают ножницами хвостики ленты и смывают листочки холодной вод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1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095880" cy="4048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. По преданию, первое пасхальное яйцо святая  Мария Магдалина преподнесла римскому императору Тиберию. Вскоре по вознесению Христа Спасителя на небо Мария Магдалина явилась для Евангельской проповеди в Рим. В те времена было принято, приходя к императору, подносить ему подарки. Состоятельные приносили драгоценности, а бедные люди то, что могли. Поэтому Мария Магдалина, не имевшая ничего, кроме веры в Иисуса, протянула императору Тиберию куриное яйцо с возгласом: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"Христос Воскресе!"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осле варки в шелухе яйцо окрашивается в коричневый цвет, а от листочка остается светлый отпечаток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Таким способом яйца получаются и красивые, и вареные, а самое главное экологически чистые!!!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придания блеска, яйца смазывают тряпочкой пропитанной  подсолнечным масл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т способ окрашивания яиц очень быстрый и не требует больших затра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ПРОБУЙТЕ САМИ, ЭТО ОЧЕНЬ ИНТЕРЕСНО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07040" y="1413000"/>
            <a:ext cx="3036960" cy="2376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33828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ятного аппетита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06560" y="1600200"/>
            <a:ext cx="713088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ec94"/>
                </a:solidFill>
                <a:latin typeface="Times New Roman"/>
              </a:rPr>
              <a:t>Император, усомнившись в сказанном, заметил, что никто не может воскреснуть из мертвых и в это так же трудно поверить, как в то, что белое яйцо может стать красным. Тиберий не успел договорить эти слова, как яйцо стало превращаться из белого в ярко-красное, подтверждая её благую весть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75308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ec94"/>
                </a:solidFill>
                <a:latin typeface="Times New Roman"/>
              </a:rPr>
              <a:t>Празднование Пасхи на Руси было введено в конце Х века. Православная Пасха отмечается у нас в первый воскресный день, следующий за весенним равноденствием и мартовским полнолунием. Пасха на Руси сопровождалась и обрядами, пришедшими из языческих времен, но теперь освященными Светом Христовым. Это - освящение куличей, изготовление сырной массы, крашение яиц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2592360" cy="247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047760" cy="223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2990880" cy="2332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особы окрашивания я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ветные ни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скутки ше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ше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апа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са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уковая ше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Цветные нитки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Яйца обмотать нитками и варить как обычно. В результате получите интересные цветные разводы. Поскольку оценить безопасность красителей невозможно – следите за тем, чтобы яйца не треснули во время варки. Треснувшие в пищу лучше не употребл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31928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Лоскутки шелка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3941640"/>
            <a:ext cx="3467160" cy="2583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варите яйца в воде с добавлением соды. Оберните их в разноцветные шелковые лоскутки, перевяжите ниткой. Снова прокипятите яйца в той же воде. Остудите и снимите лоскутк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Крашен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амый простой способ - купить специальные красители и использовать их согласно инструкции на упаковке. Здесь можно только добавить, что после окраски яйца можно для придания блеска натереть тряпочкой, смоченной в растительном масле. Перед натиранием яйца надо насухо вытере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38720" y="40831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eec94"/>
                </a:solidFill>
                <a:latin typeface="Times New Roman"/>
              </a:rPr>
              <a:t>Драпан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драпанки лучше брать яйца коричневого оттенка. Скорлупа таких яиц прочнее, чем бел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начала яйца варят, затем красят в какой-нибудь цвет потемнее, потом сушат. Узор наносят на скорлупу острым предметом - ножом, шилом, ножницами, толстой иглой. Но прежде, чем выцарапать узор, его необходимо нанести на яйцо карандаш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журный рисунок на драпанке хорошо смотрится на коричневой или другой темной краск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097440" cy="244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324180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7:28:10Z</dcterms:created>
  <dc:creator>UserXP</dc:creator>
  <dc:description/>
  <dc:language>en-US</dc:language>
  <cp:lastModifiedBy>UserXP</cp:lastModifiedBy>
  <dcterms:modified xsi:type="dcterms:W3CDTF">2012-01-25T18:39:43Z</dcterms:modified>
  <cp:revision>4</cp:revision>
  <dc:subject/>
  <dc:title>Слайд 1</dc:title>
</cp:coreProperties>
</file>