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12B-B5E3-40F8-B7BC-619579D9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2DE-6128-4064-81A2-FE92FCE3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AFC-5FF2-4A22-B6EF-C07BE948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880-2EA4-47CC-ADD5-F43BFAFA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D158-47E4-4443-87E0-FC20F31D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5C4A-BF42-4D39-A306-DDFB6750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6923-3E1B-4563-99DA-586D43B9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3D24-5940-483B-B5FD-CE20C032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AA11-2335-478C-87AF-99378BD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4158-47B2-4762-8C5E-DC29171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D18D-4C0E-4F6D-8BB0-F1BD6BF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426-7E87-4CAB-B3E1-C5AE04CB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B1A-A2C2-4FAA-A160-028EDAAD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D90-CD07-40E0-84F4-E428DAB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024D-587B-48CB-98D7-5EA97458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B3FC-A910-48C5-B743-3D5FEDE3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E572-70CD-4AE1-BE5B-4B580E4A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5EB-4902-444F-AEAA-8A0536D9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6E8-93A8-4CAC-913C-6C183FD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FBD-D67C-4111-B176-0552C687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7F9-925D-4DB3-9367-618CAA41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7AF-908D-4FC8-9F08-1B204B5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F65-D9A5-4679-90D7-1EA0E3B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046-AD0C-4823-B9C6-FFAE4F7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B4FB-D73A-4956-ABA7-62537D7F4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1D56-B91A-43A3-84ED-A353A9A90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рашение пасхальных яиц. Старинный бабушкин способ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ая обработка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технолог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зубцева Елена Валер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«Дороховская СОШ» Рузский рай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3881520" cy="26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Писан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9240" y="1600200"/>
            <a:ext cx="27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48080" cy="252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288144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3289320" cy="24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Луковая шелуха. 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Старинный «бабушкин» спосо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651040"/>
            <a:ext cx="3771720" cy="358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16360" y="2651040"/>
            <a:ext cx="395928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и материал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стрю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проновый чу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уковая ше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истья петрушки и укро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йца кури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итки, нож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солнечное мас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ред началом рабо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йца помыть теплой водой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уковую шелуху промыть холодной водой и положить в кастрю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ь яйца для окраши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следовательность выполнения работы:</a:t>
            </a:r>
            <a:br>
              <a:rPr sz="28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Капроновый чулок разрезают на небольшие широкие ленты, чтобы покрыть яйц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На яйцо накладывают листик петрушки или укроп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481800" cy="47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Яйцо с листиком покрывают капроновой лентой, тем самым фиксируя листик на поверхности яйц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189840" cy="46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онцы  ленты скручивают и завязывают ниткой, чтобы лента плотно прилегала к яйцу 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188040" cy="464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лучается заготовка « яичко в мешочке»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259160" cy="3751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ленные яйца укладывают в кастрюлю с луковой шелухой, заливают холодной водой и ставят на огонь. Варят яйца 7-10 минут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товые яйца вынимают из кастрю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езают ножницами хвостики ленты и смывают листочки холодной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095880" cy="4048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. По преданию, первое пасхальное яйцо святая  Мария Магдалина преподнесла римскому императору Тиберию. Вскоре по вознесению Христа Спасителя на небо Мария Магдалина явилась для Евангельской проповеди в Рим. В те времена было принято, приходя к императору, подносить ему подарки. Состоятельные приносили драгоценности, а бедные люди то, что могли. Поэтому Мария Магдалина, не имевшая ничего, кроме веры в Иисуса, протянула императору Тиберию куриное яйцо с возгласом: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"Христос Воскресе!"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сле варки в шелухе яйцо окрашивается в коричневый цвет, а от листочка остается светлый отпечаток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аким способом яйца получаются и красивые, и вареные, а самое главное экологически чистые!!!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придания блеска, яйца смазывают тряпочкой пропитанной  подсолнечным масл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т способ окрашивания яиц очень быстрый и не требует больших затра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ПРОБУЙТЕ САМИ, ЭТО ОЧЕНЬ ИНТЕРЕСНО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07040" y="1413000"/>
            <a:ext cx="3036960" cy="237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33828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ятного аппетита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06560" y="1600200"/>
            <a:ext cx="71308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ec94"/>
                </a:solidFill>
                <a:latin typeface="Times New Roman"/>
              </a:rPr>
              <a:t>Император, усомнившись в сказанном, заметил, что никто не может воскреснуть из мертвых и в это так же трудно поверить, как в то, что белое яйцо может стать красным. Тиберий не успел договорить эти слова, как яйцо стало превращаться из белого в ярко-красное, подтверждая её благую весть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ec94"/>
                </a:solidFill>
                <a:latin typeface="Times New Roman"/>
              </a:rPr>
              <a:t>Празднование Пасхи на Руси было введено в конце Х века. Православная Пасха отмечается у нас в первый воскресный день, следующий за весенним равноденствием и мартовским полнолунием. Пасха на Руси сопровождалась и обрядами, пришедшими из языческих времен, но теперь освященными Светом Христовым. Это - освящение куличей, изготовление сырной массы, крашение яиц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259236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047760" cy="223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2990880" cy="2332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особы окрашивания я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ные ни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скутки ше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ше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апа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са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уковая ше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Цветные нитки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Яйца обмотать нитками и варить как обычно. В результате получите интересные цветные разводы. Поскольку оценить безопасность красителей невозможно – следите за тем, чтобы яйца не треснули во время варки. Треснувшие в пищу лучше не употребл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31928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Лоскутки шелка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3941640"/>
            <a:ext cx="3467160" cy="2583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варите яйца в воде с добавлением соды. Оберните их в разноцветные шелковые лоскутки, перевяжите ниткой. Снова прокипятите яйца в той же воде. Остудите и снимите лоскут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Крашен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амый простой способ - купить специальные красители и использовать их согласно инструкции на упаковке. Здесь можно только добавить, что после окраски яйца можно для придания блеска натереть тряпочкой, смоченной в растительном масле. Перед натиранием яйца надо насухо вытере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38720" y="40831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Драпан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драпанки лучше брать яйца коричневого оттенка. Скорлупа таких яиц прочнее, чем бел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начала яйца варят, затем красят в какой-нибудь цвет потемнее, потом сушат. Узор наносят на скорлупу острым предметом - ножом, шилом, ножницами, толстой иглой. Но прежде, чем выцарапать узор, его необходимо нанести на яйцо карандаш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журный рисунок на драпанке хорошо смотрится на коричневой или другой темной краск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097440" cy="244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32418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7:28:10Z</dcterms:created>
  <dc:creator>UserXP</dc:creator>
  <dc:description/>
  <dc:language>en-US</dc:language>
  <cp:lastModifiedBy>UserXP</cp:lastModifiedBy>
  <dcterms:modified xsi:type="dcterms:W3CDTF">2012-01-25T18:39:43Z</dcterms:modified>
  <cp:revision>4</cp:revision>
  <dc:subject/>
  <dc:title>Слайд 1</dc:title>
</cp:coreProperties>
</file>