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26B-772F-4F2C-9E2A-389BC4EB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397-3298-4A28-B3A9-869249DD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DBE-1F97-4362-AADE-28F8E0DD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824-A8BF-435A-849B-E3150D1A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BCE8-FD91-48D9-8B1E-D4F7AA63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10C7-F5E8-407E-B9F3-1F51D257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6165-EED4-4A95-82D6-745BF6E5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B6DD-C39E-4D02-89A6-D50B5530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3AB2-D866-4838-8C79-FFACF28D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85A7-E638-4F00-9F6A-EA2F735F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1023-F6EF-4CA1-8118-5C3DDA6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76F-95A1-433A-885A-B251BC39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45C5-E5F4-4ECA-9542-87C11DC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5C45-E6EC-47E1-B7B6-EA1535B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23FF-8B1E-4B45-AB66-A3AC5C43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47FB-8BC2-4B2D-AD75-FE4E1958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81D4-2EC8-4B0F-94FC-C0CE56BC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30F-0DBB-43EA-83A5-85415736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C16-046B-409D-BA12-EB99FE54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072-5EC8-419A-82AA-7A1611FE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BB2-72E1-424F-8A46-FE267C61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566-9CF6-4765-BB8C-3A64C0B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D8E-7141-4225-A789-6111D141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07B-7770-49CB-9034-C6214230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0857-3C52-430B-AA51-DBE7CEA51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8F69-5F73-40E6-B532-8ED10A4D2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рашение пасхальных яиц. Старинный бабушкин способ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ая обработка матери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технолог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зубцева Елена Валер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«Дороховская СОШ» Рузский рай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22480" y="1600200"/>
            <a:ext cx="3881520" cy="2692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Писанк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19240" y="1600200"/>
            <a:ext cx="271440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48080" cy="252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258920" y="3933720"/>
            <a:ext cx="288144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859280" y="4005360"/>
            <a:ext cx="3289320" cy="2476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Луковая шелуха. </a:t>
            </a:r>
            <a:br>
              <a:rPr sz="4000"/>
            </a:b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Старинный «бабушкин» способ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2651040"/>
            <a:ext cx="3771720" cy="3586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16360" y="2651040"/>
            <a:ext cx="395928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струменты и материал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стрю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проновый чу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уковая шелух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истья петрушки и укро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йца кури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итки, ножни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солнечное мас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ред началом работ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Яйца помыть теплой водой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уковую шелуху промыть холодной водой и положить в кастрюл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готовить яйца для окраши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следовательность выполнения работы:</a:t>
            </a:r>
            <a:br>
              <a:rPr sz="28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Капроновый чулок разрезают на небольшие широкие ленты, чтобы покрыть яйцо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На яйцо накладывают листик петрушки или укроп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481800" cy="475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Яйцо с листиком покрывают капроновой лентой, тем самым фиксируя листик на поверхности яйц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189840" cy="464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онцы  ленты скручивают и завязывают ниткой, чтобы лента плотно прилегала к яйцу 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188040" cy="464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олучается заготовка « яичко в мешочке»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4259160" cy="3751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ленные яйца укладывают в кастрюлю с луковой шелухой, заливают холодной водой и ставят на огонь. Варят яйца 7-10 минут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товые яйца вынимают из кастрю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езают ножницами хвостики ленты и смывают листочки холодной вод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1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6095880" cy="4048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. По преданию, первое пасхальное яйцо святая  Мария Магдалина преподнесла римскому императору Тиберию. Вскоре по вознесению Христа Спасителя на небо Мария Магдалина явилась для Евангельской проповеди в Рим. В те времена было принято, приходя к императору, подносить ему подарки. Состоятельные приносили драгоценности, а бедные люди то, что могли. Поэтому Мария Магдалина, не имевшая ничего, кроме веры в Иисуса, протянула императору Тиберию куриное яйцо с возгласом: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"Христос Воскресе!"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После варки в шелухе яйцо окрашивается в коричневый цвет, а от листочка остается светлый отпечаток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Таким способом яйца получаются и красивые, и вареные, а самое главное экологически чистые!!!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придания блеска, яйца смазывают тряпочкой пропитанной  подсолнечным масл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тот способ окрашивания яиц очень быстрый и не требует больших затра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ПРОБУЙТЕ САМИ, ЭТО ОЧЕНЬ ИНТЕРЕСНО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07040" y="1413000"/>
            <a:ext cx="3036960" cy="2376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88000" y="4005360"/>
            <a:ext cx="333828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ятного аппетита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06560" y="1600200"/>
            <a:ext cx="713088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eec94"/>
                </a:solidFill>
                <a:latin typeface="Times New Roman"/>
              </a:rPr>
              <a:t>Император, усомнившись в сказанном, заметил, что никто не может воскреснуть из мертвых и в это так же трудно поверить, как в то, что белое яйцо может стать красным. Тиберий не успел договорить эти слова, как яйцо стало превращаться из белого в ярко-красное, подтверждая её благую весть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75308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ec94"/>
                </a:solidFill>
                <a:latin typeface="Times New Roman"/>
              </a:rPr>
              <a:t>Празднование Пасхи на Руси было введено в конце Х века. Православная Пасха отмечается у нас в первый воскресный день, следующий за весенним равноденствием и мартовским полнолунием. Пасха на Руси сопровождалась и обрядами, пришедшими из языческих времен, но теперь освященными Светом Христовым. Это - освящение куличей, изготовление сырной массы, крашение яиц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2592360" cy="247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047760" cy="2233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2990880" cy="2332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особы окрашивания я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ветные ни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оскутки ше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шен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апан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сан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уковая шелух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Цветные нитки.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Яйца обмотать нитками и варить как обычно. В результате получите интересные цветные разводы. Поскольку оценить безопасность красителей невозможно – следите за тем, чтобы яйца не треснули во время варки. Треснувшие в пищу лучше не употребля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31928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Лоскутки шелка.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8360" y="3941640"/>
            <a:ext cx="3467160" cy="2583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варите яйца в воде с добавлением соды. Оберните их в разноцветные шелковые лоскутки, перевяжите ниткой. Снова прокипятите яйца в той же воде. Остудите и снимите лоскутк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240000" cy="259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Крашенк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амый простой способ - купить специальные красители и использовать их согласно инструкции на упаковке. Здесь можно только добавить, что после окраски яйца можно для придания блеска натереть тряпочкой, смоченной в растительном масле. Перед натиранием яйца надо насухо вытере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38720" y="408312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eec94"/>
                </a:solidFill>
                <a:latin typeface="Times New Roman"/>
              </a:rPr>
              <a:t>Драпан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ля драпанки лучше брать яйца коричневого оттенка. Скорлупа таких яиц прочнее, чем белы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начала яйца варят, затем красят в какой-нибудь цвет потемнее, потом сушат. Узор наносят на скорлупу острым предметом - ножом, шилом, ножницами, толстой иглой. Но прежде, чем выцарапать узор, его необходимо нанести на яйцо карандаш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Ажурный рисунок на драпанке хорошо смотрится на коричневой или другой темной краске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3097440" cy="244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324180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17:28:10Z</dcterms:created>
  <dc:creator>UserXP</dc:creator>
  <dc:description/>
  <dc:language>en-US</dc:language>
  <cp:lastModifiedBy>UserXP</cp:lastModifiedBy>
  <dcterms:modified xsi:type="dcterms:W3CDTF">2012-01-25T18:39:43Z</dcterms:modified>
  <cp:revision>4</cp:revision>
  <dc:subject/>
  <dc:title>Слайд 1</dc:title>
</cp:coreProperties>
</file>