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27.jpeg" ContentType="image/jpeg"/>
  <Override PartName="/ppt/media/image33.jpeg" ContentType="image/jpeg"/>
  <Override PartName="/ppt/media/image13.png" ContentType="image/png"/>
  <Override PartName="/ppt/media/image3.png" ContentType="image/png"/>
  <Override PartName="/ppt/media/image5.jpeg" ContentType="image/jpeg"/>
  <Override PartName="/ppt/media/image11.wmf" ContentType="image/x-wmf"/>
  <Override PartName="/ppt/media/image9.jpeg" ContentType="image/jpeg"/>
  <Override PartName="/ppt/media/image30.jpeg" ContentType="image/jpeg"/>
  <Override PartName="/ppt/media/image15.png" ContentType="image/png"/>
  <Override PartName="/ppt/media/image6.jpeg" ContentType="image/jpeg"/>
  <Override PartName="/ppt/media/image18.png" ContentType="image/png"/>
  <Override PartName="/ppt/media/image34.jpeg" ContentType="image/jpeg"/>
  <Override PartName="/ppt/media/image31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0CF-3ECE-419D-A81E-50B79562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AB5-A802-4DDB-9D24-73BB525B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75F-947D-4F9F-BAA0-7DFD78AD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D49-DD78-418C-8975-CAD59BF7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31D-F58A-4EF3-994F-D043FD86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A9A-76AA-407B-8B01-2C1022C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A7A-560F-4F6E-A344-F96178F5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BF5-EBC3-4B70-80FA-129EC69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636-D20D-4B50-BA1A-8B7FA932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FA7-7489-44DF-A0C9-613E1A0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3FC-08E8-47C3-8112-3EE8E93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FDE-3954-4CA8-9B56-D8AB182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3D87-1D81-46E7-9BE4-70B259D8C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8224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ЛЕГИЯ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ДМИНИСТРАЦИИ НЕВСКОГО РАЙОНА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66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 ноября 200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304920"/>
            <a:ext cx="449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Администрация Нев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Отдел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05120"/>
            <a:ext cx="426744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курсе на получение денежного поощрения лучших учителей приняли участие 28 педагогов из 25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038480"/>
            <a:ext cx="4267440" cy="152280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онной конкурсной комиссией рассмотрены документы 16 педагог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9 классных руководителей на присуждение премии в 20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410080"/>
            <a:ext cx="4267440" cy="119124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онной конкурсной комиссией рассмотрены документы 12 воспитателей на присуждение премии в 20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9051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54100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0384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905120"/>
            <a:ext cx="335268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12 педагогов обще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4038480"/>
            <a:ext cx="3352680" cy="119124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учителя ГОУ №№ 326, 571, 689, 591 и классные руководители ГОУ №№ 331, 347, 350, 6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410080"/>
            <a:ext cx="3352680" cy="64260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ели – 5 педагогов ГДОУ №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 27, 68, 120, 1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971800"/>
            <a:ext cx="426744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нкурсе на лучшего руководителя образовательного учреждения приняли участие 3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29718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971800"/>
            <a:ext cx="3352680" cy="916920"/>
          </a:xfrm>
          <a:prstGeom prst="rect">
            <a:avLst/>
          </a:prstGeom>
          <a:solidFill>
            <a:srgbClr val="ffd3a7"/>
          </a:solidFill>
          <a:ln w="0">
            <a:noFill/>
          </a:ln>
          <a:effectLst>
            <a:outerShdw dist="53966" dir="2700000" blurRad="0" rotWithShape="0">
              <a:srgbClr val="bc5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едитель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оренкова Людмила Александров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ОУ №3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2617920"/>
          <a:ext cx="7619760" cy="424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617920"/>
                    <a:ext cx="761976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стие в конкурсных отборах ПНПО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5146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7432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онкурентоспособ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14600" y="106668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bc5e00">
                      <a:alpha val="80000"/>
                    </a:srgbClr>
                  </a:outerShdw>
                </a:effectLst>
                <a:latin typeface="Arial"/>
              </a:rPr>
              <a:t>Новая школ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bc5e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5146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86400" y="27432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омфортная и безопас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312408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45720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открытая к внешней сред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343400"/>
            <a:ext cx="312444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7800" y="480060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нновационна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733560" y="1828800"/>
            <a:ext cx="685800" cy="68580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828800"/>
            <a:ext cx="685800" cy="68580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91120" y="1828800"/>
            <a:ext cx="304560" cy="24382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828800"/>
            <a:ext cx="457200" cy="24382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правления инновацион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управлении образовательным учреждением (в области маркетинга, менеджмента, создания автономных учреждений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психолого-педагогическом сопровождении учебно-воспитательного процесс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нновации в использовании информационных систем в работе с родительской общественност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0" r="0" b="5264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4957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95480" y="2428920"/>
            <a:ext cx="601992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9524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0" r="0" b="6523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5791320" cy="4392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45514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6858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циально-методическая сеть для объединения социальных, культурных и образовательных ресурсов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362320" y="1523880"/>
            <a:ext cx="4495680" cy="39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bc5e00"/>
                    </a:gs>
                    <a:gs pos="100000">
                      <a:srgbClr val="99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BEREGA.SPB.R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50000">
                    <a:srgbClr val="bc5e00"/>
                  </a:gs>
                  <a:gs pos="100000">
                    <a:srgbClr val="99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172200" cy="434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дель Нов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ь Новой школы должна соответствовать целям опережающего развития общества и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657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2120" y="3886200"/>
            <a:ext cx="1604880" cy="947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Школа сегодн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3657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77120" y="3886200"/>
            <a:ext cx="1604880" cy="947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Школа завтра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429000"/>
            <a:ext cx="3581640" cy="1828800"/>
          </a:xfrm>
          <a:custGeom>
            <a:avLst/>
            <a:gdLst>
              <a:gd name="textAreaLeft" fmla="*/ 559440 w 3581640"/>
              <a:gd name="textAreaRight" fmla="*/ 3134160 w 358164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c5e00"/>
          </a:solidFill>
          <a:ln w="0">
            <a:noFill/>
          </a:ln>
          <a:effectLst>
            <a:outerShdw dist="53966" dir="2700000" blurRad="0" rotWithShape="0">
              <a:srgbClr val="703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4038480"/>
            <a:ext cx="2514600" cy="567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Проектное управлени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213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5486400" cy="41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ащение сферы образования современными средствами информационно-коммуникационных техноло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мпьютерных классов увеличилось до 125 (2 218 компьютеров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осла доля вычислительной техники, соответствующей современным требовани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оснащение образовательных учреждений интерактивными досками и  мультимедийными  устано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доступа обучающихся и педагогов к информационным образовательным ресурс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о компьютеров в общеобразовательных учреждениях доведено до соотношения – 1 компьютер на 6,8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образовательных учреждений имеют доступ к ресурсам сети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профессиональной квалификации педагогических работников в области информационно-коммуникационных технолог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9 году на базе НМЦ Невского рай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8 работников образовательных учреждений  прошли обучение по программе «Компьютерная грамотность и основы телекоммуникационного обмен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 – по программе «Проектирование мультимеди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 –  по программе «Использование Интернет-технологий в учебно-воспитательном процесс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3353040" cy="226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320040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95680" y="793800"/>
            <a:ext cx="3276720" cy="243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715000" y="277344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09480" y="3886200"/>
            <a:ext cx="3048120" cy="2160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3505320" y="4262400"/>
            <a:ext cx="3429000" cy="236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3048120" cy="24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3291120" cy="24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191120" y="609480"/>
            <a:ext cx="3352680" cy="23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410080" y="2743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3200400" cy="22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5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8229600" cy="4475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ная задача образовательной системы Нев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752480"/>
            <a:ext cx="3657600" cy="129564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0512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зменение 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содержания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3880" y="6858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latin typeface="Arial"/>
              </a:rPr>
              <a:t>Развитие системы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752480"/>
            <a:ext cx="3657600" cy="129564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105520" y="1905120"/>
            <a:ext cx="335268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активизация деятельности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детских общественных объединений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800600"/>
            <a:ext cx="373392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49528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повышени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статуса учител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480060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81480" y="4952880"/>
            <a:ext cx="320040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качественное изменение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инфраструктуры образования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327672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d3a7"/>
          </a:solidFill>
          <a:ln w="0">
            <a:noFill/>
          </a:ln>
          <a:effectLst>
            <a:outerShdw dist="153753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3429000"/>
            <a:ext cx="32004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повышение культуры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1096358" blurRad="0" rotWithShape="0">
                    <a:srgbClr val="ffcc99">
                      <a:alpha val="80000"/>
                    </a:srgbClr>
                  </a:outerShdw>
                </a:effectLst>
                <a:latin typeface="Arial"/>
              </a:rPr>
              <a:t>управления системой</a:t>
            </a:r>
            <a:endParaRPr b="0" lang="en-US" sz="1800" spc="1" strike="noStrike">
              <a:ln w="0">
                <a:noFill/>
              </a:ln>
              <a:solidFill>
                <a:srgbClr val="990000"/>
              </a:solidFill>
              <a:effectLst>
                <a:outerShdw dist="40186" dir="1096358" blurRad="0" rotWithShape="0">
                  <a:srgbClr val="ffcc99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6172200" cy="209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276720" cy="218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4434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809880" y="2362320"/>
            <a:ext cx="3281400" cy="221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2319120" cy="304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66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934320" y="2819520"/>
            <a:ext cx="2062080" cy="3733560"/>
          </a:xfrm>
          <a:prstGeom prst="rect">
            <a:avLst/>
          </a:prstGeom>
          <a:ln w="9360">
            <a:solidFill>
              <a:srgbClr val="ffd3a7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оритетный национальный проект «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едер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образовательных учреждений, активно внедряющих инновационные образовательны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лучших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ые выплаты за классное рук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ка талантливой молоде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ершенствование питания в государственных образовательных учрежд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ключение всех образовательных учреждений к глобальной сети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ащение школ современным учебным оборуд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оритетный национальный проект «Образов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гиональный уровен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учитель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классный руководитель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воспитатель дошкольного образовательного учреждения Санкт-Петербур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урс на присуждение премии Правительства Санкт-Петербурга «Лучший руководитель образовательного учрежд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уждение премии Губернатора педагогам системы образования, подготовившим учеников – победителей международных и всероссийских олимпи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47920" y="2057400"/>
          <a:ext cx="6400800" cy="413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057400"/>
                    <a:ext cx="64008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8380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ализация приоритетного национального проекта «Образ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19320" y="2057400"/>
          <a:ext cx="6705360" cy="4416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57400"/>
                    <a:ext cx="67053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a</cp:lastModifiedBy>
  <dcterms:modified xsi:type="dcterms:W3CDTF">2009-11-11T20:07:05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