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27.jpeg" ContentType="image/jpeg"/>
  <Override PartName="/ppt/media/image33.jpeg" ContentType="image/jpeg"/>
  <Override PartName="/ppt/media/image1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9.jpeg" ContentType="image/jpeg"/>
  <Override PartName="/ppt/media/image30.jpeg" ContentType="image/jpeg"/>
  <Override PartName="/ppt/media/image15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20A-B15E-43E0-84AD-B45BD621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5E2-C42C-4A52-966D-17B0610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035-A6A0-4CF5-9F7C-D962935D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1D8-41AB-47D6-91A6-B694100F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334-C56B-423A-ACFD-4BCBC4A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0DA-5531-45D1-B86E-A6FBA816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278-EBD2-49C9-8E76-8B849209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D67-516C-493B-B78C-F50800A4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CBE-38D5-4FA0-84CF-EAA14D2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B07-3B59-44B0-9E53-82B83EE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D15-24C4-4DB9-AD63-24853CEC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8E5-B2AA-4511-939B-5EBB56A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1CC5-45BA-427F-9B97-AB41D8F22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ЛЕГ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ДМИНИСТРАЦИИ НЕВСКОГО РАЙО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ноября 200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04920"/>
            <a:ext cx="449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Администрация Не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Отдел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0512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получение денежного поощрения лучших учителей приняли участие 28 педагогов из 25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038480"/>
            <a:ext cx="4267440" cy="15228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6 педагог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9 классных руководи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410080"/>
            <a:ext cx="426744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2 воспита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5410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0384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90512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12 педагогов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038480"/>
            <a:ext cx="335268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учителя ГОУ №№ 326, 571, 689, 591 и классные руководители ГОУ №№ 331, 347, 350, 6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410080"/>
            <a:ext cx="3352680" cy="6426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5 педагогов ГДОУ №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 27, 68, 120, 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лучшего руководителя образовательного учреждения приняли участие 3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97180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ренкова Людмила Александров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У №3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617920"/>
          <a:ext cx="7619760" cy="42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617920"/>
                    <a:ext cx="761976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конкурсных отборах ПНПО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нкурентоспособ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106668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c5e00">
                      <a:alpha val="80000"/>
                    </a:srgbClr>
                  </a:outerShdw>
                </a:effectLst>
                <a:latin typeface="Arial"/>
              </a:rPr>
              <a:t>Новая школ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c5e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мфортная и безопас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45720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открытая к внешней сред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3434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48006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новацион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73356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91120" y="1828800"/>
            <a:ext cx="30456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28800"/>
            <a:ext cx="45720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авления инновацион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управлении образовательным учреждением (в области маркетинга, менеджмента, создания автономных учреждений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психолого-педагогическом сопровождении учебно-воспитательного процесс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использовании информационных систем в работе с родительской обществен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5264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4957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95480" y="2428920"/>
            <a:ext cx="601992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6523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5791320" cy="4392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45514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о-методическая сеть для объединения социальных, культурных и образовательных ресурсов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1523880"/>
            <a:ext cx="4495680" cy="39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bc5e0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BEREGA.SPB.R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bc5e0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172200" cy="434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ь Нов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 Новой школы должна соответствовать целям опережающего развития общества и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сегодн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77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завтр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429000"/>
            <a:ext cx="3581640" cy="1828800"/>
          </a:xfrm>
          <a:custGeom>
            <a:avLst/>
            <a:gdLst>
              <a:gd name="textAreaLeft" fmla="*/ 559440 w 3581640"/>
              <a:gd name="textAreaRight" fmla="*/ 3134160 w 35816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c5e00"/>
          </a:solidFill>
          <a:ln w="0">
            <a:noFill/>
          </a:ln>
          <a:effectLst>
            <a:outerShdw dist="53966" dir="2700000" blurRad="0" rotWithShape="0">
              <a:srgbClr val="703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4038480"/>
            <a:ext cx="2514600" cy="56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роектное управл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2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5486400" cy="41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ащение сферы образования современными средствам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мпьютерных классов увеличилось до 125 (2 218 компьютер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осла доля вычислительной техники, соответствующей современным треб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оснащение образовательных учреждений интерактивными досками и  мультимедийными  устан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доступа обучающихся и педагогов к информационным образовательным ресурс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компьютеров в общеобразовательных учреждениях доведено до соотношения – 1 компьютер на 6,8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образовательных учреждений имеют доступ к ресурсам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профессиональной квалификации педагогических работников в област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на базе НМЦ Невского рай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8 работников образовательных учреждений  прошли обучение по программе «Компьютерная грамотность и основы телекоммуникационного обмен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 – по программе «Проектирование мультимеди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–  по программе «Использование Интернет-технологий в учебно-воспитательном процесс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3353040" cy="226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320040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95680" y="793800"/>
            <a:ext cx="32767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277344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09480" y="3886200"/>
            <a:ext cx="3048120" cy="21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05320" y="4262400"/>
            <a:ext cx="3429000" cy="23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329112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191120" y="609480"/>
            <a:ext cx="3352680" cy="23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10080" y="2743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3200400" cy="22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5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229600" cy="4475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ая задача образовательной системы Нев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зменение 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одержания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3880" y="6858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Развитие систем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активизация деятельност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детских общественных объединени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800600"/>
            <a:ext cx="373392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49528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татуса учител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81480" y="49528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ачественное измен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фраструктур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27672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342900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 культуры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управления системо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6172200" cy="209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276720" cy="218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4434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809880" y="2362320"/>
            <a:ext cx="3281400" cy="221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31912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66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2062080" cy="3733560"/>
          </a:xfrm>
          <a:prstGeom prst="rect">
            <a:avLst/>
          </a:prstGeom>
          <a:ln w="9360">
            <a:solidFill>
              <a:srgbClr val="ffd3a7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образовательных учреждений, активно внедряющих инновационные образовательны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лучш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е выплаты за классное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ка талантливо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ние питания в государственных образовательных учрежд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ключение всех образовательных учреждений к глобальной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ащение школ современным учеб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гион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уч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классный руковод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воспитатель дошкольного образовательного учреждения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руководитель образовательного учрежд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ждение премии Губернатора педагогам системы образования, подготовившим учеников – победителей международных и всероссийских олимпи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47920" y="2057400"/>
          <a:ext cx="6400800" cy="413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057400"/>
                    <a:ext cx="64008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2057400"/>
          <a:ext cx="6705360" cy="441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57400"/>
                    <a:ext cx="67053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</cp:lastModifiedBy>
  <dcterms:modified xsi:type="dcterms:W3CDTF">2009-11-11T20:07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