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9EB2-A9E9-4DCC-9892-7144ECD8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1ACC-E2FE-4021-8EE0-C0025247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0A67-7FF8-4DAE-91EE-21403F52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69E8-A6B1-43FC-B3E3-942DA122F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37B82-C7BB-46EE-B342-34C0B55BA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D01EB-3563-46D1-A7BD-D98345A6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7FE87-1172-4366-979B-7DA6D8BC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77589-4BA0-417D-A707-393B9117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03BE5-6FB0-44F5-9ED9-8963B3B6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B083C-4426-4A6E-B195-B14D39B8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A7AA7-F1F3-4F0E-BFC5-0AC2F65D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687B-9180-42C1-8DF9-714B318B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47169-1435-445C-9C1F-609AF142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05385-C577-4C27-9949-A2D62F83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BD199-FCF4-41AE-B8D2-CC179E56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7349F-B7D1-4591-A2EC-F37EA777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F99F5-01FD-4013-9DE9-59710785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8A4CB-E013-4318-B989-AE451ECF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E7FEF-8739-4F27-AFCB-25A0DE5D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8EB2A-9162-46ED-B297-DD1527BB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B9318-50EC-496A-8234-58DA8594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46F5A-3751-4445-BEEA-39EF05E4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7A47-8AA8-419C-B1F7-CF3CDCD3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616A8-77F2-4759-A94F-30693383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B8366-F5E0-4379-88A3-58AC1843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EAB2E-605B-4BDC-B14A-607A96CF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7E331-D81C-4C7E-9FCE-34E1EAAA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40901-6F44-4504-9684-BA610591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CE2B8-5456-47FC-9B7F-58C55C052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AC476-2273-435C-9D59-1797AF14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079B19-4295-4A24-B572-64B6AF57B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EE258B-B878-4837-B3D5-421C6400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AC6B02-807F-421C-9B78-18CF34EB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3276-D59D-4435-B27A-4EB6D2FB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A3AF8D-7CB4-4D46-A024-3B159A41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D52C11-E413-469E-A712-6F266F1F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8978E9-295A-4DFC-97FF-54C7292B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867440-30E5-49D2-8E9F-18F004B5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9E63E2-EE8B-4E70-B3B9-FB950146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50D06F-682E-41F2-8105-51E2A4D5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B7FA8C-49D0-4D74-9647-25DA3778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5791D9-FF25-4838-A54E-D6EB0157F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D01A2E-CE9C-4E5A-9AEE-281C78BC7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3FD7C1-EB78-4C30-91C4-24CA34BB6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53DC-DBF4-469D-AD0E-6FB06062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7914A9-2841-4907-B5E0-3163A24B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F7181E-2F13-4234-B57F-C17C6566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1C1645-9297-41BF-8AE5-907AF663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6588FC-A99E-46A6-809E-B41513DA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2194CE-62F5-4197-909B-FEF11443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5670EF-A83C-4AA7-97B5-0B178E7C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1F515C-37F9-4802-AEFB-BD917AD8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EE6FB7-553A-4BC5-B3DF-1941E1F8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0F7B4D-4F1F-440C-BACE-EDAF06FA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A93F58-04DE-4A5B-8E84-A48C9888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1CC0-296D-436F-8F27-989A9E84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9572BE-EA61-473B-8D3F-6A93D703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64AB86-380E-4B39-9E28-BF443C3E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16C124-D09A-45F1-BE88-74AB560B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9F2C8D-E2A4-4EE6-9ACE-4D87568B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B5F2BB-5B7C-4E95-8546-3DFB77A6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D1370D-BE6B-4358-8868-C927E0FB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F7C7BD-2954-4CFE-9ABA-C20BBB66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D232B3-DA9E-4238-AC03-620F5916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8BBBD9-1EAD-49B6-A80B-842F9965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9DE698-BD30-4A5D-AF7D-7FF17695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1528-25CF-4204-859C-06B2EBA4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EC58E0-3EDC-41AB-A86C-ABF02BFE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8F00A1-AD22-4842-B812-30472B1F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96B2C4-F989-452B-B6C9-95FCDC69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3447-CEB8-4786-9922-0035ED5F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5377-D843-4B39-9088-FE5F23AD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35DD-700E-4FDB-80ED-5C659DE86A9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6E2D-E65D-42D6-ABC3-B07AB1C64B7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7EE7-1CE0-4779-8372-97105F82C82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23B7-F505-43F0-AA28-F159BF35908A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3F53-5F83-4D4A-B052-6D61EEA315B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037B-CB6C-455D-A190-37B426CCC69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28760" y="3071520"/>
            <a:ext cx="822960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no Pro"/>
              </a:rPr>
              <a:t>Это рассказ о вторжении в душу ребенка стихии стиха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no Pro"/>
              </a:rPr>
              <a:t>     </a:t>
            </a:r>
            <a:r>
              <a:rPr b="0" i="1" lang="ru-RU" sz="2600" spc="-1" strike="noStrike">
                <a:solidFill>
                  <a:srgbClr val="ffffff"/>
                </a:solidFill>
                <a:latin typeface="Arno Pro"/>
              </a:rPr>
              <a:t>И рассказ о неумолчном ответном эхе, родившемся в этой душе. Незаурядной душе: ребенку ведь и самому предстояло стать поэтом, да еще выдающимся, решительно непохожим ни на кого на свете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384120" y="208080"/>
            <a:ext cx="845496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7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7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Заголовок 1" descr=""/>
          <p:cNvPicPr/>
          <p:nvPr/>
        </p:nvPicPr>
        <p:blipFill>
          <a:blip r:embed="rId1"/>
          <a:stretch/>
        </p:blipFill>
        <p:spPr>
          <a:xfrm>
            <a:off x="268200" y="208080"/>
            <a:ext cx="8394840" cy="1644480"/>
          </a:xfrm>
          <a:prstGeom prst="rect">
            <a:avLst/>
          </a:prstGeom>
          <a:ln w="0">
            <a:noFill/>
          </a:ln>
        </p:spPr>
      </p:pic>
      <p:sp>
        <p:nvSpPr>
          <p:cNvPr id="272" name="TextBox 2"/>
          <p:cNvSpPr/>
          <p:nvPr/>
        </p:nvSpPr>
        <p:spPr>
          <a:xfrm>
            <a:off x="500040" y="1785960"/>
            <a:ext cx="785808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Для меня до-семилетней и семилетней моего «хрестоматийного» Пушкина было мало! Составитель хрестоматии, очевидно, усумнился в доступности младшему возрасту понятий тоски, предчувствия, заботы, теснения и всечасности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Стальными спицами в наморщенных руках няни 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кончалось мое хрестоматическое "К няне", из которого я на всю жизнь узнала, что старую женщину — потому-то родная —можно любить больше, чем молодую — потому что молодая и даже потому что — любимая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3"/>
          <p:cNvSpPr/>
          <p:nvPr/>
        </p:nvSpPr>
        <p:spPr>
          <a:xfrm>
            <a:off x="928800" y="1357200"/>
            <a:ext cx="59292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Что в имени тебе моем?.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Что в имени тебе моем?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Оно умрет, как шум печальный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Волны, плеснувшей в берег дальний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Как звук ночной в лесу глухом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Оно на памятном листке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Оставит мертвый след, подобный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Узору надписи надгробной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На непонятном языке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Что в нем? Забытое давно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В волненьях новых и мятежных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Твоей душе не даст оно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Воспоминаний чистых, нежных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Но в день печали, в тишине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Произнеси его тоскуя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Скажи: есть память обо мне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Есть в мире сердце, где живу я..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7215120" y="642960"/>
            <a:ext cx="1428840" cy="1933560"/>
          </a:xfrm>
          <a:prstGeom prst="rect">
            <a:avLst/>
          </a:prstGeom>
          <a:ln w="0">
            <a:noFill/>
          </a:ln>
        </p:spPr>
      </p:pic>
      <p:pic>
        <p:nvPicPr>
          <p:cNvPr id="255" name="Заголовок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242560" cy="2908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"/>
          <p:cNvPicPr/>
          <p:nvPr/>
        </p:nvPicPr>
        <p:blipFill>
          <a:blip r:embed="rId3"/>
          <a:stretch/>
        </p:blipFill>
        <p:spPr>
          <a:xfrm>
            <a:off x="3517920" y="2852640"/>
            <a:ext cx="188928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8258040" cy="130968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4800" spc="-1" strike="noStrike">
                <a:solidFill>
                  <a:srgbClr val="ffffff"/>
                </a:solidFill>
                <a:latin typeface="Constantia"/>
              </a:rPr>
              <a:t>Первое, </a:t>
            </a: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что я узнала о Пушкине, </a:t>
            </a:r>
            <a:br>
              <a:rPr sz="3200"/>
            </a:br>
            <a:endParaRPr b="0" lang="en-US" sz="3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428720" y="1071720"/>
            <a:ext cx="425772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efac9"/>
                </a:solidFill>
                <a:latin typeface="Constantia"/>
              </a:rPr>
              <a:t>Это была картина в спальне матери – «ДУЭЛЬ»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ac9"/>
                </a:solidFill>
                <a:latin typeface="Constantia"/>
              </a:rPr>
              <a:t>Снег, черные прутья деревец, двое  черных людей проводят  третьего, под мышки, к саням - а еще один, другой, спиной отходит. Уводимый - Пушкин, отходящий - Дантес. Дантес вызвал Пушкина на дуэль, то есть заманил его на снег и там, между черных безлистых деревец, убил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420840" y="1352520"/>
            <a:ext cx="4187520" cy="3799080"/>
          </a:xfrm>
          <a:prstGeom prst="rect">
            <a:avLst/>
          </a:prstGeom>
          <a:ln w="0">
            <a:noFill/>
          </a:ln>
        </p:spPr>
      </p:pic>
      <p:sp>
        <p:nvSpPr>
          <p:cNvPr id="260" name="TextBox 6"/>
          <p:cNvSpPr/>
          <p:nvPr/>
        </p:nvSpPr>
        <p:spPr>
          <a:xfrm>
            <a:off x="1000080" y="5286240"/>
            <a:ext cx="721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это - что </a:t>
            </a:r>
            <a:r>
              <a:rPr b="1" lang="ru-RU" sz="4800" spc="-1" strike="noStrike">
                <a:solidFill>
                  <a:srgbClr val="ffffff"/>
                </a:solidFill>
                <a:latin typeface="Constantia"/>
              </a:rPr>
              <a:t>его убили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5357880" y="1285920"/>
            <a:ext cx="3309840" cy="4965480"/>
          </a:xfrm>
          <a:prstGeom prst="rect">
            <a:avLst/>
          </a:prstGeom>
          <a:ln w="0">
            <a:noFill/>
          </a:ln>
        </p:spPr>
      </p:pic>
      <p:sp>
        <p:nvSpPr>
          <p:cNvPr id="262" name="TextBox 2"/>
          <p:cNvSpPr/>
          <p:nvPr/>
        </p:nvSpPr>
        <p:spPr>
          <a:xfrm>
            <a:off x="214200" y="357120"/>
            <a:ext cx="500076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амятник Пушкина был — обиход, такое же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действующее лицо детской жизни…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амятник Пушкина был одна из двух (третьей не было) ежедневных неизбежных прогулок — на Патриаршие Пруды — или к Памятник-Пушкину. И я предпочитала— к Памятник-Пушкину, потому что мне нравилось, раскрывая и даже разрывая на бегу мою белую "кофточку", к нему бежать и, добежав, обходить, а потом, подняв голову, смотреть на чернолицего и чернорукого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еликана, на меня не глядящего, ни на кого и ни на что в моей жизни не похожего. А иногда просто на одной ноге обскакивать. А бегала я, несмотря на собственную толстоватость —лучше всех: от чистого чувства чести: добежать, а потом уж лопнуть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Мне приятно, что именно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nstantia"/>
              </a:rPr>
              <a:t>памятник Пушкина был первой  победой моего бег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TextBox 3"/>
          <p:cNvSpPr/>
          <p:nvPr/>
        </p:nvSpPr>
        <p:spPr>
          <a:xfrm>
            <a:off x="4857840" y="428760"/>
            <a:ext cx="42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амятник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А. С. Пушкину (Опекушин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4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4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1"/>
          <p:cNvSpPr/>
          <p:nvPr/>
        </p:nvSpPr>
        <p:spPr>
          <a:xfrm>
            <a:off x="500040" y="500040"/>
            <a:ext cx="84297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 памятником Пушкина была и отдельная игра, </a:t>
            </a:r>
            <a:r>
              <a:rPr b="1" i="1" lang="ru-RU" sz="2000" spc="-1" strike="noStrike">
                <a:solidFill>
                  <a:srgbClr val="0033cc"/>
                </a:solidFill>
                <a:latin typeface="Constantia"/>
              </a:rPr>
              <a:t>моя игра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, а именно: приставлять к его подножью мизинную, с детский мизинец, белую фарфоровую куколку —приставлять к гигантову подножью такую фигурку и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остепенно проходя взглядом снизу вверх , пока голова не отваливалась, — сравнивать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амятник Пушкина был и </a:t>
            </a:r>
            <a:r>
              <a:rPr b="1" i="1" lang="ru-RU" sz="2000" spc="-1" strike="noStrike">
                <a:solidFill>
                  <a:srgbClr val="0033cc"/>
                </a:solidFill>
                <a:latin typeface="Constantia"/>
              </a:rPr>
              <a:t>моей первой встречей с черным и белым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: такой черный! такая белая!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амятник Пушкина был и </a:t>
            </a:r>
            <a:r>
              <a:rPr b="1" i="1" lang="ru-RU" sz="2000" spc="-1" strike="noStrike">
                <a:solidFill>
                  <a:srgbClr val="0033cc"/>
                </a:solidFill>
                <a:latin typeface="Constantia"/>
              </a:rPr>
              <a:t>моей первой встречей с числом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: сколько таких фигурок нужно поставить одна на другую, чтобы получился памятник Пушкина. И ответ был уже тот, что и сейчас: "Сколько ни ставь..."— с горделиво-скромным добавлением: "Вот если бы сто меня, тогда — может, потому что я ведь еще вырасту..."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Так что Памятник-Пушкина был и </a:t>
            </a:r>
            <a:r>
              <a:rPr b="1" i="1" lang="ru-RU" sz="2000" spc="-1" strike="noStrike">
                <a:solidFill>
                  <a:srgbClr val="0033cc"/>
                </a:solidFill>
                <a:latin typeface="Constantia"/>
              </a:rPr>
              <a:t>моей первой встречей с материалом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: чугуном, фарфором, гранитом— и своим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амятник Пушкина со мной под ним и фигуркой подо мной был и моим </a:t>
            </a:r>
            <a:r>
              <a:rPr b="1" i="1" lang="ru-RU" sz="2000" spc="-1" strike="noStrike">
                <a:solidFill>
                  <a:srgbClr val="0033cc"/>
                </a:solidFill>
                <a:latin typeface="Constantia"/>
              </a:rPr>
              <a:t>первым наглядным уроком иерархии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: я перед фигуркой великан, но я перед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ушкиным — я. То есть маленькая девочк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8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1"/>
          <p:cNvSpPr/>
          <p:nvPr/>
        </p:nvSpPr>
        <p:spPr>
          <a:xfrm>
            <a:off x="285840" y="500040"/>
            <a:ext cx="85010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i="1" lang="ru-RU" sz="4000" spc="-1" strike="noStrike">
                <a:solidFill>
                  <a:srgbClr val="ffffff"/>
                </a:solidFill>
                <a:latin typeface="Constantia"/>
              </a:rPr>
              <a:t>Первый урок числа,  первый урок масштаба, первый урок материала, первый урок иерархии, первый урок мысли и, главное, наглядное подтверждение всего моего последующего опыта: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Constantia"/>
              </a:rPr>
              <a:t>из тысячи фигурок, даже одна на другую поставленных, не сделаешь Пушкина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ушкина я читаю в шкафу, носом в книгу и в полку, почти в темноте и почти вплоть и немножко даже удушенная его весом, приходящимся прямо в горло, и почти ослепленная близостью мелких букв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ушкина читаю прямо в грудь и прямо в мозг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ой первый Пушкин — "Цыганы"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аких имен я никогда не слышал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живых цыган я никогда не видел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 вот совсем новое слово — любов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7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1"/>
          <p:cNvSpPr/>
          <p:nvPr/>
        </p:nvSpPr>
        <p:spPr>
          <a:xfrm>
            <a:off x="357120" y="142920"/>
            <a:ext cx="8572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 шесть лет я влюбилась…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любилась в Онегина и в Татьяну (и, может быть, в Татьяну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емножко больше), в них обоих вместе, в любовь. И н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дной своей вещи я потом не писала, не влюбившис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дновременно в двух (в нее — немножко больше), не в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их двух, а в их любовь. В любовь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Прямоугольник 3"/>
          <p:cNvSpPr/>
          <p:nvPr/>
        </p:nvSpPr>
        <p:spPr>
          <a:xfrm>
            <a:off x="357120" y="2357280"/>
            <a:ext cx="850104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о еще одно, не одно, а многое, предопределил во мне "Евгений Онегин". Если я потом всю жизнь по сей последний день всегда первая писала, первая протягивала руку — и руки, не страшась суда — то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только потому, что на заре моих дней лежащая Татьяна в книге, при свечке, с растрепанной и переброшенной через грудь косой, это на моих глазах — сделала. И если я потом, когда уходили (всегда — уходили), не только не протягивала вслед рук, а головы не оборачивала, то только потому, что тогда, в саду, Татьяна застыла статуе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onstantia"/>
              </a:rPr>
              <a:t>Урок смелости. Урок гордости. Урок верности. Урок судьбы.             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onstantia"/>
              </a:rPr>
              <a:t>                </a:t>
            </a:r>
            <a:r>
              <a:rPr b="1" i="1" lang="ru-RU" sz="4000" spc="-1" strike="noStrike">
                <a:solidFill>
                  <a:srgbClr val="0033cc"/>
                </a:solidFill>
                <a:latin typeface="Constantia"/>
              </a:rPr>
              <a:t>Урок одиночества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"/>
          <p:cNvSpPr/>
          <p:nvPr/>
        </p:nvSpPr>
        <p:spPr>
          <a:xfrm>
            <a:off x="285840" y="357120"/>
            <a:ext cx="87152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амое любимое из страшных,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амое по-родному страшное и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о-страшному родное были — "Бесы"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"Мчатся тучи, вьются тучи —               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евидимкою луна..."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се страшно — с самого начала: луны не видно, а она — есть, луна — невидимка, луна в шапке-невидимке, чтобы все видеть и чтобы ее не видели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транное стихотворение (состояние), где сразу можно быть (нельзя не быть) всем…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3-02T17:48:27Z</dcterms:modified>
  <cp:revision>27</cp:revision>
  <dc:subject/>
  <dc:title>МОЙ  ПУШКИН</dc:title>
</cp:coreProperties>
</file>