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72E-D6E8-498D-9339-E049DAD7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FCC-1E1D-4359-9123-95A8C3FA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CF9-969A-40EF-A867-55CB26D8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AAA-E2C7-47BB-A708-7F04AADD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B39DF-D01C-4A68-A650-D3032BFE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B0557-09DD-475A-B784-DA1C26DD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DB5AB-7222-44DA-9AEC-AF30CF9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017DF-2A76-4A10-9A69-43F448EF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17183-8940-4244-A4BA-79526B2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64257-644B-48CA-8E69-B2A4C2AC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EA873-8BEA-45B2-93BA-6E55EF9D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610-8F9D-4E33-AC54-5E5C6B79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1336F-1D69-47F1-B541-EAC97DBB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93491-1BA3-4F88-967D-056C205C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143C1-B32D-44EB-AC2B-94788597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F07D9-B0EB-4CA6-A6D4-DCF45CCC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B805E-E2CE-45ED-A4EB-A4143199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1AD31-1045-42C8-8C33-34132CF3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A6BA-3682-4995-9259-D095959B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FC5B-CB0D-487B-880F-7B10D6D5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7F4D-AACB-43DE-A98F-811EE832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64DA-9ECC-4C84-ABF0-7FAAEF6C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853-4817-42C3-826C-924E50D4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CA37-44F6-4D0B-92FD-AC9D0378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4D99-0FC1-4A07-B70A-8F40B4B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0E14-BAD0-4C08-A5D5-72F15341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71653-F3DE-41E7-B00C-C9AF1C5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D033-05F1-4838-8784-94150B07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9E54-933B-4208-BF37-A30C913B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8276-77CB-49BA-82F9-973B0746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62167-05F8-4938-B592-09A92547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0C95B1-FB42-40B8-B83C-E846ED8A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37472-6B11-4A9A-8BF8-B3085D84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93E-CBC1-4AD4-86B2-D1F8B09A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A649D-EAA9-4B08-9345-59026B4F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2B6AC-3996-4E10-9D1F-B8A499EF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60DFF5-B4FD-4F6A-A498-18B3FEAB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C4FDF-7395-4B3D-9EF3-02C6DBED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DAE7B-6171-4148-9443-CE5E6303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703FE-FD89-4951-B659-1A57EF6E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FB676-FBF0-4311-9FB2-D1D372B2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F9CDB-5B3F-4BA9-ACB6-48A351EE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234B0-FAEC-49F9-A40E-4BBCBFB6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78F82-6607-47C7-9A8F-21D8EE51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22C-0A42-4B6C-BB33-76953021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F8045-1343-40E3-91B7-2E9F0B0C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5A459-916A-429E-8616-1BDF7963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9E6F9-B5E4-4B5F-BBA3-5CD2786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CF563-381C-473E-BCBE-2E8A6B6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901BD-C71C-4F48-9331-8E625610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CEF162-7EC3-402A-B019-C4491CB3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71655-6E75-4856-A39C-CB94CEE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8AFE4-D167-49BB-8842-0CBB1E6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E6A56-A283-440F-B837-8007DD57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F3967-D3CC-4859-ABB0-F1EC2D84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8DF-DBB4-4900-9F19-DCB11FEE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D764B-AFFF-4B26-9DC1-140A38D2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89B5E-98DC-4DB3-B374-5D6D9299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C1DDD-1BC7-4EF7-8F07-E16206C0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1C789-D00A-4C01-ACD7-A33EA03D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84181-14D0-4E99-A01A-4FE44FBB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E59D5-346B-4F0B-BC59-6E1DB8A3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FB323-4BE8-4379-80CB-495388BF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A819C5-5C0C-42D3-874D-6873AF89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7714F-F38E-4742-9B92-9A80A4FE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17C17-C8C6-4A89-A89E-A614308A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32C-1BAB-4724-8A13-61A72C9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4BBD5-01D4-4D3F-915F-993ABF1B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07DCB-DE41-419F-81A9-73EFCC32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5FA6F-BEAB-429F-8E8A-7FDA7F79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0EC-8F51-4182-A54A-84C7CD0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EA5-A761-4CD2-BBAC-20292B66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9D43-77EB-491D-A2EC-AF313A1C1D1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905F-9832-4AF4-B070-54CB94B0D7E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88A-3D41-4AFC-AD1F-EB4F25BB33D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D2D6-4968-41C4-A8DF-6676A196699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8F9B-A3F3-4869-B131-B85BEDBA6D7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2BDF-69F8-4CE3-8AFC-7FF8C43B890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28760" y="307152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no Pro"/>
              </a:rPr>
              <a:t>Это рассказ о вторжении в душу ребенка стихии стих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no Pro"/>
              </a:rPr>
              <a:t>     </a:t>
            </a:r>
            <a:r>
              <a:rPr b="0" i="1" lang="ru-RU" sz="2600" spc="-1" strike="noStrike">
                <a:solidFill>
                  <a:srgbClr val="ffffff"/>
                </a:solidFill>
                <a:latin typeface="Arno Pro"/>
              </a:rPr>
              <a:t>И рассказ о неумолчном ответном эхе, родившемся в этой душе. Незаурядной душе: ребенку ведь и самому предстояло стать поэтом, да еще выдающимся, решительно непохожим ни на кого на свет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384120" y="208080"/>
            <a:ext cx="845496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394840" cy="16444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"/>
          <p:cNvSpPr/>
          <p:nvPr/>
        </p:nvSpPr>
        <p:spPr>
          <a:xfrm>
            <a:off x="500040" y="1785960"/>
            <a:ext cx="78580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ля меня до-семилетней и семилетней моего «хрестоматийного» Пушкина было мало! Составитель хрестоматии, очевидно, усумнился в доступности младшему возрасту понятий тоски, предчувствия, заботы, теснения и всечасност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тальными спицами в наморщенных руках няни 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нчалось мое хрестоматическое "К няне", из которого я на всю жизнь узнала, что старую женщину — потому-то родная —можно любить больше, чем молодую — потому что молодая и даже потому что — любима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3"/>
          <p:cNvSpPr/>
          <p:nvPr/>
        </p:nvSpPr>
        <p:spPr>
          <a:xfrm>
            <a:off x="928800" y="1357200"/>
            <a:ext cx="5929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Что в имени тебе моем?.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Что в имени тебе моем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Оно умрет, как шум печальны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Волны, плеснувшей в берег дальний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Как звук ночной в лесу глух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Оно на памятном листк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Оставит мертвый след, подобны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Узору надписи надгробно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На непонятном язык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Что в нем? Забытое давно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В волненьях новых и мятежных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Твоей душе не даст оно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Воспоминаний чистых, нежны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Но в день печали, в тишин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Произнеси его тоскуя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Скажи: есть память обо мн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Есть в мире сердце, где живу я..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7215120" y="642960"/>
            <a:ext cx="1428840" cy="193356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242560" cy="290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3"/>
          <a:stretch/>
        </p:blipFill>
        <p:spPr>
          <a:xfrm>
            <a:off x="3517920" y="2852640"/>
            <a:ext cx="18892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58040" cy="1309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Первое,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что я узнала о Пушкине, </a:t>
            </a:r>
            <a:br>
              <a:rPr sz="3200"/>
            </a:b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28720" y="1071720"/>
            <a:ext cx="425772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fac9"/>
                </a:solidFill>
                <a:latin typeface="Constantia"/>
              </a:rPr>
              <a:t>Это была картина в спальне матери – «ДУЭЛЬ»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ac9"/>
                </a:solidFill>
                <a:latin typeface="Constantia"/>
              </a:rPr>
              <a:t>Снег, черные прутья деревец, двое  черных людей проводят  третьего, под мышки, к саням - а еще один, другой, спиной отходит. Уводимый - Пушкин, отходящий - Дантес. Дантес вызвал Пушкина на дуэль, то есть заманил его на снег и там, между черных безлистых деревец, уби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4187520" cy="37990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1000080" y="528624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это - что 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его убили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5357880" y="1285920"/>
            <a:ext cx="3309840" cy="4965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"/>
          <p:cNvSpPr/>
          <p:nvPr/>
        </p:nvSpPr>
        <p:spPr>
          <a:xfrm>
            <a:off x="214200" y="357120"/>
            <a:ext cx="500076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мятник Пушкина был — обиход, такое же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йствующее лицо детской жизни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мятник Пушкина был одна из двух (третьей не было) ежедневных неизбежных прогулок — на Патриаршие Пруды — или к Памятник-Пушкину. И я предпочитала— к Памятник-Пушкину, потому что мне нравилось, раскрывая и даже разрывая на бегу мою белую "кофточку", к нему бежать и, добежав, обходить, а потом, подняв голову, смотреть на чернолицего и черноруког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еликана, на меня не глядящего, ни на кого и ни на что в моей жизни не похожего. А иногда просто на одной ноге обскакивать. А бегала я, несмотря на собственную толстоватость —лучше всех: от чистого чувства чести: добежать, а потом уж лопну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не приятно, что именно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nstantia"/>
              </a:rPr>
              <a:t>памятник Пушкина был первой  победой моего бег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4857840" y="4287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амятник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. С. Пушкину (Опекуши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500040" y="500040"/>
            <a:ext cx="84297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памятником Пушкина была и отдельная игра,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я игр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, а именно: приставлять к его подножью мизинную, с детский мизинец, белую фарфоровую куколку —приставлять к гигантову подножью такую фигурку 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степенно проходя взглядом снизу вверх , пока голова не отваливалась, — сравнивать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мятник Пушкина был и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ей первой встречей с черным и белы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такой черный! такая белая!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мятник Пушкина был и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ей первой встречей с число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сколько таких фигурок нужно поставить одна на другую, чтобы получился памятник Пушкина. И ответ был уже тот, что и сейчас: "Сколько ни ставь..."— с горделиво-скромным добавлением: "Вот если бы сто меня, тогда — может, потому что я ведь еще вырасту..."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ак что Памятник-Пушкина был и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ей первой встречей с материало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чугуном, фарфором, гранитом— и свои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мятник Пушкина со мной под ним и фигуркой подо мной был и моим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первым наглядным уроком иерархи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я перед фигуркой великан, но я перед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ушкиным — я. То есть маленькая девоч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85840" y="500040"/>
            <a:ext cx="8501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Первый урок числа,  первый урок масштаба, первый урок материала, первый урок иерархии, первый урок мысли и, главное, наглядное подтверждение всего моего последующего опыта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из тысячи фигурок, даже одна на другую поставленных, не сделаешь Пушкин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ушкина я читаю в шкафу, носом в книгу и в полку, почти в темноте и почти вплоть и немножко даже удушенная его весом, приходящимся прямо в горло, и почти ослепленная близостью мелких букв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ушкина читаю прямо в грудь и прямо в моз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й первый Пушкин — "Цыганы"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аких имен я никогда не слыша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ивых цыган я никогда не виде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вот совсем новое слово — любов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357120" y="142920"/>
            <a:ext cx="857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шесть лет я влюбилась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любилась в Онегина и в Татьяну (и, может быть, в Татьян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множко больше), в них обоих вместе, в любовь. И н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дной своей вещи я потом не писала, не влюбившис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дновременно в двух (в нее — немножко больше), не 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их двух, а в их любовь. В любов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357120" y="2357280"/>
            <a:ext cx="850104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о еще одно, не одно, а многое, предопределил во мне "Евгений Онегин". Если я потом всю жизнь по сей последний день всегда первая писала, первая протягивала руку — и руки, не страшась суда — то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олько потому, что на заре моих дней лежащая Татьяна в книге, при свечке, с растрепанной и переброшенной через грудь косой, это на моих глазах — сделала. И если я потом, когда уходили (всегда — уходили), не только не протягивала вслед рук, а головы не оборачивала, то только потому, что тогда, в саду, Татьяна застыла стату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onstantia"/>
              </a:rPr>
              <a:t>Урок смелости. Урок гордости. Урок верности. Урок судьбы.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onstantia"/>
              </a:rPr>
              <a:t>  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Constantia"/>
              </a:rPr>
              <a:t>Урок одиночеств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285840" y="357120"/>
            <a:ext cx="8715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ое любимое из страшных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ое по-родному страшное 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-страшному родное были — "Бесы"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"Мчатся тучи, вьются тучи —        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евидимкою луна..."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се страшно — с самого начала: луны не видно, а она — есть, луна — невидимка, луна в шапке-невидимке, чтобы все видеть и чтобы ее не видел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транное стихотворение (состояние), где сразу можно быть (нельзя не быть) всем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02T17:48:27Z</dcterms:modified>
  <cp:revision>27</cp:revision>
  <dc:subject/>
  <dc:title>МОЙ  ПУШКИН</dc:title>
</cp:coreProperties>
</file>