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AF2-33B9-4032-B677-4109E620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51A-1D37-4886-910D-F2608A88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F58-0960-497F-B685-0E0AA437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67D-7884-43CD-A93A-988A67BA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8028E-F6EF-42E4-98A9-006EB9AF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34810-88A2-41CF-B0AB-54EFBEA2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DF453-CC97-4756-A148-BEB3EE44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C2D2F-1817-4EAC-973A-E1E1A0BC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4C70C-A403-4524-AF27-5CAFDF8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E2925-D7B2-491F-B398-0B8A4E31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CE5BA-751A-4D9A-87F3-BACB780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02A-A52F-49AC-9E6E-ADAC10B0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17FBB-9402-4C84-821B-65A6ABE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9A96E-E7F8-4CC1-AED4-32E2938C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DD69D-D38E-4130-A008-1FE1CA5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68C4-79F5-4400-B8C5-777E7B68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37BA6-4D3C-4552-A31B-A74E168E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08E8-84D4-46FB-B5BF-5A65EADB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B7FD-7C41-4CAE-BF67-7D5D13F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1A6C-19D0-48F2-8991-0AD88680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0B3D2-B02B-4DBD-ACB0-7A51F1AA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8CE7-86EE-46E5-9A76-99E3B467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7C2-7EA1-488A-B3DF-EA390F6B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F571-BA63-4915-8FC9-E03E7D94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8F72-6B0A-4D5C-91B6-D521C04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53A7-2315-4AAD-989F-4A0A888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FC71-E2BE-4AA3-99FE-24A9E37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ACCA-0782-48DB-B6B7-748BC81A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531B-E31C-49C4-A6FE-B40D464D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DF2B-1545-42F2-8CE2-E6A7AF6D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17D3C-ABEC-40D7-8FB3-7A7AEEB3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DA2DF-5833-4C73-A1C0-B92DABA5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DCBC9C-4BD3-4938-B38F-29399BE3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588-F6B4-4B84-BD87-C0B5A20B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6E690-E515-4945-BF02-AF28EF84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E73773-9BD6-42DF-88F7-DA21AFEC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584D5-E31B-40B2-9E18-DDD4106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FC503-13B9-4DBC-8119-918C1E65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C1D9D-6E30-4DFC-9AFF-EB5BB68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14E47-7F49-46F9-B1CE-4159821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053F71-8265-4BF5-A9D5-2150291B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905D1-BC2A-42CF-8E1F-B4058EBA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AFB23-B392-44AA-A226-9F373211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273AB-19D2-4F5E-A050-25A79693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2EE-42CC-4824-B297-638C09B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DCC43-531F-453F-9430-F6CC2E31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62607-4584-487D-81A2-86F4234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DDBE2-F987-4719-9992-1019D510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FC367-43F9-4C37-B38A-69ADE01D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60CF2-1102-4CA9-84BE-21D5A281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49E60-3803-420F-B8E8-979119C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29257-DFA3-4D47-B09C-898E078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7BFAA-2CD6-4788-A699-0CDBA38D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61774-6FC4-4271-94C2-72C4F30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00FBE-B449-44C1-A6C3-6B30636A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6E5-CE70-48A5-A6F9-448CC034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F7959-18EC-4EAF-9E4F-1F5F1B0E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096FC-D67A-40E3-AD8D-90DD166A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DE385-FCEC-4233-8108-2A40F02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B172A-0294-4918-A675-F1C7C0BA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884E1-E821-4DD8-8AED-54DBC745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0F14E4-9F59-4DB1-A602-34CF7DD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3FAC7-86F7-4205-B8F9-A7BD95F5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D8E33-C440-447B-9A77-A71B797A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DFC53-90C2-4149-A2D9-4CCCB35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7EDCD-606D-4806-9292-84A6D95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6F6-5DAF-4647-889B-0BE48EB5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D1421-FCC7-4CF6-B5A5-86044942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7E892-C9EA-4F8B-AB73-9BB497A3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22FA0-77A1-426A-B35B-F7BE35F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E34-F5F3-41D3-8F93-75FFD16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26B-BD38-4D6F-86BA-F72ACBDA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1268-A16F-4FE0-9E29-C186CD42516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85C-8040-46CD-85AE-3DBEA91EE98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AC5-7BD8-499D-B7D6-4441496B359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687-EA4A-4F84-BECB-D19F4162A70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B34-D9EB-4161-A014-2AC98966DB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EC3-33EE-424D-88F4-BE6C09A1CB6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28760" y="307152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Это рассказ о вторжении в душу ребенка стихии стих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     </a:t>
            </a:r>
            <a:r>
              <a:rPr b="0" i="1" lang="ru-RU" sz="2600" spc="-1" strike="noStrike">
                <a:solidFill>
                  <a:srgbClr val="ffffff"/>
                </a:solidFill>
                <a:latin typeface="Arno Pro"/>
              </a:rPr>
              <a:t>И рассказ о неумолчном ответном эхе, родившемся в этой душе. Незаурядной душе: ребенку ведь и самому предстояло стать поэтом, да еще выдающимся, решительно непохожим ни на кого на свет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384120" y="208080"/>
            <a:ext cx="845496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68200" y="208080"/>
            <a:ext cx="8394840" cy="164448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"/>
          <p:cNvSpPr/>
          <p:nvPr/>
        </p:nvSpPr>
        <p:spPr>
          <a:xfrm>
            <a:off x="500040" y="1785960"/>
            <a:ext cx="7858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Для меня до-семилетней и семилетней моего «хрестоматийного» Пушкина было мало! Составитель хрестоматии, очевидно, усумнился в доступности младшему возрасту понятий тоски, предчувствия, заботы, теснения и всечасност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тальными спицами в наморщенных руках няни 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нчалось мое хрестоматическое "К няне", из которого я на всю жизнь узнала, что старую женщину — потому-то родная —можно любить больше, чем молодую — потому что молодая и даже потому что — любим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92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-74,88,-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3"/>
          <p:cNvSpPr/>
          <p:nvPr/>
        </p:nvSpPr>
        <p:spPr>
          <a:xfrm>
            <a:off x="928800" y="1357200"/>
            <a:ext cx="5929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имени тебе моем?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умрет, как шум печаль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лны, плеснувшей в берег дальний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Как звук ночной в лесу глух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но на памятном листк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Оставит мертвый след, подобн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Узору надписи надгробно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а непонятном язык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Что в нем? Забытое дав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 волненьях новых и мятежных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Твоей душе не даст оно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Воспоминаний чистых, нежны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Но в день печали, в тиши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Произнеси его тоскуя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Скажи: есть память обо мне,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nstantia"/>
              </a:rPr>
              <a:t>Есть в мире сердце, где живу я..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7215120" y="642960"/>
            <a:ext cx="1428840" cy="193356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242560" cy="290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3517920" y="2852640"/>
            <a:ext cx="18892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58040" cy="1309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Первое, 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что я узнала о Пушкине, </a:t>
            </a:r>
            <a:br>
              <a:rPr sz="3200"/>
            </a:br>
            <a:endParaRPr b="0" lang="en-US" sz="3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428720" y="1071720"/>
            <a:ext cx="425772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efac9"/>
                </a:solidFill>
                <a:latin typeface="Constantia"/>
              </a:rPr>
              <a:t>Это была картина в спальне матери – «ДУЭЛЬ»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ac9"/>
                </a:solidFill>
                <a:latin typeface="Constantia"/>
              </a:rPr>
              <a:t>Снег, черные прутья деревец, двое  черных людей проводят  третьего, под мышки, к саням - а еще один, другой, спиной отходит. Уводимый - Пушкин, отходящий - Дантес. Дантес вызвал Пушкина на дуэль, то есть заманил его на снег и там, между черных безлистых деревец, убил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4187520" cy="37990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000080" y="528624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это - что </a:t>
            </a:r>
            <a:r>
              <a:rPr b="1" lang="ru-RU" sz="4800" spc="-1" strike="noStrike">
                <a:solidFill>
                  <a:srgbClr val="ffffff"/>
                </a:solidFill>
                <a:latin typeface="Constantia"/>
              </a:rPr>
              <a:t>его убили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5357880" y="1285920"/>
            <a:ext cx="3309840" cy="4965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"/>
          <p:cNvSpPr/>
          <p:nvPr/>
        </p:nvSpPr>
        <p:spPr>
          <a:xfrm>
            <a:off x="214200" y="357120"/>
            <a:ext cx="50007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— обиход, такое же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йствующее лицо детской жизни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мятник Пушкина был одна из двух (третьей не было) ежедневных неизбежных прогулок — на Патриаршие Пруды — или к Памятник-Пушкину. И я предпочитала— к Памятник-Пушкину, потому что мне нравилось, раскрывая и даже разрывая на бегу мою белую "кофточку", к нему бежать и, добежав, обходить, а потом, подняв голову, смотреть на чернолицего и черноруког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еликана, на меня не глядящего, ни на кого и ни на что в моей жизни не похожего. А иногда просто на одной ноге обскакивать. А бегала я, несмотря на собственную толстоватость —лучше всех: от чистого чувства чести: добежать, а потом уж лопну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не приятно, что именно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Constantia"/>
              </a:rPr>
              <a:t>памятник Пушкина был первой  победой моего бег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4857840" y="4287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амятник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. С. Пушкину (Опекушин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500040" y="500040"/>
            <a:ext cx="84297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 памятником Пушкина была и отдельная игра,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я игра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, а именно: приставлять к его подножью мизинную, с детский мизинец, белую фарфоровую куколку —приставлять к гигантову подножью такую фигурку и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остепенно проходя взглядом снизу вверх , пока голова не отваливалась, — сравнивать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ерным и белы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такой черный! такая белая!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чис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сколько таких фигурок нужно поставить одна на другую, чтобы получился памятник Пушкина. И ответ был уже тот, что и сейчас: "Сколько ни ставь..."— с горделиво-скромным добавлением: "Вот если бы сто меня, тогда — может, потому что я ведь еще вырасту..."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ак что Памятник-Пушкина был и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моей первой встречей с материалом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чугуном, фарфором, гранитом— и свои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амятник Пушкина со мной под ним и фигуркой подо мной был и моим </a:t>
            </a:r>
            <a:r>
              <a:rPr b="1" i="1" lang="ru-RU" sz="2000" spc="-1" strike="noStrike">
                <a:solidFill>
                  <a:srgbClr val="0033cc"/>
                </a:solidFill>
                <a:latin typeface="Constantia"/>
              </a:rPr>
              <a:t>первым наглядным уроком иерархи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: я перед фигуркой великан, но я перед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ушкиным — я. То есть маленькая девочк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85840" y="500040"/>
            <a:ext cx="8501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Первый урок числа,  первый урок масштаба, первый урок материала, первый урок иерархии, первый урок мысли и, главное, наглядное подтверждение всего моего последующего опыта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из тысячи фигурок, даже одна на другую поставленных, не сделаешь Пушкин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я читаю в шкафу, носом в книгу и в полку, почти в темноте и почти вплоть и немножко даже удушенная его весом, приходящимся прямо в горло, и почти ослепленная близостью мелких бук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ушкина читаю прямо в грудь и прямо в мозг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й первый Пушкин — "Цыганы"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аких имен я никогда не слыш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вых цыган я никогда не виде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от совсем новое слово — любов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57120" y="142920"/>
            <a:ext cx="857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шесть лет я влюбилась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юбилась в Онегина и в Татьяну (и, может быть, в Татьяну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множко больше), в них обоих вместе, в любовь. И 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й своей вещи я потом не писала, не влюбившис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дновременно в двух (в нее — немножко больше), не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их двух, а в их любовь. В любов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357120" y="2357280"/>
            <a:ext cx="850104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о еще одно, не одно, а многое, предопределил во мне "Евгений Онегин". Если я потом всю жизнь по сей последний день всегда первая писала, первая протягивала руку — и руки, не страшась суда — т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олько потому, что на заре моих дней лежащая Татьяна в книге, при свечке, с растрепанной и переброшенной через грудь косой, это на моих глазах — сделала. И если я потом, когда уходили (всегда — уходили), не только не протягивала вслед рук, а головы не оборачивала, то только потому, что тогда, в саду, Татьяна застыла стату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смелости. Урок гордости. Урок верности. Урок судьбы.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                </a:t>
            </a:r>
            <a:r>
              <a:rPr b="1" i="1" lang="ru-RU" sz="4000" spc="-1" strike="noStrike">
                <a:solidFill>
                  <a:srgbClr val="0033cc"/>
                </a:solidFill>
                <a:latin typeface="Constantia"/>
              </a:rPr>
              <a:t>Урок одиночества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285840" y="35712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любимое из страшных,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амое по-родному страшное и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-страшному родное были — "Бесы"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"Мчатся тучи, вьются тучи —               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видимкою луна..."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се страшно — с самого начала: луны не видно, а она — есть, луна — невидимка, луна в шапке-невидимке, чтобы все видеть и чтобы ее не видел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транное стихотворение (состояние), где сразу можно быть (нельзя не быть) всем…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02T17:48:27Z</dcterms:modified>
  <cp:revision>27</cp:revision>
  <dc:subject/>
  <dc:title>МОЙ  ПУШКИН</dc:title>
</cp:coreProperties>
</file>