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D03-6008-44A3-B6FF-C489D57F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285-7038-413A-B2E1-9D78A876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F444-4FAC-4400-918A-3839541F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673-DEFC-417C-B13A-013DF856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85B6A-7E7B-4869-AF94-352EFA58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B1C0B-9AE6-47A3-9EEC-97580873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51CEC-3E79-4E22-8D70-92188E67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E9662-B28C-4D6D-83CE-6DA71F17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B3F74-2903-46AB-A337-06594DC6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478D5-4224-4FBC-914E-724357E3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BAA57-A92A-41C5-B17B-9B9EA168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A5F-9E83-41D4-A7B2-9AC21282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FF26B-6F5F-4BFE-B32C-FB128378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F943B-7015-44F1-BDB4-D17B18E4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88A34-7DA1-42FB-87EB-E6E304E9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4C71D-6D60-4DE1-8B93-D3C9A2CA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B61AC-A18C-4C55-B58E-DB0B3CE6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4D5E-6104-4293-A39F-CD4B14A1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3B128-583A-4405-8CF5-0B87CFA5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B6BC0-7715-4914-A876-9458B9EE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F756-67EB-4F44-AA8D-FB90F1A5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169C5-BA9E-490E-9289-FA604CBB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94F-E793-46EE-914B-1034C74E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05DD9-32C3-46FE-91D6-06464B34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57BA-B19B-4F94-8107-765BF425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60C45-4B04-47CB-A744-47BCDC4E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6B56-7E39-4287-AA94-B53B18A8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49077-5233-4E34-B5E2-5E31B51F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4430-56A9-41BC-BC29-33D59753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0250-FC68-4AA9-BAB9-CB6452C1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9CADE-3D25-4FC6-9AE4-6097F868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2158-9B36-4BA0-A2A4-98561452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A0F4-16A4-4A04-A58D-8FD19867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D34-9513-4A20-B3A4-672CB58A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27DD-65A1-483A-9CD5-08C0DB21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FE61-2E54-44F1-9C22-FCF25D29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39978-C763-4741-B3B0-8CB3B23E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EC2B1-9AC2-4889-999D-CCA9A49E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ACDC9-2988-409E-A9D2-B9F795A9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64635-9948-4588-A42C-4CDD1ABF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3199-C9D7-459B-9E43-0358DC00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7C61D-EFB0-47E6-9949-C4897F0C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ADA5B-BA5C-4219-9DCB-EDACE4FF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48A-D669-4065-9C0D-295DAE5F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08B-CCF4-466B-885B-A49AF694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517-3F60-4F25-8A83-E202E9B2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3C1-6808-4041-A109-2F8D8CB4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A38-467B-4D4E-9C08-DA336D01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763D-3626-4F3C-984A-9F4FADEE9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AE5A-0DF3-4632-BC5B-4C11B38F8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Char char="v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v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CBE3-BEBE-4F07-BE36-D39AEB6B3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97D7-FD89-4E5C-B893-94C3C3410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526000" y="0"/>
            <a:ext cx="928800" cy="322200"/>
          </a:xfrm>
          <a:prstGeom prst="rect">
            <a:avLst/>
          </a:prstGeom>
          <a:solidFill>
            <a:srgbClr val="b3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rcRect l="14422" t="0" r="7211" b="0"/>
          <a:stretch/>
        </p:blipFill>
        <p:spPr>
          <a:xfrm>
            <a:off x="264960" y="841320"/>
            <a:ext cx="857916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0960" y="29196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00"/>
                </a:solidFill>
                <a:uFillTx/>
                <a:latin typeface="Tahoma"/>
              </a:rPr>
              <a:t>ПОДСКАЗК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210960" y="1273320"/>
            <a:ext cx="873000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ачественное прилага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такой как, похожий на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3600" spc="-1" strike="noStrike">
                <a:solidFill>
                  <a:srgbClr val="ff6699"/>
                </a:solidFill>
                <a:latin typeface="Tahoma"/>
              </a:rPr>
              <a:t>лисья хитр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Притяжательное прилага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инадлежит кому-либо, чей-т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600" spc="-1" strike="noStrike">
                <a:solidFill>
                  <a:srgbClr val="ff6699"/>
                </a:solidFill>
                <a:latin typeface="Tahoma"/>
              </a:rPr>
              <a:t>лисья н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Относительное прилагательное: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из чего-т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600" spc="-1" strike="noStrike">
                <a:solidFill>
                  <a:srgbClr val="ff6699"/>
                </a:solidFill>
                <a:latin typeface="Tahoma"/>
              </a:rPr>
              <a:t>лисья шуб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8240" y="900000"/>
            <a:ext cx="3990960" cy="4130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905440" y="0"/>
            <a:ext cx="2667240" cy="4952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730080" y="5030640"/>
            <a:ext cx="27054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ьц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61120" y="4952880"/>
            <a:ext cx="270180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отой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лос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ahoma"/>
              </a:rPr>
              <a:t>Задание:</a:t>
            </a:r>
            <a:r>
              <a:rPr b="0" lang="en-US" sz="40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ff9966"/>
                </a:solidFill>
                <a:latin typeface="Tahoma"/>
              </a:rPr>
              <a:t>спишите, обозначьте разряды прилагательны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0970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Заячий след, заячий характер, заячий выводок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гусиное перо, гусиная кормушка, гусиная походк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олчья стая, волчий аппетит, волчье логово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лисья нора, лисья шуба, лисья хитр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7b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070000"/>
            <a:ext cx="9144000" cy="48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.К дому дорога никогда не бывает дли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ой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.Согласие крепче каме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ых стен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.Только тот человек це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ый, кто смолоду работать привык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4.Всегда имей доброе сердце, а дух мужестве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ый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66"/>
                </a:solidFill>
                <a:latin typeface="Tahoma"/>
              </a:rPr>
              <a:t>Задание:</a:t>
            </a:r>
            <a:r>
              <a:rPr b="0" lang="en-US" sz="34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0" i="1" lang="en-US" sz="3400" spc="-1" strike="noStrike">
                <a:solidFill>
                  <a:srgbClr val="ff9966"/>
                </a:solidFill>
                <a:latin typeface="Tahoma"/>
              </a:rPr>
              <a:t>выпишите из предложений имена прилагательные в соответствии с разрядо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качественные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относительные  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тяж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14422" t="0" r="7211" b="0"/>
          <a:stretch/>
        </p:blipFill>
        <p:spPr>
          <a:xfrm>
            <a:off x="264960" y="841320"/>
            <a:ext cx="857916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rot="10800000">
            <a:off x="2393640" y="5125680"/>
            <a:ext cx="6615000" cy="1731960"/>
          </a:xfrm>
          <a:custGeom>
            <a:avLst/>
            <a:gdLst>
              <a:gd name="textAreaLeft" fmla="*/ 1082520 w 6615000"/>
              <a:gd name="textAreaRight" fmla="*/ 5532480 w 6615000"/>
              <a:gd name="textAreaTop" fmla="*/ 283320 h 1731960"/>
              <a:gd name="textAreaBottom" fmla="*/ 1448640 h 173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86" y="21600"/>
                </a:lnTo>
                <a:lnTo>
                  <a:pt x="3214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ощадь </a:t>
            </a:r>
            <a:br>
              <a:rPr sz="3200"/>
            </a:b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Переход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1581120" y="2049120"/>
            <a:ext cx="5127480" cy="102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пект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Качествен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3241800" y="2055600"/>
            <a:ext cx="5127480" cy="1012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пект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тноси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793400" y="2067480"/>
            <a:ext cx="5127480" cy="988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спект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ритяж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38120"/>
            <a:ext cx="3632040" cy="719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.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Сравнитель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828960"/>
            <a:ext cx="3632040" cy="71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.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Превосхо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-513360" y="2225880"/>
            <a:ext cx="2671560" cy="533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.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Прос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978840" y="2215080"/>
            <a:ext cx="2671560" cy="555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.</a:t>
            </a:r>
            <a:r>
              <a:rPr b="1" lang="en-US" sz="2600" spc="-1" strike="noStrike">
                <a:solidFill>
                  <a:srgbClr val="660033"/>
                </a:solidFill>
                <a:latin typeface="Arial"/>
              </a:rPr>
              <a:t>Составно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5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2840" y="3683160"/>
            <a:ext cx="8964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Цели ур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ЗНАКОМИТЬСЯ СО СВОЙСТВОМ ИМЁН ПРИЛАГАТЕЛЬНЫХ ПЕРЕХОДИТЬ ИЗ ОДНОГО РАЗРЯДА В ДРУГ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КРЕПИТЬ ЗНАНИЯ О РАЗРЯДАХ ИМЁН ПРИЛАГ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ТЬ УМЕНИЕ РАСПОЗНАВАТЬ РАЗРЯДЫ ИМЁН ПРИЛАГ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27040"/>
            <a:ext cx="9144000" cy="19224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ПЕРЕХОД ИМЕН ПРИЛАГАТЕЛЬНЫ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Arial"/>
              </a:rPr>
              <a:t>ИЗ ОДНОГО РАЗРЯДА В ДРУГ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мя прилагательно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2876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такое имя прилагательно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изменяе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является в предложен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1080" y="1434960"/>
            <a:ext cx="4467240" cy="3930840"/>
          </a:xfrm>
          <a:prstGeom prst="rect">
            <a:avLst/>
          </a:prstGeom>
          <a:ln w="12708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87360" y="5543640"/>
            <a:ext cx="3241800" cy="9144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РОСТАЯ (1 сло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886280" y="5592600"/>
            <a:ext cx="3797280" cy="86544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СОСТАВНАЯ (2 СЛО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1" name="AutoShape 9"/>
          <p:cNvCxnSpPr>
            <a:stCxn id="182" idx="2"/>
            <a:endCxn id="179" idx="0"/>
          </p:cNvCxnSpPr>
          <p:nvPr/>
        </p:nvCxnSpPr>
        <p:spPr>
          <a:xfrm flipH="1">
            <a:off x="2007360" y="1290600"/>
            <a:ext cx="4777560" cy="4253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83" name="AutoShape 10"/>
          <p:cNvCxnSpPr>
            <a:stCxn id="182" idx="2"/>
            <a:endCxn id="179" idx="0"/>
          </p:cNvCxnSpPr>
          <p:nvPr/>
        </p:nvCxnSpPr>
        <p:spPr>
          <a:xfrm flipH="1">
            <a:off x="2007360" y="1290600"/>
            <a:ext cx="4777560" cy="42537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Text Box 38"/>
          <p:cNvSpPr/>
          <p:nvPr/>
        </p:nvSpPr>
        <p:spPr>
          <a:xfrm rot="2516400">
            <a:off x="2297880" y="3127320"/>
            <a:ext cx="50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Е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И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0"/>
          <p:cNvSpPr/>
          <p:nvPr/>
        </p:nvSpPr>
        <p:spPr>
          <a:xfrm rot="5400000">
            <a:off x="5226120" y="3062520"/>
            <a:ext cx="32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ЫЙ СИ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2065320" y="2406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3"/>
          <p:cNvSpPr/>
          <p:nvPr/>
        </p:nvSpPr>
        <p:spPr>
          <a:xfrm rot="16200000">
            <a:off x="744480" y="294480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ЛЬНЕ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Прямая со стрелкой 30"/>
          <p:cNvCxnSpPr>
            <a:stCxn id="189" idx="2"/>
            <a:endCxn id="180" idx="0"/>
          </p:cNvCxnSpPr>
          <p:nvPr/>
        </p:nvCxnSpPr>
        <p:spPr>
          <a:xfrm>
            <a:off x="2009880" y="1268280"/>
            <a:ext cx="4775760" cy="43250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90" name="Прямая со стрелкой 32"/>
          <p:cNvCxnSpPr>
            <a:stCxn id="189" idx="2"/>
            <a:endCxn id="180" idx="0"/>
          </p:cNvCxnSpPr>
          <p:nvPr/>
        </p:nvCxnSpPr>
        <p:spPr>
          <a:xfrm>
            <a:off x="2009880" y="1268280"/>
            <a:ext cx="4775760" cy="43250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2" name="Rectangle 5"/>
          <p:cNvSpPr/>
          <p:nvPr/>
        </p:nvSpPr>
        <p:spPr>
          <a:xfrm>
            <a:off x="4886280" y="353880"/>
            <a:ext cx="3797280" cy="93672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РЕВОСХОД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88800" y="353880"/>
            <a:ext cx="3240360" cy="9144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СРАВНИ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Прямая со стрелкой 34"/>
          <p:cNvCxnSpPr>
            <a:stCxn id="182" idx="2"/>
            <a:endCxn id="180" idx="0"/>
          </p:cNvCxnSpPr>
          <p:nvPr/>
        </p:nvCxnSpPr>
        <p:spPr>
          <a:xfrm flipH="1">
            <a:off x="6783120" y="1292040"/>
            <a:ext cx="2160" cy="43009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2" name="Прямая со стрелкой 36"/>
          <p:cNvCxnSpPr>
            <a:stCxn id="189" idx="2"/>
            <a:endCxn id="179" idx="0"/>
          </p:cNvCxnSpPr>
          <p:nvPr/>
        </p:nvCxnSpPr>
        <p:spPr>
          <a:xfrm flipH="1">
            <a:off x="2007360" y="1268280"/>
            <a:ext cx="2520" cy="42760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3" name="Text Box 42"/>
          <p:cNvSpPr/>
          <p:nvPr/>
        </p:nvSpPr>
        <p:spPr>
          <a:xfrm rot="19080000">
            <a:off x="2778120" y="2674800"/>
            <a:ext cx="34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ЛЬНЕЙШ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380960"/>
            <a:ext cx="91440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От следующих прилагательных образуйт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остую форму превосходной степени. Выделите суффикс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добрый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умный –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сильный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высокий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2503440" y="3281400"/>
            <a:ext cx="370044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добрейш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умнейший</a:t>
            </a:r>
            <a:r>
              <a:rPr b="1" lang="en-US" sz="3600" spc="-1" strike="noStrike" u="sng">
                <a:solidFill>
                  <a:srgbClr val="cc0066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сильнейш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ahoma"/>
              </a:rPr>
              <a:t>высочайш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286560" y="5856120"/>
            <a:ext cx="94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простую форму сравнительной степ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243080"/>
            <a:ext cx="91440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образуют степени сравнения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могут сочетаться с наречиями </a:t>
            </a:r>
            <a:br>
              <a:rPr sz="3400"/>
            </a:br>
            <a:r>
              <a:rPr b="0" i="1" lang="en-US" sz="3400" spc="-1" strike="noStrike">
                <a:solidFill>
                  <a:srgbClr val="ff0000"/>
                </a:solidFill>
                <a:latin typeface="Tahoma"/>
              </a:rPr>
              <a:t>очень, чрезвычайно, слишком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имеют краткую форму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имеют синонимы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от них образуютс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сложные прилагательные путём повтора: </a:t>
            </a:r>
            <a:r>
              <a:rPr b="0" i="1" lang="en-US" sz="3400" spc="-1" strike="noStrike">
                <a:solidFill>
                  <a:srgbClr val="ff0000"/>
                </a:solidFill>
                <a:latin typeface="Tahoma"/>
              </a:rPr>
              <a:t>синее-сине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прилагательные с приставкой НЕ-: </a:t>
            </a:r>
            <a:r>
              <a:rPr b="0" i="1" lang="en-US" sz="3400" spc="-1" strike="noStrike">
                <a:solidFill>
                  <a:srgbClr val="ff0000"/>
                </a:solidFill>
                <a:latin typeface="Tahoma"/>
              </a:rPr>
              <a:t>неблизк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95320" y="208080"/>
            <a:ext cx="761364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чественные прилагательные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04800" y="766800"/>
          <a:ext cx="8032680" cy="4808520"/>
        </p:xfrm>
        <a:graphic>
          <a:graphicData uri="http://schemas.openxmlformats.org/drawingml/2006/table">
            <a:tbl>
              <a:tblPr/>
              <a:tblGrid>
                <a:gridCol w="4016520"/>
                <a:gridCol w="4016160"/>
              </a:tblGrid>
              <a:tr h="26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к месту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лесной, городско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ко времени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имни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17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к действию:</a:t>
                      </a:r>
                      <a:r>
                        <a:rPr b="0" lang="en-US" sz="36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ремонтны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ношение к материалу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деревянны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9:18:43Z</dcterms:created>
  <dc:creator>User</dc:creator>
  <dc:description/>
  <dc:language>en-US</dc:language>
  <cp:lastModifiedBy>teacher</cp:lastModifiedBy>
  <dcterms:modified xsi:type="dcterms:W3CDTF">2009-02-21T10:02:13Z</dcterms:modified>
  <cp:revision>28</cp:revision>
  <dc:subject/>
  <dc:title>ТЕМА УРОКА:РАЗРЯДЫ ИМЁН ПРИЛАГАТЕЛЬНЫХ. ПОЗНАКОМИТЬСЯ СО СВОЙСТВОМ ПРИЛАГАТЕЛЬНЫХ ПЕРЕХОДИТЬ ИЗ ОДНОГО РАЗРЯДА В ДРУГ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