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9EAA-5B8D-4034-A97B-1DFA1C13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5A2A-0967-47D8-B242-C1E17A4C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78FF-2F3F-4429-A4CB-4EC65BF0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41CC-ABC6-4C1F-BF94-48A0F6D0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3FFF1-757B-42C9-B36E-2037C179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A4665-B82B-4AC2-8FD3-A2CB29E4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0746F-CBD5-4270-AA90-CF49CD52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AAB01-311F-46C7-B96F-5BD321C3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112FA-2068-4A19-AAED-E0776162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18A3B-CBEC-4D1B-BC44-9565E3FA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5C936-EDB0-46CC-B021-8212E3E0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692A-4941-4993-822A-C4A1FE10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46D7B-9917-4932-9D41-84E04D08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72B8B-B6BB-46A7-B38C-B060DA68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26A1D-832F-49E6-860B-B0E9C4B6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C4A4B-6142-45C0-83D6-DA30633F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05206-D485-4050-A2DF-0792D383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CF6F9-3F46-4177-B5A0-CE3F6BAE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5D3DE-0D8A-4530-8954-29DB794C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C65D2-098A-4CE5-9E66-20F8B026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1DE77-CFCB-463A-A8A3-E224344E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29162-CF52-47C3-B0E5-41BCEC8C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16EA-55E1-484E-830E-3EC9580A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BC120-92C1-424A-A71D-02635352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6B0D6-7F94-4C47-9588-C6A14C67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573A4-AF60-4ABE-9878-D3437D4A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79A0D-E8C3-4888-BF90-F89D6966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AB3BD-37BD-4416-B511-3F37336F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B50D5-DA05-4444-B971-7C1EC0E7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EDD60-CED9-4A7C-BC80-33CC993A2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9AA94-D553-4F8A-83F9-1DC02D2E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57D6C-9CA4-4C8D-A215-87620D89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F3F27-E81B-4EAE-B0EA-AFBDEFA4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3121-2EDF-48E4-82F2-20E1708C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7F61B-E7F1-4E4D-976C-F5770AA8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2DCEE-A4C7-41A7-BFA0-2D2EA379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AE4D1-D54E-4BFB-8F88-EDB3BF3B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CF972-9CD9-4F8F-9962-8DBC2EB5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3D3C6-3192-40BD-AE6D-9742C35F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97C89-8F57-4B99-8F41-6B3848BB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46D1E-8B19-42FA-B5C1-F075471D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BE2DC-065A-43B3-B2F7-277D9B80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7A1A0-1A9D-4E21-B473-4D2C335F7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441F-1E7F-486A-B8F5-1BF043F7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AD9F-28D8-4032-BDD3-268DA0E5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D0D9-C46E-4691-BCB6-1A73A192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CA51-BBB9-4EC9-B1C1-5D2B1CC1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9B3B-9D70-4C4F-A7EB-1C9A3C0A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Arial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5667-8EC5-4FA1-8FB9-8E55A2CDD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621F-014C-461B-A930-8BFB1B60F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Char char="v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618D-162D-40BC-B375-EF9366B62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200C-042B-456E-90F2-3BBC1C8AD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526000" y="0"/>
            <a:ext cx="928800" cy="322200"/>
          </a:xfrm>
          <a:prstGeom prst="rect">
            <a:avLst/>
          </a:prstGeom>
          <a:solidFill>
            <a:srgbClr val="b3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rcRect l="14422" t="0" r="7211" b="0"/>
          <a:stretch/>
        </p:blipFill>
        <p:spPr>
          <a:xfrm>
            <a:off x="264960" y="841320"/>
            <a:ext cx="857916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0960" y="29196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9900"/>
                </a:solidFill>
                <a:uFillTx/>
                <a:latin typeface="Tahoma"/>
              </a:rPr>
              <a:t>ПОДСКАЗК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210960" y="1273320"/>
            <a:ext cx="873000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Качественное прилагатель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такой как, похожий на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3600" spc="-1" strike="noStrike">
                <a:solidFill>
                  <a:srgbClr val="ff6699"/>
                </a:solidFill>
                <a:latin typeface="Tahoma"/>
              </a:rPr>
              <a:t>лисья хитр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Притяжательное прилагатель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принадлежит кому-либо, чей-т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3600" spc="-1" strike="noStrike">
                <a:solidFill>
                  <a:srgbClr val="ff6699"/>
                </a:solidFill>
                <a:latin typeface="Tahoma"/>
              </a:rPr>
              <a:t>лисья но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Относительное прилагательное: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из чего-т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3600" spc="-1" strike="noStrike">
                <a:solidFill>
                  <a:srgbClr val="ff6699"/>
                </a:solidFill>
                <a:latin typeface="Tahoma"/>
              </a:rPr>
              <a:t>лисья шуб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8240" y="900000"/>
            <a:ext cx="3990960" cy="4130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905440" y="0"/>
            <a:ext cx="2667240" cy="49528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730080" y="5030640"/>
            <a:ext cx="27054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олотое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льцо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61120" y="4952880"/>
            <a:ext cx="270180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олотой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лос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66"/>
                </a:solidFill>
                <a:latin typeface="Tahoma"/>
              </a:rPr>
              <a:t>Задание:</a:t>
            </a:r>
            <a:r>
              <a:rPr b="0" lang="en-US" sz="4000" spc="-1" strike="noStrike">
                <a:solidFill>
                  <a:srgbClr val="ff9966"/>
                </a:solidFill>
                <a:latin typeface="Tahoma"/>
              </a:rPr>
              <a:t> </a:t>
            </a:r>
            <a:r>
              <a:rPr b="0" i="1" lang="en-US" sz="4000" spc="-1" strike="noStrike">
                <a:solidFill>
                  <a:srgbClr val="ff9966"/>
                </a:solidFill>
                <a:latin typeface="Tahoma"/>
              </a:rPr>
              <a:t>спишите, обозначьте разряды прилагательны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097000"/>
            <a:ext cx="91440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Заячий след, заячий характер, заячий выводок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гусиное перо, гусиная кормушка, гусиная походк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волчья стая, волчий аппетит, волчье логово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лисья нора, лисья шуба, лисья хитрос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b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2070000"/>
            <a:ext cx="9144000" cy="48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.К дому дорога никогда не бывает дли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нн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ой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2.Согласие крепче каме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нн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ых стен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.Только тот человек це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нн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ый, кто смолоду работать привык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4.Всегда имей доброе сердце, а дух мужестве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нн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ый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28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66"/>
                </a:solidFill>
                <a:latin typeface="Tahoma"/>
              </a:rPr>
              <a:t>Задание:</a:t>
            </a:r>
            <a:r>
              <a:rPr b="0" lang="en-US" sz="3400" spc="-1" strike="noStrike">
                <a:solidFill>
                  <a:srgbClr val="ff9966"/>
                </a:solidFill>
                <a:latin typeface="Tahoma"/>
              </a:rPr>
              <a:t> </a:t>
            </a:r>
            <a:r>
              <a:rPr b="0" i="1" lang="en-US" sz="3400" spc="-1" strike="noStrike">
                <a:solidFill>
                  <a:srgbClr val="ff9966"/>
                </a:solidFill>
                <a:latin typeface="Tahoma"/>
              </a:rPr>
              <a:t>выпишите из предложений имена прилагательные в соответствии с разрядо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качественные  </a:t>
            </a:r>
            <a:r>
              <a:rPr b="0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относительные    </a:t>
            </a:r>
            <a:r>
              <a:rPr b="0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ритяжате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rcRect l="14422" t="0" r="7211" b="0"/>
          <a:stretch/>
        </p:blipFill>
        <p:spPr>
          <a:xfrm>
            <a:off x="264960" y="841320"/>
            <a:ext cx="857916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 rot="10800000">
            <a:off x="2393640" y="5125680"/>
            <a:ext cx="6615000" cy="1731960"/>
          </a:xfrm>
          <a:custGeom>
            <a:avLst/>
            <a:gdLst>
              <a:gd name="textAreaLeft" fmla="*/ 1082520 w 6615000"/>
              <a:gd name="textAreaRight" fmla="*/ 5532480 w 6615000"/>
              <a:gd name="textAreaTop" fmla="*/ 283320 h 1731960"/>
              <a:gd name="textAreaBottom" fmla="*/ 1448640 h 173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86" y="21600"/>
                </a:lnTo>
                <a:lnTo>
                  <a:pt x="3214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ощадь </a:t>
            </a:r>
            <a:br>
              <a:rPr sz="3200"/>
            </a:b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Переход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1581120" y="2049120"/>
            <a:ext cx="5127480" cy="102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спект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Качествен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3241800" y="2055600"/>
            <a:ext cx="5127480" cy="1012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спект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тносите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4793400" y="2067480"/>
            <a:ext cx="5127480" cy="988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спект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ритяжате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38120"/>
            <a:ext cx="3632040" cy="71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л. 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Сравнитель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828960"/>
            <a:ext cx="3632040" cy="719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л. 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Превосход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-513360" y="2225880"/>
            <a:ext cx="2671560" cy="533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.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Прост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978840" y="2215080"/>
            <a:ext cx="2671560" cy="5554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.</a:t>
            </a:r>
            <a:r>
              <a:rPr b="1" lang="en-US" sz="2600" spc="-1" strike="noStrike">
                <a:solidFill>
                  <a:srgbClr val="660033"/>
                </a:solidFill>
                <a:latin typeface="Arial"/>
              </a:rPr>
              <a:t>Составно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58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2840" y="3683160"/>
            <a:ext cx="89647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Цели уро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ЗНАКОМИТЬСЯ СО СВОЙСТВОМ ИМЁН ПРИЛАГАТЕЛЬНЫХ ПЕРЕХОДИТЬ ИЗ ОДНОГО РАЗРЯДА В ДРУГ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КРЕПИТЬ ЗНАНИЯ О РАЗРЯДАХ ИМЁН ПРИЛАГАТЕЛЬ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ОРМИРОВАТЬ УМЕНИЕ РАСПОЗНАВАТЬ РАЗРЯДЫ ИМЁН ПРИЛАГАТЕЛЬ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27040"/>
            <a:ext cx="9144000" cy="19224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99"/>
                </a:solidFill>
                <a:latin typeface="Arial"/>
              </a:rPr>
              <a:t>ПЕРЕХОД ИМЕН ПРИЛАГАТЕЛЬНЫ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99"/>
                </a:solidFill>
                <a:latin typeface="Arial"/>
              </a:rPr>
              <a:t>ИЗ ОДНОГО РАЗРЯДА В ДРУГ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мя прилагательно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28760" y="19051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 такое имя прилагательно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 изменяетс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м является в предложени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81080" y="1434960"/>
            <a:ext cx="4467240" cy="3930840"/>
          </a:xfrm>
          <a:prstGeom prst="rect">
            <a:avLst/>
          </a:prstGeom>
          <a:ln w="127080">
            <a:solidFill>
              <a:srgbClr val="99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87360" y="5543640"/>
            <a:ext cx="3241800" cy="91440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ПРОСТАЯ (1 слов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4886280" y="5592600"/>
            <a:ext cx="3797280" cy="86544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СОСТАВНАЯ (2 СЛОВ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1" name="AutoShape 9"/>
          <p:cNvCxnSpPr>
            <a:stCxn id="182" idx="2"/>
            <a:endCxn id="179" idx="0"/>
          </p:cNvCxnSpPr>
          <p:nvPr/>
        </p:nvCxnSpPr>
        <p:spPr>
          <a:xfrm flipH="1">
            <a:off x="2007360" y="1290600"/>
            <a:ext cx="4777560" cy="4253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83" name="AutoShape 10"/>
          <p:cNvCxnSpPr>
            <a:stCxn id="182" idx="2"/>
            <a:endCxn id="179" idx="0"/>
          </p:cNvCxnSpPr>
          <p:nvPr/>
        </p:nvCxnSpPr>
        <p:spPr>
          <a:xfrm flipH="1">
            <a:off x="2007360" y="1290600"/>
            <a:ext cx="4777560" cy="42537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4" name="Text Box 38"/>
          <p:cNvSpPr/>
          <p:nvPr/>
        </p:nvSpPr>
        <p:spPr>
          <a:xfrm rot="2516400">
            <a:off x="2297880" y="3127320"/>
            <a:ext cx="50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Е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И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40"/>
          <p:cNvSpPr/>
          <p:nvPr/>
        </p:nvSpPr>
        <p:spPr>
          <a:xfrm rot="5400000">
            <a:off x="5226120" y="3062520"/>
            <a:ext cx="327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АМЫЙ СИ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41"/>
          <p:cNvSpPr/>
          <p:nvPr/>
        </p:nvSpPr>
        <p:spPr>
          <a:xfrm>
            <a:off x="2065320" y="2406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3"/>
          <p:cNvSpPr/>
          <p:nvPr/>
        </p:nvSpPr>
        <p:spPr>
          <a:xfrm rot="16200000">
            <a:off x="744480" y="294480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ИЛЬНЕ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8" name="Прямая со стрелкой 30"/>
          <p:cNvCxnSpPr>
            <a:stCxn id="189" idx="2"/>
            <a:endCxn id="180" idx="0"/>
          </p:cNvCxnSpPr>
          <p:nvPr/>
        </p:nvCxnSpPr>
        <p:spPr>
          <a:xfrm>
            <a:off x="2009880" y="1268280"/>
            <a:ext cx="4775760" cy="43250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90" name="Прямая со стрелкой 32"/>
          <p:cNvCxnSpPr>
            <a:stCxn id="189" idx="2"/>
            <a:endCxn id="180" idx="0"/>
          </p:cNvCxnSpPr>
          <p:nvPr/>
        </p:nvCxnSpPr>
        <p:spPr>
          <a:xfrm>
            <a:off x="2009880" y="1268280"/>
            <a:ext cx="4775760" cy="432504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82" name="Rectangle 5"/>
          <p:cNvSpPr/>
          <p:nvPr/>
        </p:nvSpPr>
        <p:spPr>
          <a:xfrm>
            <a:off x="4886280" y="353880"/>
            <a:ext cx="3797280" cy="93672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ПРЕВОСХОД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388800" y="353880"/>
            <a:ext cx="3240360" cy="91440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СРАВНИТЕ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1" name="Прямая со стрелкой 34"/>
          <p:cNvCxnSpPr>
            <a:stCxn id="182" idx="2"/>
            <a:endCxn id="180" idx="0"/>
          </p:cNvCxnSpPr>
          <p:nvPr/>
        </p:nvCxnSpPr>
        <p:spPr>
          <a:xfrm flipH="1">
            <a:off x="6783120" y="1292040"/>
            <a:ext cx="2160" cy="430092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2" name="Прямая со стрелкой 36"/>
          <p:cNvCxnSpPr>
            <a:stCxn id="189" idx="2"/>
            <a:endCxn id="179" idx="0"/>
          </p:cNvCxnSpPr>
          <p:nvPr/>
        </p:nvCxnSpPr>
        <p:spPr>
          <a:xfrm flipH="1">
            <a:off x="2007360" y="1268280"/>
            <a:ext cx="2520" cy="42760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93" name="Text Box 42"/>
          <p:cNvSpPr/>
          <p:nvPr/>
        </p:nvSpPr>
        <p:spPr>
          <a:xfrm rot="19080000">
            <a:off x="2778120" y="2674800"/>
            <a:ext cx="34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ИЛЬНЕЙШ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1380960"/>
            <a:ext cx="914400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От следующих прилагательных образуйт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простую форму превосходной степени. Выделите суффиксы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добрый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умный –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сильный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высокий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2503440" y="3281400"/>
            <a:ext cx="370044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ahoma"/>
              </a:rPr>
              <a:t>добрейш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ahoma"/>
              </a:rPr>
              <a:t>умнейший</a:t>
            </a:r>
            <a:r>
              <a:rPr b="1" lang="en-US" sz="3600" spc="-1" strike="noStrike" u="sng">
                <a:solidFill>
                  <a:srgbClr val="cc0066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ahoma"/>
              </a:rPr>
              <a:t>сильнейш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ahoma"/>
              </a:rPr>
              <a:t>высочайш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286560" y="5856120"/>
            <a:ext cx="94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простую форму сравнительной степе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1243080"/>
            <a:ext cx="9144000" cy="54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образуют степени сравнения,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могут сочетаться с наречиями </a:t>
            </a:r>
            <a:br>
              <a:rPr sz="3400"/>
            </a:br>
            <a:r>
              <a:rPr b="0" i="1" lang="en-US" sz="3400" spc="-1" strike="noStrike">
                <a:solidFill>
                  <a:srgbClr val="ff0000"/>
                </a:solidFill>
                <a:latin typeface="Tahoma"/>
              </a:rPr>
              <a:t>очень, чрезвычайно, слишком,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имеют краткую форму,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имеют синонимы,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от них образуются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- сложные прилагательные путём повтора: </a:t>
            </a:r>
            <a:r>
              <a:rPr b="0" i="1" lang="en-US" sz="3400" spc="-1" strike="noStrike">
                <a:solidFill>
                  <a:srgbClr val="ff0000"/>
                </a:solidFill>
                <a:latin typeface="Tahoma"/>
              </a:rPr>
              <a:t>синее-синее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- прилагательные с приставкой НЕ-: </a:t>
            </a:r>
            <a:r>
              <a:rPr b="0" i="1" lang="en-US" sz="3400" spc="-1" strike="noStrike">
                <a:solidFill>
                  <a:srgbClr val="ff0000"/>
                </a:solidFill>
                <a:latin typeface="Tahoma"/>
              </a:rPr>
              <a:t>неблизкий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95320" y="208080"/>
            <a:ext cx="761364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чественные прилагательные</a:t>
            </a:r>
            <a:endParaRPr b="1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604800" y="766800"/>
          <a:ext cx="8032680" cy="4808520"/>
        </p:xfrm>
        <a:graphic>
          <a:graphicData uri="http://schemas.openxmlformats.org/drawingml/2006/table">
            <a:tbl>
              <a:tblPr/>
              <a:tblGrid>
                <a:gridCol w="4016520"/>
                <a:gridCol w="4016160"/>
              </a:tblGrid>
              <a:tr h="263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ношение к месту: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лесной, городско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ношение ко времени: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имни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ношение к действию:</a:t>
                      </a: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ремонтны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ношение к материалу: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деревянны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09:18:43Z</dcterms:created>
  <dc:creator>User</dc:creator>
  <dc:description/>
  <dc:language>en-US</dc:language>
  <cp:lastModifiedBy>teacher</cp:lastModifiedBy>
  <dcterms:modified xsi:type="dcterms:W3CDTF">2009-02-21T10:02:13Z</dcterms:modified>
  <cp:revision>28</cp:revision>
  <dc:subject/>
  <dc:title>ТЕМА УРОКА:РАЗРЯДЫ ИМЁН ПРИЛАГАТЕЛЬНЫХ. ПОЗНАКОМИТЬСЯ СО СВОЙСТВОМ ПРИЛАГАТЕЛЬНЫХ ПЕРЕХОДИТЬ ИЗ ОДНОГО РАЗРЯДА В ДРУГО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