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BAB-9AC1-4E3F-8CE7-0B2363EB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31D-86CF-4DC7-AD16-D06C52A2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719-A56D-4AFB-9B47-F5D8AF8B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2E9-C6AD-4B2B-85AA-6B8C6DF2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8FE65-1FBC-4944-A285-6AAA8829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4D71D-BBEB-41A4-A3F5-545351DB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78E29-2153-40BD-B179-9FAE398F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7B2FB-1A07-4F6D-ADB7-C47C0B1C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F715F-E0F1-42FB-A181-37654A88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99F34-D4FA-445A-876F-EAADDE4F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49570-D1A5-4AF6-BCE9-5133CFE1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D64-D09A-40BB-8508-734E4028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60D1C-DD5A-4898-92EA-DAC591FB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BA82F-1D5C-4741-A0EC-D025716F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6D36D-3DF7-49CE-AD2B-62FB75B7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FA72C-FE3C-4B51-B7DF-D095397D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1FF57-F724-446D-8852-304AFBC4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9675-8E91-4E0A-B673-C86F1E28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DA6FC-7F29-4044-BAE8-3A5E7567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C2CD-68AF-4DA7-8BE5-625D3BB0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0AC9F-BD7F-4A9D-8DAF-70E06C14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FD37-DC82-49AF-84EC-B097119B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638-417F-4FEE-BA5A-7123D0ED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9DB0-E2BE-42CF-90AF-63C5E918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D175-A7B9-491B-AF3E-CCAA1276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79405-E620-41CB-8FE3-4DD07D4E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5EC9-6F7B-415D-AA87-2EF1E91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3460B-669A-4240-BEFF-F7AC5661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D580-9A4A-4DE0-9C7F-7303CB52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37C7D-1FBE-47DB-91AD-8C596FFB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6C73F-2E05-4672-92BE-20976BF5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0AEF5-5FB2-4438-87ED-DB9C558D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9BA8E-6B53-4ECB-ACCC-B9C61BDD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D35-82DE-4E04-AF4B-5BF86BEE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B7BB-8392-4ED0-89EF-78C91D26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645E4-77D7-4B69-8AE7-6CD5EF85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57B2-4226-45A5-8310-CFB43543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4D945-475C-42DF-A2FC-66A7B62A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CE7D4-6692-4237-9877-7DCE58AF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46F8B-17CF-46E5-9769-0E4CAF22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78BC-D4F5-444B-AA49-F7963892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52F9-2815-4448-B585-A0DA0A8B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C81C-B8B9-437E-92C4-381575E3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1D4-3858-4D5A-8777-82479FFF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63C-5C8F-405B-B3A8-7E9CCFA3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CF8-C91F-45F9-B839-0824AF58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BA5-5E47-413F-881D-EF6D5511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3EE-2C20-4D71-997F-4644B277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B45C-F6B6-403B-A5A7-D1CA0478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9056-3177-4A9D-A550-BD349B642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Char char="v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81FB-8A11-44F5-8BDE-1303A9262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B0FB-34E0-4B7A-8C4A-551E4AB0B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526000" y="0"/>
            <a:ext cx="928800" cy="322200"/>
          </a:xfrm>
          <a:prstGeom prst="rect">
            <a:avLst/>
          </a:prstGeom>
          <a:solidFill>
            <a:srgbClr val="b3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rcRect l="14422" t="0" r="7211" b="0"/>
          <a:stretch/>
        </p:blipFill>
        <p:spPr>
          <a:xfrm>
            <a:off x="264960" y="841320"/>
            <a:ext cx="857916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0960" y="29196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00"/>
                </a:solidFill>
                <a:uFillTx/>
                <a:latin typeface="Tahoma"/>
              </a:rPr>
              <a:t>ПОДСКАЗ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210960" y="1273320"/>
            <a:ext cx="873000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ачественное прилага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акой как, похожий на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600" spc="-1" strike="noStrike">
                <a:solidFill>
                  <a:srgbClr val="ff6699"/>
                </a:solidFill>
                <a:latin typeface="Tahoma"/>
              </a:rPr>
              <a:t>лисья хитр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Притяжательное прилага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инадлежит кому-либо, чей-т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600" spc="-1" strike="noStrike">
                <a:solidFill>
                  <a:srgbClr val="ff6699"/>
                </a:solidFill>
                <a:latin typeface="Tahoma"/>
              </a:rPr>
              <a:t>лисья н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Относительное прилагательное: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из чего-т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600" spc="-1" strike="noStrike">
                <a:solidFill>
                  <a:srgbClr val="ff6699"/>
                </a:solidFill>
                <a:latin typeface="Tahoma"/>
              </a:rPr>
              <a:t>лисья шу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8240" y="900000"/>
            <a:ext cx="3990960" cy="4130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905440" y="0"/>
            <a:ext cx="2667240" cy="4952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730080" y="5030640"/>
            <a:ext cx="27054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ьц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61120" y="4952880"/>
            <a:ext cx="270180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й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ос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ahoma"/>
              </a:rPr>
              <a:t>Задание:</a:t>
            </a:r>
            <a:r>
              <a:rPr b="0" lang="en-US" sz="40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ff9966"/>
                </a:solidFill>
                <a:latin typeface="Tahoma"/>
              </a:rPr>
              <a:t>спишите, обозначьте разряды прилагательны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0970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Заячий след, заячий характер, заячий выводо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гусиное перо, гусиная кормушка, гусиная поход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олчья стая, волчий аппетит, волчье логово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лисья нора, лисья шуба, лисья хитр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b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070000"/>
            <a:ext cx="9144000" cy="48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.К дому дорога никогда не бывает дли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ой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.Согласие крепче каме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ых стен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.Только тот человек це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ый, кто смолоду работать привык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4.Всегда имей доброе сердце, а дух мужестве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ый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66"/>
                </a:solidFill>
                <a:latin typeface="Tahoma"/>
              </a:rPr>
              <a:t>Задание:</a:t>
            </a:r>
            <a:r>
              <a:rPr b="0" lang="en-US" sz="34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0" i="1" lang="en-US" sz="3400" spc="-1" strike="noStrike">
                <a:solidFill>
                  <a:srgbClr val="ff9966"/>
                </a:solidFill>
                <a:latin typeface="Tahoma"/>
              </a:rPr>
              <a:t>выпишите из предложений имена прилагательные в соответствии с разрядо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ачественные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тносительные  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тяж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14422" t="0" r="7211" b="0"/>
          <a:stretch/>
        </p:blipFill>
        <p:spPr>
          <a:xfrm>
            <a:off x="264960" y="841320"/>
            <a:ext cx="857916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10800000">
            <a:off x="2393640" y="5125680"/>
            <a:ext cx="6615000" cy="1731960"/>
          </a:xfrm>
          <a:custGeom>
            <a:avLst/>
            <a:gdLst>
              <a:gd name="textAreaLeft" fmla="*/ 1082520 w 6615000"/>
              <a:gd name="textAreaRight" fmla="*/ 5532480 w 6615000"/>
              <a:gd name="textAreaTop" fmla="*/ 283320 h 1731960"/>
              <a:gd name="textAreaBottom" fmla="*/ 1448640 h 173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86" y="21600"/>
                </a:lnTo>
                <a:lnTo>
                  <a:pt x="3214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ь </a:t>
            </a:r>
            <a:br>
              <a:rPr sz="3200"/>
            </a:b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Переход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1581120" y="2049120"/>
            <a:ext cx="5127480" cy="102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пект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Качестве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3241800" y="2055600"/>
            <a:ext cx="5127480" cy="1012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пект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тноси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793400" y="2067480"/>
            <a:ext cx="5127480" cy="988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пект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ритяж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38120"/>
            <a:ext cx="3632040" cy="71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.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Сравните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828960"/>
            <a:ext cx="3632040" cy="71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.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Превосхо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-513360" y="2225880"/>
            <a:ext cx="2671560" cy="533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.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Прос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978840" y="2215080"/>
            <a:ext cx="2671560" cy="555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.</a:t>
            </a:r>
            <a:r>
              <a:rPr b="1" lang="en-US" sz="2600" spc="-1" strike="noStrike">
                <a:solidFill>
                  <a:srgbClr val="660033"/>
                </a:solidFill>
                <a:latin typeface="Arial"/>
              </a:rPr>
              <a:t>Составно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5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2840" y="3683160"/>
            <a:ext cx="8964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Цели ур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ЗНАКОМИТЬСЯ СО СВОЙСТВОМ ИМЁН ПРИЛАГАТЕЛЬНЫХ ПЕРЕХОДИТЬ ИЗ ОДНОГО РАЗРЯДА В ДРУГ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КРЕПИТЬ ЗНАНИЯ О РАЗРЯДАХ ИМЁН ПРИЛАГ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ТЬ УМЕНИЕ РАСПОЗНАВАТЬ РАЗРЯДЫ ИМЁН ПРИЛАГ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27040"/>
            <a:ext cx="9144000" cy="19224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ПЕРЕХОД ИМЕН ПРИЛАГАТЕЛЬ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ИЗ ОДНОГО РАЗРЯДА В ДРУГ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мя прилагательно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2876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такое имя прилагательно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изменяе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является в предложен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1080" y="1434960"/>
            <a:ext cx="4467240" cy="3930840"/>
          </a:xfrm>
          <a:prstGeom prst="rect">
            <a:avLst/>
          </a:prstGeom>
          <a:ln w="12708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87360" y="5543640"/>
            <a:ext cx="3241800" cy="9144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РОСТАЯ (1 сло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886280" y="5592600"/>
            <a:ext cx="3797280" cy="86544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СОСТАВНАЯ (2 СЛО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" name="AutoShape 9"/>
          <p:cNvCxnSpPr>
            <a:stCxn id="182" idx="2"/>
            <a:endCxn id="179" idx="0"/>
          </p:cNvCxnSpPr>
          <p:nvPr/>
        </p:nvCxnSpPr>
        <p:spPr>
          <a:xfrm flipH="1">
            <a:off x="2007360" y="1290600"/>
            <a:ext cx="4777560" cy="4253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83" name="AutoShape 10"/>
          <p:cNvCxnSpPr>
            <a:stCxn id="182" idx="2"/>
            <a:endCxn id="179" idx="0"/>
          </p:cNvCxnSpPr>
          <p:nvPr/>
        </p:nvCxnSpPr>
        <p:spPr>
          <a:xfrm flipH="1">
            <a:off x="2007360" y="1290600"/>
            <a:ext cx="4777560" cy="42537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Text Box 38"/>
          <p:cNvSpPr/>
          <p:nvPr/>
        </p:nvSpPr>
        <p:spPr>
          <a:xfrm rot="2516400">
            <a:off x="2297880" y="3127320"/>
            <a:ext cx="50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И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0"/>
          <p:cNvSpPr/>
          <p:nvPr/>
        </p:nvSpPr>
        <p:spPr>
          <a:xfrm rot="5400000">
            <a:off x="5226120" y="3062520"/>
            <a:ext cx="32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ЫЙ СИ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2065320" y="2406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3"/>
          <p:cNvSpPr/>
          <p:nvPr/>
        </p:nvSpPr>
        <p:spPr>
          <a:xfrm rot="16200000">
            <a:off x="744480" y="29448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ЛЬН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Прямая со стрелкой 30"/>
          <p:cNvCxnSpPr>
            <a:stCxn id="189" idx="2"/>
            <a:endCxn id="180" idx="0"/>
          </p:cNvCxnSpPr>
          <p:nvPr/>
        </p:nvCxnSpPr>
        <p:spPr>
          <a:xfrm>
            <a:off x="2009880" y="1268280"/>
            <a:ext cx="4775760" cy="43250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0" name="Прямая со стрелкой 32"/>
          <p:cNvCxnSpPr>
            <a:stCxn id="189" idx="2"/>
            <a:endCxn id="180" idx="0"/>
          </p:cNvCxnSpPr>
          <p:nvPr/>
        </p:nvCxnSpPr>
        <p:spPr>
          <a:xfrm>
            <a:off x="2009880" y="1268280"/>
            <a:ext cx="4775760" cy="43250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2" name="Rectangle 5"/>
          <p:cNvSpPr/>
          <p:nvPr/>
        </p:nvSpPr>
        <p:spPr>
          <a:xfrm>
            <a:off x="4886280" y="353880"/>
            <a:ext cx="3797280" cy="93672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РЕВОСХО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88800" y="353880"/>
            <a:ext cx="3240360" cy="9144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СРАВНИ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Прямая со стрелкой 34"/>
          <p:cNvCxnSpPr>
            <a:stCxn id="182" idx="2"/>
            <a:endCxn id="180" idx="0"/>
          </p:cNvCxnSpPr>
          <p:nvPr/>
        </p:nvCxnSpPr>
        <p:spPr>
          <a:xfrm flipH="1">
            <a:off x="6783120" y="1292040"/>
            <a:ext cx="2160" cy="43009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2" name="Прямая со стрелкой 36"/>
          <p:cNvCxnSpPr>
            <a:stCxn id="189" idx="2"/>
            <a:endCxn id="179" idx="0"/>
          </p:cNvCxnSpPr>
          <p:nvPr/>
        </p:nvCxnSpPr>
        <p:spPr>
          <a:xfrm flipH="1">
            <a:off x="2007360" y="1268280"/>
            <a:ext cx="2520" cy="4276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3" name="Text Box 42"/>
          <p:cNvSpPr/>
          <p:nvPr/>
        </p:nvSpPr>
        <p:spPr>
          <a:xfrm rot="19080000">
            <a:off x="2778120" y="2674800"/>
            <a:ext cx="34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ЛЬНЕЙШ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380960"/>
            <a:ext cx="91440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От следующих прилагательных образуйт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остую форму превосходной степени. Выделите суффикс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добрый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умный –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сильный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высокий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2503440" y="3281400"/>
            <a:ext cx="37004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добрейш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умнейший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сильнейш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высочайш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286560" y="5856120"/>
            <a:ext cx="9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остую форму сравнительной степ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243080"/>
            <a:ext cx="91440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образуют степени сравнения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могут сочетаться с наречиями </a:t>
            </a:r>
            <a:br>
              <a:rPr sz="3400"/>
            </a:br>
            <a:r>
              <a:rPr b="0" i="1" lang="en-US" sz="3400" spc="-1" strike="noStrike">
                <a:solidFill>
                  <a:srgbClr val="ff0000"/>
                </a:solidFill>
                <a:latin typeface="Tahoma"/>
              </a:rPr>
              <a:t>очень, чрезвычайно, слишком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имеют краткую форму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имеют синонимы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от них образуютс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сложные прилагательные путём повтора: </a:t>
            </a:r>
            <a:r>
              <a:rPr b="0" i="1" lang="en-US" sz="3400" spc="-1" strike="noStrike">
                <a:solidFill>
                  <a:srgbClr val="ff0000"/>
                </a:solidFill>
                <a:latin typeface="Tahoma"/>
              </a:rPr>
              <a:t>синее-сине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прилагательные с приставкой НЕ-: </a:t>
            </a:r>
            <a:r>
              <a:rPr b="0" i="1" lang="en-US" sz="3400" spc="-1" strike="noStrike">
                <a:solidFill>
                  <a:srgbClr val="ff0000"/>
                </a:solidFill>
                <a:latin typeface="Tahoma"/>
              </a:rPr>
              <a:t>неблизк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5320" y="208080"/>
            <a:ext cx="761364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чественные прилагательные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04800" y="766800"/>
          <a:ext cx="8032680" cy="4808520"/>
        </p:xfrm>
        <a:graphic>
          <a:graphicData uri="http://schemas.openxmlformats.org/drawingml/2006/table">
            <a:tbl>
              <a:tblPr/>
              <a:tblGrid>
                <a:gridCol w="4016520"/>
                <a:gridCol w="4016160"/>
              </a:tblGrid>
              <a:tr h="26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к месту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лесной, городск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ко времени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имни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к действию:</a:t>
                      </a: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емонтны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к материалу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деревянны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9:18:43Z</dcterms:created>
  <dc:creator>User</dc:creator>
  <dc:description/>
  <dc:language>en-US</dc:language>
  <cp:lastModifiedBy>teacher</cp:lastModifiedBy>
  <dcterms:modified xsi:type="dcterms:W3CDTF">2009-02-21T10:02:13Z</dcterms:modified>
  <cp:revision>28</cp:revision>
  <dc:subject/>
  <dc:title>ТЕМА УРОКА:РАЗРЯДЫ ИМЁН ПРИЛАГАТЕЛЬНЫХ. ПОЗНАКОМИТЬСЯ СО СВОЙСТВОМ ПРИЛАГАТЕЛЬНЫХ ПЕРЕХОДИТЬ ИЗ ОДНОГО РАЗРЯДА В ДРУГ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