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F0FD5-F1A2-4414-9B52-4F8AE8C37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113DB-7036-45F1-9409-41FFFB221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31C32-8590-4E9E-9EC4-B1FA1BA89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3D9D0-F40A-4D39-B442-D83035ABF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603CB-ECE6-42B1-93CB-EAFA7F0C0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B1812-A9E0-4CC5-8E9C-C8AB57131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F7AC3-1DC3-421E-B9E1-4EB6DAACA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6BABE-03A0-4697-BD49-366966FEE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ABC14-3613-432C-A494-89E9C117A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D403A-958F-44B9-925F-FFAB9A3FA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26FA3-3F3D-409E-BC1E-5A1E053B3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9DFE0-99D7-4145-B678-867337BEE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17B44-DAB3-4EE8-9BBA-62C4C4B24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7AEEF-6015-429C-9756-013451EB2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5D873-FD6E-4504-9A44-C8EEA0A37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E61BB-BFBB-45F7-8C4A-63A0F62B1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91DA7-16E0-4CEA-97A4-FA4791B13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B1515-51BC-412F-95C7-2DD39CBDD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57F83-FFD6-4233-9139-DF712A974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B931B-F886-4F3B-97B0-8D1EAE6D3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98FC4-5E9C-4BB7-B45D-7C0FB6555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0A6DC-E586-4033-A804-AED415BD5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271AE-911D-4184-92CC-3D838C00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5DDEE-51C8-4BF2-A9D5-155760561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2F6D9-A443-43AD-8A2E-42DC51A4984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06DA6-8911-4B00-8F8A-C012B76F88E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chool.ort.spb.ru/library/physics/7class/tema_3/lesson_8/grom_ston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cc00"/>
                </a:solidFill>
                <a:latin typeface="Monotype Corsiva"/>
              </a:rPr>
              <a:t>СИЛЫ ТРЕНИЯ</a:t>
            </a:r>
            <a:endParaRPr b="1" lang="en-US" sz="9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752480" y="3733920"/>
            <a:ext cx="6248520" cy="26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0277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057400" y="30492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ВЫВОД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Почему не удается сразу сдвинуть с места тяжелый ящик или шкаф? 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Как удалось в 1770 году доставить гром-камень из Финляндии, необходимый для изготовления постамента памятника Петру I?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2779560"/>
            <a:ext cx="8001000" cy="40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380880"/>
            <a:ext cx="91440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Между трущимися поверхностями двух тел при их относительном движении действуют силы трения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Times New Roman"/>
              </a:rPr>
              <a:t>Трение поко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Times New Roman"/>
              </a:rPr>
              <a:t>Трение скольже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Times New Roman"/>
              </a:rPr>
              <a:t>Трение каче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343400" y="2286000"/>
            <a:ext cx="441972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Какое трение больше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ПРИЧИНЫ ТРЕНИЯ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Неровности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Взаимно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поверхности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притяжение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молеку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724280" y="3429000"/>
            <a:ext cx="3657600" cy="20480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3505320"/>
            <a:ext cx="388620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219320" y="2133720"/>
            <a:ext cx="6400800" cy="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895480" y="1447920"/>
            <a:ext cx="1295640" cy="6858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191120" y="1676520"/>
            <a:ext cx="1143000" cy="0"/>
          </a:xfrm>
          <a:prstGeom prst="line">
            <a:avLst/>
          </a:prstGeom>
          <a:ln w="57240">
            <a:solidFill>
              <a:srgbClr val="ffff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057400" y="2133720"/>
            <a:ext cx="1371600" cy="0"/>
          </a:xfrm>
          <a:prstGeom prst="line">
            <a:avLst/>
          </a:prstGeom>
          <a:ln w="57240">
            <a:solidFill>
              <a:srgbClr val="ffff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029200" y="990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99072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869080" y="1055520"/>
            <a:ext cx="338040" cy="1054440"/>
          </a:xfrm>
          <a:custGeom>
            <a:avLst/>
            <a:gdLst/>
            <a:ahLst/>
            <a:rect l="l" t="t" r="r" b="b"/>
            <a:pathLst>
              <a:path w="213" h="664">
                <a:moveTo>
                  <a:pt x="184" y="0"/>
                </a:moveTo>
                <a:cubicBezTo>
                  <a:pt x="165" y="55"/>
                  <a:pt x="150" y="109"/>
                  <a:pt x="122" y="159"/>
                </a:cubicBezTo>
                <a:cubicBezTo>
                  <a:pt x="112" y="177"/>
                  <a:pt x="87" y="212"/>
                  <a:pt x="87" y="212"/>
                </a:cubicBezTo>
                <a:cubicBezTo>
                  <a:pt x="75" y="247"/>
                  <a:pt x="60" y="265"/>
                  <a:pt x="34" y="292"/>
                </a:cubicBezTo>
                <a:cubicBezTo>
                  <a:pt x="28" y="310"/>
                  <a:pt x="0" y="335"/>
                  <a:pt x="16" y="345"/>
                </a:cubicBezTo>
                <a:cubicBezTo>
                  <a:pt x="36" y="358"/>
                  <a:pt x="45" y="368"/>
                  <a:pt x="69" y="372"/>
                </a:cubicBezTo>
                <a:cubicBezTo>
                  <a:pt x="110" y="379"/>
                  <a:pt x="193" y="390"/>
                  <a:pt x="193" y="390"/>
                </a:cubicBezTo>
                <a:cubicBezTo>
                  <a:pt x="199" y="399"/>
                  <a:pt x="213" y="406"/>
                  <a:pt x="211" y="416"/>
                </a:cubicBezTo>
                <a:cubicBezTo>
                  <a:pt x="209" y="429"/>
                  <a:pt x="191" y="432"/>
                  <a:pt x="184" y="443"/>
                </a:cubicBezTo>
                <a:cubicBezTo>
                  <a:pt x="179" y="451"/>
                  <a:pt x="180" y="461"/>
                  <a:pt x="175" y="469"/>
                </a:cubicBezTo>
                <a:cubicBezTo>
                  <a:pt x="162" y="488"/>
                  <a:pt x="144" y="503"/>
                  <a:pt x="131" y="522"/>
                </a:cubicBezTo>
                <a:cubicBezTo>
                  <a:pt x="118" y="562"/>
                  <a:pt x="92" y="594"/>
                  <a:pt x="69" y="629"/>
                </a:cubicBezTo>
                <a:cubicBezTo>
                  <a:pt x="64" y="637"/>
                  <a:pt x="52" y="650"/>
                  <a:pt x="60" y="655"/>
                </a:cubicBezTo>
                <a:cubicBezTo>
                  <a:pt x="75" y="664"/>
                  <a:pt x="95" y="655"/>
                  <a:pt x="113" y="655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599080" y="1665360"/>
            <a:ext cx="351000" cy="466560"/>
          </a:xfrm>
          <a:custGeom>
            <a:avLst/>
            <a:gdLst/>
            <a:ahLst/>
            <a:rect l="l" t="t" r="r" b="b"/>
            <a:pathLst>
              <a:path w="221" h="294">
                <a:moveTo>
                  <a:pt x="124" y="59"/>
                </a:moveTo>
                <a:cubicBezTo>
                  <a:pt x="112" y="77"/>
                  <a:pt x="96" y="92"/>
                  <a:pt x="89" y="112"/>
                </a:cubicBezTo>
                <a:cubicBezTo>
                  <a:pt x="86" y="121"/>
                  <a:pt x="85" y="130"/>
                  <a:pt x="80" y="138"/>
                </a:cubicBezTo>
                <a:cubicBezTo>
                  <a:pt x="73" y="149"/>
                  <a:pt x="61" y="155"/>
                  <a:pt x="53" y="165"/>
                </a:cubicBezTo>
                <a:cubicBezTo>
                  <a:pt x="30" y="193"/>
                  <a:pt x="12" y="237"/>
                  <a:pt x="0" y="271"/>
                </a:cubicBezTo>
                <a:cubicBezTo>
                  <a:pt x="9" y="277"/>
                  <a:pt x="16" y="287"/>
                  <a:pt x="26" y="289"/>
                </a:cubicBezTo>
                <a:cubicBezTo>
                  <a:pt x="54" y="294"/>
                  <a:pt x="108" y="220"/>
                  <a:pt x="124" y="200"/>
                </a:cubicBezTo>
                <a:cubicBezTo>
                  <a:pt x="137" y="183"/>
                  <a:pt x="147" y="165"/>
                  <a:pt x="159" y="147"/>
                </a:cubicBezTo>
                <a:cubicBezTo>
                  <a:pt x="165" y="138"/>
                  <a:pt x="177" y="121"/>
                  <a:pt x="177" y="121"/>
                </a:cubicBezTo>
                <a:cubicBezTo>
                  <a:pt x="192" y="75"/>
                  <a:pt x="173" y="80"/>
                  <a:pt x="133" y="68"/>
                </a:cubicBezTo>
                <a:cubicBezTo>
                  <a:pt x="146" y="30"/>
                  <a:pt x="146" y="0"/>
                  <a:pt x="221" y="50"/>
                </a:cubicBezTo>
                <a:cubicBezTo>
                  <a:pt x="221" y="50"/>
                  <a:pt x="182" y="89"/>
                  <a:pt x="177" y="94"/>
                </a:cubicBezTo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908680" y="1027080"/>
            <a:ext cx="422280" cy="1082880"/>
          </a:xfrm>
          <a:custGeom>
            <a:avLst/>
            <a:gdLst/>
            <a:ahLst/>
            <a:rect l="l" t="t" r="r" b="b"/>
            <a:pathLst>
              <a:path w="266" h="682">
                <a:moveTo>
                  <a:pt x="257" y="35"/>
                </a:moveTo>
                <a:cubicBezTo>
                  <a:pt x="235" y="100"/>
                  <a:pt x="266" y="20"/>
                  <a:pt x="221" y="89"/>
                </a:cubicBezTo>
                <a:cubicBezTo>
                  <a:pt x="210" y="105"/>
                  <a:pt x="204" y="124"/>
                  <a:pt x="195" y="142"/>
                </a:cubicBezTo>
                <a:cubicBezTo>
                  <a:pt x="162" y="208"/>
                  <a:pt x="150" y="275"/>
                  <a:pt x="97" y="328"/>
                </a:cubicBezTo>
                <a:cubicBezTo>
                  <a:pt x="135" y="341"/>
                  <a:pt x="174" y="344"/>
                  <a:pt x="213" y="354"/>
                </a:cubicBezTo>
                <a:cubicBezTo>
                  <a:pt x="219" y="363"/>
                  <a:pt x="226" y="371"/>
                  <a:pt x="230" y="381"/>
                </a:cubicBezTo>
                <a:cubicBezTo>
                  <a:pt x="237" y="398"/>
                  <a:pt x="248" y="434"/>
                  <a:pt x="248" y="434"/>
                </a:cubicBezTo>
                <a:cubicBezTo>
                  <a:pt x="242" y="452"/>
                  <a:pt x="243" y="474"/>
                  <a:pt x="230" y="487"/>
                </a:cubicBezTo>
                <a:cubicBezTo>
                  <a:pt x="187" y="530"/>
                  <a:pt x="141" y="570"/>
                  <a:pt x="106" y="620"/>
                </a:cubicBezTo>
                <a:cubicBezTo>
                  <a:pt x="130" y="623"/>
                  <a:pt x="157" y="616"/>
                  <a:pt x="177" y="629"/>
                </a:cubicBezTo>
                <a:cubicBezTo>
                  <a:pt x="186" y="635"/>
                  <a:pt x="167" y="648"/>
                  <a:pt x="159" y="656"/>
                </a:cubicBezTo>
                <a:cubicBezTo>
                  <a:pt x="152" y="663"/>
                  <a:pt x="143" y="670"/>
                  <a:pt x="133" y="673"/>
                </a:cubicBezTo>
                <a:cubicBezTo>
                  <a:pt x="110" y="679"/>
                  <a:pt x="86" y="679"/>
                  <a:pt x="62" y="682"/>
                </a:cubicBezTo>
                <a:cubicBezTo>
                  <a:pt x="78" y="636"/>
                  <a:pt x="104" y="593"/>
                  <a:pt x="124" y="549"/>
                </a:cubicBezTo>
                <a:cubicBezTo>
                  <a:pt x="168" y="452"/>
                  <a:pt x="119" y="530"/>
                  <a:pt x="159" y="470"/>
                </a:cubicBezTo>
                <a:cubicBezTo>
                  <a:pt x="150" y="398"/>
                  <a:pt x="158" y="392"/>
                  <a:pt x="97" y="372"/>
                </a:cubicBezTo>
                <a:cubicBezTo>
                  <a:pt x="16" y="393"/>
                  <a:pt x="46" y="404"/>
                  <a:pt x="0" y="372"/>
                </a:cubicBezTo>
                <a:cubicBezTo>
                  <a:pt x="10" y="286"/>
                  <a:pt x="8" y="282"/>
                  <a:pt x="53" y="213"/>
                </a:cubicBezTo>
                <a:cubicBezTo>
                  <a:pt x="60" y="202"/>
                  <a:pt x="72" y="196"/>
                  <a:pt x="80" y="186"/>
                </a:cubicBezTo>
                <a:cubicBezTo>
                  <a:pt x="93" y="169"/>
                  <a:pt x="115" y="133"/>
                  <a:pt x="115" y="133"/>
                </a:cubicBezTo>
                <a:cubicBezTo>
                  <a:pt x="136" y="49"/>
                  <a:pt x="136" y="30"/>
                  <a:pt x="221" y="0"/>
                </a:cubicBezTo>
                <a:cubicBezTo>
                  <a:pt x="243" y="32"/>
                  <a:pt x="230" y="21"/>
                  <a:pt x="257" y="35"/>
                </a:cubicBez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638680" y="1066680"/>
            <a:ext cx="463680" cy="444600"/>
          </a:xfrm>
          <a:custGeom>
            <a:avLst/>
            <a:gdLst/>
            <a:ahLst/>
            <a:rect l="l" t="t" r="r" b="b"/>
            <a:pathLst>
              <a:path w="292" h="280">
                <a:moveTo>
                  <a:pt x="292" y="9"/>
                </a:moveTo>
                <a:cubicBezTo>
                  <a:pt x="263" y="51"/>
                  <a:pt x="217" y="90"/>
                  <a:pt x="168" y="106"/>
                </a:cubicBezTo>
                <a:cubicBezTo>
                  <a:pt x="138" y="151"/>
                  <a:pt x="159" y="127"/>
                  <a:pt x="97" y="168"/>
                </a:cubicBezTo>
                <a:cubicBezTo>
                  <a:pt x="88" y="174"/>
                  <a:pt x="70" y="186"/>
                  <a:pt x="70" y="186"/>
                </a:cubicBezTo>
                <a:cubicBezTo>
                  <a:pt x="8" y="280"/>
                  <a:pt x="52" y="244"/>
                  <a:pt x="26" y="212"/>
                </a:cubicBezTo>
                <a:cubicBezTo>
                  <a:pt x="20" y="204"/>
                  <a:pt x="9" y="201"/>
                  <a:pt x="0" y="195"/>
                </a:cubicBezTo>
                <a:cubicBezTo>
                  <a:pt x="13" y="150"/>
                  <a:pt x="45" y="130"/>
                  <a:pt x="88" y="115"/>
                </a:cubicBezTo>
                <a:cubicBezTo>
                  <a:pt x="119" y="69"/>
                  <a:pt x="165" y="49"/>
                  <a:pt x="212" y="26"/>
                </a:cubicBezTo>
                <a:cubicBezTo>
                  <a:pt x="227" y="19"/>
                  <a:pt x="246" y="0"/>
                  <a:pt x="265" y="0"/>
                </a:cubicBezTo>
                <a:cubicBezTo>
                  <a:pt x="274" y="0"/>
                  <a:pt x="283" y="6"/>
                  <a:pt x="292" y="9"/>
                </a:cubicBez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64200" y="1154160"/>
            <a:ext cx="322200" cy="303120"/>
          </a:xfrm>
          <a:custGeom>
            <a:avLst/>
            <a:gdLst/>
            <a:ahLst/>
            <a:rect l="l" t="t" r="r" b="b"/>
            <a:pathLst>
              <a:path w="203" h="191">
                <a:moveTo>
                  <a:pt x="97" y="9"/>
                </a:moveTo>
                <a:cubicBezTo>
                  <a:pt x="79" y="60"/>
                  <a:pt x="102" y="12"/>
                  <a:pt x="61" y="53"/>
                </a:cubicBezTo>
                <a:cubicBezTo>
                  <a:pt x="28" y="86"/>
                  <a:pt x="54" y="93"/>
                  <a:pt x="8" y="124"/>
                </a:cubicBezTo>
                <a:cubicBezTo>
                  <a:pt x="11" y="142"/>
                  <a:pt x="0" y="171"/>
                  <a:pt x="17" y="177"/>
                </a:cubicBezTo>
                <a:cubicBezTo>
                  <a:pt x="58" y="191"/>
                  <a:pt x="155" y="167"/>
                  <a:pt x="203" y="150"/>
                </a:cubicBezTo>
                <a:cubicBezTo>
                  <a:pt x="186" y="84"/>
                  <a:pt x="166" y="106"/>
                  <a:pt x="97" y="115"/>
                </a:cubicBezTo>
                <a:cubicBezTo>
                  <a:pt x="109" y="68"/>
                  <a:pt x="149" y="20"/>
                  <a:pt x="88" y="0"/>
                </a:cubicBezTo>
                <a:cubicBezTo>
                  <a:pt x="79" y="6"/>
                  <a:pt x="66" y="8"/>
                  <a:pt x="61" y="17"/>
                </a:cubicBezTo>
                <a:cubicBezTo>
                  <a:pt x="45" y="45"/>
                  <a:pt x="59" y="73"/>
                  <a:pt x="35" y="97"/>
                </a:cubicBezTo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248520" y="685800"/>
            <a:ext cx="15228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905120" y="1295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057400" y="129528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152388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тр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71600" y="3200400"/>
            <a:ext cx="510552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1142640"/>
            <a:ext cx="815364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Силы трения </a:t>
            </a:r>
            <a:r>
              <a:rPr b="1" lang="en-US" sz="4000" spc="-1" strike="noStrike" u="sng">
                <a:solidFill>
                  <a:srgbClr val="ffffcc"/>
                </a:solidFill>
                <a:uFillTx/>
                <a:latin typeface="Times New Roman"/>
              </a:rPr>
              <a:t>зависят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: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3600" spc="-1" strike="noStrike">
                <a:solidFill>
                  <a:srgbClr val="e5e5ff"/>
                </a:solidFill>
                <a:latin typeface="Times New Roman"/>
              </a:rPr>
              <a:t>1. От веса тела</a:t>
            </a:r>
            <a:br>
              <a:rPr sz="3600"/>
            </a:br>
            <a:r>
              <a:rPr b="1" i="1" lang="en-US" sz="3600" spc="-1" strike="noStrike">
                <a:solidFill>
                  <a:srgbClr val="e5e5ff"/>
                </a:solidFill>
                <a:latin typeface="Times New Roman"/>
              </a:rPr>
              <a:t>2. От рода материала поверхностей</a:t>
            </a:r>
            <a:br>
              <a:rPr sz="3600"/>
            </a:br>
            <a:r>
              <a:rPr b="1" i="1" lang="en-US" sz="3600" spc="-1" strike="noStrike">
                <a:solidFill>
                  <a:srgbClr val="e5e5ff"/>
                </a:solidFill>
                <a:latin typeface="Times New Roman"/>
              </a:rPr>
              <a:t>3. от качества шлифовки поверхностей.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4647960"/>
            <a:ext cx="8229600" cy="27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Силы трения не </a:t>
            </a:r>
            <a:r>
              <a:rPr b="1" lang="en-US" sz="4000" spc="-1" strike="noStrike" u="sng">
                <a:solidFill>
                  <a:srgbClr val="ffffcc"/>
                </a:solidFill>
                <a:uFillTx/>
                <a:latin typeface="Times New Roman"/>
              </a:rPr>
              <a:t>зависят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1. От площади соприкасающихся поверхностей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343400" y="1143000"/>
            <a:ext cx="480060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Как уменьшить трение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Шлифовка деталей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Смазка трущихся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поверхностей и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подшипник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04920" y="3276720"/>
            <a:ext cx="4038480" cy="22129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800600" y="3200400"/>
            <a:ext cx="380988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Чтобы увеличить трение, надо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Garamond"/>
              </a:rPr>
              <a:t>Увеличить нагрузку (вес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Garamond"/>
              </a:rPr>
              <a:t>Увеличить шероховатости поверхност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14400" y="2895480"/>
            <a:ext cx="723888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fremov</cp:lastModifiedBy>
  <dcterms:modified xsi:type="dcterms:W3CDTF">2004-12-07T07:07:56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