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7A99-E4B8-49F2-B398-644A793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6127-56D3-446B-AFF9-2A447F13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8C62-5C24-4A09-98E5-55546C4C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36B2-9627-4649-BFB7-5F28AB25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1295-C44E-4E70-A2CD-0C64469A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323-4BB2-4412-8441-B9D498B6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32A-AA10-42D8-BC10-E4B1D4D3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7B6D-98D2-436B-BE02-EA06DF0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F24-1407-48AA-AF89-F2EE0798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3B83-C316-42F1-BC3C-2FF8CB7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A92B-E7EF-4A25-8737-DA627FF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5B04-C2C1-49E5-8019-CA2B322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D35-1115-4283-8E05-1ACD040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7AB9-D1A6-4933-90EA-23E56F7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26C-3267-46AA-AA53-D7B9695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444-E0AC-4C31-8D2E-A81E2E33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1A79-8639-4F9A-876C-E0109605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D608-D0C4-4D24-A64D-2DB8374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5197-8A44-4508-9BF5-EB533A5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67AA-96D9-476C-99E8-E5DE1F74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FFBB-AB36-4958-B979-8A3F80EF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D1D9-3EAD-493E-8EA2-963C360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BE5E-CF7D-4D95-9CCF-F55B513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6F31-484E-475C-BEF2-693E7481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1C7-D831-4889-9C6C-974C54DD5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82D-381C-45C7-B51D-CE77E19A8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7class/tema_3/lesson_8/grom_st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Monotype Corsiva"/>
              </a:rPr>
              <a:t>СИЛЫ ТРЕНИЯ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62485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очему не удается сразу сдвинуть с места тяжелый ящик или шкаф?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Как удалось в 1770 году доставить гром-камень из Финляндии, необходимый для изготовления постамента памятника Петру I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79560"/>
            <a:ext cx="800100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Между трущимися поверхностями двух тел при их относительном движении действуют силы трен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поко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сколь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Трение кач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419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акое трение больш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ПРИЧИНЫ ТРЕ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ровност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заимн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верхности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тяжени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оле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8862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2133720"/>
            <a:ext cx="64008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676520"/>
            <a:ext cx="1143000" cy="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2133720"/>
            <a:ext cx="1371600" cy="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990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9080" y="1055520"/>
            <a:ext cx="338040" cy="1054440"/>
          </a:xfrm>
          <a:custGeom>
            <a:avLst/>
            <a:gdLst/>
            <a:ahLst/>
            <a:rect l="l" t="t" r="r" b="b"/>
            <a:pathLst>
              <a:path w="213" h="664">
                <a:moveTo>
                  <a:pt x="184" y="0"/>
                </a:moveTo>
                <a:cubicBezTo>
                  <a:pt x="165" y="55"/>
                  <a:pt x="150" y="109"/>
                  <a:pt x="122" y="159"/>
                </a:cubicBezTo>
                <a:cubicBezTo>
                  <a:pt x="112" y="177"/>
                  <a:pt x="87" y="212"/>
                  <a:pt x="87" y="212"/>
                </a:cubicBezTo>
                <a:cubicBezTo>
                  <a:pt x="75" y="247"/>
                  <a:pt x="60" y="265"/>
                  <a:pt x="34" y="292"/>
                </a:cubicBezTo>
                <a:cubicBezTo>
                  <a:pt x="28" y="310"/>
                  <a:pt x="0" y="335"/>
                  <a:pt x="16" y="345"/>
                </a:cubicBezTo>
                <a:cubicBezTo>
                  <a:pt x="36" y="358"/>
                  <a:pt x="45" y="368"/>
                  <a:pt x="69" y="372"/>
                </a:cubicBezTo>
                <a:cubicBezTo>
                  <a:pt x="110" y="379"/>
                  <a:pt x="193" y="390"/>
                  <a:pt x="193" y="390"/>
                </a:cubicBezTo>
                <a:cubicBezTo>
                  <a:pt x="199" y="399"/>
                  <a:pt x="213" y="406"/>
                  <a:pt x="211" y="416"/>
                </a:cubicBezTo>
                <a:cubicBezTo>
                  <a:pt x="209" y="429"/>
                  <a:pt x="191" y="432"/>
                  <a:pt x="184" y="443"/>
                </a:cubicBezTo>
                <a:cubicBezTo>
                  <a:pt x="179" y="451"/>
                  <a:pt x="180" y="461"/>
                  <a:pt x="175" y="469"/>
                </a:cubicBezTo>
                <a:cubicBezTo>
                  <a:pt x="162" y="488"/>
                  <a:pt x="144" y="503"/>
                  <a:pt x="131" y="522"/>
                </a:cubicBezTo>
                <a:cubicBezTo>
                  <a:pt x="118" y="562"/>
                  <a:pt x="92" y="594"/>
                  <a:pt x="69" y="629"/>
                </a:cubicBezTo>
                <a:cubicBezTo>
                  <a:pt x="64" y="637"/>
                  <a:pt x="52" y="650"/>
                  <a:pt x="60" y="655"/>
                </a:cubicBezTo>
                <a:cubicBezTo>
                  <a:pt x="75" y="664"/>
                  <a:pt x="95" y="655"/>
                  <a:pt x="113" y="6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9080" y="1665360"/>
            <a:ext cx="351000" cy="466560"/>
          </a:xfrm>
          <a:custGeom>
            <a:avLst/>
            <a:gdLst/>
            <a:ahLst/>
            <a:rect l="l" t="t" r="r" b="b"/>
            <a:pathLst>
              <a:path w="221" h="294">
                <a:moveTo>
                  <a:pt x="124" y="59"/>
                </a:moveTo>
                <a:cubicBezTo>
                  <a:pt x="112" y="77"/>
                  <a:pt x="96" y="92"/>
                  <a:pt x="89" y="112"/>
                </a:cubicBezTo>
                <a:cubicBezTo>
                  <a:pt x="86" y="121"/>
                  <a:pt x="85" y="130"/>
                  <a:pt x="80" y="138"/>
                </a:cubicBezTo>
                <a:cubicBezTo>
                  <a:pt x="73" y="149"/>
                  <a:pt x="61" y="155"/>
                  <a:pt x="53" y="165"/>
                </a:cubicBezTo>
                <a:cubicBezTo>
                  <a:pt x="30" y="193"/>
                  <a:pt x="12" y="237"/>
                  <a:pt x="0" y="271"/>
                </a:cubicBezTo>
                <a:cubicBezTo>
                  <a:pt x="9" y="277"/>
                  <a:pt x="16" y="287"/>
                  <a:pt x="26" y="289"/>
                </a:cubicBezTo>
                <a:cubicBezTo>
                  <a:pt x="54" y="294"/>
                  <a:pt x="108" y="220"/>
                  <a:pt x="124" y="200"/>
                </a:cubicBezTo>
                <a:cubicBezTo>
                  <a:pt x="137" y="183"/>
                  <a:pt x="147" y="165"/>
                  <a:pt x="159" y="147"/>
                </a:cubicBezTo>
                <a:cubicBezTo>
                  <a:pt x="165" y="138"/>
                  <a:pt x="177" y="121"/>
                  <a:pt x="177" y="121"/>
                </a:cubicBezTo>
                <a:cubicBezTo>
                  <a:pt x="192" y="75"/>
                  <a:pt x="173" y="80"/>
                  <a:pt x="133" y="68"/>
                </a:cubicBezTo>
                <a:cubicBezTo>
                  <a:pt x="146" y="30"/>
                  <a:pt x="146" y="0"/>
                  <a:pt x="221" y="50"/>
                </a:cubicBezTo>
                <a:cubicBezTo>
                  <a:pt x="221" y="50"/>
                  <a:pt x="182" y="89"/>
                  <a:pt x="177" y="94"/>
                </a:cubicBez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8680" y="1027080"/>
            <a:ext cx="422280" cy="1082880"/>
          </a:xfrm>
          <a:custGeom>
            <a:avLst/>
            <a:gdLst/>
            <a:ahLst/>
            <a:rect l="l" t="t" r="r" b="b"/>
            <a:pathLst>
              <a:path w="266" h="682">
                <a:moveTo>
                  <a:pt x="257" y="35"/>
                </a:moveTo>
                <a:cubicBezTo>
                  <a:pt x="235" y="100"/>
                  <a:pt x="266" y="20"/>
                  <a:pt x="221" y="89"/>
                </a:cubicBezTo>
                <a:cubicBezTo>
                  <a:pt x="210" y="105"/>
                  <a:pt x="204" y="124"/>
                  <a:pt x="195" y="142"/>
                </a:cubicBezTo>
                <a:cubicBezTo>
                  <a:pt x="162" y="208"/>
                  <a:pt x="150" y="275"/>
                  <a:pt x="97" y="328"/>
                </a:cubicBezTo>
                <a:cubicBezTo>
                  <a:pt x="135" y="341"/>
                  <a:pt x="174" y="344"/>
                  <a:pt x="213" y="354"/>
                </a:cubicBezTo>
                <a:cubicBezTo>
                  <a:pt x="219" y="363"/>
                  <a:pt x="226" y="371"/>
                  <a:pt x="230" y="381"/>
                </a:cubicBezTo>
                <a:cubicBezTo>
                  <a:pt x="237" y="398"/>
                  <a:pt x="248" y="434"/>
                  <a:pt x="248" y="434"/>
                </a:cubicBezTo>
                <a:cubicBezTo>
                  <a:pt x="242" y="452"/>
                  <a:pt x="243" y="474"/>
                  <a:pt x="230" y="487"/>
                </a:cubicBezTo>
                <a:cubicBezTo>
                  <a:pt x="187" y="530"/>
                  <a:pt x="141" y="570"/>
                  <a:pt x="106" y="620"/>
                </a:cubicBezTo>
                <a:cubicBezTo>
                  <a:pt x="130" y="623"/>
                  <a:pt x="157" y="616"/>
                  <a:pt x="177" y="629"/>
                </a:cubicBezTo>
                <a:cubicBezTo>
                  <a:pt x="186" y="635"/>
                  <a:pt x="167" y="648"/>
                  <a:pt x="159" y="656"/>
                </a:cubicBezTo>
                <a:cubicBezTo>
                  <a:pt x="152" y="663"/>
                  <a:pt x="143" y="670"/>
                  <a:pt x="133" y="673"/>
                </a:cubicBezTo>
                <a:cubicBezTo>
                  <a:pt x="110" y="679"/>
                  <a:pt x="86" y="679"/>
                  <a:pt x="62" y="682"/>
                </a:cubicBezTo>
                <a:cubicBezTo>
                  <a:pt x="78" y="636"/>
                  <a:pt x="104" y="593"/>
                  <a:pt x="124" y="549"/>
                </a:cubicBezTo>
                <a:cubicBezTo>
                  <a:pt x="168" y="452"/>
                  <a:pt x="119" y="530"/>
                  <a:pt x="159" y="470"/>
                </a:cubicBezTo>
                <a:cubicBezTo>
                  <a:pt x="150" y="398"/>
                  <a:pt x="158" y="392"/>
                  <a:pt x="97" y="372"/>
                </a:cubicBezTo>
                <a:cubicBezTo>
                  <a:pt x="16" y="393"/>
                  <a:pt x="46" y="404"/>
                  <a:pt x="0" y="372"/>
                </a:cubicBezTo>
                <a:cubicBezTo>
                  <a:pt x="10" y="286"/>
                  <a:pt x="8" y="282"/>
                  <a:pt x="53" y="213"/>
                </a:cubicBezTo>
                <a:cubicBezTo>
                  <a:pt x="60" y="202"/>
                  <a:pt x="72" y="196"/>
                  <a:pt x="80" y="186"/>
                </a:cubicBezTo>
                <a:cubicBezTo>
                  <a:pt x="93" y="169"/>
                  <a:pt x="115" y="133"/>
                  <a:pt x="115" y="133"/>
                </a:cubicBezTo>
                <a:cubicBezTo>
                  <a:pt x="136" y="49"/>
                  <a:pt x="136" y="30"/>
                  <a:pt x="221" y="0"/>
                </a:cubicBezTo>
                <a:cubicBezTo>
                  <a:pt x="243" y="32"/>
                  <a:pt x="230" y="21"/>
                  <a:pt x="257" y="35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1066680"/>
            <a:ext cx="463680" cy="444600"/>
          </a:xfrm>
          <a:custGeom>
            <a:avLst/>
            <a:gdLst/>
            <a:ahLst/>
            <a:rect l="l" t="t" r="r" b="b"/>
            <a:pathLst>
              <a:path w="292" h="280">
                <a:moveTo>
                  <a:pt x="292" y="9"/>
                </a:moveTo>
                <a:cubicBezTo>
                  <a:pt x="263" y="51"/>
                  <a:pt x="217" y="90"/>
                  <a:pt x="168" y="106"/>
                </a:cubicBezTo>
                <a:cubicBezTo>
                  <a:pt x="138" y="151"/>
                  <a:pt x="159" y="127"/>
                  <a:pt x="97" y="168"/>
                </a:cubicBezTo>
                <a:cubicBezTo>
                  <a:pt x="88" y="174"/>
                  <a:pt x="70" y="186"/>
                  <a:pt x="70" y="186"/>
                </a:cubicBezTo>
                <a:cubicBezTo>
                  <a:pt x="8" y="280"/>
                  <a:pt x="52" y="244"/>
                  <a:pt x="26" y="212"/>
                </a:cubicBezTo>
                <a:cubicBezTo>
                  <a:pt x="20" y="204"/>
                  <a:pt x="9" y="201"/>
                  <a:pt x="0" y="195"/>
                </a:cubicBezTo>
                <a:cubicBezTo>
                  <a:pt x="13" y="150"/>
                  <a:pt x="45" y="130"/>
                  <a:pt x="88" y="115"/>
                </a:cubicBezTo>
                <a:cubicBezTo>
                  <a:pt x="119" y="69"/>
                  <a:pt x="165" y="49"/>
                  <a:pt x="212" y="26"/>
                </a:cubicBezTo>
                <a:cubicBezTo>
                  <a:pt x="227" y="19"/>
                  <a:pt x="246" y="0"/>
                  <a:pt x="265" y="0"/>
                </a:cubicBezTo>
                <a:cubicBezTo>
                  <a:pt x="274" y="0"/>
                  <a:pt x="283" y="6"/>
                  <a:pt x="292" y="9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64200" y="1154160"/>
            <a:ext cx="322200" cy="303120"/>
          </a:xfrm>
          <a:custGeom>
            <a:avLst/>
            <a:gdLst/>
            <a:ahLst/>
            <a:rect l="l" t="t" r="r" b="b"/>
            <a:pathLst>
              <a:path w="203" h="191">
                <a:moveTo>
                  <a:pt x="97" y="9"/>
                </a:moveTo>
                <a:cubicBezTo>
                  <a:pt x="79" y="60"/>
                  <a:pt x="102" y="12"/>
                  <a:pt x="61" y="53"/>
                </a:cubicBezTo>
                <a:cubicBezTo>
                  <a:pt x="28" y="86"/>
                  <a:pt x="54" y="93"/>
                  <a:pt x="8" y="124"/>
                </a:cubicBezTo>
                <a:cubicBezTo>
                  <a:pt x="11" y="142"/>
                  <a:pt x="0" y="171"/>
                  <a:pt x="17" y="177"/>
                </a:cubicBezTo>
                <a:cubicBezTo>
                  <a:pt x="58" y="191"/>
                  <a:pt x="155" y="167"/>
                  <a:pt x="203" y="150"/>
                </a:cubicBezTo>
                <a:cubicBezTo>
                  <a:pt x="186" y="84"/>
                  <a:pt x="166" y="106"/>
                  <a:pt x="97" y="115"/>
                </a:cubicBezTo>
                <a:cubicBezTo>
                  <a:pt x="109" y="68"/>
                  <a:pt x="149" y="20"/>
                  <a:pt x="88" y="0"/>
                </a:cubicBezTo>
                <a:cubicBezTo>
                  <a:pt x="79" y="6"/>
                  <a:pt x="66" y="8"/>
                  <a:pt x="61" y="17"/>
                </a:cubicBezTo>
                <a:cubicBezTo>
                  <a:pt x="45" y="45"/>
                  <a:pt x="59" y="73"/>
                  <a:pt x="35" y="97"/>
                </a:cubicBez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685800"/>
            <a:ext cx="15228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295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илы трения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зависят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1. От веса тела</a:t>
            </a:r>
            <a:br>
              <a:rPr sz="36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2. От рода материала поверхностей</a:t>
            </a:r>
            <a:br>
              <a:rPr sz="3600"/>
            </a:br>
            <a:r>
              <a:rPr b="1" i="1" lang="en-US" sz="3600" spc="-1" strike="noStrike">
                <a:solidFill>
                  <a:srgbClr val="e5e5ff"/>
                </a:solidFill>
                <a:latin typeface="Times New Roman"/>
              </a:rPr>
              <a:t>3. от качества шлифовки поверхностей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илы трения не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зависят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От площади соприкасающихся поверхност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ак уменьшить трение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Шлифовка детале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мазка трущихся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верхностей и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038480" cy="221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Чтобы увеличить трение, над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Увеличить нагрузку (ве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Увеличить шероховатости поверх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fremov</cp:lastModifiedBy>
  <dcterms:modified xsi:type="dcterms:W3CDTF">2004-12-07T07:07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