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8.wmf" ContentType="image/x-wmf"/>
  <Override PartName="/ppt/media/image5.jpeg" ContentType="image/jpe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D662-11A9-42CF-AC78-C5CA7AF8A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0FEE-F096-4A9B-A758-7F3552A3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9389-2ADB-4062-9B6F-D2B7E930F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268A-50E5-4755-BBBB-6F615655F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E42F-3F23-4C05-9CAC-9FD12610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9CF9-5854-4F3C-90C4-81058A98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AF3D-460B-4C08-A415-E360EAD1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1B8C-B783-4894-BC78-26AF6248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A4EC-2525-41BB-B65E-AE826249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CBA0-F120-4B52-81A9-F395C037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4AA6-0EB9-46D6-90A2-E4CAAB13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F0A4-A741-4941-B057-BF95019B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6C70-6162-43E6-9081-15A14C2DE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1" descr="Музыкальная шкатулка"/>
          <p:cNvPicPr/>
          <p:nvPr/>
        </p:nvPicPr>
        <p:blipFill>
          <a:blip r:embed="rId2"/>
          <a:srcRect l="0" t="0" r="47254" b="0"/>
          <a:stretch/>
        </p:blipFill>
        <p:spPr>
          <a:xfrm>
            <a:off x="533520" y="457200"/>
            <a:ext cx="3357360" cy="5929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038480" y="990720"/>
            <a:ext cx="4419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бучающее излож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 текст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.Паустовск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«Шкатулка проснулас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800600" y="1295280"/>
            <a:ext cx="2971800" cy="42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Чтение текс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Упр. 275   ( с.175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914400" y="1371600"/>
            <a:ext cx="358128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066680" y="8380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 Е С Е Д А     по  С О Д Е Р Ж А Н И 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95280" y="1371600"/>
            <a:ext cx="7162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Игра шкатулки. Как  играла шкатулка.  Неожиданная мелод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819520"/>
            <a:ext cx="624852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Зачем Паустовский рассказал об этом случа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Чудесный звон- большая радость для тех, кто жил в этом доме в ту пору, когда исчезли прежние радости: уже нет теплых дней, день короток, а вечер длинный-длинный, и, может, за окном моросит холодный нескончаемый дожд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19320" y="12952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Тема текс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09480" y="762120"/>
            <a:ext cx="490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Какого типа речи наш текс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183280" y="84132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повествова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1447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Докажите э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1981080"/>
            <a:ext cx="7162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в тексте говорится о действии, о развитии действия. Текст начинается характерным для повествования словом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КАК-ТО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училось что-то необычное, интересное. Это игра шкатулки. Случай описан полностью, содержание исчерпано, текст законче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44080" y="4572000"/>
            <a:ext cx="21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Озаглавь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19320" y="518148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Музыкальная шкатулка. Шкатулка заиграла.  Шкатулка проснула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133720" y="106668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Работа над пла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152388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Раздался звон, и полилась мелод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259092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Это заиграла шкатул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36576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Шкатулка играла дол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48769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Шкатулка замолчал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5537160" cy="65055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021360" y="2286000"/>
            <a:ext cx="2341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Языков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анали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09480" y="762120"/>
            <a:ext cx="4864320" cy="5715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258520" y="2187720"/>
            <a:ext cx="2384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Языков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нали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ек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066680" y="914400"/>
            <a:ext cx="716292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-е предложение характерно для повествования: в нём указывается время и место действия. Автор заботливо уточняет время: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поздней осень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В этом есть надобность: это глухое, невеселое, трудное для человека время, чтобы оценить неожиданную рад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 случайно указывается, что старый дом был гулким: мы сразу себе представляем, как он «усиливал» звучание музыкальной шкатул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торая половина предложения (…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будто кто-т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)  хорошо передаёт  ощущение слушавших: сначала звуки шкатулки не составляли для них мелодии, но позже, когда к звукам прислушались, они стали  восприниматься как мелоди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523880" y="4343400"/>
            <a:ext cx="5791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втор делает всё возможное, чтобы сосредоточить наше внимание на возникшей мелодии.  Этого требует от него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де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тек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1447920"/>
            <a:ext cx="6477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лодия была негромкой( слова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маленькие молоточки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колокольчики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)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о хорошо была слышна, потому что это был гулкий дом, а она была неожиданной и её хотели слыш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лодия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полилас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подчеркивается её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обода и непрерыв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600200" y="1066680"/>
            <a:ext cx="609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762120"/>
            <a:ext cx="693432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 2-м  абзаце дается объяснение, отчего возникла эта мелодия. Автору представляется, что это живая шкатулка, которая проснулась после многолетнего с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орошо, коротко сказано: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« В первую минут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мы испугались»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 том, что недосказано в предложении, мы догадываемся: а потом пришли в себя, успокоились. Догадаться  нам помогают слова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в первую минут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Слушатели не знали, отчего проснулась шкатулка, и поэтому можно только предположить: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«Очевидно, в шкатулке соскочила какая-то пружина»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м важно другое – то, что шкатулка игр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676520" y="990720"/>
            <a:ext cx="586728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лее говорится, как шкатулка игра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а играла долго, с перерывами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наполня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ом таинственным звоном. Словом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наполня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пять подчеркивается мысль о необычности мелодии и том, что слушают её с особым вниман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«Даже ходики притихли о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изумления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это преувеличение (гипербо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858000" y="3657600"/>
            <a:ext cx="14922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752480" y="1219320"/>
            <a:ext cx="57913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 Завершение отрывка немного грустное. Шкатулка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роиграла.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и песни. Она замолчала. Заставить её играть снова не смогли. Не просили шкатулку, не налаживали, а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заставляли,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её песни снова преобразили жизнь в старом до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105520" y="990720"/>
            <a:ext cx="2971800" cy="4724280"/>
          </a:xfrm>
          <a:prstGeom prst="rect">
            <a:avLst/>
          </a:prstGeom>
          <a:ln w="19080">
            <a:solidFill>
              <a:srgbClr val="ff99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1600200" y="1143000"/>
            <a:ext cx="327672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годня мы пишем изложение о старой музыкальной шкатул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м нужно поня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ую мысль хотел донести до нас К.Г.Паустовск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им жизненным опытом подел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752480" y="1295280"/>
            <a:ext cx="601992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этом маленьком тексте показано, как дорога человеку красота, как она особенно ценится в минуты грустные или трудные и как нужно оберегать, хранить эту красо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Прекрасное помогает человеку быть лучше, дарит ему истинное счаст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143000" y="762120"/>
            <a:ext cx="701028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овторное чтение тек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Задача учеников: передать только то, что имеется в тексте, не выходя за его рамки, не включая в изложение материал вступительной бес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04920" y="1676520"/>
            <a:ext cx="8351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219320" y="2133720"/>
            <a:ext cx="2286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пис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з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733920" y="685800"/>
            <a:ext cx="4491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36640" y="1484280"/>
            <a:ext cx="6112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ная 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енкин Н.А. Обучающее изложение 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лассе по тексту К.Г.Паустовского «Шкатулка проснулась»  -  «Русский язык в школе» 1980 г. № 4,с.28-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52480" y="914400"/>
            <a:ext cx="678204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творчеством Паустовского вы уже знакомы. Читали его рассказ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Резиновая лод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Подар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Правая ру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Кот Ворюг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Заячьи лапы» и д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 rot="456600">
            <a:off x="5790960" y="1295280"/>
            <a:ext cx="1712880" cy="2667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 rot="20578800">
            <a:off x="1824120" y="3661920"/>
            <a:ext cx="1646280" cy="2514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 rot="201000">
            <a:off x="4343400" y="3733920"/>
            <a:ext cx="20350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00200" y="1219320"/>
            <a:ext cx="594360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устовский много путешествовал по родной стра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обенно любил он Мещерский край. Не одно лето прожил  он в мещерском селе Солотча, недалеко от Рязани. Он жил в большом старом доме, где написал многие книги. Здесь случались всякие веселые истории. Здесь нашли на чердаке музыкальную шкатулку, «завели ее, но она не игра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90720" y="685800"/>
            <a:ext cx="7238880" cy="55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" descr="  Музыкальная шкатулка арт. AXA-50.8262.001 от Reuge music, Швейцария."/>
          <p:cNvPicPr/>
          <p:nvPr/>
        </p:nvPicPr>
        <p:blipFill>
          <a:blip r:embed="rId2"/>
          <a:stretch/>
        </p:blipFill>
        <p:spPr>
          <a:xfrm>
            <a:off x="380880" y="533520"/>
            <a:ext cx="8429760" cy="5357520"/>
          </a:xfrm>
          <a:prstGeom prst="rect">
            <a:avLst/>
          </a:prstGeom>
          <a:ln w="0">
            <a:noFill/>
          </a:ln>
        </p:spPr>
      </p:pic>
      <p:pic>
        <p:nvPicPr>
          <p:cNvPr id="58" name="iz_mf_Seilormun_-_shkatulka.mp3" descr=""/>
          <p:cNvPicPr/>
          <p:nvPr/>
        </p:nvPicPr>
        <p:blipFill>
          <a:blip r:embed="rId3"/>
          <a:stretch/>
        </p:blipFill>
        <p:spPr>
          <a:xfrm>
            <a:off x="7786800" y="60721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iz_mf_Seilormun_-_shkatulka.mp3" descr=""/>
          <p:cNvPicPr/>
          <p:nvPr/>
        </p:nvPicPr>
        <p:blipFill>
          <a:blip r:embed="rId4"/>
          <a:stretch/>
        </p:blipFill>
        <p:spPr>
          <a:xfrm>
            <a:off x="2438280" y="5181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" descr="Музыкальная шкатулка"/>
          <p:cNvPicPr/>
          <p:nvPr/>
        </p:nvPicPr>
        <p:blipFill>
          <a:blip r:embed="rId5"/>
          <a:stretch/>
        </p:blipFill>
        <p:spPr>
          <a:xfrm>
            <a:off x="4724280" y="533520"/>
            <a:ext cx="2514600" cy="2230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685800" y="762120"/>
            <a:ext cx="40482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166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2159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3166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348640" y="725400"/>
            <a:ext cx="29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оварн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182880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Ходик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простейшие настенные часы с маятником  и гир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257800" y="762120"/>
            <a:ext cx="1492200" cy="22287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523880" y="335268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029200" y="3657600"/>
            <a:ext cx="15397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66680" y="838080"/>
            <a:ext cx="716292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Мелоди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 последовательный ряд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вуков, создающий мотив, на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Изумление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иль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ди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410364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133720" y="838080"/>
            <a:ext cx="7543800" cy="73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братите вним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ереливающий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текл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янн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ак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акая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ибу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д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мног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лет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нств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енн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еожида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нн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ак мы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ни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би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1-26T15:34:36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