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46E-C5E6-415D-8FE7-49F203CA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27B-34CF-413C-8CF7-89D98AA0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FC7-E061-4937-A941-A97DE75F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1FF-E085-404A-8CBE-A4B39BF7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8B0-C6AF-42C1-8A75-3BC1F6E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8B0-2E34-4DBE-A0E9-3FFB138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0DB-D795-458A-908E-87B9870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4B8-2DF0-48A7-93A2-1905938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DDE-39C2-487C-B22F-3EDBCD0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48D-76A4-4855-91C7-13FC68E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544-CE07-4312-9EDF-2023B862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C12-86C0-4C2D-A39F-E58091B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C85-AF93-471A-BBE2-78AA6C39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Музыкальная шкатулка"/>
          <p:cNvPicPr/>
          <p:nvPr/>
        </p:nvPicPr>
        <p:blipFill>
          <a:blip r:embed="rId2"/>
          <a:srcRect l="0" t="0" r="47254" b="0"/>
          <a:stretch/>
        </p:blipFill>
        <p:spPr>
          <a:xfrm>
            <a:off x="533520" y="457200"/>
            <a:ext cx="335736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990720"/>
            <a:ext cx="441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ающее изл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кс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.Пауст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Шкатулка проснулас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0600" y="1295280"/>
            <a:ext cx="29718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ение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пр. 275   ( с.175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35812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838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 Е С Е Д А     по  С О Д Е Р Ж А Н И 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37160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Игра шкатулки. Как  играла шкатулка.  Неожиданная мело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819520"/>
            <a:ext cx="62485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Зачем Паустовский рассказал об этом случа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удесный звон- большая радость для тех, кто жил в этом доме в ту пору, когда исчезли прежние радости: уже нет теплых дней, день короток, а вечер длинный-длинный, и, может, за окном моросит холодный нескончаемый дож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295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Тем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762120"/>
            <a:ext cx="49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кого типа речи наш тек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8413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веств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Докажите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81080"/>
            <a:ext cx="716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в тексте говорится о действии, о развитии действия. Текст начинается характерным для повествования слов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КАК-ТО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училось что-то необычное, интересное. Это игра шкатулки. Случай описан полностью, содержание исчерпано, текст законч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4080" y="4572000"/>
            <a:ext cx="21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заглавь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81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Музыкальная шкатулка. Шкатулка заиграла.  Шкатулка просну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33720" y="1066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абота над пл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5238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Раздался звон, и полилась мело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590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Это заиграла шкату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6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Шкатулка играла дол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Шкатулка замолча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537160" cy="650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21360" y="2286000"/>
            <a:ext cx="234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486432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58520" y="2187720"/>
            <a:ext cx="238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914400"/>
            <a:ext cx="71629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е предложение характерно для повествования: в нём указывается время и место действия. Автор заботливо уточняет время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поздней осень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В этом есть надобность: это глухое, невеселое, трудное для человека время, чтобы оценить неожиданную рад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случайно указывается, что старый дом был гулким: мы сразу себе представляем, как он «усиливал» звучание музыкальной шкату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предложения (…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будто кто-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)  хорошо передаёт  ощущение слушавших: сначала звуки шкатулки не составляли для них мелодии, но позже, когда к звукам прислушались, они стали  восприниматься как мелод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43434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 делает всё возможное, чтобы сосредоточить наше внимание на возникшей мелодии.  Этого требует от него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4792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была негромкой(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маленькие молоточ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олокольчи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о хорошо была слышна, потому что это был гулкий дом, а она была неожиданной и её хотели 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полилас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подчеркивается е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и непреры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762120"/>
            <a:ext cx="6934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2-м  абзаце дается объяснение, отчего возникла эта мелодия. Автору представляется, что это живая шкатулка, которая проснулась после многолетнег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, коротко сказано: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 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ы испугались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том, что недосказано в предложении, мы догадываемся: а потом пришли в себя, успокоились. Догадаться  нам помогают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Слушатели не знали, отчего проснулась шкатулка, и поэтому можно только предположить: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Очевидно, в шкатулке соскочила какая-то пружина»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 важно другое – то, что шкатулка игр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990720"/>
            <a:ext cx="5867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говорится, как шкатулка игр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 играла долго, с перерывам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м таинственным звоном. Словом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ять подчеркивается мысль о необычности мелодии и том, что слушают её с особым вним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Даже ходики притихл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зумлен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преувеличение (гиперб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1492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52480" y="121932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Завершение отрывка немного грустное. Шкатулк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играла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песни. Она замолчала. Заставить её играть снова не смогли. Не просили шкатулку, не налаживали, 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заставляли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её песни снова преобразили жизнь в старом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2971800" cy="47242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600200" y="1143000"/>
            <a:ext cx="3276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мы пишем изложение о старой музыкальной шкат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 нужно пон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ую мысль хотел донести до нас К.Г.Паустов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 жизненным опытом подел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1295280"/>
            <a:ext cx="6019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маленьком тексте показано, как дорога человеку красота, как она особенно ценится в минуты грустные или трудные и как нужно оберегать, хранить эту 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рекрасное помогает человеку быть лучше, дарит ему истинное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762120"/>
            <a:ext cx="701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ное чтение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а учеников: передать только то, что имеется в тексте, не выходя за его рамки, не включая в изложение материал вступительной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2133720"/>
            <a:ext cx="228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33920" y="685800"/>
            <a:ext cx="449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484280"/>
            <a:ext cx="61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кин Н.А. Обучающее изложени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лассе по тексту К.Г.Паустовского «Шкатулка проснулась»  -  «Русский язык в школе» 1980 г. № 4,с.28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914400"/>
            <a:ext cx="67820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ворчеством Паустовского вы уже знакомы. Читали его расска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езиновая л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дар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авая ру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от Ворю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ячьи лапы» и 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456600">
            <a:off x="5790960" y="1295280"/>
            <a:ext cx="171288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0578800">
            <a:off x="1824120" y="3661920"/>
            <a:ext cx="164628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1000">
            <a:off x="4343400" y="3733920"/>
            <a:ext cx="203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219320"/>
            <a:ext cx="5943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стовский много путешествовал по родно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 любил он Мещерский край. Не одно лето прожил  он в мещерском селе Солотча, недалеко от Рязани. Он жил в большом старом доме, где написал многие книги. Здесь случались всякие веселые истории. Здесь нашли на чердаке музыкальную шкатулку, «завели ее, но она не игр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2388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  Музыкальная шкатулка арт. AXA-50.8262.001 от Reuge music, Швейцария."/>
          <p:cNvPicPr/>
          <p:nvPr/>
        </p:nvPicPr>
        <p:blipFill>
          <a:blip r:embed="rId2"/>
          <a:stretch/>
        </p:blipFill>
        <p:spPr>
          <a:xfrm>
            <a:off x="380880" y="533520"/>
            <a:ext cx="8429760" cy="5357520"/>
          </a:xfrm>
          <a:prstGeom prst="rect">
            <a:avLst/>
          </a:prstGeom>
          <a:ln w="0">
            <a:noFill/>
          </a:ln>
        </p:spPr>
      </p:pic>
      <p:pic>
        <p:nvPicPr>
          <p:cNvPr id="58" name="iz_mf_Seilormun_-_shkatulka.mp3" descr=""/>
          <p:cNvPicPr/>
          <p:nvPr/>
        </p:nvPicPr>
        <p:blipFill>
          <a:blip r:embed="rId3"/>
          <a:stretch/>
        </p:blipFill>
        <p:spPr>
          <a:xfrm>
            <a:off x="778680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iz_mf_Seilormun_-_shkatulka.mp3" descr=""/>
          <p:cNvPicPr/>
          <p:nvPr/>
        </p:nvPicPr>
        <p:blipFill>
          <a:blip r:embed="rId4"/>
          <a:stretch/>
        </p:blipFill>
        <p:spPr>
          <a:xfrm>
            <a:off x="24382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Музыкальная шкатулка"/>
          <p:cNvPicPr/>
          <p:nvPr/>
        </p:nvPicPr>
        <p:blipFill>
          <a:blip r:embed="rId5"/>
          <a:stretch/>
        </p:blipFill>
        <p:spPr>
          <a:xfrm>
            <a:off x="4724280" y="533520"/>
            <a:ext cx="2514600" cy="223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4048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66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159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166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8640" y="725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828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Ход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простейшие настенные часы с маятником  и гир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1492200" cy="22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3880" y="33526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1539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838080"/>
            <a:ext cx="7162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Мелод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следовательный ряд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ов, создающий мотив, на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Изумл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103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33720" y="838080"/>
            <a:ext cx="75438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тите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ливаю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я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ая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бу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т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ств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ожида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 мы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б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6T15:34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