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3BA-F0FD-458F-84BB-0D78B75D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8868-A5ED-45CE-B101-03731E68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8F1-57D9-4DF2-8ADD-68C554A9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28F-9259-4239-9C91-CA4FCF82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2FAE-19F3-45F4-9C16-B043F877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B54-0F35-4DFC-9C5F-CD7A00FC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FD24-8B69-4262-A5D0-C959BFCD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05CF-AE95-4928-A2A3-F47F251D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8D2D-35CB-4362-A5C6-E7F1EE13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8ED-6743-4A39-AE95-A384E692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F8A-D5D7-4FD2-A31C-F2DE4F9C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425-8019-4EB3-A018-C77EA81D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5C7F-CDD1-4E7C-A158-62B0DF294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Музыкальная шкатулка"/>
          <p:cNvPicPr/>
          <p:nvPr/>
        </p:nvPicPr>
        <p:blipFill>
          <a:blip r:embed="rId2"/>
          <a:srcRect l="0" t="0" r="47254" b="0"/>
          <a:stretch/>
        </p:blipFill>
        <p:spPr>
          <a:xfrm>
            <a:off x="533520" y="457200"/>
            <a:ext cx="3357360" cy="5929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038480" y="990720"/>
            <a:ext cx="4419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учающее излож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текст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.Паустовс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Шкатулка проснулас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800600" y="1295280"/>
            <a:ext cx="2971800" cy="42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Чтение тек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Упр. 275   ( с.175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358128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66680" y="8380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 Е С Е Д А     по  С О Д Е Р Ж А Н И 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1371600"/>
            <a:ext cx="716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Игра шкатулки. Как  играла шкатулка.  Неожиданная мелод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819520"/>
            <a:ext cx="62485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Зачем Паустовский рассказал об этом случа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Чудесный звон- большая радость для тех, кто жил в этом доме в ту пору, когда исчезли прежние радости: уже нет теплых дней, день короток, а вечер длинный-длинный, и, может, за окном моросит холодный нескончаемый дожд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12952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Тема тек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09480" y="762120"/>
            <a:ext cx="49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акого типа речи наш текс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83280" y="84132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овествов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447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Докажите э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1981080"/>
            <a:ext cx="7162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в тексте говорится о действии, о развитии действия. Текст начинается характерным для повествования словом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КАК-ТО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училось что-то необычное, интересное. Это игра шкатулки. Случай описан полностью, содержание исчерпано, текст законч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4080" y="4572000"/>
            <a:ext cx="21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Озаглавь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51814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Музыкальная шкатулка. Шкатулка заиграла.  Шкатулка просну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133720" y="10666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Работа над пл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5238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Раздался звон, и полилась мелод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25909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Это заиграла шкатул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3657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Шкатулка играла дол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4876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Шкатулка замолчал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5537160" cy="6505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21360" y="2286000"/>
            <a:ext cx="2341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Языков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нал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09480" y="762120"/>
            <a:ext cx="4864320" cy="5715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258520" y="2187720"/>
            <a:ext cx="238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зыков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али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к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66680" y="914400"/>
            <a:ext cx="716292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е предложение характерно для повествования: в нём указывается время и место действия. Автор заботливо уточняет время: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поздней осень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В этом есть надобность: это глухое, невеселое, трудное для человека время, чтобы оценить неожиданную рад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случайно указывается, что старый дом был гулким: мы сразу себе представляем, как он «усиливал» звучание музыкальной шкату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торая половина предложения (…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будто кто-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)  хорошо передаёт  ощущение слушавших: сначала звуки шкатулки не составляли для них мелодии, но позже, когда к звукам прислушались, они стали  восприниматься как мелод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23880" y="434340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р делает всё возможное, чтобы сосредоточить наше внимание на возникшей мелодии.  Этого требует от него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де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1447920"/>
            <a:ext cx="6477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лодия была негромкой( слова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маленькие молоточки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колокольчики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о хорошо была слышна, потому что это был гулкий дом, а она была неожиданной и её хотели слыш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лодия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полилас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подчеркивается её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бода и непрерыв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00200" y="10666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762120"/>
            <a:ext cx="69343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2-м  абзаце дается объяснение, отчего возникла эта мелодия. Автору представляется, что это живая шкатулка, которая проснулась после многолетнего 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рошо, коротко сказано: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« В первую мину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мы испугались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том, что недосказано в предложении, мы догадываемся: а потом пришли в себя, успокоились. Догадаться  нам помогают слова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в первую мину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Слушатели не знали, отчего проснулась шкатулка, и поэтому можно только предположить: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«Очевидно, в шкатулке соскочила какая-то пружина»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м важно другое – то, что шкатулка игр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76520" y="990720"/>
            <a:ext cx="586728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лее говорится, как шкатулка игр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а играла долго, с перерывам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наполня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ом таинственным звоном. Словом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наполня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пять подчеркивается мысль о необычности мелодии и том, что слушают её с особым внима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«Даже ходики притихли о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изумления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это преувеличение (гипербо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0" y="3657600"/>
            <a:ext cx="14922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52480" y="1219320"/>
            <a:ext cx="5791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 Завершение отрывка немного грустное. Шкатулка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оиграла.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и песни. Она замолчала. Заставить её играть снова не смогли. Не просили шкатулку, не налаживали, а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заставляли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её песни снова преобразили жизнь в старом д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105520" y="990720"/>
            <a:ext cx="2971800" cy="47242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600200" y="1143000"/>
            <a:ext cx="32767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годня мы пишем изложение о старой музыкальной шкату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м нужно поня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ую мысль хотел донести до нас К.Г.Паустовск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им жизненным опытом подел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52480" y="1295280"/>
            <a:ext cx="60199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этом маленьком тексте показано, как дорога человеку красота, как она особенно ценится в минуты грустные или трудные и как нужно оберегать, хранить эту крас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Прекрасное помогает человеку быть лучше, дарит ему истинное счаст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43000" y="762120"/>
            <a:ext cx="7010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вторное чтение тек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адача учеников: передать только то, что имеется в тексте, не выходя за его рамки, не включая в изложение материал вступительной бес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8351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219320" y="2133720"/>
            <a:ext cx="228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пис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з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733920" y="685800"/>
            <a:ext cx="4491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36640" y="1484280"/>
            <a:ext cx="611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н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енкин Н.А. Обучающее изложение 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лассе по тексту К.Г.Паустовского «Шкатулка проснулась»  -  «Русский язык в школе» 1980 г. № 4,с.28-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914400"/>
            <a:ext cx="678204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творчеством Паустовского вы уже знакомы. Читали его рассказ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Резиновая лод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одар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Правая ру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Кот Ворю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Заячьи лапы» и д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rot="456600">
            <a:off x="5790960" y="1295280"/>
            <a:ext cx="1712880" cy="2667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rot="20578800">
            <a:off x="1824120" y="3661920"/>
            <a:ext cx="164628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 rot="201000">
            <a:off x="4343400" y="3733920"/>
            <a:ext cx="2035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1219320"/>
            <a:ext cx="59436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стовский много путешествовал по родной стр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обенно любил он Мещерский край. Не одно лето прожил  он в мещерском селе Солотча, недалеко от Рязани. Он жил в большом старом доме, где написал многие книги. Здесь случались всякие веселые истории. Здесь нашли на чердаке музыкальную шкатулку, «завели ее, но она не игра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723888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" descr="  Музыкальная шкатулка арт. AXA-50.8262.001 от Reuge music, Швейцария."/>
          <p:cNvPicPr/>
          <p:nvPr/>
        </p:nvPicPr>
        <p:blipFill>
          <a:blip r:embed="rId2"/>
          <a:stretch/>
        </p:blipFill>
        <p:spPr>
          <a:xfrm>
            <a:off x="380880" y="533520"/>
            <a:ext cx="8429760" cy="5357520"/>
          </a:xfrm>
          <a:prstGeom prst="rect">
            <a:avLst/>
          </a:prstGeom>
          <a:ln w="0">
            <a:noFill/>
          </a:ln>
        </p:spPr>
      </p:pic>
      <p:pic>
        <p:nvPicPr>
          <p:cNvPr id="58" name="iz_mf_Seilormun_-_shkatulka.mp3" descr=""/>
          <p:cNvPicPr/>
          <p:nvPr/>
        </p:nvPicPr>
        <p:blipFill>
          <a:blip r:embed="rId3"/>
          <a:stretch/>
        </p:blipFill>
        <p:spPr>
          <a:xfrm>
            <a:off x="7786800" y="6072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iz_mf_Seilormun_-_shkatulka.mp3" descr=""/>
          <p:cNvPicPr/>
          <p:nvPr/>
        </p:nvPicPr>
        <p:blipFill>
          <a:blip r:embed="rId4"/>
          <a:stretch/>
        </p:blipFill>
        <p:spPr>
          <a:xfrm>
            <a:off x="24382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" descr="Музыкальная шкатулка"/>
          <p:cNvPicPr/>
          <p:nvPr/>
        </p:nvPicPr>
        <p:blipFill>
          <a:blip r:embed="rId5"/>
          <a:stretch/>
        </p:blipFill>
        <p:spPr>
          <a:xfrm>
            <a:off x="4724280" y="533520"/>
            <a:ext cx="2514600" cy="2230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85800" y="762120"/>
            <a:ext cx="4048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166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2159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166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48640" y="72540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вар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18288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Ходик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простейшие настенные часы с маятником  и гир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57800" y="762120"/>
            <a:ext cx="1492200" cy="2228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3880" y="33526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029200" y="3657600"/>
            <a:ext cx="1539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66680" y="838080"/>
            <a:ext cx="71629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Мелод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последовательный ряд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вуков, создающий мотив, на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Изумлени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ди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41036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33720" y="838080"/>
            <a:ext cx="7543800" cy="73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братите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реливающи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текл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янн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к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кая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ибу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ног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ет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нств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енн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ожида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нн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к мы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ни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б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1-26T15:34:36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