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F72-D5BF-40E1-A48C-AD2A1B81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8E7-A42E-4E1A-9D19-17000142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31BAE-C130-4BC3-A116-2043649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45871-7B4D-4337-B556-34F4E59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13364-A657-41E5-8B45-81409978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F4F55-D7BB-4DAD-8AB1-02C533F7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EB94-1844-4A37-84FD-C0C8FA5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3A61-9818-4EBB-9F84-AA5114F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3992E-8AB1-4257-93CA-579992E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90DD9-B137-405D-ADAE-B15AFC77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6A62B-5BDF-4590-B971-76418563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0DF73-1FB7-4CAF-B138-358C909E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41B-DBF4-4148-9A08-D7955D2D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53593-B4D7-4C5D-BBCD-417B5F3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BF439-28B4-4B0B-818A-889F2DC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2D2F-545D-45E5-8BF1-E161CCF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2455-21C4-4A18-B573-55010D4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4E15-7ECE-41D7-B76F-F89227FA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76E9E-59E1-4F23-8A67-9166E60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FB992-F188-40A5-AA1E-936CBE6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1750-D38E-4678-94AA-C630E7D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2E877-AD47-416D-8BA7-50F9165B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06ECA-5D05-4125-9785-8D99BED0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CEF-7757-486A-8BC0-09BB744B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F7B93-80EE-4B4E-B22A-A405E18A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57775-4250-41C9-870A-5652D94F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E0C1-4DBF-4AC2-8019-706A6BC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2C4DD-BB6E-4E72-99E5-25B7112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CAD8E-7A6E-4100-AC57-40AA504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F3D9-8D51-458E-A4DA-F6DE8B1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A977-7463-4F04-91CF-E87FABF0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21F9-B3A4-4254-89C0-53550C6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AE688-9BF7-4E73-B4E5-5D7EB48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7353-8663-4517-B6EF-DE0F7A9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9E8-0706-4932-B988-A28D5A9B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99B47-8428-4FB2-8D96-1240728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8290-3066-4978-A628-62B5E6F2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5D54-D2A9-4A9E-BF6D-083E6FAD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0FD3-0F39-4BF8-95C1-7362D2FD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CE879-2867-476D-9876-0B2C297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6042-CFC7-4D83-B5B3-E4455205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9755-C3BF-45EF-9618-E7751BA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0F3E-55E5-4C61-BFA9-C74EA4E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61EE5-078A-4BED-8B08-017A8FB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59979-D554-4D89-9DD9-38B1F4C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ED8C-46F3-47D0-A3C9-F6E5A62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06747-DE52-44B3-9AAD-826C00D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002E4-6538-45A9-BF8F-59CA163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A25B8-62D2-4358-9821-60CC40D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2DE7C-97F1-4928-9A9E-D3907762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E89AA-5809-405B-B0E0-D7B2E3F7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4B12A-51B6-4C25-99BE-908C668E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33D60-7D4F-472A-AFB6-444AE4DB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27E02-D6DD-4852-A101-FA2E2E9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868AD-13E4-49A8-A692-E8121FFA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6EC0E-3ABD-4451-9A3B-AC70504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CDD-8D34-4CED-B983-D6CBD40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13163-C8FE-4EF5-BD31-8F69588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2B7E0-B4BF-4B29-B6C5-37D0B8E9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91EA9-884C-4A65-A60C-593B349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E0CE6-31FC-4A21-8604-070E10D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C75B2-A99C-4E73-A446-AB9D2C77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A7E9A-8C0B-4A3B-B24C-13026DDA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10B73-A519-448F-B8F5-E34E825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B1145-A421-4493-A457-484F7B90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CFCA6-129F-49D8-B990-09F7334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25EBB-7FCF-4163-A6BB-3E2B6B5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6BEA-6F5F-424C-94A7-8873EDE9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D5694-8B80-4BA8-B83E-C99F08E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38D64-109F-4190-AE88-02C597A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D00CE-7A0F-4954-B4F2-94F4336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417F7-8AE0-4663-9189-3A11793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5BCA4-0DE4-4DDA-AE68-2EF1FAA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748FB-8D9F-4CB0-BD6B-A6A3317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A1B62-96DD-4350-9D9F-54868552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EC07F-6AD3-4ADD-90A9-FE4B8D0C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87BBC-16E5-493D-B2C7-99C7B88E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6A23A-2CF5-4327-AE9D-D62F8EE6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33BD-1475-4163-858B-F95E147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4D666-DC95-4A0F-8FB1-2B689C9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5D54E-E107-44C0-9F77-2B1F06F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C2373-0BF2-4F0F-B879-8BE0D87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9F3D6-5E4D-4F9A-B2DB-EF647FF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0E42C-4903-4202-A95B-C9A16ADC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46B97-9033-40AE-A128-479C5D68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139FA-86B9-4C1A-BFA7-B15EEA5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06BC9-F94B-48FA-BCBA-6839B87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79A28-EC83-43F8-B9E9-BE9E06EF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311D0-3C99-4E31-B1E1-F3C7B2D7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B01-3280-4A1C-AF1C-337D796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D5A10-72B1-444E-B9C3-77C27678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1A9BB-2FA5-475F-A068-D52CFA5B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E4109-2279-4EB3-9F7A-329991B4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92301-BFDA-4032-976A-49EDB710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B2664-7CF8-44AB-95FD-DA9C18D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3B6D2-611B-4210-AE66-815C2DE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54365-A8CC-45D0-BC15-9B872A3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37F72-AA58-4463-8509-848A329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3A63A-2F45-48B2-ACD0-FD5F044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DC3DE-9D8A-48C7-8C70-8DEA91E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EFB-AAC3-4E25-A634-0E0A623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8698D-3BF0-4342-9FFB-3FA85E78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C32A3-5A70-49CB-B6A2-1D0CA96E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673E0-17B4-4624-A423-0B37417A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50BC8-081C-4394-B65A-7BEE0EA0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679D0-D02A-419B-BCA9-B380ED7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DDED8-20BC-4EA6-9924-5B03E2F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C5C3D-48AF-42A0-B805-68057445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7E293-564B-4AD6-AE27-E6240F0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CA7B9-81F1-4FC3-A45C-9447B18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A5071-C545-4D0E-9809-2351834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050-82AF-4464-8563-9B48B56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2EA7-21A2-4C73-AC46-D14F1B7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27083-3C08-481D-B64E-9AF9E83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6BC8B-09F7-4644-BBD6-96307A4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D0253-7331-4BA4-9B5A-A76A8C1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0A374-C1C8-41F7-B55C-407FBA58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8007B-C557-44AD-9BEB-0EF4CDEF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A6453-1B46-4100-9DA8-71E6C813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334BA6-473E-45F5-9158-01192AA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E5258-7A87-414F-8FDB-8CB66CD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612C4-8D45-49CA-B199-8592FAA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E8C494-232C-4967-9D8B-DC054BB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B50-92A4-4FE7-A3B5-ECF3995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B11BF-E157-4082-BA85-2605179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E2711-8DED-49F7-9B20-F2F3B29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EF828-54FF-46D6-9916-DDE6C4C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5A12A-8517-4F56-9C55-9E37BCA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35718-1EA8-4E28-9D23-17EC2FFA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F6CFC-F96D-4C90-B1D7-A06DF0CF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6EEA3-2735-4A5E-AD3E-2392198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6BE0-B002-43E3-A0D1-4CFE41F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E50A-4871-41F0-B930-D264738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A42F-530F-4DB4-8ABA-DDDF8C47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2451-2DC5-4C14-BA06-D274D89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49C8-ABA0-4B93-A816-C8B5709A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3958-5EFB-4E83-B5E6-308804B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5614-5FD7-4C34-B2D3-CDF77C8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DC20-B1D5-4144-97B1-78F603A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81D-5F3A-4909-BB23-47AC28E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7781-7A76-459C-AA16-ADE609B5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90BD-86B9-47CD-BF7A-263BE77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557C-3419-403D-91F4-C1920EF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DBF9-9072-4DFF-A885-DB0F29F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5425-08A9-4BD7-8B21-B2BD792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404C-056E-4B00-968E-ECB528CE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7040-9DF7-46C1-95FD-DA9EABAE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83B0-A82E-4D33-92D0-B6A5ACB6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529C-9F44-4577-A688-44758FB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4288-9387-4C3D-88F1-3DEF57D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EB8-BD10-424F-863E-465CC9D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A5FA-39AC-4267-A578-45A60E8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A43B-1359-4909-880C-FF58AB3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BA2C-5E12-4B5A-A23F-5B13D2A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C887-F101-412D-928F-824E6CA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725C-8C70-40F2-912E-9D99FBF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000C-0F0A-430F-8F6C-04C6123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A357-172F-496F-A1F7-985134F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7301-F62F-43B4-912D-B37784EC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B13F-5099-4903-9A40-82B2131B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C867-051E-4D67-ACA2-E8FC9BE6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157-4C0C-4626-A8A4-D4BD1EA5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0486-3A1E-496C-BFCD-E922FA88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4C59-131F-47C5-90DE-CA0E417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07C6-5AF0-4C3B-A3E0-56A02C9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57C6-11D1-463E-8E56-D0C640DE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437B-E60E-4A90-B618-7FCFA25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302A-6480-42EF-A8D2-0CD9150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35F4-92C6-4BA7-8B83-E7DAA01D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B40D-B43C-4C5C-857E-AE032A2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2E46-611D-434C-BF2A-2972B3C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993B-06ED-4EF8-8D57-9E40115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111-57BA-4BC8-8F03-3974AAA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D13E-4D3B-4C03-B135-0C7A1DCE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9595-AB78-4D42-AC77-5BB24F4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1B1E2-0CAC-4888-9C76-C9A4F925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83FFE-4FFA-4F2C-B38A-19EBA2D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71902-976B-4E67-8EBC-C0E1C3F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78DA7-6524-46F7-A9D5-6DA30506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C91A-9340-4994-A26E-74B0C45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F5F3-C028-4697-9506-12BD7F8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B731-AEE1-4D39-AA66-463BB6C8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FDE6-2E50-4FD9-999A-859B6D6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DD6-CDF6-49AD-9007-8E29C34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8A27-C0C6-4A4A-A345-8AD59A7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A1D4-0D17-45FD-BE1E-8E64425F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AAB9-0744-4159-9A21-BB98A854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02157-876D-4F5A-93BD-19C0253F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5317E-D374-4850-B170-EEBCBDE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834ED-A2B5-4821-824B-A1A2C48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38BED-4C49-4E3E-A189-DDC5A2FB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ADFFE-0094-4963-8492-EEBC7F5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7F352-9374-4BFC-A8E6-C469CB6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B59BF-2D92-420A-B827-7038B67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D0C-7CC6-4D40-8934-656C8E0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343BB-E871-4BC4-A1A0-861C705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B033E-2B75-4E7F-8C96-8CE4DA1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0F8D0-FEBA-4BEF-A638-B1DE23D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CAF20-DE4C-48D5-8706-42C0C9CC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B3405-9878-407F-8216-9E44907E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AAA79F-9F15-48AD-B7D5-1C1B9A69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415037-A0D4-4A9D-AEE3-CE128ED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1D4650-019E-4692-8312-0B71568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53028-81BA-4234-9B2D-C1587D8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317A1F-AA6F-4B94-88C8-E8E8801B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43C-8DDE-4DED-9A28-E67ABAA0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DA9575-F4E4-47D7-B1A9-BEF1A54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C4865-520A-4C84-B754-E7E65C6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B3194-128A-4B9D-AD5F-342CE63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F1B78A-A10C-496C-A6BE-5E3F1CC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C8D18-F431-44B5-9411-B12A6612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1143F-C2D4-41A2-BDAC-04F70C08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FCEEA8-0C4E-466F-BB5C-A006C426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BC55A-52C3-4A3A-ACA7-F8C3B650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D9CB-44E7-4F3F-96F5-419B3E71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C096-3073-47F9-A894-06628CFF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36F-BA16-48D7-9CDF-BFCAB90DFB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9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D55-CD2E-448E-A932-C73D75708D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4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4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5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167-9EF8-4ED6-9A84-1053D2494B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9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65E7-CEAD-49DB-A23E-06C10457A1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9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C60-CDCE-48B4-A2C3-9B20120FD0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14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39B-39CE-4616-AAB1-147B54AFB5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92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6B22-904A-4BD2-92AE-4B4F55F89F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2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92D-09DE-4062-89A7-7D89F1FD30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8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FE5-99E9-4FF8-BBB4-A11F9DABD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54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9C0-0732-461F-AF97-935FFBF440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29CD-7428-459E-85F5-E1D64FAB0E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BC9-59F7-4490-A9E0-8E68725FFC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C95-825B-4468-B2A8-E14F7CD6C0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53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7EC-48F3-4E92-BBE1-4FAE33468A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8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70CF-F0C9-44EB-8EBB-35B49EC070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6DC7-7315-4E3E-B587-94C20B64EF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9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3F1D-0D38-49C9-8C1E-D68013518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49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7C2E-71B7-414A-BCEE-02B011569E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68000" y="2060280"/>
            <a:ext cx="56862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сполнители в ЕГЭ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гова Н.А.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СОШ с углубленным изучением отдельных предметов с.Тербу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пец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9" name="Picture 5" descr="wiz_xw_series_zigbee_3"/>
          <p:cNvPicPr/>
          <p:nvPr/>
        </p:nvPicPr>
        <p:blipFill>
          <a:blip r:embed="rId1"/>
          <a:stretch/>
        </p:blipFill>
        <p:spPr>
          <a:xfrm>
            <a:off x="6300720" y="476280"/>
            <a:ext cx="2406600" cy="3456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8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9" name=""/>
          <p:cNvGraphicFramePr/>
          <p:nvPr/>
        </p:nvGraphicFramePr>
        <p:xfrm>
          <a:off x="4788000" y="1916280"/>
          <a:ext cx="3456000" cy="389412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650880"/>
                <a:gridCol w="925560"/>
              </a:tblGrid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0" name="Text Box 58"/>
          <p:cNvSpPr/>
          <p:nvPr/>
        </p:nvSpPr>
        <p:spPr>
          <a:xfrm>
            <a:off x="5148360" y="51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5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6" name=""/>
          <p:cNvGraphicFramePr/>
          <p:nvPr/>
        </p:nvGraphicFramePr>
        <p:xfrm>
          <a:off x="4788000" y="1916280"/>
          <a:ext cx="345600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650880"/>
                <a:gridCol w="9255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Text Box 45"/>
          <p:cNvSpPr/>
          <p:nvPr/>
        </p:nvSpPr>
        <p:spPr>
          <a:xfrm>
            <a:off x="5867280" y="530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2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3" name=""/>
          <p:cNvGraphicFramePr/>
          <p:nvPr/>
        </p:nvGraphicFramePr>
        <p:xfrm>
          <a:off x="4788000" y="1916280"/>
          <a:ext cx="396072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928800"/>
                <a:gridCol w="11523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4" name="Text Box 43"/>
          <p:cNvSpPr/>
          <p:nvPr/>
        </p:nvSpPr>
        <p:spPr>
          <a:xfrm>
            <a:off x="6588000" y="51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950000" y="1341360"/>
            <a:ext cx="419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9" name="Picture 4" descr="2008-1"/>
          <p:cNvPicPr/>
          <p:nvPr/>
        </p:nvPicPr>
        <p:blipFill>
          <a:blip r:embed="rId1"/>
          <a:stretch/>
        </p:blipFill>
        <p:spPr>
          <a:xfrm>
            <a:off x="179280" y="1341360"/>
            <a:ext cx="4222800" cy="475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0" name=""/>
          <p:cNvGraphicFramePr/>
          <p:nvPr/>
        </p:nvGraphicFramePr>
        <p:xfrm>
          <a:off x="4788000" y="1916280"/>
          <a:ext cx="3960720" cy="3922560"/>
        </p:xfrm>
        <a:graphic>
          <a:graphicData uri="http://schemas.openxmlformats.org/drawingml/2006/table">
            <a:tbl>
              <a:tblPr/>
              <a:tblGrid>
                <a:gridCol w="433440"/>
                <a:gridCol w="650880"/>
                <a:gridCol w="795240"/>
                <a:gridCol w="928800"/>
                <a:gridCol w="11523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Е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fa9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1" name="Text Box 43"/>
          <p:cNvSpPr/>
          <p:nvPr/>
        </p:nvSpPr>
        <p:spPr>
          <a:xfrm>
            <a:off x="7596360" y="5157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Text Box 44"/>
          <p:cNvSpPr/>
          <p:nvPr/>
        </p:nvSpPr>
        <p:spPr>
          <a:xfrm>
            <a:off x="1692360" y="6237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ДЕП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09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7" name="Picture 4" descr="2009"/>
          <p:cNvPicPr/>
          <p:nvPr/>
        </p:nvPicPr>
        <p:blipFill>
          <a:blip r:embed="rId1"/>
          <a:stretch/>
        </p:blipFill>
        <p:spPr>
          <a:xfrm>
            <a:off x="324000" y="1197000"/>
            <a:ext cx="8503920" cy="5100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права свободно -впра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верху свободно –ввер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лева свободно –вле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низу свободно -вн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3" name="Picture 8" descr="2009-1"/>
          <p:cNvPicPr/>
          <p:nvPr/>
        </p:nvPicPr>
        <p:blipFill>
          <a:blip r:embed="rId1"/>
          <a:stretch/>
        </p:blipFill>
        <p:spPr>
          <a:xfrm>
            <a:off x="4427640" y="1700280"/>
            <a:ext cx="4371840" cy="3840120"/>
          </a:xfrm>
          <a:prstGeom prst="rect">
            <a:avLst/>
          </a:prstGeom>
          <a:ln w="0">
            <a:noFill/>
          </a:ln>
        </p:spPr>
      </p:pic>
      <p:sp>
        <p:nvSpPr>
          <p:cNvPr id="1674" name="Line 9"/>
          <p:cNvSpPr/>
          <p:nvPr/>
        </p:nvSpPr>
        <p:spPr>
          <a:xfrm>
            <a:off x="1116000" y="4581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Line 10"/>
          <p:cNvSpPr/>
          <p:nvPr/>
        </p:nvSpPr>
        <p:spPr>
          <a:xfrm flipV="1">
            <a:off x="1979640" y="393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Line 11"/>
          <p:cNvSpPr/>
          <p:nvPr/>
        </p:nvSpPr>
        <p:spPr>
          <a:xfrm flipH="1">
            <a:off x="1042560" y="393372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Line 12"/>
          <p:cNvSpPr/>
          <p:nvPr/>
        </p:nvSpPr>
        <p:spPr>
          <a:xfrm>
            <a:off x="1042920" y="393372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права свободно -впра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верху свободно –ввер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лева свободно –вле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о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низу свободно -вн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2" name="Picture 5" descr="2009-1"/>
          <p:cNvPicPr/>
          <p:nvPr/>
        </p:nvPicPr>
        <p:blipFill>
          <a:blip r:embed="rId1"/>
          <a:stretch/>
        </p:blipFill>
        <p:spPr>
          <a:xfrm>
            <a:off x="4427640" y="1700280"/>
            <a:ext cx="4371840" cy="3840120"/>
          </a:xfrm>
          <a:prstGeom prst="rect">
            <a:avLst/>
          </a:prstGeom>
          <a:ln w="0">
            <a:noFill/>
          </a:ln>
        </p:spPr>
      </p:pic>
      <p:sp>
        <p:nvSpPr>
          <p:cNvPr id="1683" name="Line 6"/>
          <p:cNvSpPr/>
          <p:nvPr/>
        </p:nvSpPr>
        <p:spPr>
          <a:xfrm>
            <a:off x="1116000" y="4581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Line 7"/>
          <p:cNvSpPr/>
          <p:nvPr/>
        </p:nvSpPr>
        <p:spPr>
          <a:xfrm flipV="1">
            <a:off x="1979640" y="393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Line 8"/>
          <p:cNvSpPr/>
          <p:nvPr/>
        </p:nvSpPr>
        <p:spPr>
          <a:xfrm flipH="1">
            <a:off x="1042560" y="393372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Line 9"/>
          <p:cNvSpPr/>
          <p:nvPr/>
        </p:nvSpPr>
        <p:spPr>
          <a:xfrm>
            <a:off x="1042920" y="393372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7" name="Group 27"/>
          <p:cNvGrpSpPr/>
          <p:nvPr/>
        </p:nvGrpSpPr>
        <p:grpSpPr>
          <a:xfrm>
            <a:off x="5219280" y="1989000"/>
            <a:ext cx="648000" cy="287640"/>
            <a:chOff x="5219280" y="1989000"/>
            <a:chExt cx="648000" cy="287640"/>
          </a:xfrm>
        </p:grpSpPr>
        <p:grpSp>
          <p:nvGrpSpPr>
            <p:cNvPr id="1688" name="Group 12"/>
            <p:cNvGrpSpPr/>
            <p:nvPr/>
          </p:nvGrpSpPr>
          <p:grpSpPr>
            <a:xfrm>
              <a:off x="5219280" y="1989000"/>
              <a:ext cx="648000" cy="216000"/>
              <a:chOff x="5219280" y="1989000"/>
              <a:chExt cx="648000" cy="216000"/>
            </a:xfrm>
          </p:grpSpPr>
          <p:sp>
            <p:nvSpPr>
              <p:cNvPr id="1689" name="Line 10"/>
              <p:cNvSpPr/>
              <p:nvPr/>
            </p:nvSpPr>
            <p:spPr>
              <a:xfrm>
                <a:off x="5219640" y="2205000"/>
                <a:ext cx="647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11"/>
              <p:cNvSpPr/>
              <p:nvPr/>
            </p:nvSpPr>
            <p:spPr>
              <a:xfrm flipH="1">
                <a:off x="5219280" y="1989000"/>
                <a:ext cx="6476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1" name="AutoShape 26"/>
            <p:cNvSpPr/>
            <p:nvPr/>
          </p:nvSpPr>
          <p:spPr>
            <a:xfrm>
              <a:off x="5219640" y="2133720"/>
              <a:ext cx="144360" cy="142920"/>
            </a:xfrm>
            <a:prstGeom prst="diamond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2" name="Group 29"/>
          <p:cNvGrpSpPr/>
          <p:nvPr/>
        </p:nvGrpSpPr>
        <p:grpSpPr>
          <a:xfrm>
            <a:off x="6156360" y="1988640"/>
            <a:ext cx="1728720" cy="1153080"/>
            <a:chOff x="6156360" y="1988640"/>
            <a:chExt cx="1728720" cy="1153080"/>
          </a:xfrm>
        </p:grpSpPr>
        <p:grpSp>
          <p:nvGrpSpPr>
            <p:cNvPr id="1693" name="Group 17"/>
            <p:cNvGrpSpPr/>
            <p:nvPr/>
          </p:nvGrpSpPr>
          <p:grpSpPr>
            <a:xfrm>
              <a:off x="6227640" y="1988640"/>
              <a:ext cx="1657440" cy="1080000"/>
              <a:chOff x="6227640" y="1988640"/>
              <a:chExt cx="1657440" cy="1080000"/>
            </a:xfrm>
          </p:grpSpPr>
          <p:sp>
            <p:nvSpPr>
              <p:cNvPr id="1694" name="Line 13"/>
              <p:cNvSpPr/>
              <p:nvPr/>
            </p:nvSpPr>
            <p:spPr>
              <a:xfrm>
                <a:off x="6227640" y="3068640"/>
                <a:ext cx="1584360" cy="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14"/>
              <p:cNvSpPr/>
              <p:nvPr/>
            </p:nvSpPr>
            <p:spPr>
              <a:xfrm flipV="1">
                <a:off x="7885080" y="1988640"/>
                <a:ext cx="0" cy="100836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15"/>
              <p:cNvSpPr/>
              <p:nvPr/>
            </p:nvSpPr>
            <p:spPr>
              <a:xfrm flipH="1">
                <a:off x="6300720" y="1989000"/>
                <a:ext cx="1511280" cy="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16"/>
              <p:cNvSpPr/>
              <p:nvPr/>
            </p:nvSpPr>
            <p:spPr>
              <a:xfrm>
                <a:off x="6300720" y="2060640"/>
                <a:ext cx="0" cy="863640"/>
              </a:xfrm>
              <a:prstGeom prst="line">
                <a:avLst/>
              </a:prstGeom>
              <a:ln w="28440">
                <a:solidFill>
                  <a:srgbClr val="006e6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8" name="AutoShape 28"/>
            <p:cNvSpPr/>
            <p:nvPr/>
          </p:nvSpPr>
          <p:spPr>
            <a:xfrm>
              <a:off x="6156360" y="2997360"/>
              <a:ext cx="216000" cy="144360"/>
            </a:xfrm>
            <a:prstGeom prst="diamond">
              <a:avLst/>
            </a:prstGeom>
            <a:solidFill>
              <a:srgbClr val="006e6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9" name="Group 31"/>
          <p:cNvGrpSpPr/>
          <p:nvPr/>
        </p:nvGrpSpPr>
        <p:grpSpPr>
          <a:xfrm>
            <a:off x="5219640" y="2492280"/>
            <a:ext cx="144360" cy="2232000"/>
            <a:chOff x="5219640" y="2492280"/>
            <a:chExt cx="144360" cy="2232000"/>
          </a:xfrm>
        </p:grpSpPr>
        <p:grpSp>
          <p:nvGrpSpPr>
            <p:cNvPr id="1700" name="Group 24"/>
            <p:cNvGrpSpPr/>
            <p:nvPr/>
          </p:nvGrpSpPr>
          <p:grpSpPr>
            <a:xfrm>
              <a:off x="5219640" y="2492280"/>
              <a:ext cx="144360" cy="2232000"/>
              <a:chOff x="5219640" y="2492280"/>
              <a:chExt cx="144360" cy="2232000"/>
            </a:xfrm>
          </p:grpSpPr>
          <p:sp>
            <p:nvSpPr>
              <p:cNvPr id="1701" name="Line 18"/>
              <p:cNvSpPr/>
              <p:nvPr/>
            </p:nvSpPr>
            <p:spPr>
              <a:xfrm flipV="1">
                <a:off x="5364000" y="2492280"/>
                <a:ext cx="0" cy="22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19"/>
              <p:cNvSpPr/>
              <p:nvPr/>
            </p:nvSpPr>
            <p:spPr>
              <a:xfrm>
                <a:off x="5219640" y="2492280"/>
                <a:ext cx="0" cy="20163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AutoShape 30"/>
            <p:cNvSpPr/>
            <p:nvPr/>
          </p:nvSpPr>
          <p:spPr>
            <a:xfrm>
              <a:off x="5219640" y="4581360"/>
              <a:ext cx="144360" cy="142920"/>
            </a:xfrm>
            <a:prstGeom prst="diamond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4" name="Group 33"/>
          <p:cNvGrpSpPr/>
          <p:nvPr/>
        </p:nvGrpSpPr>
        <p:grpSpPr>
          <a:xfrm>
            <a:off x="6156360" y="3933360"/>
            <a:ext cx="1728720" cy="719640"/>
            <a:chOff x="6156360" y="3933360"/>
            <a:chExt cx="1728720" cy="719640"/>
          </a:xfrm>
        </p:grpSpPr>
        <p:grpSp>
          <p:nvGrpSpPr>
            <p:cNvPr id="1705" name="Group 25"/>
            <p:cNvGrpSpPr/>
            <p:nvPr/>
          </p:nvGrpSpPr>
          <p:grpSpPr>
            <a:xfrm>
              <a:off x="6227640" y="3933360"/>
              <a:ext cx="1657440" cy="648000"/>
              <a:chOff x="6227640" y="3933360"/>
              <a:chExt cx="1657440" cy="648000"/>
            </a:xfrm>
          </p:grpSpPr>
          <p:sp>
            <p:nvSpPr>
              <p:cNvPr id="1706" name="Line 20"/>
              <p:cNvSpPr/>
              <p:nvPr/>
            </p:nvSpPr>
            <p:spPr>
              <a:xfrm>
                <a:off x="6227640" y="4581360"/>
                <a:ext cx="1657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"/>
              <p:cNvSpPr/>
              <p:nvPr/>
            </p:nvSpPr>
            <p:spPr>
              <a:xfrm flipV="1">
                <a:off x="7885080" y="3933360"/>
                <a:ext cx="0" cy="57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"/>
              <p:cNvSpPr/>
              <p:nvPr/>
            </p:nvSpPr>
            <p:spPr>
              <a:xfrm flipH="1">
                <a:off x="6300720" y="4005360"/>
                <a:ext cx="1511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3"/>
              <p:cNvSpPr/>
              <p:nvPr/>
            </p:nvSpPr>
            <p:spPr>
              <a:xfrm>
                <a:off x="6300720" y="4005360"/>
                <a:ext cx="0" cy="36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0" name="AutoShape 32"/>
            <p:cNvSpPr/>
            <p:nvPr/>
          </p:nvSpPr>
          <p:spPr>
            <a:xfrm>
              <a:off x="6156360" y="4508640"/>
              <a:ext cx="144360" cy="14436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Text Box 34"/>
          <p:cNvSpPr/>
          <p:nvPr/>
        </p:nvSpPr>
        <p:spPr>
          <a:xfrm>
            <a:off x="900000" y="5661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 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Дата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Нижний колонтитул 3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7451640" y="259920"/>
            <a:ext cx="130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5" name="Picture 4" descr="2010"/>
          <p:cNvPicPr/>
          <p:nvPr/>
        </p:nvPicPr>
        <p:blipFill>
          <a:blip r:embed="rId1"/>
          <a:stretch/>
        </p:blipFill>
        <p:spPr>
          <a:xfrm>
            <a:off x="468360" y="476280"/>
            <a:ext cx="6119640" cy="564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Дата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Нижний колонтитул 5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верх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пра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пра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ни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низ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ле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ле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вер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1" name="Picture 4" descr="Копия 2010"/>
          <p:cNvPicPr/>
          <p:nvPr/>
        </p:nvPicPr>
        <p:blipFill>
          <a:blip r:embed="rId1"/>
          <a:stretch/>
        </p:blipFill>
        <p:spPr>
          <a:xfrm>
            <a:off x="4859280" y="1916280"/>
            <a:ext cx="3705120" cy="3369960"/>
          </a:xfrm>
          <a:prstGeom prst="rect">
            <a:avLst/>
          </a:prstGeom>
          <a:ln w="0">
            <a:noFill/>
          </a:ln>
        </p:spPr>
      </p:pic>
      <p:sp>
        <p:nvSpPr>
          <p:cNvPr id="1722" name="Text Box 8"/>
          <p:cNvSpPr/>
          <p:nvPr/>
        </p:nvSpPr>
        <p:spPr>
          <a:xfrm>
            <a:off x="611280" y="371628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сть зад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от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оверя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ену в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д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правл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виже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ру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Line 9"/>
          <p:cNvSpPr/>
          <p:nvPr/>
        </p:nvSpPr>
        <p:spPr>
          <a:xfrm>
            <a:off x="5364000" y="2924280"/>
            <a:ext cx="93672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Line 10"/>
          <p:cNvSpPr/>
          <p:nvPr/>
        </p:nvSpPr>
        <p:spPr>
          <a:xfrm>
            <a:off x="7164360" y="285264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5" name="Group 13"/>
          <p:cNvGrpSpPr/>
          <p:nvPr/>
        </p:nvGrpSpPr>
        <p:grpSpPr>
          <a:xfrm>
            <a:off x="5003280" y="2421000"/>
            <a:ext cx="505440" cy="936720"/>
            <a:chOff x="5003280" y="2421000"/>
            <a:chExt cx="505440" cy="936720"/>
          </a:xfrm>
        </p:grpSpPr>
        <p:sp>
          <p:nvSpPr>
            <p:cNvPr id="1726" name="Line 11"/>
            <p:cNvSpPr/>
            <p:nvPr/>
          </p:nvSpPr>
          <p:spPr>
            <a:xfrm>
              <a:off x="5508720" y="2421000"/>
              <a:ext cx="0" cy="936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12"/>
            <p:cNvSpPr/>
            <p:nvPr/>
          </p:nvSpPr>
          <p:spPr>
            <a:xfrm flipH="1">
              <a:off x="5003280" y="3357720"/>
              <a:ext cx="505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8" name="WordArt 14"/>
          <p:cNvSpPr txBox="1"/>
          <p:nvPr/>
        </p:nvSpPr>
        <p:spPr>
          <a:xfrm>
            <a:off x="4643280" y="2708280"/>
            <a:ext cx="374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б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рушаетс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Дата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Нижний колонтитул 5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верх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пра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пра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ни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низу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ле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ок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слев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вободно –ввер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4" name="Picture 5" descr="Копия 2010"/>
          <p:cNvPicPr/>
          <p:nvPr/>
        </p:nvPicPr>
        <p:blipFill>
          <a:blip r:embed="rId1"/>
          <a:stretch/>
        </p:blipFill>
        <p:spPr>
          <a:xfrm>
            <a:off x="4859280" y="1916280"/>
            <a:ext cx="3705120" cy="3369960"/>
          </a:xfrm>
          <a:prstGeom prst="rect">
            <a:avLst/>
          </a:prstGeom>
          <a:ln w="0">
            <a:noFill/>
          </a:ln>
        </p:spPr>
      </p:pic>
      <p:grpSp>
        <p:nvGrpSpPr>
          <p:cNvPr id="1735" name="Group 16"/>
          <p:cNvGrpSpPr/>
          <p:nvPr/>
        </p:nvGrpSpPr>
        <p:grpSpPr>
          <a:xfrm>
            <a:off x="5796000" y="3213000"/>
            <a:ext cx="144360" cy="1440000"/>
            <a:chOff x="5796000" y="3213000"/>
            <a:chExt cx="144360" cy="1440000"/>
          </a:xfrm>
        </p:grpSpPr>
        <p:sp>
          <p:nvSpPr>
            <p:cNvPr id="1736" name="Line 13"/>
            <p:cNvSpPr/>
            <p:nvPr/>
          </p:nvSpPr>
          <p:spPr>
            <a:xfrm>
              <a:off x="5940360" y="3284640"/>
              <a:ext cx="0" cy="1368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14"/>
            <p:cNvSpPr/>
            <p:nvPr/>
          </p:nvSpPr>
          <p:spPr>
            <a:xfrm flipV="1">
              <a:off x="5796000" y="3429000"/>
              <a:ext cx="0" cy="1224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AutoShape 15"/>
            <p:cNvSpPr/>
            <p:nvPr/>
          </p:nvSpPr>
          <p:spPr>
            <a:xfrm>
              <a:off x="5796000" y="3213000"/>
              <a:ext cx="144360" cy="144720"/>
            </a:xfrm>
            <a:prstGeom prst="diamond">
              <a:avLst/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9" name="Text Box 17"/>
          <p:cNvSpPr/>
          <p:nvPr/>
        </p:nvSpPr>
        <p:spPr>
          <a:xfrm>
            <a:off x="826920" y="494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А-18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исполнить алгоритм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кретного исполнителя 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ированным набором  коман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ысокий уровень, время -6 м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01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3" name="Picture 4" descr="2011"/>
          <p:cNvPicPr/>
          <p:nvPr/>
        </p:nvPicPr>
        <p:blipFill>
          <a:blip r:embed="rId1"/>
          <a:stretch/>
        </p:blipFill>
        <p:spPr>
          <a:xfrm>
            <a:off x="900000" y="1197000"/>
            <a:ext cx="6623280" cy="55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ше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7" name="Picture 4" descr="Копия 2011"/>
          <p:cNvPicPr/>
          <p:nvPr/>
        </p:nvPicPr>
        <p:blipFill>
          <a:blip r:embed="rId1"/>
          <a:stretch/>
        </p:blipFill>
        <p:spPr>
          <a:xfrm>
            <a:off x="1042920" y="1773360"/>
            <a:ext cx="7131240" cy="2950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0" name="Picture 5" descr="Копия 2011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51" name="Group 9"/>
          <p:cNvGrpSpPr/>
          <p:nvPr/>
        </p:nvGrpSpPr>
        <p:grpSpPr>
          <a:xfrm>
            <a:off x="6948360" y="691920"/>
            <a:ext cx="287640" cy="649440"/>
            <a:chOff x="6948360" y="691920"/>
            <a:chExt cx="287640" cy="649440"/>
          </a:xfrm>
        </p:grpSpPr>
        <p:sp>
          <p:nvSpPr>
            <p:cNvPr id="1752" name="Line 6"/>
            <p:cNvSpPr/>
            <p:nvPr/>
          </p:nvSpPr>
          <p:spPr>
            <a:xfrm>
              <a:off x="7164360" y="765000"/>
              <a:ext cx="0" cy="576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7"/>
            <p:cNvSpPr/>
            <p:nvPr/>
          </p:nvSpPr>
          <p:spPr>
            <a:xfrm flipV="1">
              <a:off x="6948360" y="691920"/>
              <a:ext cx="0" cy="649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AutoShape 8"/>
            <p:cNvSpPr/>
            <p:nvPr/>
          </p:nvSpPr>
          <p:spPr>
            <a:xfrm>
              <a:off x="7093080" y="692280"/>
              <a:ext cx="142920" cy="144360"/>
            </a:xfrm>
            <a:prstGeom prst="diamond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13"/>
          <p:cNvGrpSpPr/>
          <p:nvPr/>
        </p:nvGrpSpPr>
        <p:grpSpPr>
          <a:xfrm>
            <a:off x="6587640" y="2060640"/>
            <a:ext cx="1369080" cy="216000"/>
            <a:chOff x="6587640" y="2060640"/>
            <a:chExt cx="1369080" cy="216000"/>
          </a:xfrm>
        </p:grpSpPr>
        <p:sp>
          <p:nvSpPr>
            <p:cNvPr id="1756" name="Line 10"/>
            <p:cNvSpPr/>
            <p:nvPr/>
          </p:nvSpPr>
          <p:spPr>
            <a:xfrm flipH="1">
              <a:off x="6587640" y="2205000"/>
              <a:ext cx="1297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11"/>
            <p:cNvSpPr/>
            <p:nvPr/>
          </p:nvSpPr>
          <p:spPr>
            <a:xfrm>
              <a:off x="6588000" y="2060640"/>
              <a:ext cx="122400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AutoShape 12"/>
            <p:cNvSpPr/>
            <p:nvPr/>
          </p:nvSpPr>
          <p:spPr>
            <a:xfrm>
              <a:off x="7740720" y="2133720"/>
              <a:ext cx="216000" cy="142920"/>
            </a:xfrm>
            <a:prstGeom prst="diamond">
              <a:avLst/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9" name="Group 19"/>
          <p:cNvGrpSpPr/>
          <p:nvPr/>
        </p:nvGrpSpPr>
        <p:grpSpPr>
          <a:xfrm>
            <a:off x="7380000" y="1196640"/>
            <a:ext cx="1008360" cy="1511640"/>
            <a:chOff x="7380000" y="1196640"/>
            <a:chExt cx="1008360" cy="1511640"/>
          </a:xfrm>
        </p:grpSpPr>
        <p:sp>
          <p:nvSpPr>
            <p:cNvPr id="1760" name="Line 14"/>
            <p:cNvSpPr/>
            <p:nvPr/>
          </p:nvSpPr>
          <p:spPr>
            <a:xfrm>
              <a:off x="8317080" y="1197000"/>
              <a:ext cx="0" cy="1511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AutoShape 15"/>
            <p:cNvSpPr/>
            <p:nvPr/>
          </p:nvSpPr>
          <p:spPr>
            <a:xfrm>
              <a:off x="8244000" y="1197000"/>
              <a:ext cx="144360" cy="144360"/>
            </a:xfrm>
            <a:prstGeom prst="diamond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Line 16"/>
            <p:cNvSpPr/>
            <p:nvPr/>
          </p:nvSpPr>
          <p:spPr>
            <a:xfrm flipH="1">
              <a:off x="7380000" y="2708280"/>
              <a:ext cx="863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Line 17"/>
            <p:cNvSpPr/>
            <p:nvPr/>
          </p:nvSpPr>
          <p:spPr>
            <a:xfrm flipV="1">
              <a:off x="7451640" y="1196640"/>
              <a:ext cx="0" cy="1368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Line 18"/>
            <p:cNvSpPr/>
            <p:nvPr/>
          </p:nvSpPr>
          <p:spPr>
            <a:xfrm>
              <a:off x="7524720" y="1268280"/>
              <a:ext cx="6476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5" name="Text Box 20"/>
          <p:cNvSpPr/>
          <p:nvPr/>
        </p:nvSpPr>
        <p:spPr>
          <a:xfrm>
            <a:off x="1476360" y="44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Garamond"/>
              </a:rPr>
              <a:t>В 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мение исполнить алгоритм</a:t>
            </a:r>
            <a:r>
              <a:rPr b="0" lang="ru-RU" sz="8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 среде формального исполните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азовый уровень , 5 мин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008 , 20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нитель Робот действует на клетчатой доске, между соседними клетками которой могут стоять стены. Робот передвигается по клеткам доски и может выполнять команд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 (вверх), 2 (вниз), 3 (влево), 4 (вправо),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ходя на соседнюю клетку в направлении, указанном в скобках. Если в этом направлении между клетками стоит стена, то Робот разрушается. Робот успешно выполнил программ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113243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ую последовательность из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трех коман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должен выполнить Робот, чтобы вернуться на ту клетку, где он был перед началом выполнения программы, и не разрушиться, вне зависимости от того, какие стены стоят на пол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00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1 (вверх), 2 (вниз), 3 (влево), 4 (вправо),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78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9" name="Line 28"/>
          <p:cNvSpPr/>
          <p:nvPr/>
        </p:nvSpPr>
        <p:spPr>
          <a:xfrm flipV="1">
            <a:off x="7308720" y="3860640"/>
            <a:ext cx="0" cy="1152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Line 29"/>
          <p:cNvSpPr/>
          <p:nvPr/>
        </p:nvSpPr>
        <p:spPr>
          <a:xfrm flipV="1">
            <a:off x="7308720" y="2707920"/>
            <a:ext cx="0" cy="115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Line 30"/>
          <p:cNvSpPr/>
          <p:nvPr/>
        </p:nvSpPr>
        <p:spPr>
          <a:xfrm flipH="1">
            <a:off x="6012000" y="2708280"/>
            <a:ext cx="12967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Line 31"/>
          <p:cNvSpPr/>
          <p:nvPr/>
        </p:nvSpPr>
        <p:spPr>
          <a:xfrm>
            <a:off x="6012000" y="2708280"/>
            <a:ext cx="0" cy="115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Line 32"/>
          <p:cNvSpPr/>
          <p:nvPr/>
        </p:nvSpPr>
        <p:spPr>
          <a:xfrm>
            <a:off x="6012000" y="3860640"/>
            <a:ext cx="122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33"/>
          <p:cNvSpPr/>
          <p:nvPr/>
        </p:nvSpPr>
        <p:spPr>
          <a:xfrm flipH="1">
            <a:off x="6011640" y="3860640"/>
            <a:ext cx="1152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34"/>
          <p:cNvSpPr/>
          <p:nvPr/>
        </p:nvSpPr>
        <p:spPr>
          <a:xfrm>
            <a:off x="6012000" y="3933720"/>
            <a:ext cx="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Line 35"/>
          <p:cNvSpPr/>
          <p:nvPr/>
        </p:nvSpPr>
        <p:spPr>
          <a:xfrm flipV="1">
            <a:off x="6012000" y="3933720"/>
            <a:ext cx="0" cy="1008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Line 36"/>
          <p:cNvSpPr/>
          <p:nvPr/>
        </p:nvSpPr>
        <p:spPr>
          <a:xfrm>
            <a:off x="6084720" y="3860640"/>
            <a:ext cx="1079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Line 37"/>
          <p:cNvSpPr/>
          <p:nvPr/>
        </p:nvSpPr>
        <p:spPr>
          <a:xfrm>
            <a:off x="7308720" y="3933720"/>
            <a:ext cx="0" cy="1008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 Box 38"/>
          <p:cNvSpPr/>
          <p:nvPr/>
        </p:nvSpPr>
        <p:spPr>
          <a:xfrm>
            <a:off x="539640" y="58770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: 1 4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2009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4064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На экране есть два окна, в каждом из которых написано по числу. У исполнителя Сумматор две команд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Verdana"/>
              </a:rPr>
              <a:t>Запиши сумму чисел в первое ок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Verdana"/>
              </a:rPr>
              <a:t>Запиши сумму чисел во второе окно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Запишите порядок команд в программе получения из пары чисел </a:t>
            </a:r>
            <a:r>
              <a:rPr b="0" lang="ru-RU" sz="2500" spc="-1" strike="noStrike">
                <a:solidFill>
                  <a:srgbClr val="660066"/>
                </a:solidFill>
                <a:latin typeface="Verdana"/>
              </a:rPr>
              <a:t>1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0" lang="ru-RU" sz="2500" spc="-1" strike="noStrike">
                <a:solidFill>
                  <a:srgbClr val="660066"/>
                </a:solidFill>
                <a:latin typeface="Verdana"/>
              </a:rPr>
              <a:t>2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пары чисел </a:t>
            </a: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13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4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, содержащей не более </a:t>
            </a:r>
            <a:r>
              <a:rPr b="0" lang="ru-RU" sz="2500" spc="-1" strike="noStrike" u="sng">
                <a:solidFill>
                  <a:srgbClr val="000099"/>
                </a:solidFill>
                <a:uFillTx/>
                <a:latin typeface="Verdana"/>
              </a:rPr>
              <a:t>5 команд</a:t>
            </a:r>
            <a:r>
              <a:rPr b="0" lang="ru-RU" sz="25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97" name=""/>
          <p:cNvGraphicFramePr/>
          <p:nvPr/>
        </p:nvGraphicFramePr>
        <p:xfrm>
          <a:off x="971640" y="1827360"/>
          <a:ext cx="237636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1" name=""/>
          <p:cNvGraphicFramePr/>
          <p:nvPr/>
        </p:nvGraphicFramePr>
        <p:xfrm>
          <a:off x="971640" y="1827360"/>
          <a:ext cx="3313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5" name=""/>
          <p:cNvGraphicFramePr/>
          <p:nvPr/>
        </p:nvGraphicFramePr>
        <p:xfrm>
          <a:off x="971640" y="1827360"/>
          <a:ext cx="4321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004-200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нитель Черепашка перемещается на экране компьютера, оставляя след в виде линии. В каждый конкретный момент известно положение исполнителя и направление его движения. У исполнителя существуют две коман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Arial"/>
              </a:rPr>
              <a:t>Вперед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целое число шагов в направлении дв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Arial"/>
              </a:rPr>
              <a:t>Направо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г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ое число градусов поворота по часовой стре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шке был дан для исполнения следующий ал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втори 4 (Вперед 10 Направо 1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ая фигура появится на экра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замкнутая лома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 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ый пятиугольни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9" name=""/>
          <p:cNvGraphicFramePr/>
          <p:nvPr/>
        </p:nvGraphicFramePr>
        <p:xfrm>
          <a:off x="971640" y="1827360"/>
          <a:ext cx="53290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13" name=""/>
          <p:cNvGraphicFramePr/>
          <p:nvPr/>
        </p:nvGraphicFramePr>
        <p:xfrm>
          <a:off x="971640" y="1827360"/>
          <a:ext cx="626436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  <a:gridCol w="93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971640" y="1827360"/>
          <a:ext cx="7199280" cy="4114800"/>
        </p:xfrm>
        <a:graphic>
          <a:graphicData uri="http://schemas.openxmlformats.org/drawingml/2006/table">
            <a:tbl>
              <a:tblPr/>
              <a:tblGrid>
                <a:gridCol w="1439640"/>
                <a:gridCol w="936720"/>
                <a:gridCol w="936720"/>
                <a:gridCol w="1008000"/>
                <a:gridCol w="1008000"/>
                <a:gridCol w="935280"/>
                <a:gridCol w="934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кно 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5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4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манда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1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Нижний колонтитул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исполнителя Калькулятор две команды, которым присвоены номе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ибавь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ножь на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порядок команд в программе получения из числа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5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держащ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более 6 коман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казывая лишь номера коман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6" name=""/>
          <p:cNvGraphicFramePr/>
          <p:nvPr/>
        </p:nvGraphicFramePr>
        <p:xfrm>
          <a:off x="324000" y="3860640"/>
          <a:ext cx="2858760" cy="216864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1" name=""/>
          <p:cNvGraphicFramePr/>
          <p:nvPr/>
        </p:nvGraphicFramePr>
        <p:xfrm>
          <a:off x="324000" y="3860640"/>
          <a:ext cx="410832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324000" y="3860640"/>
          <a:ext cx="535608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324000" y="3860640"/>
          <a:ext cx="660528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  <a:gridCol w="124920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Дата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ь на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6" name=""/>
          <p:cNvGraphicFramePr/>
          <p:nvPr/>
        </p:nvGraphicFramePr>
        <p:xfrm>
          <a:off x="324000" y="3860640"/>
          <a:ext cx="7854840" cy="2189160"/>
        </p:xfrm>
        <a:graphic>
          <a:graphicData uri="http://schemas.openxmlformats.org/drawingml/2006/table">
            <a:tbl>
              <a:tblPr/>
              <a:tblGrid>
                <a:gridCol w="1609560"/>
                <a:gridCol w="1249200"/>
                <a:gridCol w="1249560"/>
                <a:gridCol w="1247760"/>
                <a:gridCol w="1249200"/>
                <a:gridCol w="1249560"/>
              </a:tblGrid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экзаменационных заданий ЕГЭ 2008- 2011 (Москва, Эксмо-2008,Интеллект-центр-2009, АСТ-20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 - версии ЕГЭ 2005 - 2011 г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йт Полякова К.Ю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доктор технических наук, учитель высшей категории)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kpolyakov.naro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fipi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trendclub.ru/blogs/dreamrobot/68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(Вперед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Направо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20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шка прочертит на экране 4 линии, но последний отрезок полностью совпадет с первым, т.к. после третьего выполнения цикла Черепашка обернется вокруг своей оси (360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2" name="Group 6"/>
          <p:cNvGrpSpPr/>
          <p:nvPr/>
        </p:nvGrpSpPr>
        <p:grpSpPr>
          <a:xfrm>
            <a:off x="4427640" y="5445000"/>
            <a:ext cx="2016000" cy="0"/>
            <a:chOff x="4427640" y="5445000"/>
            <a:chExt cx="2016000" cy="0"/>
          </a:xfrm>
        </p:grpSpPr>
        <p:sp>
          <p:nvSpPr>
            <p:cNvPr id="1603" name="Line 4"/>
            <p:cNvSpPr/>
            <p:nvPr/>
          </p:nvSpPr>
          <p:spPr>
            <a:xfrm>
              <a:off x="4427640" y="5445000"/>
              <a:ext cx="10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Line 5"/>
            <p:cNvSpPr/>
            <p:nvPr/>
          </p:nvSpPr>
          <p:spPr>
            <a:xfrm>
              <a:off x="5724360" y="5445000"/>
              <a:ext cx="719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Line 5"/>
          <p:cNvSpPr/>
          <p:nvPr/>
        </p:nvSpPr>
        <p:spPr>
          <a:xfrm flipH="1">
            <a:off x="5508360" y="5445000"/>
            <a:ext cx="215640" cy="505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Line 5"/>
          <p:cNvSpPr/>
          <p:nvPr/>
        </p:nvSpPr>
        <p:spPr>
          <a:xfrm flipH="1" flipV="1">
            <a:off x="4500360" y="5877000"/>
            <a:ext cx="431640" cy="403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Line 6"/>
          <p:cNvSpPr/>
          <p:nvPr/>
        </p:nvSpPr>
        <p:spPr>
          <a:xfrm flipV="1">
            <a:off x="5003640" y="5444640"/>
            <a:ext cx="50328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Повтори 4 (Вперед 10 Направо 12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60:12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спосо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-120=60 –внутренний у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0: 60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авильный треугольни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спос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ед 10  Направо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Line 4"/>
          <p:cNvSpPr/>
          <p:nvPr/>
        </p:nvSpPr>
        <p:spPr>
          <a:xfrm>
            <a:off x="4427640" y="5445000"/>
            <a:ext cx="107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Line 5"/>
          <p:cNvSpPr/>
          <p:nvPr/>
        </p:nvSpPr>
        <p:spPr>
          <a:xfrm>
            <a:off x="4427640" y="530064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Line 6"/>
          <p:cNvSpPr/>
          <p:nvPr/>
        </p:nvSpPr>
        <p:spPr>
          <a:xfrm flipV="1">
            <a:off x="5003640" y="5444640"/>
            <a:ext cx="50508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Line 7"/>
          <p:cNvSpPr/>
          <p:nvPr/>
        </p:nvSpPr>
        <p:spPr>
          <a:xfrm flipH="1" flipV="1">
            <a:off x="4427640" y="5444640"/>
            <a:ext cx="57600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2006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е число необходимо записать вмест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алгорит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Повтори 7 (Вперед 40 Направо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на экране появился правильный шестиугольни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30      2) 45        3) 50       4)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1 спосо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Сумма внутренних углов многоугольника (р-2)*180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Величина одного внутреннего угла – (р – 2)* 180 / 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4 * 180 / 6 = 1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ahoma"/>
              </a:rPr>
              <a:t>Смежный угол-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ahoma"/>
              </a:rPr>
              <a:t>2 способ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пашка прочертит на экране 7 отрезков, но последний совпадет с первым (черепашка полностью повернется вокруг своей оси на 36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360 : 6 =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Ответ: 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Дата 3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1 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© Bolgova N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008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3" name="Picture 4" descr="2008"/>
          <p:cNvPicPr/>
          <p:nvPr/>
        </p:nvPicPr>
        <p:blipFill>
          <a:blip r:embed="rId1"/>
          <a:stretch/>
        </p:blipFill>
        <p:spPr>
          <a:xfrm>
            <a:off x="324000" y="1268280"/>
            <a:ext cx="8532720" cy="5408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8:50:08Z</dcterms:created>
  <dc:creator>Наталья</dc:creator>
  <dc:description/>
  <dc:language>en-US</dc:language>
  <cp:lastModifiedBy>Metod-kopilka.ru</cp:lastModifiedBy>
  <dcterms:modified xsi:type="dcterms:W3CDTF">2013-03-14T07:11:35Z</dcterms:modified>
  <cp:revision>9</cp:revision>
  <dc:subject/>
  <dc:title>Исполнители</dc:title>
</cp:coreProperties>
</file>