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469-2030-4568-AFF8-ED59BDE5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7A3-E929-4FAB-86BB-E2C56536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C3224-5627-468F-B661-A496C335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0CE15-C2C4-4CC1-8A96-197AC2D3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FC941-2BE1-4577-A79E-7E1B9FA5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FBDB8-8872-45D7-AED9-158B5A94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92829-F17E-4EAF-809B-C041C698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ADD8F-637B-4561-9786-FC03AA0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D5FAD-9E8A-419A-B79E-FBB29165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883F0-2CBF-4117-BDDF-7815F6EA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1EAEA-8E34-4A32-9939-2CA40A30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FDB06-31B4-45C8-AAFF-FC11153C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B31-D9F8-432C-9CAB-09516E57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19DB4-2959-488E-9F69-9DBFD5CB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F3CC8-4764-4994-A1DD-E457895C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C0709-AD1B-406C-981F-F521B7FE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1998C-52F3-46BF-BECE-C5164D16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CEC14-E74C-46B0-B4CE-BF90BDDB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84B69-9438-459A-BE76-B5585701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B8FF4-395F-4EDF-85F2-3146009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3F938-7EF3-47A3-80EC-EF79C26D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DF841-AB05-493B-97CF-D0464302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59B8E-9ECD-4795-A7F6-A77CE39A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901-F1E1-4D88-90DB-CCCEB4CF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7A7FD-9463-43A8-9932-DEFD7003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9A23E-D066-4E04-B6D3-935AC735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BF527-8426-4B25-B068-326C246B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1C268-1FF9-419E-8DE3-498EBFB7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B1E28-1232-4B21-94C7-B8EC471B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4AF15-1684-450A-8666-35F6B44E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46AF0-8A43-4014-9538-B59FE710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DCAE5-6A3C-4D92-8ACB-AADD1687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AE39A-3FFC-417E-B437-94BAF845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B4537-10CE-431C-BF9A-98A30580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47FA-08A7-49AD-977F-7716A1D0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E1248-4F40-48B5-8F66-10578F95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6F90C-077D-4DEA-B8B7-4C52EC5E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19AB4-2E9E-4D12-BD46-070E8558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9D3F3-3039-4365-8223-297E5D1C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31C9C-D57F-4120-889C-7668C512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CBCA5-D5D7-4FF1-ACA4-5DC6D735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12419-C1F4-4C70-B8B6-CF708DB5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ABBFC-5FCA-4118-84FF-B95FB621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509AD-672A-4C1B-9641-78831AE2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2365F-CC25-4BC7-8F02-23D67E1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CB44-6EF4-490E-BB5A-680B0F99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0007D-DBAF-49B9-847C-97E01D6C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A7C78-C14F-4E9E-A57B-ACC49C81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A3C28-B905-4E8F-BBC1-A3D72658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3C537-91B2-4B6B-B0AD-C4B3B2A9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17FC3-68BF-4457-A566-7A6F0BBB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D474D-7F33-4A2F-BAD8-B561F43A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5668C-4FBF-4209-84A6-07DB9EB5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52FE8-F416-4D88-8445-750F4FBE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5A68E-D842-4330-A0CF-BAE4D922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89F63-4BA5-436C-A981-FD60AE13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F221-9010-4AC6-8D76-B92095A3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B22DC-DBB6-4E41-8A3F-DACDD826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BF852-DF48-4A48-BA7A-27D619B0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DBC0A-88A2-43E6-A87D-C8F9871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F9E1C-6E78-4774-B9CB-866C14F2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D82D0-0460-4FF0-B125-D1395FCD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CF2D7-BD5E-4A5E-9AC6-EDA1AC4A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55571-CDAC-439A-972F-4CF634FD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43EB8-054F-44A3-BBB5-3FA2ECD5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43681-54E2-4D51-A01F-27A8E0AE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D66EE-8BD8-48EF-A85C-937DD129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2FF9-AA6C-4305-AD67-8673EE61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83DEA-005E-40B4-9379-418877C5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00E8F-4000-45B9-AD83-1BE47AC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AFA9B-935F-472C-9BE9-B27AAED2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AAB01-1488-4FCF-9806-E5037462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2C69B-7DDD-470E-916B-04A20B09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EA1D1-87F1-4D0F-B340-BC7525D4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3E76D-591B-4A8F-9D3D-50858051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749A6-5D09-4C46-AC26-C8BDD777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86186-7820-4FC9-9DC7-A50976E4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BC5AA-4D8D-4D0B-98F2-2AAFB881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0DF6-9924-4028-B457-8AFEB4ED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5DFF9-A2B4-417A-B975-CC47645E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9A3A25-BA50-4C07-98D3-E070A9E5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6F8B9-2B69-4AB6-A802-BA85DDBD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52C79-D49B-44D8-88AA-C28D4EF4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5C284-1340-4F62-8E2D-A8A25680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EBACE-8AB5-4452-8ED5-6132AC5D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BF59B-440D-4E07-B0E4-3D218BC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E439AA-92E1-4EBD-886F-095FDD0A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2DB61-DEBC-4983-88B9-91978170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3685B-D5FA-4AC5-9792-F18B8D33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9487-A37F-4868-8897-1035B716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4B98D-C194-402D-BB30-B63BF5A7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A86E7-FFFE-40F8-8973-232D7E33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7DB1B-EC0A-4FFB-A480-98C58194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CF1DE-95D6-4403-A237-13FD78A5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C6D3D-42A9-4008-AD9C-9503FD43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3E535-603A-4CA9-8826-811CE5EA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4DC497-88E6-4C81-945E-E011C66E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67FAF-3C49-4630-823E-39B8B240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6D517-4271-463E-A3CF-6A1B3274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6FEAA-B850-4962-AA18-FADBED52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3D82-4477-4169-ACB7-19E8122C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72A384-F914-4E1F-9469-F2B9F49E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C4AE5-DD50-4464-86E2-C38A79E8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F5EA5-3F1E-4C93-8957-D4795560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CFCD2-A100-457F-8118-82EB3503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F0F04-7329-4761-B681-B8F1839D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136F1-368A-4E08-8D81-DF9EFD09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37878-C772-48A8-A93B-EE861C98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38388D-8199-4641-AE16-659E103E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103EA-6F10-4E99-B0BC-33B39280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848B2-4B0E-416F-BDC8-32317574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363-4FAE-46AA-97E4-D49B3C45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A658-0647-4C9B-9754-64E28C7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C5BF8B-8919-491F-8F10-23197623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FC1BC-7BDE-4013-9DCF-538861B7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3BC94-B090-4231-8138-102E0F4B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59C4C-D8DA-4D91-ADAE-8740192F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A49DD-BECF-483A-9AAB-7ABD846A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A0C05-B334-4225-B192-AC65FFE1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087629-132A-4F9A-9B3D-4633EB1F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12ED6-7F3D-42C0-BF94-DCC24F1C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94397-74C8-4E02-8D86-93917B3C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A8B60E-6396-4F9D-BBC1-B6DD2A1F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162D-55E9-4A8C-9640-7C37116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161E75-203C-46AA-971F-4EDAED27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F69B6-AD42-4BC2-8654-687697F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06E70-FA75-4563-84D1-3B0479E9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5496D-FBAF-4917-80E3-381AA70D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C930A-AEBB-465D-B665-87B0FA76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CEB8D2-9115-4CAE-877E-1B6D73A7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AFEC2-6F1D-4925-9548-15934CC4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6FB0-C071-4A87-9A76-6AF51E45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C22B-05AA-4F20-8CD8-537670EF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9DD5-4107-4395-BE9D-7450F093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F9B32-19FC-4A61-A730-513C2083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B1B0-84A1-43D2-BA21-C084A1DF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7F59-F0F2-48F0-B593-ABFB9A72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7443-07F9-4FD6-9E88-FA1A121B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3E43-887E-4F23-B169-D244D979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FE1-5A30-4D91-A3C5-63830E31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DE3E-B963-4DB9-9FCF-4C4FC95D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8E528-7B8E-45CB-A440-105E52EE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9BE2-4234-4191-8A52-4278D4A3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54AE-F280-4D25-BF8C-D7FF100E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065D-5708-42EB-9ED6-6E79A041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784A-69E8-4515-B9A1-C22AB5AD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CDED-72F3-460A-82F6-AB7EC51C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F974A-00F2-4A80-BA9C-E948F2A8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4EB6C-C189-4BF5-BCA9-125C6DBC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43414-FBDB-4D29-9622-6D63B430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9DB-F871-4CC6-AB1E-C726709B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30A3E-142D-4BA4-983D-1E90FAFE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AF410-9C1C-412F-BAC1-053A03C8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6A19B-9AF7-4A54-8EA4-8148D5E2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9484A-1F72-4292-8FE4-E7D2C6D2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E2B69-5D23-408D-882E-B6C5C600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DAFE-934C-47AC-A2D9-E999733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9811-E6E9-4AAE-87FD-F585EE1D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4172-437F-454B-8D7E-1873FA6A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32A5E-381C-4731-B8A6-853B4255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021A5-04A3-4A3E-B537-40C67FA6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14F-83F6-4F34-92A4-279E1ED3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1DBCE-C093-42D3-9B72-B0B3361E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D6F9E-9F04-4A8B-97CE-2E14EA8D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A5733-7AC5-4E3C-9557-1A1664FD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90D3B-8DFD-4944-BD8F-C8C1B3DD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82B43-5EE0-445C-9247-2468FB72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05D8D-04F9-4E0A-B589-732B9E24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C5BEF-C4BA-4C5F-9BB0-0DC88983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DBF94-6AEA-476C-9C5A-F1BBF81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59FD4-04BD-453C-B4FD-8D4A8EEC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C64FC-BA75-470B-B70E-A86324D9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229-CB50-4B7D-8789-E65F3129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7854-14EA-4543-9323-20E68F70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A374B-FEF0-4364-8CA6-EA5D0F17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79F85-D578-4694-B725-391995BC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B54CB-C7CF-40BC-936A-6345AF0E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55A45-986A-4663-BD2C-06DE8529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8C923-CB9A-421D-885B-1FFA9FD0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185E-21F4-4752-9A8B-7960386E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46F0-FFEE-4346-8191-4668DC3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285BC-9648-4EA6-BFDB-9FCC4428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41E48-51D9-4265-BB40-E011224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702-CFFF-4778-9A2E-7417DD03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E4F5B-AC93-41B4-8D98-256852CD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0B10F-AD40-4AA0-915E-9BECD7B4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CACA-DCCF-4B7D-A196-85530E57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16820-08FB-4EC7-9D95-3B835DB5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A1331-EE39-49C0-9691-F68BBE99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A3684-0509-4281-83D8-39DD3A0B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6E184-A38C-4488-9F96-056A1D5E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44C8E-9AE3-48BD-B4EF-FFC635CA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DC537-B64F-4BF9-9B47-AE403AAE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234B5-DEC1-469D-B072-60190DFA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E84-6D20-472C-A272-DFF9B7DE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1A675-6E59-4AD2-91CC-AA08BE5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D6BDE-463F-468F-8DEC-AA4752C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6E506-528E-4EFE-B3F3-7E8FCD52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E3E8F9-B424-43DE-8A3D-5D53059B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A3C9D-5604-406E-B026-6EB1C83A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095CD8-DDDC-4477-BB0A-64C64D08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C3FD6A-54A5-41A3-A96D-3FC70263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86FBAB-DB2D-4BBE-9F67-F2406A50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5EE11-AEAA-4DE1-8DAE-92D26781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FEB8E9-FD02-4A1E-ABD1-66602C3C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05A-5A44-432C-AF9C-C40F6CE1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3CCB34-2292-4308-A5D9-685948AF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D0232B-7BBC-4FD3-81BD-3B6CA300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5E6B62-CD74-4771-A161-FC18B82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0D838F-2B72-4C83-8551-E5EEFBD5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AE4273-E57F-428A-8A44-6575F10F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39B07C-8487-4A38-B49B-B4478C5B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26C302-3042-4818-B64A-387D1358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FD94F-42EA-415B-8E5C-8D25AFFA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7728A-1B7C-4CEC-BC1D-A9374FCE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A9E5C-6B71-49F6-AD7B-BDB14008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9235-514F-487E-AF3F-26D0E1FCFF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94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246E-DD6A-4E95-822B-08FB7AAE29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4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4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6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850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7705-A073-4170-8B36-225016F5E14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9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2011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© Bolgova N.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1F61-0D40-41C3-AC20-AEF217BCB32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9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03B1-5B2E-49E8-8C30-80D64064B29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14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436E-4A63-4E87-A449-BFBD9E283D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92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1C4D-E044-4E44-BE9B-20875613815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2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ftr" idx="4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1757-CDEB-4435-9983-A94ED4E3DB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5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286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8BDB-3FCA-4170-87E5-3BC32476B1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543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FFBD-41E3-46FE-BEB4-400584BBB6E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0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EB74-9E1E-41D4-9F25-289411E072A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011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© Bolgova N.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204A-C043-44C2-B1D8-517BFD2366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9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EB0D-272D-4F43-8E93-821808FA64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53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56E6-1FA0-451B-8E12-60A941B999C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8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182B-D339-452B-A195-F7720F0F6BA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FFE7-E88B-43F7-9A1E-83AC8D425C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9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7" name="PlaceHolder 1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EA13-6DC7-4715-9016-25E587FCD4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49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0CCB-2AD5-40A5-8B08-A7887E82711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68000" y="2060280"/>
            <a:ext cx="56862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сполнители в ЕГЭ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subTitle"/>
          </p:nvPr>
        </p:nvSpPr>
        <p:spPr>
          <a:xfrm>
            <a:off x="125892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гова Н.А.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СОШ с углубленным изучением отдельных предметов с.Тербу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пец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9" name="Picture 5" descr="wiz_xw_series_zigbee_3"/>
          <p:cNvPicPr/>
          <p:nvPr/>
        </p:nvPicPr>
        <p:blipFill>
          <a:blip r:embed="rId1"/>
          <a:stretch/>
        </p:blipFill>
        <p:spPr>
          <a:xfrm>
            <a:off x="6300720" y="476280"/>
            <a:ext cx="2406600" cy="3456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Дата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ше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950000" y="1341360"/>
            <a:ext cx="419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ез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8" name="Picture 4" descr="2008-1"/>
          <p:cNvPicPr/>
          <p:nvPr/>
        </p:nvPicPr>
        <p:blipFill>
          <a:blip r:embed="rId1"/>
          <a:stretch/>
        </p:blipFill>
        <p:spPr>
          <a:xfrm>
            <a:off x="179280" y="1341360"/>
            <a:ext cx="4222800" cy="475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9" name=""/>
          <p:cNvGraphicFramePr/>
          <p:nvPr/>
        </p:nvGraphicFramePr>
        <p:xfrm>
          <a:off x="4788000" y="1916280"/>
          <a:ext cx="3456000" cy="3894120"/>
        </p:xfrm>
        <a:graphic>
          <a:graphicData uri="http://schemas.openxmlformats.org/drawingml/2006/table">
            <a:tbl>
              <a:tblPr/>
              <a:tblGrid>
                <a:gridCol w="433440"/>
                <a:gridCol w="650880"/>
                <a:gridCol w="795240"/>
                <a:gridCol w="650880"/>
                <a:gridCol w="925560"/>
              </a:tblGrid>
              <a:tr h="83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0" name="Text Box 58"/>
          <p:cNvSpPr/>
          <p:nvPr/>
        </p:nvSpPr>
        <p:spPr>
          <a:xfrm>
            <a:off x="5148360" y="51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&gt;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Дата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ше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950000" y="1341360"/>
            <a:ext cx="419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ез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5" name="Picture 4" descr="2008-1"/>
          <p:cNvPicPr/>
          <p:nvPr/>
        </p:nvPicPr>
        <p:blipFill>
          <a:blip r:embed="rId1"/>
          <a:stretch/>
        </p:blipFill>
        <p:spPr>
          <a:xfrm>
            <a:off x="179280" y="1341360"/>
            <a:ext cx="4222800" cy="475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6" name=""/>
          <p:cNvGraphicFramePr/>
          <p:nvPr/>
        </p:nvGraphicFramePr>
        <p:xfrm>
          <a:off x="4788000" y="1916280"/>
          <a:ext cx="3456000" cy="3922560"/>
        </p:xfrm>
        <a:graphic>
          <a:graphicData uri="http://schemas.openxmlformats.org/drawingml/2006/table">
            <a:tbl>
              <a:tblPr/>
              <a:tblGrid>
                <a:gridCol w="433440"/>
                <a:gridCol w="650880"/>
                <a:gridCol w="795240"/>
                <a:gridCol w="650880"/>
                <a:gridCol w="92556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7" name="Text Box 45"/>
          <p:cNvSpPr/>
          <p:nvPr/>
        </p:nvSpPr>
        <p:spPr>
          <a:xfrm>
            <a:off x="5867280" y="5300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&gt;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Дата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ше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950000" y="1341360"/>
            <a:ext cx="419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ез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2" name="Picture 4" descr="2008-1"/>
          <p:cNvPicPr/>
          <p:nvPr/>
        </p:nvPicPr>
        <p:blipFill>
          <a:blip r:embed="rId1"/>
          <a:stretch/>
        </p:blipFill>
        <p:spPr>
          <a:xfrm>
            <a:off x="179280" y="1341360"/>
            <a:ext cx="4222800" cy="475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3" name=""/>
          <p:cNvGraphicFramePr/>
          <p:nvPr/>
        </p:nvGraphicFramePr>
        <p:xfrm>
          <a:off x="4788000" y="1916280"/>
          <a:ext cx="3960720" cy="3922560"/>
        </p:xfrm>
        <a:graphic>
          <a:graphicData uri="http://schemas.openxmlformats.org/drawingml/2006/table">
            <a:tbl>
              <a:tblPr/>
              <a:tblGrid>
                <a:gridCol w="433440"/>
                <a:gridCol w="650880"/>
                <a:gridCol w="795240"/>
                <a:gridCol w="928800"/>
                <a:gridCol w="115236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4" name="Text Box 43"/>
          <p:cNvSpPr/>
          <p:nvPr/>
        </p:nvSpPr>
        <p:spPr>
          <a:xfrm>
            <a:off x="6588000" y="5157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&gt;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Дата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ше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950000" y="1341360"/>
            <a:ext cx="419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ез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9" name="Picture 4" descr="2008-1"/>
          <p:cNvPicPr/>
          <p:nvPr/>
        </p:nvPicPr>
        <p:blipFill>
          <a:blip r:embed="rId1"/>
          <a:stretch/>
        </p:blipFill>
        <p:spPr>
          <a:xfrm>
            <a:off x="179280" y="1341360"/>
            <a:ext cx="4222800" cy="475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0" name=""/>
          <p:cNvGraphicFramePr/>
          <p:nvPr/>
        </p:nvGraphicFramePr>
        <p:xfrm>
          <a:off x="4788000" y="1916280"/>
          <a:ext cx="3960720" cy="3922560"/>
        </p:xfrm>
        <a:graphic>
          <a:graphicData uri="http://schemas.openxmlformats.org/drawingml/2006/table">
            <a:tbl>
              <a:tblPr/>
              <a:tblGrid>
                <a:gridCol w="433440"/>
                <a:gridCol w="650880"/>
                <a:gridCol w="795240"/>
                <a:gridCol w="928800"/>
                <a:gridCol w="115236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Е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1" name="Text Box 43"/>
          <p:cNvSpPr/>
          <p:nvPr/>
        </p:nvSpPr>
        <p:spPr>
          <a:xfrm>
            <a:off x="7596360" y="51577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&g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Text Box 44"/>
          <p:cNvSpPr/>
          <p:nvPr/>
        </p:nvSpPr>
        <p:spPr>
          <a:xfrm>
            <a:off x="1692360" y="6237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ДЕП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2009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7" name="Picture 4" descr="2009"/>
          <p:cNvPicPr/>
          <p:nvPr/>
        </p:nvPicPr>
        <p:blipFill>
          <a:blip r:embed="rId1"/>
          <a:stretch/>
        </p:blipFill>
        <p:spPr>
          <a:xfrm>
            <a:off x="324000" y="1197000"/>
            <a:ext cx="8503920" cy="5100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шение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права свободно -впра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верху свободно –ввер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лева свободно –вле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низу свободно -вни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3" name="Picture 8" descr="2009-1"/>
          <p:cNvPicPr/>
          <p:nvPr/>
        </p:nvPicPr>
        <p:blipFill>
          <a:blip r:embed="rId1"/>
          <a:stretch/>
        </p:blipFill>
        <p:spPr>
          <a:xfrm>
            <a:off x="4427640" y="1700280"/>
            <a:ext cx="4371840" cy="3840120"/>
          </a:xfrm>
          <a:prstGeom prst="rect">
            <a:avLst/>
          </a:prstGeom>
          <a:ln w="0">
            <a:noFill/>
          </a:ln>
        </p:spPr>
      </p:pic>
      <p:sp>
        <p:nvSpPr>
          <p:cNvPr id="1674" name="Line 9"/>
          <p:cNvSpPr/>
          <p:nvPr/>
        </p:nvSpPr>
        <p:spPr>
          <a:xfrm>
            <a:off x="1116000" y="4581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Line 10"/>
          <p:cNvSpPr/>
          <p:nvPr/>
        </p:nvSpPr>
        <p:spPr>
          <a:xfrm flipV="1">
            <a:off x="1979640" y="393336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Line 11"/>
          <p:cNvSpPr/>
          <p:nvPr/>
        </p:nvSpPr>
        <p:spPr>
          <a:xfrm flipH="1">
            <a:off x="1042560" y="3933720"/>
            <a:ext cx="865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Line 12"/>
          <p:cNvSpPr/>
          <p:nvPr/>
        </p:nvSpPr>
        <p:spPr>
          <a:xfrm>
            <a:off x="1042920" y="393372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шение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права свободно -впра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верху свободно –ввер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лева свободно –вле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низу свободно -вни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2" name="Picture 5" descr="2009-1"/>
          <p:cNvPicPr/>
          <p:nvPr/>
        </p:nvPicPr>
        <p:blipFill>
          <a:blip r:embed="rId1"/>
          <a:stretch/>
        </p:blipFill>
        <p:spPr>
          <a:xfrm>
            <a:off x="4427640" y="1700280"/>
            <a:ext cx="4371840" cy="3840120"/>
          </a:xfrm>
          <a:prstGeom prst="rect">
            <a:avLst/>
          </a:prstGeom>
          <a:ln w="0">
            <a:noFill/>
          </a:ln>
        </p:spPr>
      </p:pic>
      <p:sp>
        <p:nvSpPr>
          <p:cNvPr id="1683" name="Line 6"/>
          <p:cNvSpPr/>
          <p:nvPr/>
        </p:nvSpPr>
        <p:spPr>
          <a:xfrm>
            <a:off x="1116000" y="4581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Line 7"/>
          <p:cNvSpPr/>
          <p:nvPr/>
        </p:nvSpPr>
        <p:spPr>
          <a:xfrm flipV="1">
            <a:off x="1979640" y="393336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Line 8"/>
          <p:cNvSpPr/>
          <p:nvPr/>
        </p:nvSpPr>
        <p:spPr>
          <a:xfrm flipH="1">
            <a:off x="1042560" y="3933720"/>
            <a:ext cx="865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Line 9"/>
          <p:cNvSpPr/>
          <p:nvPr/>
        </p:nvSpPr>
        <p:spPr>
          <a:xfrm>
            <a:off x="1042920" y="393372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7" name="Group 27"/>
          <p:cNvGrpSpPr/>
          <p:nvPr/>
        </p:nvGrpSpPr>
        <p:grpSpPr>
          <a:xfrm>
            <a:off x="5219280" y="1989000"/>
            <a:ext cx="648000" cy="287640"/>
            <a:chOff x="5219280" y="1989000"/>
            <a:chExt cx="648000" cy="287640"/>
          </a:xfrm>
        </p:grpSpPr>
        <p:grpSp>
          <p:nvGrpSpPr>
            <p:cNvPr id="1688" name="Group 12"/>
            <p:cNvGrpSpPr/>
            <p:nvPr/>
          </p:nvGrpSpPr>
          <p:grpSpPr>
            <a:xfrm>
              <a:off x="5219280" y="1989000"/>
              <a:ext cx="648000" cy="216000"/>
              <a:chOff x="5219280" y="1989000"/>
              <a:chExt cx="648000" cy="216000"/>
            </a:xfrm>
          </p:grpSpPr>
          <p:sp>
            <p:nvSpPr>
              <p:cNvPr id="1689" name="Line 10"/>
              <p:cNvSpPr/>
              <p:nvPr/>
            </p:nvSpPr>
            <p:spPr>
              <a:xfrm>
                <a:off x="5219640" y="2205000"/>
                <a:ext cx="6476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11"/>
              <p:cNvSpPr/>
              <p:nvPr/>
            </p:nvSpPr>
            <p:spPr>
              <a:xfrm flipH="1">
                <a:off x="5219280" y="1989000"/>
                <a:ext cx="6476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1" name="AutoShape 26"/>
            <p:cNvSpPr/>
            <p:nvPr/>
          </p:nvSpPr>
          <p:spPr>
            <a:xfrm>
              <a:off x="5219640" y="2133720"/>
              <a:ext cx="144360" cy="142920"/>
            </a:xfrm>
            <a:prstGeom prst="diamond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2" name="Group 29"/>
          <p:cNvGrpSpPr/>
          <p:nvPr/>
        </p:nvGrpSpPr>
        <p:grpSpPr>
          <a:xfrm>
            <a:off x="6156360" y="1988640"/>
            <a:ext cx="1728720" cy="1153080"/>
            <a:chOff x="6156360" y="1988640"/>
            <a:chExt cx="1728720" cy="1153080"/>
          </a:xfrm>
        </p:grpSpPr>
        <p:grpSp>
          <p:nvGrpSpPr>
            <p:cNvPr id="1693" name="Group 17"/>
            <p:cNvGrpSpPr/>
            <p:nvPr/>
          </p:nvGrpSpPr>
          <p:grpSpPr>
            <a:xfrm>
              <a:off x="6227640" y="1988640"/>
              <a:ext cx="1657440" cy="1080000"/>
              <a:chOff x="6227640" y="1988640"/>
              <a:chExt cx="1657440" cy="1080000"/>
            </a:xfrm>
          </p:grpSpPr>
          <p:sp>
            <p:nvSpPr>
              <p:cNvPr id="1694" name="Line 13"/>
              <p:cNvSpPr/>
              <p:nvPr/>
            </p:nvSpPr>
            <p:spPr>
              <a:xfrm>
                <a:off x="6227640" y="3068640"/>
                <a:ext cx="1584360" cy="0"/>
              </a:xfrm>
              <a:prstGeom prst="line">
                <a:avLst/>
              </a:prstGeom>
              <a:ln w="28440">
                <a:solidFill>
                  <a:srgbClr val="006e6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14"/>
              <p:cNvSpPr/>
              <p:nvPr/>
            </p:nvSpPr>
            <p:spPr>
              <a:xfrm flipV="1">
                <a:off x="7885080" y="1988640"/>
                <a:ext cx="0" cy="1008360"/>
              </a:xfrm>
              <a:prstGeom prst="line">
                <a:avLst/>
              </a:prstGeom>
              <a:ln w="28440">
                <a:solidFill>
                  <a:srgbClr val="006e6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15"/>
              <p:cNvSpPr/>
              <p:nvPr/>
            </p:nvSpPr>
            <p:spPr>
              <a:xfrm flipH="1">
                <a:off x="6300720" y="1989000"/>
                <a:ext cx="1511280" cy="0"/>
              </a:xfrm>
              <a:prstGeom prst="line">
                <a:avLst/>
              </a:prstGeom>
              <a:ln w="28440">
                <a:solidFill>
                  <a:srgbClr val="006e6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16"/>
              <p:cNvSpPr/>
              <p:nvPr/>
            </p:nvSpPr>
            <p:spPr>
              <a:xfrm>
                <a:off x="6300720" y="2060640"/>
                <a:ext cx="0" cy="863640"/>
              </a:xfrm>
              <a:prstGeom prst="line">
                <a:avLst/>
              </a:prstGeom>
              <a:ln w="28440">
                <a:solidFill>
                  <a:srgbClr val="006e6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8" name="AutoShape 28"/>
            <p:cNvSpPr/>
            <p:nvPr/>
          </p:nvSpPr>
          <p:spPr>
            <a:xfrm>
              <a:off x="6156360" y="2997360"/>
              <a:ext cx="216000" cy="144360"/>
            </a:xfrm>
            <a:prstGeom prst="diamond">
              <a:avLst/>
            </a:prstGeom>
            <a:solidFill>
              <a:srgbClr val="006e6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9" name="Group 31"/>
          <p:cNvGrpSpPr/>
          <p:nvPr/>
        </p:nvGrpSpPr>
        <p:grpSpPr>
          <a:xfrm>
            <a:off x="5219640" y="2492280"/>
            <a:ext cx="144360" cy="2232000"/>
            <a:chOff x="5219640" y="2492280"/>
            <a:chExt cx="144360" cy="2232000"/>
          </a:xfrm>
        </p:grpSpPr>
        <p:grpSp>
          <p:nvGrpSpPr>
            <p:cNvPr id="1700" name="Group 24"/>
            <p:cNvGrpSpPr/>
            <p:nvPr/>
          </p:nvGrpSpPr>
          <p:grpSpPr>
            <a:xfrm>
              <a:off x="5219640" y="2492280"/>
              <a:ext cx="144360" cy="2232000"/>
              <a:chOff x="5219640" y="2492280"/>
              <a:chExt cx="144360" cy="2232000"/>
            </a:xfrm>
          </p:grpSpPr>
          <p:sp>
            <p:nvSpPr>
              <p:cNvPr id="1701" name="Line 18"/>
              <p:cNvSpPr/>
              <p:nvPr/>
            </p:nvSpPr>
            <p:spPr>
              <a:xfrm flipV="1">
                <a:off x="5364000" y="2492280"/>
                <a:ext cx="0" cy="22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19"/>
              <p:cNvSpPr/>
              <p:nvPr/>
            </p:nvSpPr>
            <p:spPr>
              <a:xfrm>
                <a:off x="5219640" y="2492280"/>
                <a:ext cx="0" cy="20163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3" name="AutoShape 30"/>
            <p:cNvSpPr/>
            <p:nvPr/>
          </p:nvSpPr>
          <p:spPr>
            <a:xfrm>
              <a:off x="5219640" y="4581360"/>
              <a:ext cx="144360" cy="142920"/>
            </a:xfrm>
            <a:prstGeom prst="diamond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4" name="Group 33"/>
          <p:cNvGrpSpPr/>
          <p:nvPr/>
        </p:nvGrpSpPr>
        <p:grpSpPr>
          <a:xfrm>
            <a:off x="6156360" y="3933360"/>
            <a:ext cx="1728720" cy="719640"/>
            <a:chOff x="6156360" y="3933360"/>
            <a:chExt cx="1728720" cy="719640"/>
          </a:xfrm>
        </p:grpSpPr>
        <p:grpSp>
          <p:nvGrpSpPr>
            <p:cNvPr id="1705" name="Group 25"/>
            <p:cNvGrpSpPr/>
            <p:nvPr/>
          </p:nvGrpSpPr>
          <p:grpSpPr>
            <a:xfrm>
              <a:off x="6227640" y="3933360"/>
              <a:ext cx="1657440" cy="648000"/>
              <a:chOff x="6227640" y="3933360"/>
              <a:chExt cx="1657440" cy="648000"/>
            </a:xfrm>
          </p:grpSpPr>
          <p:sp>
            <p:nvSpPr>
              <p:cNvPr id="1706" name="Line 20"/>
              <p:cNvSpPr/>
              <p:nvPr/>
            </p:nvSpPr>
            <p:spPr>
              <a:xfrm>
                <a:off x="6227640" y="4581360"/>
                <a:ext cx="1657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"/>
              <p:cNvSpPr/>
              <p:nvPr/>
            </p:nvSpPr>
            <p:spPr>
              <a:xfrm flipV="1">
                <a:off x="7885080" y="3933360"/>
                <a:ext cx="0" cy="57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"/>
              <p:cNvSpPr/>
              <p:nvPr/>
            </p:nvSpPr>
            <p:spPr>
              <a:xfrm flipH="1">
                <a:off x="6300720" y="4005360"/>
                <a:ext cx="1511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3"/>
              <p:cNvSpPr/>
              <p:nvPr/>
            </p:nvSpPr>
            <p:spPr>
              <a:xfrm>
                <a:off x="6300720" y="4005360"/>
                <a:ext cx="0" cy="36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0" name="AutoShape 32"/>
            <p:cNvSpPr/>
            <p:nvPr/>
          </p:nvSpPr>
          <p:spPr>
            <a:xfrm>
              <a:off x="6156360" y="4508640"/>
              <a:ext cx="144360" cy="14436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1" name="Text Box 34"/>
          <p:cNvSpPr/>
          <p:nvPr/>
        </p:nvSpPr>
        <p:spPr>
          <a:xfrm>
            <a:off x="900000" y="5661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 :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Дата 2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Нижний колонтитул 3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7451640" y="259920"/>
            <a:ext cx="1301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5" name="Picture 4" descr="2010"/>
          <p:cNvPicPr/>
          <p:nvPr/>
        </p:nvPicPr>
        <p:blipFill>
          <a:blip r:embed="rId1"/>
          <a:stretch/>
        </p:blipFill>
        <p:spPr>
          <a:xfrm>
            <a:off x="468360" y="476280"/>
            <a:ext cx="6119640" cy="5648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Дата 4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Нижний колонтитул 5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верху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пра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прав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низ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низу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ле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лев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верх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1" name="Picture 4" descr="Копия 2010"/>
          <p:cNvPicPr/>
          <p:nvPr/>
        </p:nvPicPr>
        <p:blipFill>
          <a:blip r:embed="rId1"/>
          <a:stretch/>
        </p:blipFill>
        <p:spPr>
          <a:xfrm>
            <a:off x="4859280" y="1916280"/>
            <a:ext cx="3705120" cy="3369960"/>
          </a:xfrm>
          <a:prstGeom prst="rect">
            <a:avLst/>
          </a:prstGeom>
          <a:ln w="0">
            <a:noFill/>
          </a:ln>
        </p:spPr>
      </p:pic>
      <p:sp>
        <p:nvSpPr>
          <p:cNvPr id="1722" name="Text Box 8"/>
          <p:cNvSpPr/>
          <p:nvPr/>
        </p:nvSpPr>
        <p:spPr>
          <a:xfrm>
            <a:off x="611280" y="3716280"/>
            <a:ext cx="381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жность зад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от 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роверя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ену в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дн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правлен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движет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друг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Line 9"/>
          <p:cNvSpPr/>
          <p:nvPr/>
        </p:nvSpPr>
        <p:spPr>
          <a:xfrm>
            <a:off x="5364000" y="2924280"/>
            <a:ext cx="93672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Line 10"/>
          <p:cNvSpPr/>
          <p:nvPr/>
        </p:nvSpPr>
        <p:spPr>
          <a:xfrm>
            <a:off x="7164360" y="2852640"/>
            <a:ext cx="0" cy="2089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5" name="Group 13"/>
          <p:cNvGrpSpPr/>
          <p:nvPr/>
        </p:nvGrpSpPr>
        <p:grpSpPr>
          <a:xfrm>
            <a:off x="5003280" y="2421000"/>
            <a:ext cx="505440" cy="936720"/>
            <a:chOff x="5003280" y="2421000"/>
            <a:chExt cx="505440" cy="936720"/>
          </a:xfrm>
        </p:grpSpPr>
        <p:sp>
          <p:nvSpPr>
            <p:cNvPr id="1726" name="Line 11"/>
            <p:cNvSpPr/>
            <p:nvPr/>
          </p:nvSpPr>
          <p:spPr>
            <a:xfrm>
              <a:off x="5508720" y="2421000"/>
              <a:ext cx="0" cy="936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12"/>
            <p:cNvSpPr/>
            <p:nvPr/>
          </p:nvSpPr>
          <p:spPr>
            <a:xfrm flipH="1">
              <a:off x="5003280" y="3357720"/>
              <a:ext cx="505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8" name="WordArt 14"/>
          <p:cNvSpPr txBox="1"/>
          <p:nvPr/>
        </p:nvSpPr>
        <p:spPr>
          <a:xfrm>
            <a:off x="4643280" y="2708280"/>
            <a:ext cx="374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бо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рушаетс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Дата 4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Нижний колонтитул 5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верху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пра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прав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низ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низу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ле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лев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верх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4" name="Picture 5" descr="Копия 2010"/>
          <p:cNvPicPr/>
          <p:nvPr/>
        </p:nvPicPr>
        <p:blipFill>
          <a:blip r:embed="rId1"/>
          <a:stretch/>
        </p:blipFill>
        <p:spPr>
          <a:xfrm>
            <a:off x="4859280" y="1916280"/>
            <a:ext cx="3705120" cy="3369960"/>
          </a:xfrm>
          <a:prstGeom prst="rect">
            <a:avLst/>
          </a:prstGeom>
          <a:ln w="0">
            <a:noFill/>
          </a:ln>
        </p:spPr>
      </p:pic>
      <p:grpSp>
        <p:nvGrpSpPr>
          <p:cNvPr id="1735" name="Group 16"/>
          <p:cNvGrpSpPr/>
          <p:nvPr/>
        </p:nvGrpSpPr>
        <p:grpSpPr>
          <a:xfrm>
            <a:off x="5796000" y="3213000"/>
            <a:ext cx="144360" cy="1440000"/>
            <a:chOff x="5796000" y="3213000"/>
            <a:chExt cx="144360" cy="1440000"/>
          </a:xfrm>
        </p:grpSpPr>
        <p:sp>
          <p:nvSpPr>
            <p:cNvPr id="1736" name="Line 13"/>
            <p:cNvSpPr/>
            <p:nvPr/>
          </p:nvSpPr>
          <p:spPr>
            <a:xfrm>
              <a:off x="5940360" y="3284640"/>
              <a:ext cx="0" cy="1368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14"/>
            <p:cNvSpPr/>
            <p:nvPr/>
          </p:nvSpPr>
          <p:spPr>
            <a:xfrm flipV="1">
              <a:off x="5796000" y="3429000"/>
              <a:ext cx="0" cy="1224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AutoShape 15"/>
            <p:cNvSpPr/>
            <p:nvPr/>
          </p:nvSpPr>
          <p:spPr>
            <a:xfrm>
              <a:off x="5796000" y="3213000"/>
              <a:ext cx="144360" cy="144720"/>
            </a:xfrm>
            <a:prstGeom prst="diamond">
              <a:avLst/>
            </a:prstGeom>
            <a:solidFill>
              <a:srgbClr val="66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9" name="Text Box 17"/>
          <p:cNvSpPr/>
          <p:nvPr/>
        </p:nvSpPr>
        <p:spPr>
          <a:xfrm>
            <a:off x="826920" y="494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 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А-18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исполнить алгоритм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онкретного исполнителя с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ксированным набором  коман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ысокий уровень, время -6 м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201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3" name="Picture 4" descr="2011"/>
          <p:cNvPicPr/>
          <p:nvPr/>
        </p:nvPicPr>
        <p:blipFill>
          <a:blip r:embed="rId1"/>
          <a:stretch/>
        </p:blipFill>
        <p:spPr>
          <a:xfrm>
            <a:off x="900000" y="1197000"/>
            <a:ext cx="6623280" cy="5533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ше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7" name="Picture 4" descr="Копия 2011"/>
          <p:cNvPicPr/>
          <p:nvPr/>
        </p:nvPicPr>
        <p:blipFill>
          <a:blip r:embed="rId1"/>
          <a:stretch/>
        </p:blipFill>
        <p:spPr>
          <a:xfrm>
            <a:off x="1042920" y="1773360"/>
            <a:ext cx="7131240" cy="2950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0" name="Picture 5" descr="Копия 2011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1751" name="Group 9"/>
          <p:cNvGrpSpPr/>
          <p:nvPr/>
        </p:nvGrpSpPr>
        <p:grpSpPr>
          <a:xfrm>
            <a:off x="6948360" y="691920"/>
            <a:ext cx="287640" cy="649440"/>
            <a:chOff x="6948360" y="691920"/>
            <a:chExt cx="287640" cy="649440"/>
          </a:xfrm>
        </p:grpSpPr>
        <p:sp>
          <p:nvSpPr>
            <p:cNvPr id="1752" name="Line 6"/>
            <p:cNvSpPr/>
            <p:nvPr/>
          </p:nvSpPr>
          <p:spPr>
            <a:xfrm>
              <a:off x="7164360" y="765000"/>
              <a:ext cx="0" cy="576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7"/>
            <p:cNvSpPr/>
            <p:nvPr/>
          </p:nvSpPr>
          <p:spPr>
            <a:xfrm flipV="1">
              <a:off x="6948360" y="691920"/>
              <a:ext cx="0" cy="649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AutoShape 8"/>
            <p:cNvSpPr/>
            <p:nvPr/>
          </p:nvSpPr>
          <p:spPr>
            <a:xfrm>
              <a:off x="7093080" y="692280"/>
              <a:ext cx="142920" cy="144360"/>
            </a:xfrm>
            <a:prstGeom prst="diamond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5" name="Group 13"/>
          <p:cNvGrpSpPr/>
          <p:nvPr/>
        </p:nvGrpSpPr>
        <p:grpSpPr>
          <a:xfrm>
            <a:off x="6587640" y="2060640"/>
            <a:ext cx="1369080" cy="216000"/>
            <a:chOff x="6587640" y="2060640"/>
            <a:chExt cx="1369080" cy="216000"/>
          </a:xfrm>
        </p:grpSpPr>
        <p:sp>
          <p:nvSpPr>
            <p:cNvPr id="1756" name="Line 10"/>
            <p:cNvSpPr/>
            <p:nvPr/>
          </p:nvSpPr>
          <p:spPr>
            <a:xfrm flipH="1">
              <a:off x="6587640" y="2205000"/>
              <a:ext cx="1297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11"/>
            <p:cNvSpPr/>
            <p:nvPr/>
          </p:nvSpPr>
          <p:spPr>
            <a:xfrm>
              <a:off x="6588000" y="2060640"/>
              <a:ext cx="122400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AutoShape 12"/>
            <p:cNvSpPr/>
            <p:nvPr/>
          </p:nvSpPr>
          <p:spPr>
            <a:xfrm>
              <a:off x="7740720" y="2133720"/>
              <a:ext cx="216000" cy="142920"/>
            </a:xfrm>
            <a:prstGeom prst="diamond">
              <a:avLst/>
            </a:prstGeom>
            <a:solidFill>
              <a:srgbClr val="66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9" name="Group 19"/>
          <p:cNvGrpSpPr/>
          <p:nvPr/>
        </p:nvGrpSpPr>
        <p:grpSpPr>
          <a:xfrm>
            <a:off x="7380000" y="1196640"/>
            <a:ext cx="1008360" cy="1511640"/>
            <a:chOff x="7380000" y="1196640"/>
            <a:chExt cx="1008360" cy="1511640"/>
          </a:xfrm>
        </p:grpSpPr>
        <p:sp>
          <p:nvSpPr>
            <p:cNvPr id="1760" name="Line 14"/>
            <p:cNvSpPr/>
            <p:nvPr/>
          </p:nvSpPr>
          <p:spPr>
            <a:xfrm>
              <a:off x="8317080" y="1197000"/>
              <a:ext cx="0" cy="15112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AutoShape 15"/>
            <p:cNvSpPr/>
            <p:nvPr/>
          </p:nvSpPr>
          <p:spPr>
            <a:xfrm>
              <a:off x="8244000" y="1197000"/>
              <a:ext cx="144360" cy="144360"/>
            </a:xfrm>
            <a:prstGeom prst="diamond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Line 16"/>
            <p:cNvSpPr/>
            <p:nvPr/>
          </p:nvSpPr>
          <p:spPr>
            <a:xfrm flipH="1">
              <a:off x="7380000" y="2708280"/>
              <a:ext cx="86364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Line 17"/>
            <p:cNvSpPr/>
            <p:nvPr/>
          </p:nvSpPr>
          <p:spPr>
            <a:xfrm flipV="1">
              <a:off x="7451640" y="1196640"/>
              <a:ext cx="0" cy="1368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Line 18"/>
            <p:cNvSpPr/>
            <p:nvPr/>
          </p:nvSpPr>
          <p:spPr>
            <a:xfrm>
              <a:off x="7524720" y="1268280"/>
              <a:ext cx="64764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5" name="Text Box 20"/>
          <p:cNvSpPr/>
          <p:nvPr/>
        </p:nvSpPr>
        <p:spPr>
          <a:xfrm>
            <a:off x="1476360" y="4437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: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Garamond"/>
              </a:rPr>
              <a:t>В 5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Умение исполнить алгоритм</a:t>
            </a:r>
            <a:r>
              <a:rPr b="0" lang="ru-RU" sz="8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в среде формального исполните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базовый уровень , 5 ми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2008 , 201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полнитель Робот действует на клетчатой доске, между соседними клетками которой могут стоять стены. Робот передвигается по клеткам доски и может выполнять команд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1 (вверх), 2 (вниз), 3 (влево), 4 (вправо),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ходя на соседнюю клетку в направлении, указанном в скобках. Если в этом направлении между клетками стоит стена, то Робот разрушается. Робот успешно выполнил программ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113243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ую последовательность из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трех команд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должен выполнить Робот, чтобы вернуться на ту клетку, где он был перед началом выполнения программы, и не разрушиться, вне зависимости от того, какие стены стоят на пол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Дата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Нижний колонтитул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200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1 (вверх), 2 (вниз), 3 (влево), 4 (вправо),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78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9" name="Line 28"/>
          <p:cNvSpPr/>
          <p:nvPr/>
        </p:nvSpPr>
        <p:spPr>
          <a:xfrm flipV="1">
            <a:off x="7308720" y="3860640"/>
            <a:ext cx="0" cy="1152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Line 29"/>
          <p:cNvSpPr/>
          <p:nvPr/>
        </p:nvSpPr>
        <p:spPr>
          <a:xfrm flipV="1">
            <a:off x="7308720" y="2707920"/>
            <a:ext cx="0" cy="115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Line 30"/>
          <p:cNvSpPr/>
          <p:nvPr/>
        </p:nvSpPr>
        <p:spPr>
          <a:xfrm flipH="1">
            <a:off x="6012000" y="2708280"/>
            <a:ext cx="12967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Line 31"/>
          <p:cNvSpPr/>
          <p:nvPr/>
        </p:nvSpPr>
        <p:spPr>
          <a:xfrm>
            <a:off x="6012000" y="2708280"/>
            <a:ext cx="0" cy="115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Line 32"/>
          <p:cNvSpPr/>
          <p:nvPr/>
        </p:nvSpPr>
        <p:spPr>
          <a:xfrm>
            <a:off x="6012000" y="3860640"/>
            <a:ext cx="122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33"/>
          <p:cNvSpPr/>
          <p:nvPr/>
        </p:nvSpPr>
        <p:spPr>
          <a:xfrm flipH="1">
            <a:off x="6011640" y="3860640"/>
            <a:ext cx="1152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34"/>
          <p:cNvSpPr/>
          <p:nvPr/>
        </p:nvSpPr>
        <p:spPr>
          <a:xfrm>
            <a:off x="6012000" y="3933720"/>
            <a:ext cx="0" cy="1008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Line 35"/>
          <p:cNvSpPr/>
          <p:nvPr/>
        </p:nvSpPr>
        <p:spPr>
          <a:xfrm flipV="1">
            <a:off x="6012000" y="3933720"/>
            <a:ext cx="0" cy="1008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Line 36"/>
          <p:cNvSpPr/>
          <p:nvPr/>
        </p:nvSpPr>
        <p:spPr>
          <a:xfrm>
            <a:off x="6084720" y="3860640"/>
            <a:ext cx="1079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Line 37"/>
          <p:cNvSpPr/>
          <p:nvPr/>
        </p:nvSpPr>
        <p:spPr>
          <a:xfrm>
            <a:off x="7308720" y="3933720"/>
            <a:ext cx="0" cy="1008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Text Box 38"/>
          <p:cNvSpPr/>
          <p:nvPr/>
        </p:nvSpPr>
        <p:spPr>
          <a:xfrm>
            <a:off x="539640" y="587700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 : 1 4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2009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4064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На экране есть два окна, в каждом из которых написано по числу. У исполнителя Сумматор две команды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Verdana"/>
              </a:rPr>
              <a:t>Запиши сумму чисел в первое ок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Verdana"/>
              </a:rPr>
              <a:t>Запиши сумму чисел во второе окно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Запишите порядок команд в программе получения из пары чисел </a:t>
            </a:r>
            <a:r>
              <a:rPr b="0" lang="ru-RU" sz="2500" spc="-1" strike="noStrike">
                <a:solidFill>
                  <a:srgbClr val="660066"/>
                </a:solidFill>
                <a:latin typeface="Verdana"/>
              </a:rPr>
              <a:t>1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 и </a:t>
            </a:r>
            <a:r>
              <a:rPr b="0" lang="ru-RU" sz="2500" spc="-1" strike="noStrike">
                <a:solidFill>
                  <a:srgbClr val="660066"/>
                </a:solidFill>
                <a:latin typeface="Verdana"/>
              </a:rPr>
              <a:t>2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 пары чисел </a:t>
            </a: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13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 и </a:t>
            </a: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4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, содержащей не более </a:t>
            </a:r>
            <a:r>
              <a:rPr b="0" lang="ru-RU" sz="2500" spc="-1" strike="noStrike" u="sng">
                <a:solidFill>
                  <a:srgbClr val="000099"/>
                </a:solidFill>
                <a:uFillTx/>
                <a:latin typeface="Verdana"/>
              </a:rPr>
              <a:t>5 команд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97" name=""/>
          <p:cNvGraphicFramePr/>
          <p:nvPr/>
        </p:nvGraphicFramePr>
        <p:xfrm>
          <a:off x="971640" y="1827360"/>
          <a:ext cx="237636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1" name=""/>
          <p:cNvGraphicFramePr/>
          <p:nvPr/>
        </p:nvGraphicFramePr>
        <p:xfrm>
          <a:off x="971640" y="1827360"/>
          <a:ext cx="331308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  <a:gridCol w="9367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5" name=""/>
          <p:cNvGraphicFramePr/>
          <p:nvPr/>
        </p:nvGraphicFramePr>
        <p:xfrm>
          <a:off x="971640" y="1827360"/>
          <a:ext cx="432108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  <a:gridCol w="936720"/>
                <a:gridCol w="1008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2004-200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нитель Черепашка перемещается на экране компьютера, оставляя след в виде линии. В каждый конкретный момент известно положение исполнителя и направление его движения. У исполнителя существуют две команд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Arial"/>
              </a:rPr>
              <a:t>Вперед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г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целое число шагов в направлении дв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Arial"/>
              </a:rPr>
              <a:t>Направо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 г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ое число градусов поворота по часовой стрел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епашке был дан для исполнения следующий ал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втори 4 (Вперед 10 Направо 1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ая фигура появится на экран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замкнутая лома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ильный 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ильный пятиугольни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9" name=""/>
          <p:cNvGraphicFramePr/>
          <p:nvPr/>
        </p:nvGraphicFramePr>
        <p:xfrm>
          <a:off x="971640" y="1827360"/>
          <a:ext cx="532908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  <a:gridCol w="936720"/>
                <a:gridCol w="1008000"/>
                <a:gridCol w="1008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13" name=""/>
          <p:cNvGraphicFramePr/>
          <p:nvPr/>
        </p:nvGraphicFramePr>
        <p:xfrm>
          <a:off x="971640" y="1827360"/>
          <a:ext cx="626436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  <a:gridCol w="936720"/>
                <a:gridCol w="1008000"/>
                <a:gridCol w="1008000"/>
                <a:gridCol w="93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17" name=""/>
          <p:cNvGraphicFramePr/>
          <p:nvPr/>
        </p:nvGraphicFramePr>
        <p:xfrm>
          <a:off x="971640" y="1827360"/>
          <a:ext cx="719928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  <a:gridCol w="936720"/>
                <a:gridCol w="1008000"/>
                <a:gridCol w="1008000"/>
                <a:gridCol w="935280"/>
                <a:gridCol w="9349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Нижний колонтитул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исполнителя Калькулятор две команды, которым присвоены номе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рибавь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множь на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порядок команд в программе получения из числа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5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держаще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более 6 коман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казывая лишь номера коман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ь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ь на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6" name=""/>
          <p:cNvGraphicFramePr/>
          <p:nvPr/>
        </p:nvGraphicFramePr>
        <p:xfrm>
          <a:off x="324000" y="3860640"/>
          <a:ext cx="2858760" cy="2168640"/>
        </p:xfrm>
        <a:graphic>
          <a:graphicData uri="http://schemas.openxmlformats.org/drawingml/2006/table">
            <a:tbl>
              <a:tblPr/>
              <a:tblGrid>
                <a:gridCol w="1609560"/>
                <a:gridCol w="1249200"/>
              </a:tblGrid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ь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ь на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1" name=""/>
          <p:cNvGraphicFramePr/>
          <p:nvPr/>
        </p:nvGraphicFramePr>
        <p:xfrm>
          <a:off x="324000" y="3860640"/>
          <a:ext cx="4108320" cy="2189160"/>
        </p:xfrm>
        <a:graphic>
          <a:graphicData uri="http://schemas.openxmlformats.org/drawingml/2006/table">
            <a:tbl>
              <a:tblPr/>
              <a:tblGrid>
                <a:gridCol w="1609560"/>
                <a:gridCol w="1249200"/>
                <a:gridCol w="1249560"/>
              </a:tblGrid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ь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ь на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324000" y="3860640"/>
          <a:ext cx="5356080" cy="2189160"/>
        </p:xfrm>
        <a:graphic>
          <a:graphicData uri="http://schemas.openxmlformats.org/drawingml/2006/table">
            <a:tbl>
              <a:tblPr/>
              <a:tblGrid>
                <a:gridCol w="1609560"/>
                <a:gridCol w="1249200"/>
                <a:gridCol w="1249560"/>
                <a:gridCol w="1247760"/>
              </a:tblGrid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ь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ь на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1" name=""/>
          <p:cNvGraphicFramePr/>
          <p:nvPr/>
        </p:nvGraphicFramePr>
        <p:xfrm>
          <a:off x="324000" y="3860640"/>
          <a:ext cx="6605280" cy="2189160"/>
        </p:xfrm>
        <a:graphic>
          <a:graphicData uri="http://schemas.openxmlformats.org/drawingml/2006/table">
            <a:tbl>
              <a:tblPr/>
              <a:tblGrid>
                <a:gridCol w="1609560"/>
                <a:gridCol w="1249200"/>
                <a:gridCol w="1249560"/>
                <a:gridCol w="1247760"/>
                <a:gridCol w="1249200"/>
              </a:tblGrid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ь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ь на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6" name=""/>
          <p:cNvGraphicFramePr/>
          <p:nvPr/>
        </p:nvGraphicFramePr>
        <p:xfrm>
          <a:off x="324000" y="3860640"/>
          <a:ext cx="7854840" cy="2189160"/>
        </p:xfrm>
        <a:graphic>
          <a:graphicData uri="http://schemas.openxmlformats.org/drawingml/2006/table">
            <a:tbl>
              <a:tblPr/>
              <a:tblGrid>
                <a:gridCol w="1609560"/>
                <a:gridCol w="1249200"/>
                <a:gridCol w="1249560"/>
                <a:gridCol w="1247760"/>
                <a:gridCol w="1249200"/>
                <a:gridCol w="1249560"/>
              </a:tblGrid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экзаменационных заданий ЕГЭ 2008- 2011 (Москва, Эксмо-2008,Интеллект-центр-2009, АСТ-20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мо - версии ЕГЭ 2005 - 2011 г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йт Полякова К.Ю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доктор технических наук, учитель высшей категории)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kpolyakov.narod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fipi.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trendclub.ru/blogs/dreamrobot/68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Повтори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(Вперед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Направо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20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ff"/>
                </a:solidFill>
                <a:uFillTx/>
                <a:latin typeface="Arial"/>
              </a:rPr>
              <a:t>1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епашка прочертит на экране 4 линии, но последний отрезок полностью совпадет с первым, т.к. после третьего выполнения цикла Черепашка обернется вокруг своей оси (360 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360:12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ff"/>
                </a:solidFill>
                <a:uFillTx/>
                <a:latin typeface="Arial"/>
              </a:rPr>
              <a:t>2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180-120=60 –внутренний у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180: 6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ff"/>
                </a:solidFill>
                <a:uFillTx/>
                <a:latin typeface="Arial"/>
              </a:rPr>
              <a:t>3 спос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2" name="Group 6"/>
          <p:cNvGrpSpPr/>
          <p:nvPr/>
        </p:nvGrpSpPr>
        <p:grpSpPr>
          <a:xfrm>
            <a:off x="4427640" y="5445000"/>
            <a:ext cx="2016000" cy="0"/>
            <a:chOff x="4427640" y="5445000"/>
            <a:chExt cx="2016000" cy="0"/>
          </a:xfrm>
        </p:grpSpPr>
        <p:sp>
          <p:nvSpPr>
            <p:cNvPr id="1603" name="Line 4"/>
            <p:cNvSpPr/>
            <p:nvPr/>
          </p:nvSpPr>
          <p:spPr>
            <a:xfrm>
              <a:off x="4427640" y="5445000"/>
              <a:ext cx="1079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Line 5"/>
            <p:cNvSpPr/>
            <p:nvPr/>
          </p:nvSpPr>
          <p:spPr>
            <a:xfrm>
              <a:off x="5724360" y="5445000"/>
              <a:ext cx="7192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Повтори 4 (Вперед 10 Направо 120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60:12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-120=60 –внутренний у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: 6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спос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Line 4"/>
          <p:cNvSpPr/>
          <p:nvPr/>
        </p:nvSpPr>
        <p:spPr>
          <a:xfrm>
            <a:off x="4427640" y="5445000"/>
            <a:ext cx="1079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Line 5"/>
          <p:cNvSpPr/>
          <p:nvPr/>
        </p:nvSpPr>
        <p:spPr>
          <a:xfrm flipH="1">
            <a:off x="5508360" y="5445000"/>
            <a:ext cx="215640" cy="5050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Повтори 4 (Вперед 10 Направо 120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60:12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-120=60 –внутренний у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: 6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спос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Line 4"/>
          <p:cNvSpPr/>
          <p:nvPr/>
        </p:nvSpPr>
        <p:spPr>
          <a:xfrm>
            <a:off x="4427640" y="5445000"/>
            <a:ext cx="1079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Line 5"/>
          <p:cNvSpPr/>
          <p:nvPr/>
        </p:nvSpPr>
        <p:spPr>
          <a:xfrm flipH="1" flipV="1">
            <a:off x="4500360" y="5877000"/>
            <a:ext cx="431640" cy="4032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Line 6"/>
          <p:cNvSpPr/>
          <p:nvPr/>
        </p:nvSpPr>
        <p:spPr>
          <a:xfrm flipV="1">
            <a:off x="5003640" y="5444640"/>
            <a:ext cx="503280" cy="792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Повтори 4 (Вперед 10 Направо 120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60:12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-120=60 –внутренний у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: 6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спос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Line 4"/>
          <p:cNvSpPr/>
          <p:nvPr/>
        </p:nvSpPr>
        <p:spPr>
          <a:xfrm>
            <a:off x="4427640" y="5445000"/>
            <a:ext cx="1079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Line 5"/>
          <p:cNvSpPr/>
          <p:nvPr/>
        </p:nvSpPr>
        <p:spPr>
          <a:xfrm>
            <a:off x="4427640" y="530064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Line 6"/>
          <p:cNvSpPr/>
          <p:nvPr/>
        </p:nvSpPr>
        <p:spPr>
          <a:xfrm flipV="1">
            <a:off x="5003640" y="5444640"/>
            <a:ext cx="505080" cy="792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Line 7"/>
          <p:cNvSpPr/>
          <p:nvPr/>
        </p:nvSpPr>
        <p:spPr>
          <a:xfrm flipH="1" flipV="1">
            <a:off x="4427640" y="5444640"/>
            <a:ext cx="576000" cy="792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2006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е число необходимо записать вмест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алгоритм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Повтори 7 (Вперед 40 Направо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на экране появился правильный шестиугольник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30      2) 45        3) 50       4) 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1 способ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Tahoma"/>
              </a:rPr>
              <a:t>Сумма внутренних углов многоугольника (р-2)*180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Tahoma"/>
              </a:rPr>
              <a:t>Величина одного внутреннего угла – (р – 2)* 180 / 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4 * 180 / 6 = 1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Tahoma"/>
              </a:rPr>
              <a:t>Смежный угол- 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2 способ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пашка прочертит на экране 7 отрезков, но последний совпадет с первым (черепашка полностью повернется вокруг своей оси на 36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360 : 6 =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Ответ: 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6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6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Дата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2008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3" name="Picture 4" descr="2008"/>
          <p:cNvPicPr/>
          <p:nvPr/>
        </p:nvPicPr>
        <p:blipFill>
          <a:blip r:embed="rId1"/>
          <a:stretch/>
        </p:blipFill>
        <p:spPr>
          <a:xfrm>
            <a:off x="324000" y="1268280"/>
            <a:ext cx="8532720" cy="5408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8:50:08Z</dcterms:created>
  <dc:creator>Наталья</dc:creator>
  <dc:description/>
  <dc:language>en-US</dc:language>
  <cp:lastModifiedBy>Metod-kopilka.ru</cp:lastModifiedBy>
  <dcterms:modified xsi:type="dcterms:W3CDTF">2013-03-14T07:11:35Z</dcterms:modified>
  <cp:revision>9</cp:revision>
  <dc:subject/>
  <dc:title>Исполнители</dc:title>
</cp:coreProperties>
</file>