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716-96E7-4FB3-9388-ECDBA470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359-7487-433A-945A-ED436AF3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910-B2CF-4E59-91F6-43B9570E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788-8D39-4C1C-A688-F560156D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FFB-E505-45B5-8F08-7525F5FC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6B0-F331-47CF-83B9-F5B9F4E0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B93-A73C-4486-ACB5-F37229C3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2CC-46B4-40EF-9596-AA6AC1C8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1EB-986B-441F-9A9D-CD30305F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54F-0FA6-4F4C-A4F0-253065E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A61-298C-403B-9317-CB56B879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301-03CE-4078-A797-A665DF2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8EB-0888-4CB2-A61C-5D4DE081D6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7/72/Peter_der-Grosse_1838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f/Storm_of_Noteburg_1702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upload.wikimedia.org/wikipedia/commons/9/9a/Peter_the_Greate_in_Battle_of_Poltava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3/Streltsy_in_1674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upload.wikimedia.org/wikipedia/commons/7/70/Petr_I_fusiler_1720-1732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ru/2/26/&#1056;&#1091;&#1073;&#1083;&#1100;_&#1055;&#1077;&#1090;&#1088;&#1072;_1_1723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1/1f/Chervonetz_1706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7/Peter_I_assembly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5/Family_of_Peter_I_of_Russia_1717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ru/f/fa/Lopuhina_evdokia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ru/5/5b/Birth_of_Peter_the_Great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3/Alexis_I_of_Russia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c/cd/Naryshkina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b/ba/Streltsy_mutiny_in_1682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a/a3/Sophia_Alekseyevna_regent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b/Peter_I_by_Kneller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3/Peter_I_in_1697-98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f3ff"/>
                </a:solidFill>
                <a:latin typeface="Arial"/>
              </a:rPr>
              <a:t>Пётр </a:t>
            </a:r>
            <a:r>
              <a:rPr b="1" lang="en-US" sz="2400" spc="-1" strike="noStrike">
                <a:solidFill>
                  <a:srgbClr val="f3f3ff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f3f3ff"/>
                </a:solidFill>
                <a:latin typeface="Arial"/>
              </a:rPr>
              <a:t>Великий (Пётр Алексеевич).</a:t>
            </a:r>
            <a:endParaRPr b="0" lang="en-US" sz="2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548928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-й царь Руси 1-й император всероссий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4" descr="Изображение:Peter der-Grosse 183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1197000"/>
            <a:ext cx="381636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Северная война со Швецией(1700-1724)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30002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турм крепости Нотебург 11 октября 1702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ётр I в Полтавской би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8" descr="Изображение:Storm of Noteburg 17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1557360"/>
            <a:ext cx="4587840" cy="2476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Изображение:Peter the Greate in Battle of Poltav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1280" y="4221000"/>
            <a:ext cx="4718160" cy="24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86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694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586"/>
                            </p:stCondLst>
                            <p:childTnLst>
                              <p:par>
                                <p:cTn id="1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694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Реформы армии и флот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5229000"/>
            <a:ext cx="8002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вступлении на царство Пётр получил в распоряжение постоянное стрелецкое войско, склонное к анархии и мятежам, не способное сражаться с западными арми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8" descr="Изображение:Streltsy in 167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84280"/>
            <a:ext cx="2952720" cy="3745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Изображение:Petr I fusiler 1720-173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1484280"/>
            <a:ext cx="295272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68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Финансовая реформ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зовские походы, а затем и Северная война 1700—1721 годов требовали огромных средств, на сбор которых и были направлены финансовые рефор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8" descr="Изображение:Рубль Петра 1 172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1680" y="1676520"/>
            <a:ext cx="4070520" cy="2136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Изображение:Chervonetz 170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51200" y="4002120"/>
            <a:ext cx="4191120" cy="205416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Преобразования в сфере культуры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7465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ециальным указом царя в 1718 были введены на западный манер ассамблеи, представлявшие новую для России форму общения между людь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Изображение:Peter I assembl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24160" y="1914480"/>
            <a:ext cx="4557960" cy="366084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Семья Петра </a:t>
            </a: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мья Петра I в 1717: Пётр I, Екатерина, старший сын Алексе Петрович от первой жены, младший двухлетний сын Пётр и дочери Анна и Елизав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Изображение:Family of Peter I of Russia 171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35440" y="1197000"/>
            <a:ext cx="398628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1-я Супруг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вдокия Фёдоров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Прасковья Илларионовна) (1669-1731) - царица, первая супруга Петра I (с 27 января 1689 до 1698), дочь боярина Лопухи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Изображение:Lopuhina evdok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95920" y="170352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2-я Супруг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катерина 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лексеевн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Марта Скавронская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5 (15) апреля 1684 — 6 (17) мая 1727) — российская императри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Изображение:Catherine I of Russia by Nattier.jpg"/>
          <p:cNvPicPr/>
          <p:nvPr/>
        </p:nvPicPr>
        <p:blipFill>
          <a:blip r:embed="rId2"/>
          <a:stretch/>
        </p:blipFill>
        <p:spPr>
          <a:xfrm>
            <a:off x="4500720" y="1600200"/>
            <a:ext cx="3987720" cy="49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ДЕТИ: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ексвей Петро́вич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1690—1718) — царевич, наследник российского престола, старший сын Петра I и его первой жены Евдокии Лопухин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Изображение:Alexeijpetrowitsch.jpg"/>
          <p:cNvPicPr/>
          <p:nvPr/>
        </p:nvPicPr>
        <p:blipFill>
          <a:blip r:embed="rId2"/>
          <a:stretch/>
        </p:blipFill>
        <p:spPr>
          <a:xfrm>
            <a:off x="5070600" y="1676520"/>
            <a:ext cx="3351240" cy="44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́нна Петро́в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24 января 1708 — 4 марта 1728) — дочь Петра I и Екатерины Алексеев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Изображение:Nikitin Anna Petrovna.jpg"/>
          <p:cNvPicPr/>
          <p:nvPr/>
        </p:nvPicPr>
        <p:blipFill>
          <a:blip r:embed="rId2"/>
          <a:stretch/>
        </p:blipFill>
        <p:spPr>
          <a:xfrm>
            <a:off x="4427640" y="836640"/>
            <a:ext cx="403200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лизаве́та Петро́в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29 декабря 1709 — 5 января 1762) — российская императрица (1741—1762), дочь Петра I и Марты Скавронской (будущей Екатерины I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Изображение:Elizabeth empress.jpg"/>
          <p:cNvPicPr/>
          <p:nvPr/>
        </p:nvPicPr>
        <p:blipFill>
          <a:blip r:embed="rId2"/>
          <a:stretch/>
        </p:blipFill>
        <p:spPr>
          <a:xfrm>
            <a:off x="4788000" y="333360"/>
            <a:ext cx="395928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Ранние годы Петра.1672-1689 годы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ётр родился в ночь на 30 мая (9 июня) 1672 года в Теремном дворце Кремля (или в 7180 году по принятому тогда летоисчислению «от сотворения мира»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8" descr="Изображение:Birth of Peter the Grea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557360"/>
            <a:ext cx="453708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Смерть Петр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последние годы царствования Пётр сильно болел (предположительно, каменная болезнь почек). Летом 1724 года его болезнь усилилась, в сентябре он почувствовал себя легче, но через некоторое время приступы усилили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Изображение:Nikitin peter deathbed.jpg"/>
          <p:cNvPicPr/>
          <p:nvPr/>
        </p:nvPicPr>
        <p:blipFill>
          <a:blip r:embed="rId2"/>
          <a:stretch/>
        </p:blipFill>
        <p:spPr>
          <a:xfrm>
            <a:off x="4572000" y="1268280"/>
            <a:ext cx="3711600" cy="485784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4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ца 10 «А» класса ГОУ СОШ № 511 Соколова Евг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водители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нов Александр Сергеевич, учитель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кина Алена Александровна, учитель инфор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Отец.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арь Алексей Михайлович— имел многочисленное потомство: Пётр был 12-м ребёнком, но первым от второй жены, царицы Натальи Кирилловны Нарышки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5" descr="Изображение:Alexis I of Russ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413000"/>
            <a:ext cx="4319280" cy="51847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80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Мать.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та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ирилловна Нарышки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22 августа (1 сентября) 1651 — 25 января (4 февраля) 1694), цар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Изображение:Naryshkina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600200"/>
            <a:ext cx="4248360" cy="49975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8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8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Стрелецкий бунт 1682 год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5516280"/>
            <a:ext cx="8686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ятеж стрельцов в 1682. Стрельцы выволакивают из дворца Ивана Нарышкина. Пока Пётр I утешает мать, царевна Софья наблюдает с удовлетвор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Изображение:Streltsy mutiny in 16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125360"/>
            <a:ext cx="5688000" cy="41752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9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9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9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9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Преображенское и потешные полки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3480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дат выборного солдатского полка Гордона, или Бутырского пол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686 году 14-летний Пётр завёл при своих «потешных» артиллер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8" descr="солдат"/>
          <p:cNvPicPr/>
          <p:nvPr/>
        </p:nvPicPr>
        <p:blipFill>
          <a:blip r:embed="rId2"/>
          <a:stretch/>
        </p:blipFill>
        <p:spPr>
          <a:xfrm>
            <a:off x="3924360" y="1125360"/>
            <a:ext cx="230328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пушка"/>
          <p:cNvPicPr/>
          <p:nvPr/>
        </p:nvPicPr>
        <p:blipFill>
          <a:blip r:embed="rId3"/>
          <a:stretch/>
        </p:blipFill>
        <p:spPr>
          <a:xfrm>
            <a:off x="4500720" y="3933720"/>
            <a:ext cx="3360600" cy="27194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Воцарение Петра </a:t>
            </a: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ивность Петра сильно тревожила царевну Софью, понимавшую, что с наступлением совершеннолетия сводного брата ей придётся расстаться с влас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Изображение:Sophia Alekseyevna regen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4680" y="1676520"/>
            <a:ext cx="4122720" cy="44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Азовские походы.1695-1696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оритетом деятельности Петра I в первые годы единовластия было продолжение войны с Крым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Изображение:Peter I by Knell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2800" y="1676520"/>
            <a:ext cx="2708280" cy="442260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8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Великое посольство.1697-1698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5084280"/>
            <a:ext cx="850716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арте 1697 года в Западную Европу через Лифляндию было отправлено Великое посольство, основной целью которого было найти союзников против Османской импе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Изображение:Peter I in 1697-9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1560"/>
            <a:ext cx="8209080" cy="31194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9:39:06Z</dcterms:created>
  <dc:creator>UZER</dc:creator>
  <dc:description/>
  <dc:language>en-US</dc:language>
  <cp:lastModifiedBy>OV</cp:lastModifiedBy>
  <dcterms:modified xsi:type="dcterms:W3CDTF">2008-02-29T16:57:34Z</dcterms:modified>
  <cp:revision>9</cp:revision>
  <dc:subject/>
  <dc:title>Пётр I Великий (Пётр Алексеевич)</dc:title>
</cp:coreProperties>
</file>