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F2B-B132-4B61-AFFC-6E890A31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7E6-AD8A-4D17-AE9A-9454737E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C89-A4AA-471C-8E53-B13F39E4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88F-AA0B-4EC3-A0A3-E2FC60E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6EB6-77CE-4E42-8E1E-83E5CE3D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CD9-1071-4E26-9179-750671F1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A94-FC0F-4E89-AE09-31BE4FA0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1B6-20D7-4AE4-8DA0-80FB296D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66EF-28FE-4F7C-AB5B-F1F49FF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0DC-97BE-4671-A125-6F641DA2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30C-D02B-47D9-9D4B-4F49747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482-7E01-45AB-B816-1EB9277A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C728-0ADA-4627-B286-E82F37C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F72-982B-43DD-A512-BD8C075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394D-675B-4248-B989-F79CF355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A81-82DE-4F84-8B2A-D3C6B047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0BAE-621A-4A7A-9F98-73636168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32B6-F406-40F0-A84E-02D3022C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28BA-4373-4D4C-A63A-923F8ED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FC86-9811-49AD-BEEC-7EF9AE2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0011-CB56-4B8C-9E0A-188D569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944F-B660-4CEB-99A7-A0402A26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BE7-44EE-4FA3-AE5F-929ADA9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B462-35BE-4067-A5FA-481F8791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FE61-6EDB-4223-83B3-F721B3A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A2C5-B2D2-40CF-8247-FCC978E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F991-3829-4F8D-B1D1-BAFFAF8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C9DF-151D-47DF-9CFC-4C7F8DE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4835-AE56-48A5-B43C-B80F8B3A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E71A-D15E-4227-A6C2-F70F2E2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5974-799C-443B-99F1-0F6EE189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9E5E-E50C-4123-BE10-A79D67F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7D96-54C4-48FF-98D3-73B23FA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36E-105E-469D-ADD5-4A3BFBCF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F13A-5478-471E-999F-AC66524D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0BBD-1190-4148-80BB-275CD06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E556-E872-46E5-A73F-675FEFD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06BEA-5FAC-4D9B-828E-49A13C6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98EF-E97E-4787-BC18-9B6A6AB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90C0-981A-4429-879B-68B8092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206C-C778-4768-A370-4067E3D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5523-E461-460C-B30C-76E0504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52B1-304F-44DD-83D0-0A5EDB7F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3683-FCC6-4AEE-817D-9599EBE1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6E9-8CFA-43EA-A11F-72318FE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A8D9-055D-4D69-A302-3F2D0235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A46D-D3DB-44CF-9409-69ED6E35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14C56-1B3E-4DF1-B693-E7C81260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2C7D-643C-4F02-9949-1137A81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6E48-5CF2-42BA-B631-96A2A70E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110E-131C-4465-A9C7-DF802EA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F9FE5-ED5B-4B45-8365-374870D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80F2-43B5-4097-B263-A76512B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1CD8-50EF-4BA6-AC1C-C174F1D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E7BC-6D9D-4D24-892C-433F8F38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D3B-1B06-4DC9-AE66-5AE12EB8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D857-469B-4362-8A5A-61770C2C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CB1F-9D02-4636-97C1-B6DC40E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C6C43-BF99-4401-A5E6-06B6A5E9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CCD4-C7E2-4548-AA97-E5FB036E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7390-2BC6-47CB-BE80-78DF352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1775-6CEF-4D72-B82B-57A6970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667D-1CEA-4A24-9095-CD79DE6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124F-D1E6-472F-94C8-0B1AC7A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0B16-5EF3-4B8D-BC45-7A34DC3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F710-6078-4B9F-80A0-9F154B3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305-05C9-40A1-B729-E53825A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06BE-AD92-4F5D-A961-23EFC05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9651-C340-4F3E-B152-C89E02C7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F7C50-AAD2-4CBF-87A6-725D3A48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2A64-365F-442B-A79F-12C72B2A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DB4B-47C0-4178-B719-BCADC0FE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668A-C934-4DE1-AF96-CCDDF26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4121-689F-4A19-8E3E-E4BBA42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AA31-E1F9-4AA1-AEB5-445749BE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FC97-C91F-4E56-94C7-A3C4DAB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28E4-F247-498F-916F-7C8B95E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B0B-76A7-4587-9AE9-D7039A0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FB33B-D0E6-44C3-BADF-4921018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3555-3711-487E-8B45-1674D85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3798-D1A0-48BB-A2D4-5B79608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8F72-9E6F-4DE2-98B4-76384ACE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04B68-8A84-4AA7-998C-49817B91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429-F390-4B46-A64C-C266D1AE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2B49-DA36-4DAD-BAC6-740C3373977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F8F-587C-46E3-AE87-AEB382B91DEF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0EAB-0E8E-401D-BF67-1EEF60DDA2B0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A5CF-101B-4BB8-8A6F-1FEDCB34B477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AD3-5D48-40DD-BA37-6F944DDDF8B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0F88-C99A-497D-81FE-02BB92FCAA4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AB3-8A58-4C0A-82B5-3DE8B133B20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47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3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907560"/>
            <a:ext cx="777240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Дай г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так и буд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хо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За один раз дерево не сруби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Это ё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его руками не воз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ё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Хор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ш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кал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пока гор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Дочку заму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выдать- не пирог исп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Хоть рано оседлали, вск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поскакали, да на св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у опоздал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Дверь насте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и от ветра навзни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чь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В вешний день и пень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точь-в-точь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расавец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524720" y="692280"/>
            <a:ext cx="1076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4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76" name="Содержимое 2" descr=""/>
          <p:cNvPicPr/>
          <p:nvPr/>
        </p:nvPicPr>
        <p:blipFill>
          <a:blip r:embed="rId1"/>
          <a:stretch/>
        </p:blipFill>
        <p:spPr>
          <a:xfrm>
            <a:off x="907920" y="890640"/>
            <a:ext cx="7785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400" spc="-1" strike="noStrike">
                <a:solidFill>
                  <a:srgbClr val="3e587f"/>
                </a:solidFill>
                <a:latin typeface="Consolas"/>
              </a:rPr>
              <a:t>585</a:t>
            </a:r>
            <a:endParaRPr b="0" lang="en-US" sz="24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560" y="907560"/>
            <a:ext cx="843588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по нашему(прил.) календарю- будет по- нашему(нар.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вовсе не искренне- неискренне раскаялс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в пустую(прил.) комнату- впустую(нар.) хлопота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не плачь(гл.)- громкий плач(сущ.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356000" y="4005360"/>
            <a:ext cx="3456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e587f"/>
                </a:solidFill>
                <a:latin typeface="Consolas"/>
              </a:rPr>
              <a:t>№</a:t>
            </a:r>
            <a:r>
              <a:rPr b="0" lang="ru-RU" sz="2500" spc="-1" strike="noStrike">
                <a:solidFill>
                  <a:srgbClr val="3e587f"/>
                </a:solidFill>
                <a:latin typeface="Consolas"/>
              </a:rPr>
              <a:t>586</a:t>
            </a:r>
            <a:endParaRPr b="0" lang="en-US" sz="25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Людям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з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давн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хотелось иметь такое сообщение, чтобы через любое, даже сорокаверстное расстояние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ремя помощь где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о ок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зать, важный пр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каз передавать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 п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долгу. Стали люд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по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ногу выдумывать.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едставьте, между нами такой уговор: подним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шь руку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рх — значит «И», подним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шь левую руку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ровень с плеч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 — значит «Г», а обе руки в уровень с плечами — читай «Т» и так далее. Это ручная семафорная азбука. Ею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сю пользуются во флоте.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По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ежнему на кор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блях есть специалисты-сигнальщики. Они берут в руки по фл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ку и быстро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быстро машут рукам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лево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право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рху и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к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низу, что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ольно уд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ишься, как они друг друга пон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мают.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олько вот ночью или в туман дело плохо. Жди ясного дня или р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сс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вета, даже если тебе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в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ерпе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ж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. Нет,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не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надежный был когда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-то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телеграф!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18:37Z</dcterms:created>
  <dc:creator>j</dc:creator>
  <dc:description/>
  <dc:language>en-US</dc:language>
  <cp:lastModifiedBy>j</cp:lastModifiedBy>
  <dcterms:modified xsi:type="dcterms:W3CDTF">2012-01-16T02:58:50Z</dcterms:modified>
  <cp:revision>5</cp:revision>
  <dc:subject/>
  <dc:title>Употребление ь на конце наречий после шипящих.</dc:title>
</cp:coreProperties>
</file>