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DAE-B1E6-4D42-9B9A-1F564578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928-7E12-4F48-9FB6-97641C2D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D2E-8B1D-4882-A9B9-AFC5AF65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E56-027A-42EE-8EC3-999919B2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BEB-0EFB-42F9-9AFB-FDE48EE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71C-201C-4229-882C-43BC91A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CEE-682F-42E3-825B-950A437A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B14E-EF95-4E9E-9193-173F75E3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53D-ED2E-4FEE-870F-87904276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5D1-BDBD-412A-8896-B3CD70CB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EC0-0B0B-4ED4-8B52-801ADC6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C8E-6744-4E37-845F-E5D1F813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BA7-D8E4-47CB-A4FF-983E249B7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1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еонардо да Винчи - живопис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501336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дился 15 апреля 1452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в городе Винчи, близ Фло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24360" y="764640"/>
            <a:ext cx="288000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с цветком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Бенуа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08720" y="3933720"/>
            <a:ext cx="3635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75 -1478 г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48 х 3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Санкт-Петербург,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8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Манускрип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32040" cy="547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3889440" cy="547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4032360" cy="5545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16360" y="981000"/>
            <a:ext cx="3695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360" y="475920"/>
            <a:ext cx="338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Эскиз с пятью голов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580000" y="3212640"/>
            <a:ext cx="31068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26 х 20,5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Кабинет рисунков и гравю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Галерея Уффиц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Фло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233280"/>
            <a:ext cx="4977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Romic"/>
              </a:rPr>
              <a:t>Благовещ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Ок. 1472 –- 1475 г.г.</a:t>
            </a: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78х 219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Romic"/>
              </a:rPr>
              <a:t>Галерея Уффици, Фло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2386080"/>
            <a:ext cx="9144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Romic"/>
              </a:rPr>
              <a:t>Мадонна Лит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51280" y="2997000"/>
            <a:ext cx="303516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9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42 х 33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Санкт-Петербург, Эрми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381636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Мадонна в скалах </a:t>
            </a:r>
            <a:br>
              <a:rPr sz="4000"/>
            </a:b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Romic"/>
              </a:rPr>
              <a:t>Мария с Христом, младенцем Иоанном Крестителем и ангелом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9280" y="4592160"/>
            <a:ext cx="38275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Romic"/>
              </a:rPr>
              <a:t>Ок. 1493-1495 и 1506-1508 г.г. Национальная галерея, 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0"/>
            <a:ext cx="433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92360" y="274320"/>
            <a:ext cx="338292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Romic"/>
              </a:rPr>
              <a:t>Портрет юноши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Romic"/>
              </a:rPr>
              <a:t>Портрет музыканта Франчино Гаффурио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80000" y="4952880"/>
            <a:ext cx="3178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Пинакотека Амбрози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190440"/>
            <a:ext cx="47624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0e7"/>
            </a:gs>
            <a:gs pos="50000">
              <a:srgbClr val="ff99cc"/>
            </a:gs>
            <a:gs pos="100000">
              <a:srgbClr val="fed0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Romic"/>
              </a:rPr>
              <a:t>Тайная вечеря</a:t>
            </a:r>
            <a:br>
              <a:rPr sz="4000"/>
            </a:br>
            <a:r>
              <a:rPr b="0" i="1" lang="en-US" sz="3000" spc="-1" strike="noStrike">
                <a:solidFill>
                  <a:srgbClr val="000000"/>
                </a:solidFill>
                <a:latin typeface="Romic"/>
              </a:rPr>
              <a:t>(реставрационная верс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Ок. 1495-1497 г. </a:t>
            </a: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460 х 88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Romic"/>
              </a:rPr>
              <a:t>Трапезная монастыря Санта Мария делле Грацие, Ми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9144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0:12:10Z</dcterms:created>
  <dc:creator>User</dc:creator>
  <dc:description/>
  <dc:language>en-US</dc:language>
  <cp:lastModifiedBy>Степаненко НП</cp:lastModifiedBy>
  <dcterms:modified xsi:type="dcterms:W3CDTF">2008-01-30T21:07:03Z</dcterms:modified>
  <cp:revision>6</cp:revision>
  <dc:subject/>
  <dc:title>Мадонна с цветком (Мадонна Бенуа)</dc:title>
</cp:coreProperties>
</file>