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DFF9-8FCE-4FA5-B0D0-01127597C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8280-DCFE-4855-B8CD-C017DC47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3D2C-32EB-4009-8605-E02970DB2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5326-B8F6-4B6D-BCDC-545061A7F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EFAE-AD93-4754-B092-5C71B60F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FC0B-E75E-489B-BA74-0F668319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656F-D887-43CA-A775-A718FDA9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1D31-5256-4FE8-8040-F8244190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AC02-4CEE-49BD-B4B9-FB266141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6698-4F1F-4407-BF5D-686DB1D4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B23D-05C4-4E92-8A8A-EA59BFF0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F4CF-1A52-41C5-9B21-9C674DCC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d0e7"/>
            </a:gs>
            <a:gs pos="50000">
              <a:srgbClr val="ff99cc"/>
            </a:gs>
            <a:gs pos="100000">
              <a:srgbClr val="fed0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1EAF-0D28-4E47-877A-5CC6D26980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d0e7"/>
            </a:gs>
            <a:gs pos="50000">
              <a:srgbClr val="ff99cc"/>
            </a:gs>
            <a:gs pos="100000">
              <a:srgbClr val="fed0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989000"/>
            <a:ext cx="8136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Леонардо да Винчи - живописе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9640" y="5013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Родился 15 апреля 1452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в городе Винчи, близ Флоре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d0e7"/>
            </a:gs>
            <a:gs pos="50000">
              <a:srgbClr val="ff99cc"/>
            </a:gs>
            <a:gs pos="100000">
              <a:srgbClr val="fed0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24360" y="764640"/>
            <a:ext cx="2880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Romic"/>
              </a:rPr>
              <a:t>Мадонна с цветком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000000"/>
                </a:solidFill>
                <a:latin typeface="Romic"/>
              </a:rPr>
              <a:t>Мадонна Бенуа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508720" y="3933720"/>
            <a:ext cx="36352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Romic"/>
              </a:rPr>
              <a:t>Ок. 1475 -1478 г.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Romic"/>
              </a:rPr>
              <a:t>48 х 31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Romic"/>
              </a:rPr>
              <a:t>Санкт-Петербург, Эрмита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4849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d0e7"/>
            </a:gs>
            <a:gs pos="50000">
              <a:srgbClr val="ff99cc"/>
            </a:gs>
            <a:gs pos="100000">
              <a:srgbClr val="fed0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Romic"/>
              </a:rPr>
              <a:t>Манускрипт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788000" y="981000"/>
            <a:ext cx="3632040" cy="5472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95280" y="1052640"/>
            <a:ext cx="3889440" cy="5472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95280" y="1052640"/>
            <a:ext cx="4032360" cy="5545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4716360" y="981000"/>
            <a:ext cx="36957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d0e7"/>
            </a:gs>
            <a:gs pos="50000">
              <a:srgbClr val="ff99cc"/>
            </a:gs>
            <a:gs pos="100000">
              <a:srgbClr val="fed0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08360" y="475920"/>
            <a:ext cx="3384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Romic"/>
              </a:rPr>
              <a:t>Эскиз с пятью голов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580000" y="3212640"/>
            <a:ext cx="31068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Romic"/>
              </a:rPr>
              <a:t>Ок. 1494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Romic"/>
              </a:rPr>
              <a:t>26 х 20,5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Romic"/>
              </a:rPr>
              <a:t>Кабинет рисунков и гравю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Romic"/>
              </a:rPr>
              <a:t>Галерея Уффиц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Romic"/>
              </a:rPr>
              <a:t>Флор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9280" y="233280"/>
            <a:ext cx="4977000" cy="63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d0e7"/>
            </a:gs>
            <a:gs pos="50000">
              <a:srgbClr val="ff99cc"/>
            </a:gs>
            <a:gs pos="100000">
              <a:srgbClr val="fed0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Romic"/>
              </a:rPr>
              <a:t>Благовещен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Romic"/>
              </a:rPr>
              <a:t>Ок. 1472 –- 1475 г.г.</a:t>
            </a:r>
            <a:r>
              <a:rPr b="0" i="1" lang="ru-RU" sz="2000" spc="-1" strike="noStrike">
                <a:solidFill>
                  <a:srgbClr val="000000"/>
                </a:solidFill>
                <a:latin typeface="Romic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Romic"/>
              </a:rPr>
              <a:t>78х 219 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Romic"/>
              </a:rPr>
              <a:t>Галерея Уффици, Флоре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2386080"/>
            <a:ext cx="9144000" cy="44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d0e7"/>
            </a:gs>
            <a:gs pos="50000">
              <a:srgbClr val="ff99cc"/>
            </a:gs>
            <a:gs pos="100000">
              <a:srgbClr val="fed0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51280" y="274320"/>
            <a:ext cx="30351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Romic"/>
              </a:rPr>
              <a:t>Мадонна Лит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51280" y="2997000"/>
            <a:ext cx="303516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Romic"/>
              </a:rPr>
              <a:t>Ок. 149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Romic"/>
              </a:rPr>
              <a:t>42 х 33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Romic"/>
              </a:rPr>
              <a:t>Санкт-Петербург, Эрмита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517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d0e7"/>
            </a:gs>
            <a:gs pos="50000">
              <a:srgbClr val="ff99cc"/>
            </a:gs>
            <a:gs pos="100000">
              <a:srgbClr val="fed0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32000" y="274680"/>
            <a:ext cx="3816360" cy="33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Romic"/>
              </a:rPr>
              <a:t>Мадонна в скалах </a:t>
            </a:r>
            <a:br>
              <a:rPr sz="4000"/>
            </a:b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Romic"/>
              </a:rPr>
              <a:t>Мария с Христом, младенцем Иоанном Крестителем и ангелом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859280" y="4592160"/>
            <a:ext cx="382752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Romic"/>
              </a:rPr>
              <a:t>Ок. 1493-1495 и 1506-1508 г.г. Национальная галерея, Лонд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50920" y="0"/>
            <a:ext cx="4332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d0e7"/>
            </a:gs>
            <a:gs pos="50000">
              <a:srgbClr val="ff99cc"/>
            </a:gs>
            <a:gs pos="100000">
              <a:srgbClr val="fed0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292360" y="274320"/>
            <a:ext cx="3382920" cy="35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Romic"/>
              </a:rPr>
              <a:t>Портрет юноши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4000" spc="-1" strike="noStrike">
                <a:solidFill>
                  <a:srgbClr val="000000"/>
                </a:solidFill>
                <a:latin typeface="Romic"/>
              </a:rPr>
              <a:t>Портрет музыканта Франчино Гаффурио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580000" y="4952880"/>
            <a:ext cx="3178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Romic"/>
              </a:rPr>
              <a:t>Ок. 1490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Romic"/>
              </a:rPr>
              <a:t>Пинакотека Амброзиа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Romic"/>
              </a:rPr>
              <a:t>Ми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9280" y="190440"/>
            <a:ext cx="476244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d0e7"/>
            </a:gs>
            <a:gs pos="50000">
              <a:srgbClr val="ff99cc"/>
            </a:gs>
            <a:gs pos="100000">
              <a:srgbClr val="fed0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Romic"/>
              </a:rPr>
              <a:t>Тайная вечеря</a:t>
            </a:r>
            <a:br>
              <a:rPr sz="4000"/>
            </a:br>
            <a:r>
              <a:rPr b="0" i="1" lang="en-US" sz="3000" spc="-1" strike="noStrike">
                <a:solidFill>
                  <a:srgbClr val="000000"/>
                </a:solidFill>
                <a:latin typeface="Romic"/>
              </a:rPr>
              <a:t>(реставрационная верси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Romic"/>
              </a:rPr>
              <a:t>Ок. 1495-1497 г. </a:t>
            </a:r>
            <a:r>
              <a:rPr b="0" i="1" lang="ru-RU" sz="2800" spc="-1" strike="noStrike">
                <a:solidFill>
                  <a:srgbClr val="000000"/>
                </a:solidFill>
                <a:latin typeface="Romic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Romic"/>
              </a:rPr>
              <a:t>460 х 880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Romic"/>
              </a:rPr>
              <a:t>Трапезная монастыря Санта Мария делле Грацие, Ми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3087720"/>
            <a:ext cx="914400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0:12:10Z</dcterms:created>
  <dc:creator>User</dc:creator>
  <dc:description/>
  <dc:language>en-US</dc:language>
  <cp:lastModifiedBy>Степаненко НП</cp:lastModifiedBy>
  <dcterms:modified xsi:type="dcterms:W3CDTF">2008-01-30T21:07:03Z</dcterms:modified>
  <cp:revision>6</cp:revision>
  <dc:subject/>
  <dc:title>Мадонна с цветком (Мадонна Бенуа)</dc:title>
</cp:coreProperties>
</file>