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7B0-9472-4986-B30D-B0DB05BE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41E-D82E-4CBC-B120-A4E064A7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953-7A87-4F25-B313-5307A79A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7FF-9116-45AF-922F-BBDA7857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961-12C7-4B55-B833-E403B476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062-8F62-4E70-9D3C-14394D7F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73A-C96D-4A9D-B2ED-0279A043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530-E5DE-4D31-9D09-E372D5A2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974-88B5-43E1-8FC6-177BDEC8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A17-64EA-4DC4-BD14-47E2B255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C20-73D5-4C11-B820-62B0DCD5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CFF-FCFC-41FD-BE5B-777C4059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A1CB-9FB0-4132-AC7D-8B2273D83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еонардо да Винчи - живопис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5013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дился 15 апреля 1452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 городе Винчи, близ Фло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24360" y="764640"/>
            <a:ext cx="2880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Мадонна с цветком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Мадонна Бенуа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508720" y="3933720"/>
            <a:ext cx="3635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Ок. 1475 -1478 г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48 х 3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Санкт-Петербург, Эрми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84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Romic"/>
              </a:rPr>
              <a:t>Манускрип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3632040" cy="547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889440" cy="5472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4032360" cy="5545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716360" y="981000"/>
            <a:ext cx="3695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360" y="475920"/>
            <a:ext cx="338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Romic"/>
              </a:rPr>
              <a:t>Эскиз с пятью голов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80000" y="3212640"/>
            <a:ext cx="3106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Ок. 149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26 х 20,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Кабинет рисунков и гравю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Галерея Уффиц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Фло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233280"/>
            <a:ext cx="49770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Romic"/>
              </a:rPr>
              <a:t>Благовещ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Ок. 1472 –- 1475 г.г.</a:t>
            </a: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78х 219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Галерея Уффици, Фло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2386080"/>
            <a:ext cx="91440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0351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Romic"/>
              </a:rPr>
              <a:t>Мадонна Лит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51280" y="2997000"/>
            <a:ext cx="303516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Ок. 149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42 х 33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Санкт-Петербург, Эрми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381636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Мадонна в скалах </a:t>
            </a:r>
            <a:br>
              <a:rPr sz="4000"/>
            </a:b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Romic"/>
              </a:rPr>
              <a:t>Мария с Христом, младенцем Иоанном Крестителем и ангелом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9280" y="4592160"/>
            <a:ext cx="38275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Ок. 1493-1495 и 1506-1508 г.г. Национальная галерея, Лон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0"/>
            <a:ext cx="433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92360" y="274320"/>
            <a:ext cx="338292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Romic"/>
              </a:rPr>
              <a:t>Портрет юноши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Romic"/>
              </a:rPr>
              <a:t>Портрет музыканта Франчино Гаффурио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80000" y="4952880"/>
            <a:ext cx="3178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Ок. 149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Пинакотека Амбрози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Ми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90440"/>
            <a:ext cx="476244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Тайная вечеря</a:t>
            </a:r>
            <a:br>
              <a:rPr sz="4000"/>
            </a:br>
            <a:r>
              <a:rPr b="0" i="1" lang="en-US" sz="3000" spc="-1" strike="noStrike">
                <a:solidFill>
                  <a:srgbClr val="000000"/>
                </a:solidFill>
                <a:latin typeface="Romic"/>
              </a:rPr>
              <a:t>(реставрационная ве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Ок. 1495-1497 г. </a:t>
            </a: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460 х 88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Трапезная монастыря Санта Мария делле Грацие, Ми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087720"/>
            <a:ext cx="9144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12:10Z</dcterms:created>
  <dc:creator>User</dc:creator>
  <dc:description/>
  <dc:language>en-US</dc:language>
  <cp:lastModifiedBy>Степаненко НП</cp:lastModifiedBy>
  <dcterms:modified xsi:type="dcterms:W3CDTF">2008-01-30T21:07:03Z</dcterms:modified>
  <cp:revision>6</cp:revision>
  <dc:subject/>
  <dc:title>Мадонна с цветком (Мадонна Бенуа)</dc:title>
</cp:coreProperties>
</file>