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96B7-B3D3-409F-A396-85589DFB5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7E67-71D3-4281-BD1D-E9146C2B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E5C3-A4B1-46C0-9242-10255A7C4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4433-A2F3-4270-844C-9D676914D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5CB6-904B-490F-B437-3FC984E5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304C-9D17-4480-88C9-D3DF209B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388A-2D9D-444E-A93B-B8E25C35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9679-60FD-43D6-B782-CEB06112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5812-0E14-472C-A6AB-3E17B85D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FD34-1540-44DA-998B-450B27F9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036B-2FE3-46AF-9D98-C5E749E7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CF78-2705-4378-9E83-0AFE680E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A73F-78BC-4162-8EED-E4509CE83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www.museum.ru/gmii/pict/pic.asp?pic=kol_250b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579640" y="5660640"/>
            <a:ext cx="32720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cademy Engraved LET"/>
              </a:rPr>
              <a:t>Цимбалова Е.Ю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cademy Engraved LET"/>
              </a:rPr>
              <a:t>Учитель истории, МХК и обществознан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cademy Engraved LET"/>
              </a:rPr>
              <a:t>МОУ АСОШ №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00000" y="1628640"/>
            <a:ext cx="77756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мпрессионизм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стимпрессионизм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3933720"/>
            <a:ext cx="561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cademy Engraved LET"/>
              </a:rPr>
              <a:t>Сравнительная характерис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cademy Engraved LET"/>
              </a:rPr>
              <a:t>Задания для самостоятель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Задание №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206064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Дайте определение этим направлениям в искусстве конца 19 – начале 20 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Сравните их, найдя общие и отличительные чер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Задание №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Назовите направление в живописи, к которому принадлежат данные карт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1916280"/>
            <a:ext cx="2712960" cy="3720960"/>
            <a:chOff x="0" y="1916280"/>
            <a:chExt cx="2712960" cy="3720960"/>
          </a:xfrm>
        </p:grpSpPr>
        <p:sp>
          <p:nvSpPr>
            <p:cNvPr id="49" name=""/>
            <p:cNvSpPr/>
            <p:nvPr/>
          </p:nvSpPr>
          <p:spPr>
            <a:xfrm>
              <a:off x="27360" y="1943640"/>
              <a:ext cx="2657520" cy="3665520"/>
            </a:xfrm>
            <a:prstGeom prst="octagon">
              <a:avLst>
                <a:gd name="adj" fmla="val 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916280"/>
              <a:ext cx="2712960" cy="3720960"/>
            </a:xfrm>
            <a:custGeom>
              <a:avLst/>
              <a:gdLst/>
              <a:ahLst/>
              <a:rect l="l" t="t" r="r" b="b"/>
              <a:pathLst>
                <a:path w="2558" h="3508">
                  <a:moveTo>
                    <a:pt x="2344" y="0"/>
                  </a:moveTo>
                  <a:lnTo>
                    <a:pt x="2558" y="213"/>
                  </a:lnTo>
                  <a:lnTo>
                    <a:pt x="2558" y="3294"/>
                  </a:lnTo>
                  <a:lnTo>
                    <a:pt x="2344" y="3508"/>
                  </a:lnTo>
                  <a:lnTo>
                    <a:pt x="213" y="3508"/>
                  </a:lnTo>
                  <a:lnTo>
                    <a:pt x="0" y="3294"/>
                  </a:lnTo>
                  <a:lnTo>
                    <a:pt x="0" y="213"/>
                  </a:lnTo>
                  <a:lnTo>
                    <a:pt x="213" y="0"/>
                  </a:lnTo>
                  <a:lnTo>
                    <a:pt x="2558" y="0"/>
                  </a:lnTo>
                  <a:lnTo>
                    <a:pt x="2558" y="3508"/>
                  </a:lnTo>
                  <a:lnTo>
                    <a:pt x="0" y="35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843280" y="1557360"/>
            <a:ext cx="3201840" cy="2290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843280" y="4221000"/>
            <a:ext cx="3255840" cy="2435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6264360" y="1241280"/>
            <a:ext cx="28796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55">
                                  <p:stCondLst>
                                    <p:cond delay="3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7" presetSubtype="8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2" presetSubtype="2">
                                  <p:stCondLst>
                                    <p:cond delay="1900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23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9640" y="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Задание №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0464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Найдите на слайде лишнюю репродукцию. Назовите ее. Объясните свой выб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348000" y="1052640"/>
            <a:ext cx="2340000" cy="4032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443640" y="981000"/>
            <a:ext cx="2297160" cy="2952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95280" y="907920"/>
            <a:ext cx="2241720" cy="2808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kol_25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26920" y="3905280"/>
            <a:ext cx="2259360" cy="2952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5940360" y="4253040"/>
            <a:ext cx="3203640" cy="2604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03640" y="6093000"/>
            <a:ext cx="647640" cy="54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48360" y="6093000"/>
            <a:ext cx="647640" cy="54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5157720"/>
            <a:ext cx="64764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213000"/>
            <a:ext cx="64764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17080" y="3429000"/>
            <a:ext cx="64764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5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17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0">
                                  <p:stCondLst>
                                    <p:cond delay="2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5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9640" y="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Задание №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Назовите авторов карт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012000" y="907920"/>
            <a:ext cx="3132000" cy="2303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3276720" cy="2747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491160" y="3905280"/>
            <a:ext cx="2652840" cy="2952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0" y="4554360"/>
            <a:ext cx="3419640" cy="2303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3059280" y="2708280"/>
            <a:ext cx="3457440" cy="2519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00720" y="5300640"/>
            <a:ext cx="64764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89000"/>
            <a:ext cx="64764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101080" y="333360"/>
            <a:ext cx="64764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92360" y="6308640"/>
            <a:ext cx="64800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6308640"/>
            <a:ext cx="64800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9640" y="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Задание №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Назовите картину и их автора. Что вы о ней зна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7910280" cy="53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xit" presetID="5" presetSubtype="5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down)" transition="out">
                                      <p:cBhvr additive="repl">
                                        <p:cTn id="6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9640" y="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Задание №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404640"/>
            <a:ext cx="8229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Составьте синквейн по карти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5688000" cy="4991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71640" y="90792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ahoma"/>
              </a:rPr>
              <a:t>Клод Моне. Парламент. Чайки. Река Тем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8" presetSubtype="16">
                                  <p:stCondLst>
                                    <p:cond delay="5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8" presetSubtype="16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8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16:51:10Z</dcterms:created>
  <dc:creator>Елена</dc:creator>
  <dc:description/>
  <dc:language>en-US</dc:language>
  <cp:lastModifiedBy>Елена</cp:lastModifiedBy>
  <dcterms:modified xsi:type="dcterms:W3CDTF">2009-04-19T17:28:44Z</dcterms:modified>
  <cp:revision>2</cp:revision>
  <dc:subject/>
  <dc:title>Слайд 1</dc:title>
</cp:coreProperties>
</file>