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924-873F-4ED2-8A8A-3A7058C8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5DE-DEF7-4D43-91FB-0659E90B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8F1-8C6A-43CA-BBAC-A716CE83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FC3-ABE4-49D8-8B4B-83E01F51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763-315A-46BE-8D9A-AF3528CD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CFFF-376D-48F8-9EA9-182B2FCF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51F-1053-4C71-A311-7D890941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ABF-EF2E-4BD2-B3AE-081D7E25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63F-AA10-4E76-9A23-0CCF5513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5BA-F470-428F-9643-01F46B4B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BCE-EB03-4E00-B9BE-8B47A3C8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1CE-D702-4523-A5E9-35A7E5AB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7B21-EA72-4D61-9867-F9421F22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museum.ru/gmii/pict/pic.asp?pic=kol_250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579640" y="5660640"/>
            <a:ext cx="32720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cademy Engraved LET"/>
              </a:rPr>
              <a:t>Цимбалова Е.Ю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cademy Engraved LET"/>
              </a:rPr>
              <a:t>Учитель истории, МХК и обществозн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cademy Engraved LET"/>
              </a:rPr>
              <a:t>МОУ АСОШ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1628640"/>
            <a:ext cx="7775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мпрессиониз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импрессиониз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393372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cademy Engraved LET"/>
              </a:rPr>
              <a:t>Сравнительная характери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cademy Engraved LET"/>
              </a:rPr>
              <a:t>Задания 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адание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Дайте определение этим направлениям в искусстве конца 19 – начале 20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Сравните их, найдя общие и отличительные чер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азовите направление в живописи, к которому принадлежат данные карт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916280"/>
            <a:ext cx="2712960" cy="3720960"/>
            <a:chOff x="0" y="1916280"/>
            <a:chExt cx="2712960" cy="3720960"/>
          </a:xfrm>
        </p:grpSpPr>
        <p:sp>
          <p:nvSpPr>
            <p:cNvPr id="49" name=""/>
            <p:cNvSpPr/>
            <p:nvPr/>
          </p:nvSpPr>
          <p:spPr>
            <a:xfrm>
              <a:off x="27360" y="1943640"/>
              <a:ext cx="2657520" cy="3665520"/>
            </a:xfrm>
            <a:prstGeom prst="octagon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916280"/>
              <a:ext cx="2712960" cy="3720960"/>
            </a:xfrm>
            <a:custGeom>
              <a:avLst/>
              <a:gdLst/>
              <a:ahLst/>
              <a:rect l="l" t="t" r="r" b="b"/>
              <a:pathLst>
                <a:path w="2558" h="3508">
                  <a:moveTo>
                    <a:pt x="2344" y="0"/>
                  </a:moveTo>
                  <a:lnTo>
                    <a:pt x="2558" y="213"/>
                  </a:lnTo>
                  <a:lnTo>
                    <a:pt x="2558" y="3294"/>
                  </a:lnTo>
                  <a:lnTo>
                    <a:pt x="2344" y="3508"/>
                  </a:lnTo>
                  <a:lnTo>
                    <a:pt x="213" y="3508"/>
                  </a:lnTo>
                  <a:lnTo>
                    <a:pt x="0" y="3294"/>
                  </a:lnTo>
                  <a:lnTo>
                    <a:pt x="0" y="213"/>
                  </a:lnTo>
                  <a:lnTo>
                    <a:pt x="213" y="0"/>
                  </a:lnTo>
                  <a:lnTo>
                    <a:pt x="2558" y="0"/>
                  </a:lnTo>
                  <a:lnTo>
                    <a:pt x="2558" y="3508"/>
                  </a:lnTo>
                  <a:lnTo>
                    <a:pt x="0" y="35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201840" cy="2290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43280" y="4221000"/>
            <a:ext cx="3255840" cy="243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264360" y="1241280"/>
            <a:ext cx="2879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5">
                                  <p:stCondLst>
                                    <p:cond delay="3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2">
                                  <p:stCondLst>
                                    <p:cond delay="190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Найдите на слайде лишнюю репродукцию. Назовите ее. Объясните сво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34000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43640" y="981000"/>
            <a:ext cx="229716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224172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kol_2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3905280"/>
            <a:ext cx="225936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940360" y="4253040"/>
            <a:ext cx="3203640" cy="2604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03640" y="6093000"/>
            <a:ext cx="647640" cy="54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6093000"/>
            <a:ext cx="647640" cy="54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21300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342900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2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азовите авторов кар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3132000" cy="230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276720" cy="2747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91160" y="3905280"/>
            <a:ext cx="265284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4554360"/>
            <a:ext cx="3419640" cy="230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59280" y="2708280"/>
            <a:ext cx="3457440" cy="2519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530064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8900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01080" y="33336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6308640"/>
            <a:ext cx="64800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6308640"/>
            <a:ext cx="64800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азовите картину и их автора. Что вы о ней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91028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5" presetSubtype="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down)" transition="out">
                                      <p:cBhvr additive="repl">
                                        <p:cTn id="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0464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Составьте синквейн по карт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688000" cy="4991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9079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Клод Моне. Парламент. Чайки. Река Тем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8" presetSubtype="16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6:51:10Z</dcterms:created>
  <dc:creator>Елена</dc:creator>
  <dc:description/>
  <dc:language>en-US</dc:language>
  <cp:lastModifiedBy>Елена</cp:lastModifiedBy>
  <dcterms:modified xsi:type="dcterms:W3CDTF">2009-04-19T17:28:44Z</dcterms:modified>
  <cp:revision>2</cp:revision>
  <dc:subject/>
  <dc:title>Слайд 1</dc:title>
</cp:coreProperties>
</file>