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FAE-52D9-48B1-B695-3F057D26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334-1D87-4CCC-BF67-A122157D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C6B-E6F5-41B7-B233-8735E6B8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739-96CF-43E9-A0B6-3A51B2DB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79A-BEFE-4F62-847A-F532ECD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913-05FE-4722-9325-95A1079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8CB-7BC3-4D14-8F54-15253819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5AD-DE44-43D1-BF21-878D8E7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5C6-FDA8-428D-BA0F-BACC4C5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A02-83A4-44F9-BC9D-CFF2F39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383-065E-4DFA-94D9-DBD9255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E6B-FC8B-46F7-9440-6171FD5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267-2FE8-40B6-AB1B-879BD7A4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museum.ru/gmii/pict/pic.asp?pic=kol_250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Цимбалова Е.Ю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Учитель истории, МХК и обществозн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МОУ АСОШ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162864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393372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Сравнительная характери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Задания 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Дайте определение этим направлениям в искусстве конца 19 – начале 20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Сравните их, найдя общие и отличительные че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направление в живописи, к которому принадлежат данные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916280"/>
            <a:ext cx="2712960" cy="3720960"/>
            <a:chOff x="0" y="1916280"/>
            <a:chExt cx="2712960" cy="3720960"/>
          </a:xfrm>
        </p:grpSpPr>
        <p:sp>
          <p:nvSpPr>
            <p:cNvPr id="49" name=""/>
            <p:cNvSpPr/>
            <p:nvPr/>
          </p:nvSpPr>
          <p:spPr>
            <a:xfrm>
              <a:off x="27360" y="1943640"/>
              <a:ext cx="2657520" cy="366552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916280"/>
              <a:ext cx="2712960" cy="3720960"/>
            </a:xfrm>
            <a:custGeom>
              <a:avLst/>
              <a:gdLst/>
              <a:ahLst/>
              <a:rect l="l" t="t" r="r" b="b"/>
              <a:pathLst>
                <a:path w="2558" h="3508">
                  <a:moveTo>
                    <a:pt x="2344" y="0"/>
                  </a:moveTo>
                  <a:lnTo>
                    <a:pt x="2558" y="213"/>
                  </a:lnTo>
                  <a:lnTo>
                    <a:pt x="2558" y="3294"/>
                  </a:lnTo>
                  <a:lnTo>
                    <a:pt x="2344" y="3508"/>
                  </a:lnTo>
                  <a:lnTo>
                    <a:pt x="213" y="3508"/>
                  </a:lnTo>
                  <a:lnTo>
                    <a:pt x="0" y="3294"/>
                  </a:lnTo>
                  <a:lnTo>
                    <a:pt x="0" y="213"/>
                  </a:lnTo>
                  <a:lnTo>
                    <a:pt x="213" y="0"/>
                  </a:lnTo>
                  <a:lnTo>
                    <a:pt x="2558" y="0"/>
                  </a:lnTo>
                  <a:lnTo>
                    <a:pt x="2558" y="3508"/>
                  </a:lnTo>
                  <a:lnTo>
                    <a:pt x="0" y="3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20184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43280" y="4221000"/>
            <a:ext cx="3255840" cy="243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64360" y="1241280"/>
            <a:ext cx="2879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3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2">
                                  <p:stCondLst>
                                    <p:cond delay="19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Найдите на слайде лишнюю репродукцию. Назовите ее. Объясните сво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34000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29716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2241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kol_2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905280"/>
            <a:ext cx="2259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940360" y="4253040"/>
            <a:ext cx="3203640" cy="260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213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342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2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авторов кар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276720" cy="274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91160" y="390528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4554360"/>
            <a:ext cx="3419640" cy="230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2708280"/>
            <a:ext cx="345744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530064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01080" y="33336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картину и их автора. Что вы о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102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down)" transition="out">
                                      <p:cBhvr additive="repl">
                                        <p:cTn id="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0464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Составьте синквейн по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88000" cy="499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907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Клод Моне. Парламент. Чайки. Река Тем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6:51:10Z</dcterms:created>
  <dc:creator>Елена</dc:creator>
  <dc:description/>
  <dc:language>en-US</dc:language>
  <cp:lastModifiedBy>Елена</cp:lastModifiedBy>
  <dcterms:modified xsi:type="dcterms:W3CDTF">2009-04-19T17:28:44Z</dcterms:modified>
  <cp:revision>2</cp:revision>
  <dc:subject/>
  <dc:title>Слайд 1</dc:title>
</cp:coreProperties>
</file>