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695-7A76-40D0-9FA4-F0CB22A7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CA8-ED31-4192-99A1-3151148D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4C5-B29D-461C-A9C1-9F2700A6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537-3BF1-4BC0-8383-984DD58D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3DB-3DAF-44CD-8049-AC1BF2D1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F56-CD3F-47B4-8A8E-609DC6C0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0B3-46CE-4E40-87FD-CA50E121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8A6-C8C8-4A2D-A422-0D2932AA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AF2-A4AF-4734-BA82-ED9C1EBC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13F-A074-41F6-B5BF-F24EF85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21D-DAD5-4AE2-AEDF-EF519C97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00F-7CF2-4B36-BB3E-87C45B3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AEF7-0650-449D-A3E2-D99A10D58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едия «Горе от 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 написан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—1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бликац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1600200"/>
            <a:ext cx="287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ый конфликт во втором действ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первая прерывается, в промежутке является неожиданно другая, и действие завязывается снова, частная комедия разыгрывается в общую битву и связывается в один узел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мусов и общество против Чац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язка общественного конфликта и усложнение личной линии относится ко 2-му явлению второго действия, в котором Чацкий сватается, получает отказ из-за своего несовместимого с устоями фамусовского общества образа жизни, происходит прямое столкновение с Фамусовым по вопросу о нрав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к кто же главный гер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08520" y="204480"/>
            <a:ext cx="5259960" cy="5265000"/>
            <a:chOff x="3008520" y="204480"/>
            <a:chExt cx="5259960" cy="5265000"/>
          </a:xfrm>
        </p:grpSpPr>
        <p:sp>
          <p:nvSpPr>
            <p:cNvPr id="73" name="_s37958"/>
            <p:cNvSpPr/>
            <p:nvPr/>
          </p:nvSpPr>
          <p:spPr>
            <a:xfrm flipH="1">
              <a:off x="4372560" y="3847680"/>
              <a:ext cx="632880" cy="40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57"/>
            <p:cNvSpPr/>
            <p:nvPr/>
          </p:nvSpPr>
          <p:spPr>
            <a:xfrm>
              <a:off x="3008520" y="3850560"/>
              <a:ext cx="146160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Софь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7956"/>
            <p:cNvSpPr/>
            <p:nvPr/>
          </p:nvSpPr>
          <p:spPr>
            <a:xfrm>
              <a:off x="6269760" y="3850560"/>
              <a:ext cx="63468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7955"/>
            <p:cNvSpPr/>
            <p:nvPr/>
          </p:nvSpPr>
          <p:spPr>
            <a:xfrm>
              <a:off x="6806880" y="3850560"/>
              <a:ext cx="146160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Фамусов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7954"/>
            <p:cNvSpPr/>
            <p:nvPr/>
          </p:nvSpPr>
          <p:spPr>
            <a:xfrm flipV="1">
              <a:off x="5638680" y="1823040"/>
              <a:ext cx="0" cy="81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7953"/>
            <p:cNvSpPr/>
            <p:nvPr/>
          </p:nvSpPr>
          <p:spPr>
            <a:xfrm>
              <a:off x="4907520" y="204480"/>
              <a:ext cx="146196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7952"/>
            <p:cNvSpPr/>
            <p:nvPr/>
          </p:nvSpPr>
          <p:spPr>
            <a:xfrm>
              <a:off x="4907520" y="2635560"/>
              <a:ext cx="1461960" cy="161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Чацк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те 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те свою работу по эт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все пон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таблицу: взгляды Чацкого и Фамусова на образование и просвещение, службу, отношение к иностран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2 и 3 действию проследить развитие конфликта Чацкого 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о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2280"/>
            <a:ext cx="56386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вел Афанасьевич Фамусов, управляющий в казенном ме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фья Павловна, его доч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занька, служа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й Степанович Молчалин, секретарь Фамусова, живущий у него в до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 Андреевич Чац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ковник Скалозуб, Сергей Сергееви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м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хвастаю сложенье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бодр и свеж, и дожил до сед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боден, вдов, себе я господи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30720" y="1600200"/>
            <a:ext cx="307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чал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чалин, за других себя забыть готов,   враг дерз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прочем, он дойдет до степеней известных, ведь нынче любят бессловес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т нищ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ц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чувствителен, и весел, и о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ер, умен, красноречив, в друзьях особенно счастлив, вот об себе задумал он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нт-приятель;    отъявлен мотом, сорва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лозу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золотой мешок, и метит в генер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Кто главный гер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событие является завяз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3059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дание Софьи и Молч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Фамусова и Молч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зд Чац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160" y="1600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этого события начинается развитие действия и герои вступают в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—9-е явления — завязка любовной интр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А. Гончаров в статье “Мильон терзаний” писал: “Две комедии как будто вложены одна в другую: одна, так сказать, частная, домашняя, между Чацким, Софьей, Молчалиным и Лизой — это интрига любви, вседневный мотив всех коме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86520" y="1600200"/>
            <a:ext cx="296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9:27:16Z</dcterms:created>
  <dc:creator>Ромашка2</dc:creator>
  <dc:description/>
  <dc:language>en-US</dc:language>
  <cp:lastModifiedBy>Ромашка2</cp:lastModifiedBy>
  <dcterms:modified xsi:type="dcterms:W3CDTF">2013-10-19T15:47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