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C09-B711-4CC3-941A-234F097C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32B-C6C7-43E3-95E5-CF871122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AD4-5526-48FC-8965-E1E70C84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22E-75C6-4E47-B9F0-0D89B3A8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F9F-530A-4E81-A25B-6015717C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DA1-A269-4D18-86CE-7865B80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C9F-231F-4D4C-9A28-69AEE414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DF8-E2B3-4218-85A8-23803C65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A6E-0538-413D-A86A-926ADFE1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FCC-E247-4EA9-886F-303E8A6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1B7-2DB5-4BC4-A18A-2536F425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4C7-8B27-4EEE-86C8-8DD6E4AF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3B18-C385-400D-9AB9-A38A3F856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едия «Горе от у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 написан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—1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бликация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27560" y="1600200"/>
            <a:ext cx="287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циальный конфликт во втором действ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первая прерывается, в промежутке является неожиданно другая, и действие завязывается снова, частная комедия разыгрывается в общую битву и связывается в один узел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4952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амусов и общество против Чац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язка общественного конфликта и усложнение личной линии относится ко 2-му явлению второго действия, в котором Чацкий сватается, получает отказ из-за своего несовместимого с устоями фамусовского общества образа жизни, происходит прямое столкновение с Фамусовым по вопросу о нрав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к кто же главный гер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08520" y="204480"/>
            <a:ext cx="5259960" cy="5265000"/>
            <a:chOff x="3008520" y="204480"/>
            <a:chExt cx="5259960" cy="5265000"/>
          </a:xfrm>
        </p:grpSpPr>
        <p:sp>
          <p:nvSpPr>
            <p:cNvPr id="73" name="_s37958"/>
            <p:cNvSpPr/>
            <p:nvPr/>
          </p:nvSpPr>
          <p:spPr>
            <a:xfrm flipH="1">
              <a:off x="4372560" y="3847680"/>
              <a:ext cx="632880" cy="40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57"/>
            <p:cNvSpPr/>
            <p:nvPr/>
          </p:nvSpPr>
          <p:spPr>
            <a:xfrm>
              <a:off x="3008520" y="3850560"/>
              <a:ext cx="146160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Софь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7956"/>
            <p:cNvSpPr/>
            <p:nvPr/>
          </p:nvSpPr>
          <p:spPr>
            <a:xfrm>
              <a:off x="6269760" y="3850560"/>
              <a:ext cx="634680" cy="40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37955"/>
            <p:cNvSpPr/>
            <p:nvPr/>
          </p:nvSpPr>
          <p:spPr>
            <a:xfrm>
              <a:off x="6806880" y="3850560"/>
              <a:ext cx="146160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Фамусов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7954"/>
            <p:cNvSpPr/>
            <p:nvPr/>
          </p:nvSpPr>
          <p:spPr>
            <a:xfrm flipV="1">
              <a:off x="5638680" y="1823040"/>
              <a:ext cx="0" cy="81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7953"/>
            <p:cNvSpPr/>
            <p:nvPr/>
          </p:nvSpPr>
          <p:spPr>
            <a:xfrm>
              <a:off x="4907520" y="204480"/>
              <a:ext cx="1461960" cy="1618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37952"/>
            <p:cNvSpPr/>
            <p:nvPr/>
          </p:nvSpPr>
          <p:spPr>
            <a:xfrm>
              <a:off x="4907520" y="2635560"/>
              <a:ext cx="1461960" cy="161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Чацк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те 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те свою работу по этому пла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все поня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таблицу: взгляды Чацкого и Фамусова на образование и просвещение, службу, отношение к иностран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2 и 3 действию проследить развитие конфликта Чацкого и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62720" y="4568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ро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52280"/>
            <a:ext cx="563868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вел Афанасьевич Фамусов, управляющий в казенном мес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фья Павловна, его доч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занька, служа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ей Степанович Молчалин, секретарь Фамусова, живущий у него в до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 Андреевич Чац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ковник Скалозуб, Сергей Сергееви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ам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хвастаю сложенье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ко бодр и свеж, и дожил до сед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боден, вдов, себе я господин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30720" y="1600200"/>
            <a:ext cx="307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чали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лчалин, за других себя забыть готов,   враг дерз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прочем, он дойдет до степеней известных, ведь нынче любят бессловес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т нищ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ц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чувствителен, и весел, и о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ер, умен, красноречив, в друзьях особенно счастлив, вот об себе задумал он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нт-приятель;    отъявлен мотом, сорва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лозу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золотой мешок, и метит в генера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Кто главный герой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событие является завяз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3059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идание Софьи и Молч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овор Фамусова и Молч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зд Чац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160" y="1600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этого события начинается развитие действия и герои вступают в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—9-е явления — завязка любовной интр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А. Гончаров в статье “Мильон терзаний” писал: “Две комедии как будто вложены одна в другую: одна, так сказать, частная, домашняя, между Чацким, Софьей, Молчалиным и Лизой — это интрига любви, вседневный мотив всех комед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86520" y="1600200"/>
            <a:ext cx="296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9:27:16Z</dcterms:created>
  <dc:creator>Ромашка2</dc:creator>
  <dc:description/>
  <dc:language>en-US</dc:language>
  <cp:lastModifiedBy>Ромашка2</cp:lastModifiedBy>
  <dcterms:modified xsi:type="dcterms:W3CDTF">2013-10-19T15:47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