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11.jpeg" ContentType="image/jpeg"/>
  <Override PartName="/ppt/media/image31.gif" ContentType="image/gif"/>
  <Override PartName="/ppt/media/image34.jpeg" ContentType="image/jpeg"/>
  <Override PartName="/ppt/media/image9.png" ContentType="image/png"/>
  <Override PartName="/ppt/media/image22.jpeg" ContentType="image/jpeg"/>
  <Override PartName="/ppt/media/image33.jpeg" ContentType="image/jpeg"/>
  <Override PartName="/ppt/media/image26.gif" ContentType="image/gif"/>
  <Override PartName="/ppt/media/image20.jpeg" ContentType="image/jpeg"/>
  <Override PartName="/ppt/media/image49.png" ContentType="image/png"/>
  <Override PartName="/ppt/media/image12.png" ContentType="image/png"/>
  <Override PartName="/ppt/media/image2.wmf" ContentType="image/x-wmf"/>
  <Override PartName="/ppt/media/image23.jpeg" ContentType="image/jpeg"/>
  <Override PartName="/ppt/media/image17.gif" ContentType="image/gif"/>
  <Override PartName="/ppt/media/image27.jpeg" ContentType="image/jpeg"/>
  <Override PartName="/ppt/media/image61.jpeg" ContentType="image/jpeg"/>
  <Override PartName="/ppt/media/image60.jpeg" ContentType="image/jpeg"/>
  <Override PartName="/ppt/media/image37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19.gif" ContentType="image/gif"/>
  <Override PartName="/ppt/media/image24.gif" ContentType="image/gif"/>
  <Override PartName="/ppt/media/image32.jpeg" ContentType="image/jpeg"/>
  <Override PartName="/ppt/media/image7.png" ContentType="image/png"/>
  <Override PartName="/ppt/media/image4.gif" ContentType="image/gif"/>
  <Override PartName="/ppt/media/image62.jpeg" ContentType="image/jpeg"/>
  <Override PartName="/ppt/media/image50.png" ContentType="image/png"/>
  <Override PartName="/ppt/media/image18.jpeg" ContentType="image/jpeg"/>
  <Override PartName="/ppt/media/image28.gif" ContentType="image/gif"/>
  <Override PartName="/ppt/media/image21.gif" ContentType="image/gif"/>
  <Override PartName="/ppt/media/image6.jpeg" ContentType="image/jpeg"/>
  <Override PartName="/ppt/media/image35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16.jpeg" ContentType="image/jpeg"/>
  <Override PartName="/ppt/media/image13.gif" ContentType="image/gif"/>
  <Override PartName="/ppt/media/image30.jpeg" ContentType="image/jpeg"/>
  <Override PartName="/ppt/media/image10.png" ContentType="image/png"/>
  <Override PartName="/ppt/media/image36.jpeg" ContentType="image/jpeg"/>
  <Override PartName="/ppt/media/image38.jpeg" ContentType="image/jpeg"/>
  <Override PartName="/ppt/media/image40.jpeg" ContentType="image/jpeg"/>
  <Override PartName="/ppt/media/image15.gif" ContentType="image/gif"/>
  <Override PartName="/ppt/media/image59.jpeg" ContentType="image/jpeg"/>
  <Override PartName="/ppt/media/image3.gif" ContentType="image/gif"/>
  <Override PartName="/ppt/media/image42.jpeg" ContentType="image/jpeg"/>
  <Override PartName="/ppt/media/image44.jpeg" ContentType="image/jpeg"/>
  <Override PartName="/ppt/media/image46.png" ContentType="image/png"/>
  <Override PartName="/ppt/media/image47.jpeg" ContentType="image/jpeg"/>
  <Override PartName="/ppt/media/image45.jpeg" ContentType="image/jpeg"/>
  <Override PartName="/ppt/media/image48.png" ContentType="image/pn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05D1-59CB-4EF3-9762-A6AE7AC3C7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П. И. Чайковского и Г. В. Свиридова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картинки «Осенние мотивы» и «Поэты и композитор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68640"/>
            <a:ext cx="914400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Лазарева Лидия Андреевна, учитель начальных классов, Рижская основная школа «ПАРДАУГАВА», Рига, Латвия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4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34.jpeg"/><Relationship Id="rId3" Type="http://schemas.openxmlformats.org/officeDocument/2006/relationships/slide" Target="slide29.xml"/><Relationship Id="rId4" Type="http://schemas.openxmlformats.org/officeDocument/2006/relationships/image" Target="../media/image35.jpeg"/><Relationship Id="rId5" Type="http://schemas.openxmlformats.org/officeDocument/2006/relationships/slide" Target="slide28.xml"/><Relationship Id="rId6" Type="http://schemas.openxmlformats.org/officeDocument/2006/relationships/image" Target="../media/image36.jpeg"/><Relationship Id="rId7" Type="http://schemas.openxmlformats.org/officeDocument/2006/relationships/slide" Target="slide27.xml"/><Relationship Id="rId8" Type="http://schemas.openxmlformats.org/officeDocument/2006/relationships/image" Target="../media/image37.jpeg"/><Relationship Id="rId9" Type="http://schemas.openxmlformats.org/officeDocument/2006/relationships/slide" Target="slide26.xml"/><Relationship Id="rId10" Type="http://schemas.openxmlformats.org/officeDocument/2006/relationships/image" Target="../media/image38.jpeg"/><Relationship Id="rId11" Type="http://schemas.openxmlformats.org/officeDocument/2006/relationships/slide" Target="slide25.xml"/><Relationship Id="rId12" Type="http://schemas.openxmlformats.org/officeDocument/2006/relationships/image" Target="../media/image39.jpeg"/><Relationship Id="rId13" Type="http://schemas.openxmlformats.org/officeDocument/2006/relationships/slide" Target="slide24.xml"/><Relationship Id="rId14" Type="http://schemas.openxmlformats.org/officeDocument/2006/relationships/image" Target="../media/image40.jpeg"/><Relationship Id="rId15" Type="http://schemas.openxmlformats.org/officeDocument/2006/relationships/slide" Target="slide23.xml"/><Relationship Id="rId16" Type="http://schemas.openxmlformats.org/officeDocument/2006/relationships/image" Target="../media/image41.jpeg"/><Relationship Id="rId17" Type="http://schemas.openxmlformats.org/officeDocument/2006/relationships/slide" Target="slide22.xml"/><Relationship Id="rId18" Type="http://schemas.openxmlformats.org/officeDocument/2006/relationships/image" Target="../media/image42.jpeg"/><Relationship Id="rId19" Type="http://schemas.openxmlformats.org/officeDocument/2006/relationships/slide" Target="slide21.xml"/><Relationship Id="rId20" Type="http://schemas.openxmlformats.org/officeDocument/2006/relationships/image" Target="../media/image43.jpeg"/><Relationship Id="rId21" Type="http://schemas.openxmlformats.org/officeDocument/2006/relationships/slide" Target="slide20.xml"/><Relationship Id="rId22" Type="http://schemas.openxmlformats.org/officeDocument/2006/relationships/image" Target="../media/image44.jpeg"/><Relationship Id="rId23" Type="http://schemas.openxmlformats.org/officeDocument/2006/relationships/slide" Target="slide19.xml"/><Relationship Id="rId24" Type="http://schemas.openxmlformats.org/officeDocument/2006/relationships/image" Target="../media/image45.jpeg"/><Relationship Id="rId25" Type="http://schemas.openxmlformats.org/officeDocument/2006/relationships/image" Target="../media/image46.png"/><Relationship Id="rId26" Type="http://schemas.openxmlformats.org/officeDocument/2006/relationships/image" Target="../media/image46.png"/><Relationship Id="rId27" Type="http://schemas.openxmlformats.org/officeDocument/2006/relationships/slide" Target="slide4.xml"/><Relationship Id="rId28" Type="http://schemas.openxmlformats.org/officeDocument/2006/relationships/image" Target="../media/image7.png"/><Relationship Id="rId2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itera.ru/stixiya/authors/pushkin/all.html" TargetMode="External"/><Relationship Id="rId2" Type="http://schemas.openxmlformats.org/officeDocument/2006/relationships/image" Target="../media/image47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7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1.jpe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8.png"/><Relationship Id="rId8" Type="http://schemas.openxmlformats.org/officeDocument/2006/relationships/hyperlink" Target="file:///RABOTA%20S%20PREZENTACIJAMI/&#1047;&#1072;&#1075;&#1088;&#1091;&#1079;&#1082;&#1080;/prazdnik/P1020474.MOV" TargetMode="External"/><Relationship Id="rId9" Type="http://schemas.openxmlformats.org/officeDocument/2006/relationships/image" Target="../media/image49.png"/><Relationship Id="rId10" Type="http://schemas.openxmlformats.org/officeDocument/2006/relationships/image" Target="../media/image4.gif"/><Relationship Id="rId11" Type="http://schemas.openxmlformats.org/officeDocument/2006/relationships/hyperlink" Target="file:///RABOTA%20S%20PREZENTACIJAMI/&#1047;&#1072;&#1075;&#1088;&#1091;&#1079;&#1082;&#1080;/prazdnik/P1020474.MOV" TargetMode="External"/><Relationship Id="rId12" Type="http://schemas.openxmlformats.org/officeDocument/2006/relationships/image" Target="../media/image50.png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tihi-rus.ru/1/majkov/" TargetMode="External"/><Relationship Id="rId2" Type="http://schemas.openxmlformats.org/officeDocument/2006/relationships/image" Target="../media/image53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kill21.narod.ru/1/plescheev/" TargetMode="External"/><Relationship Id="rId2" Type="http://schemas.openxmlformats.org/officeDocument/2006/relationships/image" Target="../media/image54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RABOTA%20S%20PREZENTACIJAMI/&#1047;&#1072;&#1075;&#1088;&#1091;&#1079;&#1082;&#1080;/prazdnik/P1020474.MOV" TargetMode="External"/><Relationship Id="rId2" Type="http://schemas.openxmlformats.org/officeDocument/2006/relationships/image" Target="../media/image48.png"/><Relationship Id="rId3" Type="http://schemas.openxmlformats.org/officeDocument/2006/relationships/hyperlink" Target="file:///RABOTA%20S%20PREZENTACIJAMI/&#1047;&#1072;&#1075;&#1088;&#1091;&#1079;&#1082;&#1080;/prazdnik/P1020474.MOV" TargetMode="External"/><Relationship Id="rId4" Type="http://schemas.openxmlformats.org/officeDocument/2006/relationships/image" Target="../media/image49.png"/><Relationship Id="rId5" Type="http://schemas.openxmlformats.org/officeDocument/2006/relationships/image" Target="../media/image4.gif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50.png"/><Relationship Id="rId8" Type="http://schemas.openxmlformats.org/officeDocument/2006/relationships/slide" Target="slide18.xml"/><Relationship Id="rId9" Type="http://schemas.openxmlformats.org/officeDocument/2006/relationships/image" Target="../media/image7.png"/><Relationship Id="rId10" Type="http://schemas.openxmlformats.org/officeDocument/2006/relationships/hyperlink" Target="http://www.stihi-rus.ru/1/Bunin/" TargetMode="External"/><Relationship Id="rId11" Type="http://schemas.openxmlformats.org/officeDocument/2006/relationships/image" Target="../media/image55.jpeg"/><Relationship Id="rId12" Type="http://schemas.openxmlformats.org/officeDocument/2006/relationships/image" Target="../media/image55.jpeg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tihi-rus.ru/1/Fet/" TargetMode="External"/><Relationship Id="rId2" Type="http://schemas.openxmlformats.org/officeDocument/2006/relationships/image" Target="../media/image56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itera.ru/stixiya/authors/pasternak.html" TargetMode="External"/><Relationship Id="rId2" Type="http://schemas.openxmlformats.org/officeDocument/2006/relationships/image" Target="../media/image57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" Target="slide18.xml"/><Relationship Id="rId3" Type="http://schemas.openxmlformats.org/officeDocument/2006/relationships/image" Target="../media/image7.png"/><Relationship Id="rId4" Type="http://schemas.openxmlformats.org/officeDocument/2006/relationships/hyperlink" Target="file:///RABOTA%20S%20PREZENTACIJAMI/&#1047;&#1072;&#1075;&#1088;&#1091;&#1079;&#1082;&#1080;/prazdnik/P1020474.MOV" TargetMode="External"/><Relationship Id="rId5" Type="http://schemas.openxmlformats.org/officeDocument/2006/relationships/image" Target="../media/image48.pn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9.png"/><Relationship Id="rId8" Type="http://schemas.openxmlformats.org/officeDocument/2006/relationships/image" Target="../media/image4.gif"/><Relationship Id="rId9" Type="http://schemas.openxmlformats.org/officeDocument/2006/relationships/hyperlink" Target="file:///RABOTA%20S%20PREZENTACIJAMI/&#1047;&#1072;&#1075;&#1088;&#1091;&#1079;&#1082;&#1080;/prazdnik/P1020474.MOV" TargetMode="External"/><Relationship Id="rId10" Type="http://schemas.openxmlformats.org/officeDocument/2006/relationships/image" Target="../media/image50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" Target="slide18.xml"/><Relationship Id="rId3" Type="http://schemas.openxmlformats.org/officeDocument/2006/relationships/image" Target="../media/image7.png"/><Relationship Id="rId4" Type="http://schemas.openxmlformats.org/officeDocument/2006/relationships/hyperlink" Target="file:///RABOTA%20S%20PREZENTACIJAMI/&#1047;&#1072;&#1075;&#1088;&#1091;&#1079;&#1082;&#1080;/prazdnik/P1020474.MOV" TargetMode="External"/><Relationship Id="rId5" Type="http://schemas.openxmlformats.org/officeDocument/2006/relationships/image" Target="../media/image48.pn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9.png"/><Relationship Id="rId8" Type="http://schemas.openxmlformats.org/officeDocument/2006/relationships/image" Target="../media/image4.gif"/><Relationship Id="rId9" Type="http://schemas.openxmlformats.org/officeDocument/2006/relationships/hyperlink" Target="file:///RABOTA%20S%20PREZENTACIJAMI/&#1047;&#1072;&#1075;&#1088;&#1091;&#1079;&#1082;&#1080;/prazdnik/P1020474.MOV" TargetMode="External"/><Relationship Id="rId10" Type="http://schemas.openxmlformats.org/officeDocument/2006/relationships/image" Target="../media/image50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18.xml"/><Relationship Id="rId3" Type="http://schemas.openxmlformats.org/officeDocument/2006/relationships/image" Target="../media/image7.png"/><Relationship Id="rId4" Type="http://schemas.openxmlformats.org/officeDocument/2006/relationships/hyperlink" Target="file:///RABOTA%20S%20PREZENTACIJAMI/&#1047;&#1072;&#1075;&#1088;&#1091;&#1079;&#1082;&#1080;/prazdnik/P1020474.MOV" TargetMode="External"/><Relationship Id="rId5" Type="http://schemas.openxmlformats.org/officeDocument/2006/relationships/image" Target="../media/image48.pn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9.png"/><Relationship Id="rId8" Type="http://schemas.openxmlformats.org/officeDocument/2006/relationships/image" Target="../media/image4.gif"/><Relationship Id="rId9" Type="http://schemas.openxmlformats.org/officeDocument/2006/relationships/hyperlink" Target="file:///RABOTA%20S%20PREZENTACIJAMI/&#1047;&#1072;&#1075;&#1088;&#1091;&#1079;&#1082;&#1080;/prazdnik/P1020474.MOV" TargetMode="External"/><Relationship Id="rId10" Type="http://schemas.openxmlformats.org/officeDocument/2006/relationships/image" Target="../media/image50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" Target="slide18.xml"/><Relationship Id="rId3" Type="http://schemas.openxmlformats.org/officeDocument/2006/relationships/image" Target="../media/image7.png"/><Relationship Id="rId4" Type="http://schemas.openxmlformats.org/officeDocument/2006/relationships/hyperlink" Target="file:///RABOTA%20S%20PREZENTACIJAMI/&#1047;&#1072;&#1075;&#1088;&#1091;&#1079;&#1082;&#1080;/prazdnik/P1020474.MOV" TargetMode="External"/><Relationship Id="rId5" Type="http://schemas.openxmlformats.org/officeDocument/2006/relationships/image" Target="../media/image48.pn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9.png"/><Relationship Id="rId8" Type="http://schemas.openxmlformats.org/officeDocument/2006/relationships/image" Target="../media/image4.gif"/><Relationship Id="rId9" Type="http://schemas.openxmlformats.org/officeDocument/2006/relationships/hyperlink" Target="file:///RABOTA%20S%20PREZENTACIJAMI/&#1047;&#1072;&#1075;&#1088;&#1091;&#1079;&#1082;&#1080;/prazdnik/P1020474.MOV" TargetMode="External"/><Relationship Id="rId10" Type="http://schemas.openxmlformats.org/officeDocument/2006/relationships/image" Target="../media/image50.png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RABOTA%20S%20PREZENTACIJAMI/&#1047;&#1072;&#1075;&#1088;&#1091;&#1079;&#1082;&#1080;/prazdnik/P1020474.MOV" TargetMode="External"/><Relationship Id="rId2" Type="http://schemas.openxmlformats.org/officeDocument/2006/relationships/image" Target="../media/image48.png"/><Relationship Id="rId3" Type="http://schemas.openxmlformats.org/officeDocument/2006/relationships/hyperlink" Target="file:///RABOTA%20S%20PREZENTACIJAMI/&#1047;&#1072;&#1075;&#1088;&#1091;&#1079;&#1082;&#1080;/prazdnik/P1020474.MOV" TargetMode="External"/><Relationship Id="rId4" Type="http://schemas.openxmlformats.org/officeDocument/2006/relationships/image" Target="../media/image49.png"/><Relationship Id="rId5" Type="http://schemas.openxmlformats.org/officeDocument/2006/relationships/image" Target="../media/image4.gif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50.png"/><Relationship Id="rId8" Type="http://schemas.openxmlformats.org/officeDocument/2006/relationships/image" Target="../media/image62.jpeg"/><Relationship Id="rId9" Type="http://schemas.openxmlformats.org/officeDocument/2006/relationships/slide" Target="slide18.xml"/><Relationship Id="rId10" Type="http://schemas.openxmlformats.org/officeDocument/2006/relationships/image" Target="../media/image7.png"/><Relationship Id="rId11" Type="http://schemas.openxmlformats.org/officeDocument/2006/relationships/image" Target="../media/image62.jpe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18.xm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6840720" cy="2047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164.gif"/>
          <p:cNvPicPr/>
          <p:nvPr/>
        </p:nvPicPr>
        <p:blipFill>
          <a:blip r:embed="rId3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164.gif"/>
          <p:cNvPicPr/>
          <p:nvPr/>
        </p:nvPicPr>
        <p:blipFill>
          <a:blip r:embed="rId4"/>
          <a:stretch/>
        </p:blipFill>
        <p:spPr>
          <a:xfrm>
            <a:off x="298764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164.gif"/>
          <p:cNvPicPr/>
          <p:nvPr/>
        </p:nvPicPr>
        <p:blipFill>
          <a:blip r:embed="rId5"/>
          <a:stretch/>
        </p:blipFill>
        <p:spPr>
          <a:xfrm>
            <a:off x="6084720" y="189000"/>
            <a:ext cx="30592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708360" y="105264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124000" y="69228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08360" y="3860640"/>
            <a:ext cx="1960560" cy="28274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2481480" cy="19112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19640" y="260280"/>
            <a:ext cx="1152360" cy="10954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35280" y="62064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76720" y="98100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516720" y="1413000"/>
            <a:ext cx="142884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428480" cy="1209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692360" y="62064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132000" y="1052640"/>
            <a:ext cx="142884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076640"/>
            <a:ext cx="122544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96000" y="4076640"/>
            <a:ext cx="172872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11640" y="4076640"/>
            <a:ext cx="141300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843280" y="4076640"/>
            <a:ext cx="120636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530360" y="4076640"/>
            <a:ext cx="114300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9" name="" descr="Борис Пастернак. Чистополь. 1942 г.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78000" y="4076640"/>
            <a:ext cx="1004760" cy="144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0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67640" y="2349360"/>
            <a:ext cx="122544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1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227640" y="2349360"/>
            <a:ext cx="131616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2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4788000" y="2347920"/>
            <a:ext cx="126504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3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402000" y="2347920"/>
            <a:ext cx="124128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4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1835280" y="2347920"/>
            <a:ext cx="144144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5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378000" y="2347920"/>
            <a:ext cx="1285560" cy="1585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466560" y="371628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А. 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371628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Г. Свири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73280" y="3716280"/>
            <a:ext cx="1008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А. Май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13280" y="371628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А. Плеще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3716280"/>
            <a:ext cx="99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И. Бу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94720" y="3716280"/>
            <a:ext cx="919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А. Ф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5300640"/>
            <a:ext cx="93492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Б. Пастерн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5300640"/>
            <a:ext cx="108144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Ф. Тютч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0360" y="5299200"/>
            <a:ext cx="934920" cy="2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С. Ес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530064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Н. Некр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3280" y="530064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К. Бальм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94720" y="5299200"/>
            <a:ext cx="990360" cy="2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Цезарь Кю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5"/>
          <a:stretch/>
        </p:blipFill>
        <p:spPr>
          <a:xfrm>
            <a:off x="1547640" y="1341360"/>
            <a:ext cx="6116760" cy="57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6"/>
          <a:stretch/>
        </p:blipFill>
        <p:spPr>
          <a:xfrm>
            <a:off x="1547640" y="5805360"/>
            <a:ext cx="6116760" cy="576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8360" y="476280"/>
            <a:ext cx="81914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ПОЭТЫ И КОМПОЗИТО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21" name="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60280"/>
            <a:ext cx="3644640" cy="5473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АЛЕКСАНДР СЕРГЕЕВИЧ ПУШК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2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36720" y="515664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99 — 1837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7" descr="164.gif"/>
          <p:cNvPicPr/>
          <p:nvPr/>
        </p:nvPicPr>
        <p:blipFill>
          <a:blip r:embed="rId1"/>
          <a:stretch/>
        </p:blipFill>
        <p:spPr>
          <a:xfrm>
            <a:off x="6084720" y="18900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164.gif"/>
          <p:cNvPicPr/>
          <p:nvPr/>
        </p:nvPicPr>
        <p:blipFill>
          <a:blip r:embed="rId2"/>
          <a:stretch/>
        </p:blipFill>
        <p:spPr>
          <a:xfrm>
            <a:off x="298764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164.gif"/>
          <p:cNvPicPr/>
          <p:nvPr/>
        </p:nvPicPr>
        <p:blipFill>
          <a:blip r:embed="rId3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332000" y="1989000"/>
            <a:ext cx="648180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ОСЕННИЕ МОТИВ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В ПРОИЗВЕДЕНИЯ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ПОЭ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КОМПОЗИТО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ГЕОРГИЙ ВАСИЛЬЕВИЧ СВИРИ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24360" y="1052640"/>
            <a:ext cx="5027400" cy="7893000"/>
          </a:xfrm>
          <a:prstGeom prst="rect">
            <a:avLst/>
          </a:prstGeom>
          <a:solidFill>
            <a:srgbClr val="fedaa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Он желал бы всеми силами души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Чтобы музыка его распространялась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Чтоб она баюкала в тиши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Чтобы с нею вместе улыбались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Чтоб она печали отвела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Напоила путника в дорог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Он хотел, чтоб музыка был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Утешеньем, радостью, подм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3948120" cy="561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4572720" y="53726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915 - 1998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1366920" cy="194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340000" y="1341360"/>
            <a:ext cx="1366920" cy="1871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38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http://s50.radikal.ru/i128/0808/6a/54815bbb96db.png">
            <a:hlinkClick r:id="rId8"/>
          </p:cNvPr>
          <p:cNvPicPr/>
          <p:nvPr/>
        </p:nvPicPr>
        <p:blipFill>
          <a:blip r:embed="rId9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164.gif"/>
          <p:cNvPicPr/>
          <p:nvPr/>
        </p:nvPicPr>
        <p:blipFill>
          <a:blip r:embed="rId10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http://s50.radikal.ru/i128/0808/6a/54815bbb96db.png">
            <a:hlinkClick r:id="rId11"/>
          </p:cNvPr>
          <p:cNvPicPr/>
          <p:nvPr/>
        </p:nvPicPr>
        <p:blipFill>
          <a:blip r:embed="rId12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164.gif"/>
          <p:cNvPicPr/>
          <p:nvPr/>
        </p:nvPicPr>
        <p:blipFill>
          <a:blip r:embed="rId13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755640" y="189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Г. В. СВИРИДОВ П. И. ЧАЙКОВСКОМ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333360"/>
            <a:ext cx="3692520" cy="554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45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АПОЛЛОН МАЙ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25080" y="537264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1 - 189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60280"/>
            <a:ext cx="3789360" cy="568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4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АЛЕКСЕЙ ПЛЕЩЕ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796720" y="544392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5 - 189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http://s50.radikal.ru/i128/0808/6a/54815bbb96db.png">
            <a:hlinkClick r:id="rId1"/>
          </p:cNvPr>
          <p:cNvPicPr/>
          <p:nvPr/>
        </p:nvPicPr>
        <p:blipFill>
          <a:blip r:embed="rId2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http://s50.radikal.ru/i128/0808/6a/54815bbb96db.png">
            <a:hlinkClick r:id="rId3"/>
          </p:cNvPr>
          <p:cNvPicPr/>
          <p:nvPr/>
        </p:nvPicPr>
        <p:blipFill>
          <a:blip r:embed="rId4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7" descr="164.gif"/>
          <p:cNvPicPr/>
          <p:nvPr/>
        </p:nvPicPr>
        <p:blipFill>
          <a:blip r:embed="rId5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95280" y="6165720"/>
            <a:ext cx="81914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ИВАН БУН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52800" y="2348280"/>
            <a:ext cx="9947880" cy="3110400"/>
          </a:xfrm>
          <a:prstGeom prst="rect">
            <a:avLst/>
          </a:prstGeom>
          <a:solidFill>
            <a:srgbClr val="fedaa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ndantino script"/>
              </a:rPr>
              <a:t>"</a:t>
            </a:r>
            <a:r>
              <a:rPr b="0" lang="en-US" sz="4400" spc="-1" strike="noStrike">
                <a:solidFill>
                  <a:srgbClr val="000000"/>
                </a:solidFill>
                <a:latin typeface="Andantino script"/>
              </a:rPr>
              <a:t>Нет, не пейзаж влечет мен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ntino script"/>
              </a:rPr>
              <a:t>Не кpаски я стpемлюсь подмети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ntino script"/>
              </a:rPr>
              <a:t>А то, что в этих кpасках светит,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ntino script"/>
              </a:rPr>
              <a:t>Любовь и pадость бытия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067280" y="476280"/>
            <a:ext cx="3500280" cy="525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4428000" y="51566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70 - 195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4500720" y="189000"/>
            <a:ext cx="928440" cy="1393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2" name="Рисунок 7" descr="164.gif"/>
          <p:cNvPicPr/>
          <p:nvPr/>
        </p:nvPicPr>
        <p:blipFill>
          <a:blip r:embed="rId13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189000"/>
            <a:ext cx="3740040" cy="56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4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АФАНАСИЙ Ф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581080" y="522828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0 — 189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260280"/>
            <a:ext cx="3789360" cy="568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83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БОРИС ПАСТЕРН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796720" y="537264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90 — 196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3752640" cy="563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2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ФЁДОР ТЮТЧ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012360" y="529956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68 - 184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s50.radikal.ru/i128/0808/6a/54815bbb96db.png">
            <a:hlinkClick r:id="rId4"/>
          </p:cNvPr>
          <p:cNvPicPr/>
          <p:nvPr/>
        </p:nvPicPr>
        <p:blipFill>
          <a:blip r:embed="rId5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164.gif"/>
          <p:cNvPicPr/>
          <p:nvPr/>
        </p:nvPicPr>
        <p:blipFill>
          <a:blip r:embed="rId8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http://s50.radikal.ru/i128/0808/6a/54815bbb96db.png">
            <a:hlinkClick r:id="rId9"/>
          </p:cNvPr>
          <p:cNvPicPr/>
          <p:nvPr/>
        </p:nvPicPr>
        <p:blipFill>
          <a:blip r:embed="rId10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7" descr="164.gif"/>
          <p:cNvPicPr/>
          <p:nvPr/>
        </p:nvPicPr>
        <p:blipFill>
          <a:blip r:embed="rId11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84720" y="404640"/>
            <a:ext cx="3703680" cy="5561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1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СЕРГЕЙ ЕСЕН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2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941080" y="53726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95 - 192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s50.radikal.ru/i128/0808/6a/54815bbb96db.png">
            <a:hlinkClick r:id="rId4"/>
          </p:cNvPr>
          <p:cNvPicPr/>
          <p:nvPr/>
        </p:nvPicPr>
        <p:blipFill>
          <a:blip r:embed="rId5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7" descr="164.gif"/>
          <p:cNvPicPr/>
          <p:nvPr/>
        </p:nvPicPr>
        <p:blipFill>
          <a:blip r:embed="rId8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http://s50.radikal.ru/i128/0808/6a/54815bbb96db.png">
            <a:hlinkClick r:id="rId9"/>
          </p:cNvPr>
          <p:cNvPicPr/>
          <p:nvPr/>
        </p:nvPicPr>
        <p:blipFill>
          <a:blip r:embed="rId10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7" descr="164.gif"/>
          <p:cNvPicPr/>
          <p:nvPr/>
        </p:nvPicPr>
        <p:blipFill>
          <a:blip r:embed="rId11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3789360" cy="5689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0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НИКОЛАЙ НЕКРАС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2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941080" y="551556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1 - 1877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http://s50.radikal.ru/i128/0808/6a/54815bbb96db.png">
            <a:hlinkClick r:id="rId4"/>
          </p:cNvPr>
          <p:cNvPicPr/>
          <p:nvPr/>
        </p:nvPicPr>
        <p:blipFill>
          <a:blip r:embed="rId5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164.gif"/>
          <p:cNvPicPr/>
          <p:nvPr/>
        </p:nvPicPr>
        <p:blipFill>
          <a:blip r:embed="rId8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http://s50.radikal.ru/i128/0808/6a/54815bbb96db.png">
            <a:hlinkClick r:id="rId9"/>
          </p:cNvPr>
          <p:cNvPicPr/>
          <p:nvPr/>
        </p:nvPicPr>
        <p:blipFill>
          <a:blip r:embed="rId10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164.gif"/>
          <p:cNvPicPr/>
          <p:nvPr/>
        </p:nvPicPr>
        <p:blipFill>
          <a:blip r:embed="rId11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3655800" cy="5489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9" name=""/>
          <p:cNvSpPr txBox="1"/>
          <p:nvPr/>
        </p:nvSpPr>
        <p:spPr>
          <a:xfrm>
            <a:off x="395280" y="6165720"/>
            <a:ext cx="81914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КОНСТАНТИН БАЛЬМОН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22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868000" y="529956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67 - 194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8" descr="http://s50.radikal.ru/i128/0808/6a/54815bbb96db.png">
            <a:hlinkClick r:id="rId4"/>
          </p:cNvPr>
          <p:cNvPicPr/>
          <p:nvPr/>
        </p:nvPicPr>
        <p:blipFill>
          <a:blip r:embed="rId5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164.gif"/>
          <p:cNvPicPr/>
          <p:nvPr/>
        </p:nvPicPr>
        <p:blipFill>
          <a:blip r:embed="rId8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http://s50.radikal.ru/i128/0808/6a/54815bbb96db.png">
            <a:hlinkClick r:id="rId9"/>
          </p:cNvPr>
          <p:cNvPicPr/>
          <p:nvPr/>
        </p:nvPicPr>
        <p:blipFill>
          <a:blip r:embed="rId10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7" descr="164.gif"/>
          <p:cNvPicPr/>
          <p:nvPr/>
        </p:nvPicPr>
        <p:blipFill>
          <a:blip r:embed="rId11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7" descr="164.gif"/>
          <p:cNvPicPr/>
          <p:nvPr/>
        </p:nvPicPr>
        <p:blipFill>
          <a:blip r:embed="rId1"/>
          <a:stretch/>
        </p:blipFill>
        <p:spPr>
          <a:xfrm>
            <a:off x="608472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164.gif"/>
          <p:cNvPicPr/>
          <p:nvPr/>
        </p:nvPicPr>
        <p:blipFill>
          <a:blip r:embed="rId2"/>
          <a:stretch/>
        </p:blipFill>
        <p:spPr>
          <a:xfrm>
            <a:off x="298764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164.gif"/>
          <p:cNvPicPr/>
          <p:nvPr/>
        </p:nvPicPr>
        <p:blipFill>
          <a:blip r:embed="rId3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06640" y="561960"/>
            <a:ext cx="496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Тихо-тихо сядем рядом 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ходит музыка в наш дом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 удивительном наряде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Разноцветном, распис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И раздвинутся вдруг стены 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ся земля видна вокруг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Плещут волны речки пенной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Чутко дремлют лес и 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549360"/>
            <a:ext cx="47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даль бегут степные тропки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Тают в дымке голубой 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Это музыка торопи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И ведет нас за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месте с музыкой хороше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К нам приходит волшебство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Осторожней, осторожней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Не спугнуть бы нам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987640" y="3789360"/>
            <a:ext cx="3352680" cy="27432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28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8" descr="http://s50.radikal.ru/i128/0808/6a/54815bbb96db.png">
            <a:hlinkClick r:id="rId1"/>
          </p:cNvPr>
          <p:cNvPicPr/>
          <p:nvPr/>
        </p:nvPicPr>
        <p:blipFill>
          <a:blip r:embed="rId2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http://s50.radikal.ru/i128/0808/6a/54815bbb96db.png">
            <a:hlinkClick r:id="rId3"/>
          </p:cNvPr>
          <p:cNvPicPr/>
          <p:nvPr/>
        </p:nvPicPr>
        <p:blipFill>
          <a:blip r:embed="rId4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7" descr="164.gif"/>
          <p:cNvPicPr/>
          <p:nvPr/>
        </p:nvPicPr>
        <p:blipFill>
          <a:blip r:embed="rId5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4067280" y="260280"/>
            <a:ext cx="3948120" cy="561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2124000" y="2441520"/>
            <a:ext cx="6769080" cy="448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ntino script"/>
              </a:rPr>
              <a:t>Пленительные звуки влекли нас за собой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ndantino script"/>
              </a:rPr>
              <a:t>В душе мы навсегда оставим эти чувства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ndantino script"/>
              </a:rPr>
              <a:t>И никогда нам не забыть, друг мой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ndantino script"/>
              </a:rPr>
              <a:t>Чудесный мир волшебного искус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42920" y="6237360"/>
            <a:ext cx="75438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ЦЕЗАРЬ КЮ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23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85080" y="522828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35 - 191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4483080" y="907920"/>
            <a:ext cx="1619280" cy="2305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38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19280" y="1268280"/>
            <a:ext cx="2857320" cy="21430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619280" y="3068640"/>
            <a:ext cx="28083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ОСЕННИЕ МО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16360" y="1268280"/>
            <a:ext cx="2880000" cy="21607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716360" y="3068640"/>
            <a:ext cx="28083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ПОЭТЫ И КОМПОЗИ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716360" y="4076640"/>
            <a:ext cx="2605320" cy="184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835280" y="386064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76720" y="4653000"/>
            <a:ext cx="723960" cy="1371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43640" y="400536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708360" y="105264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124000" y="69228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68360" y="4653000"/>
            <a:ext cx="1333800" cy="1190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flipH="1">
            <a:off x="3850920" y="5084640"/>
            <a:ext cx="1330200" cy="11908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77080" y="33577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003640" y="479736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8:58:59Z</dcterms:created>
  <dc:creator>L. Lazareva</dc:creator>
  <dc:description/>
  <dc:language>en-US</dc:language>
  <cp:lastModifiedBy>MAMA</cp:lastModifiedBy>
  <dcterms:modified xsi:type="dcterms:W3CDTF">2009-12-06T12:11:56Z</dcterms:modified>
  <cp:revision>42</cp:revision>
  <dc:subject/>
  <dc:title>Osennije motivi</dc:title>
</cp:coreProperties>
</file>