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6BCA-A4C2-43A1-97F3-89FC4790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0780-BF78-40AC-8C15-64372005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5BCB-C082-4C9A-B78B-F1828609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49EE-1812-437C-9CB4-6F0088E7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7FD3-4473-4FA7-B571-4EBF6632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CE66-1E50-4DFD-B11F-F908076C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B332-EAE3-4AD2-B58E-87D15372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18A7-3CE2-4DAB-924D-7F8325B5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4A4D-C049-4C6A-A8EA-A0E459EC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4808-ECE0-4D72-989B-E3DE9FEC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8451-0F4F-43BE-A43E-F8C37D1F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B0D5-1EE6-4B61-86B1-48F57203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EE4C-DD8A-4A38-B292-327F50F8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3291-3909-47E5-8DA0-F801FED1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C66B-6443-4DD3-8A86-D814199C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C01F-DA45-4FF0-9F4B-AA9A00D5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0261-ADA4-4675-864B-17A80AB8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79CE-55AF-46B5-91E4-27B47655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D603-A940-4525-B472-B9ED3A62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4597-24DD-45E7-A241-1363E9DD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064F-955A-4940-B988-031D828D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75DD-056B-4E1C-BD46-2FF74666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9419-7A83-4B27-8C73-A3ED9F0E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A5B9-F195-44E7-91CD-43882601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2DAE-82DE-435E-AAFA-C2470199953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E2BB-B8C2-441E-88CC-DB495A0CFE9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rtlib.ru/objects/gallery_101/artlib_gallery-50745-b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tourism2.web-soft.ru/gallery/albums/userpics/10049/normal_IMG_3957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ttachments-blog.tut.by/218/files/2009/03/kustodiev__maslenica_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drive2.ru/user.blog.photos/3840/000/000/004/bbd/88cb8b850a939ce0-original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cossackstan.ru/uploads/posts/2009-01/1231157916_image010.jpg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oll-giant.ru/photo/blin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russian-souvenirs.ru/foto/product/foto1485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www.videomax.ru/forum/uploads/20070217_234319_IMG_1362.jpg" TargetMode="External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ussianow.ru/Images/ZimniyOtdih/SrednyayaPolosa/SrednyayaPolosa-4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foto.rambler.ru/public/n-enigma/2/IMG_6255_2/IMG_6255_2-web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naviny.by/media/2009.02_w4/Maslenitsa-01.jp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012.radikal.ru/0803/b7/bbb1c0df337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orbunovasn.wmsite.ru/_mod_files/ce_images/maslenic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irota.ru/forum/images/18/18007.jpe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029.radikal.ru/0803/d3/9fb5c1d69cb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313/meche25.c/0_22675_81e320e6_X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stat15.privet.ru/lr/09099d8107abd42e1850cb7d88c46646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ussian-souvenirs.ru/foto/product/foto1486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Маслениц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6" name="" descr="Картинка 4 из 1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1125360"/>
            <a:ext cx="525636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33"/>
                </a:solidFill>
                <a:latin typeface="Monotype Corsiva"/>
              </a:rPr>
              <a:t>Вторник – «Заигрыш»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" descr="Картинка 48 из 1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197000"/>
            <a:ext cx="4176720" cy="3135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87280" y="486900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В этот день строят снежные крепости, скоморохи поют свои часту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932360" y="1916280"/>
            <a:ext cx="3816360" cy="29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Monotype Corsiva"/>
              </a:rPr>
              <a:t>Среда – «Лакомка»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4797360"/>
            <a:ext cx="77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В этот день каждая хозяйка колдует у печи . Печет пироги, кулебяки, сырни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Картинка 187 из 21759"/>
          <p:cNvPicPr/>
          <p:nvPr/>
        </p:nvPicPr>
        <p:blipFill>
          <a:blip r:embed="rId1"/>
          <a:stretch/>
        </p:blipFill>
        <p:spPr>
          <a:xfrm>
            <a:off x="611280" y="1197000"/>
            <a:ext cx="4248000" cy="3187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Картинка 3 из 435"/>
          <p:cNvPicPr/>
          <p:nvPr/>
        </p:nvPicPr>
        <p:blipFill>
          <a:blip r:embed="rId2"/>
          <a:stretch/>
        </p:blipFill>
        <p:spPr>
          <a:xfrm>
            <a:off x="5003640" y="1844640"/>
            <a:ext cx="360072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Monotype Corsiva"/>
              </a:rPr>
              <a:t>Четверг – «Разгуляй»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4" name="" descr="Картинка 43 из 217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500280"/>
            <a:ext cx="3781440" cy="2419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55640" y="3933720"/>
            <a:ext cx="410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Четверг – разгул. Самый весёлый день. Возят чучело на колесе, катаются на санях. Песни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Картинка 53 из 217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1197000"/>
            <a:ext cx="3600360" cy="2162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Картинка 39 из 98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1125360"/>
            <a:ext cx="410364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Monotype Corsiva"/>
              </a:rPr>
              <a:t>Пятница – «Тёщины вечерки»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486900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Тёща  приглашает к себе зятя на бл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Картинка 10 из 21759"/>
          <p:cNvPicPr/>
          <p:nvPr/>
        </p:nvPicPr>
        <p:blipFill>
          <a:blip r:embed="rId1"/>
          <a:stretch/>
        </p:blipFill>
        <p:spPr>
          <a:xfrm>
            <a:off x="1692360" y="1125360"/>
            <a:ext cx="50767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Monotype Corsiva"/>
              </a:rPr>
              <a:t>Суббота – «Золовки угощение»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" descr="Картинка 6 из 3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268280"/>
            <a:ext cx="1730160" cy="259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Картинка 7 из 37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0920" y="2924280"/>
            <a:ext cx="2283120" cy="2663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4581360"/>
            <a:ext cx="20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Невестка дарит подар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Картинка 9 из 98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19640" y="1341360"/>
            <a:ext cx="2346480" cy="3529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427640" y="5084640"/>
            <a:ext cx="43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В этот день сжигают чучело и окончательно прощаются с зим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Monotype Corsiva"/>
              </a:rPr>
              <a:t>Воскресенье – « Прощёный день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" descr="Картинка 115 из 9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197000"/>
            <a:ext cx="2936880" cy="3456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Картинка 274 из 920"/>
          <p:cNvPicPr/>
          <p:nvPr/>
        </p:nvPicPr>
        <p:blipFill>
          <a:blip r:embed="rId3"/>
          <a:stretch/>
        </p:blipFill>
        <p:spPr>
          <a:xfrm>
            <a:off x="4932360" y="1125360"/>
            <a:ext cx="2724120" cy="3810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55640" y="501336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Последний день Масленицы. Заканчивается гуляние. Прощения просят, милосердные дела твор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Monotype Corsiva"/>
              </a:rPr>
              <a:t>    </a:t>
            </a:r>
            <a:r>
              <a:rPr b="0" lang="en-US" sz="4400" spc="-1" strike="noStrike">
                <a:solidFill>
                  <a:srgbClr val="006633"/>
                </a:solidFill>
                <a:latin typeface="Monotype Corsiva"/>
              </a:rPr>
              <a:t>Гори, гори ясно,</a:t>
            </a:r>
            <a:br>
              <a:rPr sz="4400"/>
            </a:br>
            <a:r>
              <a:rPr b="0" lang="en-US" sz="4400" spc="-1" strike="noStrike">
                <a:solidFill>
                  <a:srgbClr val="006633"/>
                </a:solidFill>
                <a:latin typeface="Monotype Corsiva"/>
              </a:rPr>
              <a:t>                  Чтобы не погасло!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" descr="Картинка 13 из 205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773360"/>
            <a:ext cx="3648240" cy="3235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Картинка 19 из 205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2781360"/>
            <a:ext cx="39261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3710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История возникновения Масленицы уходит своими корнями глубоко в древность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Картинка 17 из 8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1773360"/>
            <a:ext cx="4838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3640" y="1599840"/>
            <a:ext cx="348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Масленица — это веселые проводы зимы, озаренные радостным ожиданием близкого тепла, весеннего обновления природы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Картинка 30 из 8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628640"/>
            <a:ext cx="38163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42920" y="1412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Это всегда был самый веселый и любимый славянский праздник. Считалось, что человек, плохо и скучно проведший Масленицу, будет неудачлив в течение всего года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Картинка 37 из 179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125360"/>
            <a:ext cx="42004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787640" y="98100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Целую неделю нельзя было помышлять о делах и домашних заботах. Безудержное чревоугодие и веселье рассматривалось как залог будущего благополучия, процветания и усп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Картинка 10 из 179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692280"/>
            <a:ext cx="37083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Но самое главное - это блины!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Картинка 66 из 179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620640"/>
            <a:ext cx="4248000" cy="3187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Картинка 57 из 1798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270828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3714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Блин - символ солнца. Такой же круглый и горячий. С пылу с жару подаются они на стол. С маслом, со сметаной, с икрой, с грибами - выбирай на любой вкус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Картинка 17 из 192770"/>
          <p:cNvPicPr/>
          <p:nvPr/>
        </p:nvPicPr>
        <p:blipFill>
          <a:blip r:embed="rId1"/>
          <a:stretch/>
        </p:blipFill>
        <p:spPr>
          <a:xfrm>
            <a:off x="4427640" y="1628640"/>
            <a:ext cx="450036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9640" y="4076640"/>
            <a:ext cx="813600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Блины имели ритуальное значение: круглые, румяные, горячие, они являли собой символ солнца, которое все ярче разгоралось, удлиняя дни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а 59 из 4290"/>
          <p:cNvPicPr/>
          <p:nvPr/>
        </p:nvPicPr>
        <p:blipFill>
          <a:blip r:embed="rId1"/>
          <a:stretch/>
        </p:blipFill>
        <p:spPr>
          <a:xfrm>
            <a:off x="2268360" y="476280"/>
            <a:ext cx="45370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Monotype Corsiva"/>
              </a:rPr>
              <a:t>Понедельник – наступает «Встреча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3" name="" descr="Картинка 23 из 3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197000"/>
            <a:ext cx="2400480" cy="3809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24360" y="2060640"/>
            <a:ext cx="431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В этот день встречают масленицу, наряжают куклу- чуче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0:35:05Z</dcterms:created>
  <dc:creator>User</dc:creator>
  <dc:description/>
  <dc:language>en-US</dc:language>
  <cp:lastModifiedBy>User</cp:lastModifiedBy>
  <dcterms:modified xsi:type="dcterms:W3CDTF">2001-12-31T21:37:08Z</dcterms:modified>
  <cp:revision>5</cp:revision>
  <dc:subject/>
  <dc:title>Масленица.</dc:title>
</cp:coreProperties>
</file>