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409-85B0-402E-95FB-81132197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B6F-35B6-409D-ACAD-6449CA6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296-11A5-4441-93DE-701B46E8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B82-59B7-4AD6-B6FE-004B8E60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0FA-C221-4D87-B571-1FD9606A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8359-C4FB-471B-8B82-4806030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5DB-6A0E-4AE0-949C-52514C53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075-61E3-4302-89C9-3348520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E6B-08D3-4F7A-8640-21A3980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44A9-2B16-4155-A72E-706B30D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FBF-C626-4473-ACAF-E1C4F77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19D-B890-4ED0-AD05-49195EC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1143-170B-4D7F-8EC7-4EE7677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ABA-958B-4F91-BF91-2833182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A638-B13C-4F40-BBFB-218C56E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3EA-2CBF-4EE5-B38E-2914CF55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FD2D-833E-429B-9BB3-DEE9915A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20F-2077-4791-9F9A-7C6A120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205-C595-4053-8FFE-ABC13615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69D-FD51-4BDA-B116-2072A96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433-55A7-438A-BD1A-3350D97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946-A41D-40CA-89BC-24F0DCD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FCD-252E-4B5D-832C-88AC3AF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445-4E2A-45C4-B779-873F4D5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020-18FE-40D5-B42B-37360BCFF4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6642-3D4A-4DA2-ACC2-0124598419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tlib.ru/objects/gallery_101/artlib_gallery-50745-b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ourism2.web-soft.ru/gallery/albums/userpics/10049/normal_IMG_3957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218/files/2009/03/kustodiev__maslenica_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drive2.ru/user.blog.photos/3840/000/000/004/bbd/88cb8b850a939ce0-original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cossackstan.ru/uploads/posts/2009-01/1231157916_image010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ll-giant.ru/photo/blin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russian-souvenirs.ru/foto/product/foto148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videomax.ru/forum/uploads/20070217_234319_IMG_1362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sianow.ru/Images/ZimniyOtdih/SrednyayaPolosa/SrednyayaPolosa-4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n-enigma/2/IMG_6255_2/IMG_6255_2-web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naviny.by/media/2009.02_w4/Maslenitsa-0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012.radikal.ru/0803/b7/bbb1c0df337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rbunovasn.wmsite.ru/_mod_files/ce_images/maslenic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18/18007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29.radikal.ru/0803/d3/9fb5c1d69cb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13/meche25.c/0_22675_81e320e6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tat15.privet.ru/lr/09099d8107abd42e1850cb7d88c46646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sian-souvenirs.ru/foto/product/foto148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слениц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Картинка 4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256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Monotype Corsiva"/>
              </a:rPr>
              <a:t>Вторник – «Заигрыш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Картинка 48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4176720" cy="31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87280" y="4869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этот день строят снежные крепости, скоморохи поют свои част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8163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Среда – «Лакомка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797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каждая хозяйка колдует у печи . Печет пироги, кулебяки, сырни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87 из 21759"/>
          <p:cNvPicPr/>
          <p:nvPr/>
        </p:nvPicPr>
        <p:blipFill>
          <a:blip r:embed="rId1"/>
          <a:stretch/>
        </p:blipFill>
        <p:spPr>
          <a:xfrm>
            <a:off x="611280" y="11970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3 из 435"/>
          <p:cNvPicPr/>
          <p:nvPr/>
        </p:nvPicPr>
        <p:blipFill>
          <a:blip r:embed="rId2"/>
          <a:stretch/>
        </p:blipFill>
        <p:spPr>
          <a:xfrm>
            <a:off x="5003640" y="1844640"/>
            <a:ext cx="3600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Четверг – «Разгуляй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Картинка 43 из 217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3781440" cy="241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393372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Четверг – разгул. Самый весёлый день. Возят чучело на колесе, катаются на санях. Песни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53 из 217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19700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3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125360"/>
            <a:ext cx="41036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Пятница – «Тёщины вечерки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Тёща  приглашает к себе зятя на бл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0 из 21759"/>
          <p:cNvPicPr/>
          <p:nvPr/>
        </p:nvPicPr>
        <p:blipFill>
          <a:blip r:embed="rId1"/>
          <a:stretch/>
        </p:blipFill>
        <p:spPr>
          <a:xfrm>
            <a:off x="1692360" y="1125360"/>
            <a:ext cx="5076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Суббота – «Золовки угощение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Картинка 6 из 3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173016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7 из 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2924280"/>
            <a:ext cx="2283120" cy="266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4581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вестка дарит пода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Картинка 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1341360"/>
            <a:ext cx="2346480" cy="35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27640" y="508464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этот день сжигают чучело и окончательно прощаются с зи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Воскресенье – « Прощёный день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Картинка 115 из 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97000"/>
            <a:ext cx="2936880" cy="345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274 из 920"/>
          <p:cNvPicPr/>
          <p:nvPr/>
        </p:nvPicPr>
        <p:blipFill>
          <a:blip r:embed="rId3"/>
          <a:stretch/>
        </p:blipFill>
        <p:spPr>
          <a:xfrm>
            <a:off x="4932360" y="1125360"/>
            <a:ext cx="272412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501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оследний день Масленицы. Заканчивается гуляние. Прощения просят, милосердные дела твор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</a:t>
            </a: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Гори, гори ясно,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              Чтобы не погасло!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Картинка 13 из 20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3648240" cy="323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19 из 205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81360"/>
            <a:ext cx="3926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1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стория возникновения Масленицы уходит своими корнями глубоко в древность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1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773360"/>
            <a:ext cx="4838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599840"/>
            <a:ext cx="348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асленица — это веселые проводы зимы, озаренные радостным ожиданием близкого тепла, весеннего обновления природы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30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38163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то всегда был самый веселый и любимый славянский праздник. Считалось, что человек, плохо и скучно проведший Масленицу, будет неудачлив в течение всего года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37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4200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87640" y="98100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Целую неделю нельзя было помышлять о делах и домашних заботах. Безудержное чревоугодие и веселье рассматривалось как залог будущего благополучия, процветания и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10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92280"/>
            <a:ext cx="3708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Но самое главное - это блины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а 66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62064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57 из 179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7082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371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 - символ солнца. Такой же круглый и горячий. С пылу с жару подаются они на стол. С маслом, со сметаной, с икрой, с грибами - выбирай на любой вкус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17 из 192770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4076640"/>
            <a:ext cx="81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ы имели ритуальное значение: круглые, румяные, горячие, они являли собой символ солнца, которое все ярче разгоралось, удлиняя дн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59 из 4290"/>
          <p:cNvPicPr/>
          <p:nvPr/>
        </p:nvPicPr>
        <p:blipFill>
          <a:blip r:embed="rId1"/>
          <a:stretch/>
        </p:blipFill>
        <p:spPr>
          <a:xfrm>
            <a:off x="2268360" y="47628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Monotype Corsiva"/>
              </a:rPr>
              <a:t>Понедельник – наступает «Встреч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Картинка 23 из 3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24004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06064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встречают масленицу, наряжают куклу- чуч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5:05Z</dcterms:created>
  <dc:creator>User</dc:creator>
  <dc:description/>
  <dc:language>en-US</dc:language>
  <cp:lastModifiedBy>User</cp:lastModifiedBy>
  <dcterms:modified xsi:type="dcterms:W3CDTF">2001-12-31T21:37:08Z</dcterms:modified>
  <cp:revision>5</cp:revision>
  <dc:subject/>
  <dc:title>Масленица.</dc:title>
</cp:coreProperties>
</file>