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73F2-5514-4718-AFB6-8B618723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243D-0CC9-4B73-881A-B10DFDED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CBDB-345B-409A-8450-12E3F18D5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47E8-989F-4281-837E-F673338C2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31A3-CD66-48F4-91A1-2915AB47F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1617-655C-4035-A29C-FC4EA8CB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2434-E93A-410B-8CF5-3BED963F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6EAA-F649-4708-B669-730B72B3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8022-3C0C-4FB7-82F9-989CF86E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62D6-F40E-48B8-A054-F17A9E18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C499-7CDC-4F46-BF2F-849D758A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A8DA-2568-45A2-9E9E-49A89D78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1FCC-7D11-49EE-A204-5B6D963D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0B61-4557-4DD0-A86F-E661ADD1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6E19-B4B4-4F73-9151-318991C1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34BE-34E7-4EC3-A01C-E725C5316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2673-64EF-4F32-90A8-1529BE801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090C-11AE-4E4D-A21C-90BA2934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DD9B-B746-42F5-B6D4-EB783F8F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9A06-C336-4BB0-800D-0C4C1E1D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EA82-216E-49D2-B06B-B838DECD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0292-E426-48E9-9B1F-485E7BAA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131A-A839-494B-AAC3-02DDEE4D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CD2C-212F-45DF-9745-6A5BE4D7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8481-0733-4592-9BFE-5CFE51E848C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0A17-E9FD-4CEC-A3B1-D8765B5FC0CB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azps.ru/articles/cmmn/cmmn82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a/Human_brain_NIH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160" y="1294920"/>
            <a:ext cx="822636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Зависит ли поведение человека от особенностей нервной системы?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Выполнила: Димитрова Ирина 234 групп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ЦЕНТРАЛЬНАЯ НЕРВНАЯ СИСТЕМА</a:t>
            </a:r>
            <a:br>
              <a:rPr sz="3200"/>
            </a:b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(спинной мозг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Расположен в позвоночном канал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Имеет вид тяж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Защищен мягкой, мозговой и паутинной оболочкам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 центре расположено серое вещество, снаружи- бело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33" name="Object 5"/>
          <p:cNvGraphicFramePr/>
          <p:nvPr/>
        </p:nvGraphicFramePr>
        <p:xfrm>
          <a:off x="5900760" y="1676520"/>
          <a:ext cx="1657440" cy="40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0760" y="1676520"/>
                    <a:ext cx="1657440" cy="40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Периферическая нервная система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Включает симпатическую и парасимпатическую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Регулирует работу внутренних органов и обмен веществ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Реагирует на стресс, отвечает за пульс, давление, чувство волнения и выработку адреналина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228600" y="304920"/>
            <a:ext cx="76201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От особенностей нервной системы зависит поведение человека. Выделяют 4 типа нервной системы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сильный безудержный тип, соответствующий холерическому темпераменту, с сильными процессами возбуждения и торможения, но неуравновешенный, с преобладанием возбуждения над торможением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сильный живой тип, соответствующий сангвиническому темпераменту, с сильными нервными процессами, уравновешенный, с хорошей подвижностью, т. е. быстрой сменой возбуждения на торможение и торможения на возбуждение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сильный спокойный тип, соответствующий флегматичному темпераменту, отличается сильными уравновешенными процессами возбуждения и торможения, но малой их подвижностью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слабый тип, соответствующий меланхолическому темпераменту, со слабыми нервными процессами как возбуждения, так и торможения, с низкой работоспособностью клеток коры головного мозг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1295280" y="1598760"/>
            <a:ext cx="65534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Заболевания нервной систем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ервные болезни - заболевания нервной системы, которые могут быть обусловлены органическими (сосудистыми, травматическими, токсическими и пр.) или функциональными (невротическими) расстройствами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оисхождение нервных болезней также может быть связано и с генетическими (наследственными) факторами. Проявляются симптомами выпадения (параличи, утрата чувствительности), раздражения (боли и пр.) и нарушения интегративной функции нервной системы, когда могут преобладать расстройства психик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Заболевания нервной системы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еври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Болезнь Паркинсона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еврастен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Эпилепс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Альцгеймер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914400" y="762120"/>
            <a:ext cx="71629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 заключении можно сказать, что нервная система, является, несомненно, самой сложной из всех систем органов и выполняет ряд сложных функций в организме. Анатомически она состоит из центральной нервной системы (ЦНС) и периферической нервной системы (ПНС). Нервная система влияет на поведение человека, а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ипы высшей нервной деятельности являются основой будущего характер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апин М.Р., Никитюк Д.Б. Анатомия человека. - В 3 томах. - М. - 1998. - Т.3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злов В. И., Цехмистренко Т. А. Анатомия нервной системы. – М. – 2006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://azps.ru/articles/cmmn/cmmn82.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Сформировать представление о строении нервной клетки, об особенностях нервной системы человека.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380880" y="304560"/>
            <a:ext cx="228600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29732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Найти и выучить основные термины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Определить основные функции нервной системы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Изучить отделы нервной системы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Расскрыть основные типы нервной системы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3160" y="91404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eaeaea"/>
                </a:solidFill>
                <a:uFillTx/>
                <a:latin typeface="Arial"/>
              </a:rPr>
              <a:t>НЕРВНАЯ СИСТЕМА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- это совокупность структур в организме животных и человека, объединяющая деятельность всех органов и систем и обеспечивающая функционирование организма как единого целого в его постоянном взаимодействии с внешней средой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Arial"/>
              </a:rPr>
              <a:t>СТРОЕНИЕ НЕЙРО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Picture 4" descr="6555555555555555555"/>
          <p:cNvPicPr/>
          <p:nvPr/>
        </p:nvPicPr>
        <p:blipFill>
          <a:blip r:embed="rId1"/>
          <a:stretch/>
        </p:blipFill>
        <p:spPr>
          <a:xfrm>
            <a:off x="2438280" y="1600200"/>
            <a:ext cx="3990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ФУНКЦИИ НЕРВНОЙ СИСТЕМЫ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лучение, хранение и переработка информации из внешней и внутренней сред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регуляция и координация деятельности всех органов и органных систем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Arial"/>
              </a:rPr>
              <a:t>В нервной системе выделяют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Центральную нервную систему (головной и спинной мозг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ериферическую нервную систему (нервы, ганглии, нервные окончани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ЦЕНТРАЛЬНАЯ НЕРВНАЯ СИСТЕМА</a:t>
            </a:r>
            <a:br>
              <a:rPr sz="3200"/>
            </a:b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(головной мозг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Расположен в полости череп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остоит из 5 отделов: продолговатый мозг, мозжечок, средний мозг, промежуточный мозг и кора больших полушарий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Picture 7" descr="Файл:Human brain NIH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4800600"/>
            <a:ext cx="247032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ЦЕНТРАЛЬНАЯ НЕРВНАЯ СИСТЕМА</a:t>
            </a:r>
            <a:br>
              <a:rPr sz="2800"/>
            </a:b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(головной мозг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838080" y="1676520"/>
            <a:ext cx="7696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Функции головного мозг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1066680" y="2590920"/>
            <a:ext cx="69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лавный центр жизненноважных рефлекс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беспечивает согласованность движени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егулирует обмен веществ и постоянство внутренней сред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онтролирует работу всех орган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09:36:45Z</dcterms:created>
  <dc:creator>user</dc:creator>
  <dc:description/>
  <dc:language>en-US</dc:language>
  <cp:lastModifiedBy>Коля</cp:lastModifiedBy>
  <dcterms:modified xsi:type="dcterms:W3CDTF">2013-05-26T19:36:3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