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603-5AA2-478E-8CA4-68866C09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835-31CE-4C11-9A47-A950894E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DAB-054B-45A7-A673-05DB590C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4D7-2669-4218-BD45-72701E3A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0E66-4869-4C30-8935-CC6D0098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74B6-689E-4EEF-BE83-B160083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7ADB-CC0C-4B5A-AEA5-727D7247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6090-48C9-4A60-8539-73E91D65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1A6-57F2-4B6F-84A9-7D4E3A1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1B71-D9EB-4DA2-8E2D-6F2B001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CEFC-D9F6-4FF4-88B8-521B412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CF5-81CD-439C-BCAF-55F31F8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2465-B7E3-4756-ABBA-81D3423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2E17-413C-4937-916A-305C7B53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3AF6-7B90-40B4-9DA7-D9C33D45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CF89-6750-4FFC-9D33-5E1F1121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23C-6164-4768-9D3F-8289B50D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C4C-CFB9-4882-BC91-11FBB32B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FEA-9C54-402B-8C56-2ACB3E2B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D31-B841-4EFC-995F-2B1BCC65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D496-B36A-47D8-8710-2EEAE4FE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2E1-58B7-43ED-822D-50A84467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AD0-2CDE-4C50-8C37-B176E871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800-DF47-45FC-8CF3-87182B1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49B8-17F4-459A-9D26-5176ACB874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B48D-A03F-4252-A686-5A5C880648B0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zps.ru/articles/cmmn/cmmn82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a/Human_brain_NIH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22636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Зависит ли поведение человека от особенностей нервной системы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Выполнила: Димитрова Ирина 234 групп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спин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звоночном канал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меет вид тяж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щищен мягкой, мозговой и паутинной оболочкам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центре расположено серое вещество, снаружи- бело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5900760" y="1676520"/>
          <a:ext cx="1657440" cy="40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0760" y="1676520"/>
                    <a:ext cx="1657440" cy="40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Периферическая нервная систем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Включает симпатическую и парасимпатическую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гулирует работу внутренних органов и обмен вещест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еагирует на стресс, отвечает за пульс, давление, чувство волнения и выработку адренал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28600" y="304920"/>
            <a:ext cx="7620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т особенностей нервной системы зависит поведение человека. Выделяют 4 типа нервной системы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безудержный тип, соответствующий холерическому темпераменту, с сильными процессами возбуждения и торможения, но неуравновешенный, с преобладанием возбуждения над торможение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живой тип, соответствующий сангвиническому темпераменту, с сильными нервными процессами, уравновешенный, с хорошей подвижностью, т. е. быстрой сменой возбуждения на торможение и торможения на возбуждени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льный спокойный тип, соответствующий флегматичному темпераменту, отличается сильными уравновешенными процессами возбуждения и торможения, но малой их подвижностью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лабый тип, соответствующий меланхолическому темпераменту, со слабыми нервными процессами как возбуждения, так и торможения, с низкой работоспособностью клеток коры головного мозг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295280" y="1598760"/>
            <a:ext cx="65534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ервные болезни - заболевания нервной системы, которые могут быть обусловлены органическими (сосудистыми, травматическими, токсическими и пр.) или функциональными (невротическими) расстройства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исхождение нервных болезней также может быть связано и с генетическими (наследственными) факторами. Проявляются симптомами выпадения (параличи, утрата чувствительности), раздражения (боли и пр.) и нарушения интегративной функции нервной системы, когда могут преобладать расстройства психик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Заболевания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и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езнь Паркинсон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евраст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пилепс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льцгеймер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914400" y="762120"/>
            <a:ext cx="716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заключении можно сказать, что нервная система, является, несомненно, самой сложной из всех систем органов и выполняет ряд сложных функций в организме. Анатомически она состоит из центральной нервной системы (ЦНС) и периферической нервной системы (ПНС). Нервная система влияет на поведение человека, а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ипы высшей нервной деятельности являются основой будущего характер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апин М.Р., Никитюк Д.Б. Анатомия человека. - В 3 томах. - М. - 1998. - Т.3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злов В. И., Цехмистренко Т. А. Анатомия нервной системы. – М. – 2006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zps.ru/articles/cmmn/cmmn82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Сформировать представление о строении нервной клетки, об особенностях нервной системы человека.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29732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Найти и выучить основные термин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Определить основные функции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Изучить отделы нервной систем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Расскрыть основные типы нервной системы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aeaea"/>
                </a:solidFill>
                <a:uFillTx/>
                <a:latin typeface="Arial"/>
              </a:rPr>
              <a:t>НЕРВНАЯ СИСТЕМА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- это совокупность структур в организме животных и человека, объединяющая деятельность всех органов и систем и обеспечивающая функционирование организма как единого целого в его постоянном взаимодействии с внешней средой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СТРОЕНИЕ НЕЙР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6555555555555555555"/>
          <p:cNvPicPr/>
          <p:nvPr/>
        </p:nvPicPr>
        <p:blipFill>
          <a:blip r:embed="rId1"/>
          <a:stretch/>
        </p:blipFill>
        <p:spPr>
          <a:xfrm>
            <a:off x="2438280" y="1600200"/>
            <a:ext cx="399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ФУНКЦИИ НЕРВНОЙ СИСТ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лучение, хранение и переработка информации из внешней и внутренней сре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регуляция и координация деятельности всех органов и органных систе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В нервной системе выделяют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нтральную нервную систему (головной и спинной мозг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иферическую нервную систему (нервы, ганглии, нервные окончан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32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асположен в полости череп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остоит из 5 отделов: продолговатый мозг, мозжечок, средний мозг, промежуточный мозг и кора больших полушарий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7" descr="Файл:Human brain NIH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4800600"/>
            <a:ext cx="2470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ЦЕНТРАЛЬНАЯ НЕРВНАЯ СИСТЕМА</a:t>
            </a:r>
            <a:br>
              <a:rPr sz="2800"/>
            </a:b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(головной мозг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38080" y="16765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Функции головного мозг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066680" y="259092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ый центр жизненноважных рефлек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еспечивает согласованность движен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егулирует обмен веществ и постоянство внутренней сре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онтролирует работу всех орган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9:36:45Z</dcterms:created>
  <dc:creator>user</dc:creator>
  <dc:description/>
  <dc:language>en-US</dc:language>
  <cp:lastModifiedBy>Коля</cp:lastModifiedBy>
  <dcterms:modified xsi:type="dcterms:W3CDTF">2013-05-26T19:36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