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309-D760-4598-80CF-EA30F40D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16B-B63C-4FFF-856B-C5CD664B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F11-F8D6-43D3-9D0F-06DB453F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1FB-348F-4C0D-935B-69C53526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0325-2773-409A-A1A9-ED1BCBE4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132B-17F6-437A-84F2-9658F051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FC9F-6495-48E5-A1C0-2F40DEE8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38B9-1245-461E-989B-B4B71E7F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5BB7-A1B9-476C-8889-1E74982E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9A0F-CC22-4773-88AE-020588E5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AB84-2AE3-4042-8C67-30A9C53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967-0C55-46AD-ABCC-031385D7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2370-3FBE-417E-BD54-41114D23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257B-6FDF-46C3-A9B0-6F8B5186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610A-BC84-42A4-AEDD-E00B331B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28CB-F770-4FA2-B443-DD59CA75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4324-BAEF-44EA-8086-69E8FAE0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7CC-2E82-45BD-BB17-E9488F9E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B32-CC56-4254-8089-CCD05B19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D31-B1EC-4287-A783-6AE85538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CCC-7038-4024-A532-D8DBCFA3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77A-83A5-4067-A9F9-9EACE2EB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28B-F366-4B37-A0E1-32CBDF1F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9AA-1543-4F7D-AA9C-95B63B2D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67BA-3AC6-4DFA-ADFA-FA5DF744DA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8635-8542-4C8F-BE85-3629134F8B39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zps.ru/articles/cmmn/cmmn82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a/Human_brain_NIH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Зависит ли поведение человека от особенностей нервной системы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Выполнила: Димитрова Ирина 234 групп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32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(спин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сположен в позвоночном канал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меет вид тяж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щищен мягкой, мозговой и паутинной оболочкам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центре расположено серое вещество, снаружи- бело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5900760" y="1676520"/>
          <a:ext cx="165744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0760" y="1676520"/>
                    <a:ext cx="165744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Периферическая нервная систем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Включает симпатическую и парасимпатическую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егулирует работу внутренних органов и обмен вещест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еагирует на стресс, отвечает за пульс, давление, чувство волнения и выработку адренал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28600" y="304920"/>
            <a:ext cx="7620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т особенностей нервной системы зависит поведение человека. Выделяют 4 типа нервной систем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льный безудержный тип, соответствующий холерическому темпераменту, с сильными процессами возбуждения и торможения, но неуравновешенный, с преобладанием возбуждения над торможение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льный живой тип, соответствующий сангвиническому темпераменту, с сильными нервными процессами, уравновешенный, с хорошей подвижностью, т. е. быстрой сменой возбуждения на торможение и торможения на возбуждени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льный спокойный тип, соответствующий флегматичному темпераменту, отличается сильными уравновешенными процессами возбуждения и торможения, но малой их подвижностью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лабый тип, соответствующий меланхолическому темпераменту, со слабыми нервными процессами как возбуждения, так и торможения, с низкой работоспособностью клеток коры головного мозг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295280" y="1598760"/>
            <a:ext cx="65534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Заболевания нервной сист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рвные болезни - заболевания нервной системы, которые могут быть обусловлены органическими (сосудистыми, травматическими, токсическими и пр.) или функциональными (невротическими) расстройствам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исхождение нервных болезней также может быть связано и с генетическими (наследственными) факторами. Проявляются симптомами выпадения (параличи, утрата чувствительности), раздражения (боли и пр.) и нарушения интегративной функции нервной системы, когда могут преобладать расстройства психи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Заболевания нервной сист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ври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езнь Паркинсон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враст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пилепс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льцгеймер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914400" y="762120"/>
            <a:ext cx="716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заключении можно сказать, что нервная система, является, несомненно, самой сложной из всех систем органов и выполняет ряд сложных функций в организме. Анатомически она состоит из центральной нервной системы (ЦНС) и периферической нервной системы (ПНС). Нервная система влияет на поведение человека, а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ипы высшей нервной деятельности являются основой будущего характер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апин М.Р., Никитюк Д.Б. Анатомия человека. - В 3 томах. - М. - 1998. - Т.3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злов В. И., Цехмистренко Т. А. Анатомия нервной системы. – М. – 2006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azps.ru/articles/cmmn/cmmn82.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Сформировать представление о строении нервной клетки, об особенностях нервной системы человека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2973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Найти и выучить основные термин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пределить основные функции нервной систем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Изучить отделы нервной систем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асскрыть основные типы нервной системы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aeaea"/>
                </a:solidFill>
                <a:uFillTx/>
                <a:latin typeface="Arial"/>
              </a:rPr>
              <a:t>НЕРВНАЯ СИСТЕМА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- это совокупность структур в организме животных и человека, объединяющая деятельность всех органов и систем и обеспечивающая функционирование организма как единого целого в его постоянном взаимодействии с внешней средой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СТРОЕНИЕ НЕЙР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4" descr="6555555555555555555"/>
          <p:cNvPicPr/>
          <p:nvPr/>
        </p:nvPicPr>
        <p:blipFill>
          <a:blip r:embed="rId1"/>
          <a:stretch/>
        </p:blipFill>
        <p:spPr>
          <a:xfrm>
            <a:off x="2438280" y="1600200"/>
            <a:ext cx="399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ФУНКЦИИ НЕРВНОЙ СИСТ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лучение, хранение и переработка информации из внешней и внутренней сред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егуляция и координация деятельности всех органов и органных систе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В нервной системе выделяю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Центральную нервную систему (головной и спинной мозг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ериферическую нервную систему (нервы, ганглии, нервные окончан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32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(голов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сположен в полости череп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стоит из 5 отделов: продолговатый мозг, мозжечок, средний мозг, промежуточный мозг и кора больших полушари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7" descr="Файл:Human brain NIH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800600"/>
            <a:ext cx="2470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28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(голов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38080" y="1676520"/>
            <a:ext cx="769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ункции головного мозг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0666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лавный центр жизненноважных рефлекс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еспечивает согласованность движ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гулирует обмен веществ и постоянство внутренней сре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нтролирует работу всех орган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9:36:45Z</dcterms:created>
  <dc:creator>user</dc:creator>
  <dc:description/>
  <dc:language>en-US</dc:language>
  <cp:lastModifiedBy>Коля</cp:lastModifiedBy>
  <dcterms:modified xsi:type="dcterms:W3CDTF">2013-05-26T19:36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