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F53-D6C4-4BC6-AA0A-EDCEB46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73A-727F-46F5-B8D8-207B3A20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CC0-8FFC-4017-ADE5-2872862F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018-8939-410B-BC05-B7993B1B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BA74-550B-4B33-BBAD-C8CDA4DB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B13E-DAF8-4E74-B97B-5FA4D01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467F-F14B-4E3F-81EF-27E21D55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AD9-943D-4FE6-8E00-7F7E3C2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85C-7119-4882-A7E2-FC4167A6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E180-509F-4DD6-BB30-5A85C067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EB9-9D53-48C7-99ED-FF077A2A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F2B-17F5-426C-8CA8-0172F01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8ECC-A59B-40B4-9BF3-9087CD5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9CE7-FE12-4888-B399-CBED5EC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A6BC-A585-4A98-A050-389F6D4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7CB-3048-45F0-AE31-00DEFEBE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581-C3FA-4A8A-86A5-D0942444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F765-81C6-4C12-B764-53A72BE1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9883-D75E-40F1-97F5-8485817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CBEA-3B69-4ACD-BEE3-35F8063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F399-F1DE-46E5-A9DF-27A1436C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3FEC-98E5-4922-AA68-070A3FF1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9E0-4133-45B3-9980-35F777D9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BB1B-9B8F-4F8E-A60B-C825141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6BCD-57B8-412A-BF6B-8BA377D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8E00-0E0C-49C9-B1E7-F0580D0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51FC-A18F-4BDF-9303-45A65EF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9DA5-BB5B-4DBA-A244-58EE3EC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DA77-43E0-4B81-8191-BDF1CAFA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9284-6966-4ECE-AF72-F9FF7105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D175C-B892-41EC-A7C3-B7B9797E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3D65-78E3-41C8-9EE0-74DA8F6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A8D4-924D-4E09-82DA-65F7574B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DB4-5431-4569-9C62-9643B63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D2F9-D573-4577-A04D-9005DF4F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5C4E-831C-4258-AC15-1FE81C6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83DC-9D37-460A-9BDA-76155AD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FC15-4662-4C66-9A53-B45A620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8DA5-EDF0-447E-ADCD-46D0407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A41F-EA0B-4BF4-90A1-9B978F3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AC4B-2B9B-4F0A-82F9-7631B952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9AC1-BF13-4E09-A36D-370DECD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8C68-8F92-45B3-A5BF-414749CD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3282-917D-45CC-ADCA-792FB87B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12B-65D6-476E-8BBB-1227E23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56E4-C50D-4B65-AF45-5C1E8F3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946C7-B25F-443B-B76C-272BEF8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40745-0A16-4C40-B960-60C1F1F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FDDB-0E0C-4A90-824B-7EBBCD1D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1539-1333-414A-A831-D3E6753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245A-8D07-4B6B-BD85-B96005F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65F0-4444-46EE-9FD0-3865608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BC22-650A-4BB4-AC91-BAD43BCB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50C3-5001-4CE9-AC5B-D6A49F0E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2F3A-895D-4048-8FEE-AF75AE30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9E2-E799-44C8-9C22-E7204F88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04B42-E79F-43EB-B408-2B863FEB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C8EA-7133-4C39-8C91-E4BBB7F6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7BD8A-9BA3-4677-BED7-1C828F01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56FD2-E585-4FB5-A873-383EB14A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E548-7411-47C0-9914-DC1DDB70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5CF4-67E7-4401-8068-B5D1FE4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5613-934E-454D-BE61-A7C5B54B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74F3-CE90-4661-9ABA-D87725F2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E5B00-B6F5-4023-8CA1-F5CA33C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FD56-056C-43E4-B044-4DF4B20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E25-2FE9-4AD1-8516-656E2E6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B4FA2-0DA7-4110-8D1A-5ED61712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32618-2936-4985-A4E7-028A1637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1C7B-F366-4B71-99DA-2377C305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44B1-2583-4635-88F1-1A6BDE26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355F-DC32-4901-8811-5D889465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01F8D-FE1F-435D-BAE6-ACED888B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589F-18A2-4192-A04F-A874FC8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1398-9D2A-4B3A-94A0-B7C6F10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F8F46-9BA4-449C-943F-F204D21A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341D-E023-4139-9888-1CABB34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3CC-DC6A-4778-AB4F-6A55B198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DC1F9-DCC7-46A4-92EA-B23C43BA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C651-F742-4220-AABA-2D12B4A1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7567-E451-4A8A-AD22-B4E4633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61B8-8BD1-4602-978D-F36CFD8C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329F-9AC0-46FF-9A5D-62C88EB5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285-7C4F-4D32-BCA3-98DB901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9B9-5D6B-4597-847D-2B1FCC96D4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1F64-7C5C-4A84-B32D-89378D5DE6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60F-C3E3-43EF-8106-1E2A94DC8F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E49-BDCC-480F-BC3A-7AA7749373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B784-C4FA-4F25-9EE4-727E8BB910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931C-9023-4A2A-B88A-BA3A194BC9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193-DE16-477E-8485-AF1AB5BBB9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357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енежная систе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овременные денежные системы зарубежных стран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71720" y="11430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ют следующие элемен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единицу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, являющихся законным платежным средство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денежной масс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ссионную систему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аппарат регулирования денеж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он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7172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иссионные операци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ерации по выпуску и изъятию денег из обращения) в государствах осуществля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эмиссионный) банк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начейство (государственный исполнительный орган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гетирование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ие целевых ориентиров с целью регулирования прироста денежной массы в обращение и кредита, которыми должны руководствоваться центральные ба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тме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ального золотого содержания денежных един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монетизацией золот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ход к неразменным на золото кредитным деньгам, немногим отличающимся по своей природе от бумажных денег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хранение в денежном обороте некоторых стран наряду с кредитными деньгами бумажных денег в форме казначейских биле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пуск банкнот в обращение в порядке кредитования хозяйства, государства, а также под прирост официальных золотых и валютных резерв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азвитие и преобладанием в денежном обращении безналичного оборота при одновременном сокращении наличног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силение государственного регулирования денежного обращения в связи с постоянным нарушением основополагающего принципа денежной системы — соответствия количества денег объективным потребностям экономического оборота, которое ведет к инфляционному процесс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 Российской Федер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71640" y="1356840"/>
            <a:ext cx="80294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России функционирует в соответствии с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 Центральном Банке РФ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нке России) от 12 апреля 1995 г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отношение между рублем и золотом или другими драгоценными металлами Законом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установле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ым правом эмиссии наличных денег, организации их обращения и изъятия на территории РФ обладает Банк Росс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ми денег, имеющими законную платежную силу, являются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но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ие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еты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обеспечиваются всеми активами Банка России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цы банкнот и монет утверждаются Банком Росс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Инструменты регулирования экономики Центральным банком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и учетного процента (дисконтная политика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обязательных резервов кредитных учрежд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на открытом рынк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 экономических нормативов для кредитных учреждений и друг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требность в резервных фондах для РФ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реальность обусловлен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ю удовлетворить нужды экономики в наличных деньгах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м денежной массы в обращении в связи с пришедшими в негодность деньгам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ем обязательного покупюрного состава денежной массы в целом по стране и региона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м расходов на перевозку и хранение денежных знак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2640" y="114300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ы эмисс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оминал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бязательности обеспеч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монополии и уникально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безусловной обяза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граниченной обмениваем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авового регулир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Функции Банка России по эмиссии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ирование и организация производства, перевозки и хранения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резервных фондов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ерждение правил хранения, перевозки и инкассации наличных денег для кредитных организац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признаков платежеспособности денежных знаков, порядка замены поврежденных денежных знаков и их уничтож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рядка ведения кассовых операц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лан лекц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современной Ро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29289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55280" y="1000080"/>
            <a:ext cx="8388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ежная система»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элементы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денежной единицы как единицы денежного счета, необходимого для выражения цены товара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 и денежных знаков, находящихся в обращении и являющихся законным платежным средство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эмиссии и характер обеспечения денежных знаков, выпущенных в обращение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егулирования денежного обращ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денежного оборота в стране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ипы денежных системы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вида денег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металлическ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бумажно-кредит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Би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роль всеобщего эквивалента закреплена за государством за двумя металлами (медь и серебро, серебро и золото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двух металлов, их неограниченное обращ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ют две це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в., а в ряде стран Западной Европы и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Моно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один металл выполнял роль всеобщего эквивален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одного металла (золота или серебр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ет одна цена (золотая или серебряна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России 1842-1852 гг. (серебряный), с 1887 г. – золотой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Разновидности золотого монометаллизма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монетный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слитковый</a:t>
            </a: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</a:t>
            </a: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олотодевиз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бумажно-кредитных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ла господствующее положение банкнот, выпускаемых эмиссионным центром стр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4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еттон-Вудская денежная систем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майская денежн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6:49:05Z</dcterms:created>
  <dc:creator>XP GAME 2010</dc:creator>
  <dc:description/>
  <dc:language>en-US</dc:language>
  <cp:lastModifiedBy>ZooM</cp:lastModifiedBy>
  <dcterms:modified xsi:type="dcterms:W3CDTF">2013-12-15T00:26:20Z</dcterms:modified>
  <cp:revision>14</cp:revision>
  <dc:subject/>
  <dc:title>Денежная система.</dc:title>
</cp:coreProperties>
</file>