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4F8-8C0B-46DD-90D8-A9294425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28E3-6EB9-481A-B0B4-A1C7B56B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062-E3B1-4656-B496-88C27595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AD7-0FAD-4079-8769-E9E55361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AFD6-879A-4E72-8C3D-DF3CF20F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10C8-683D-44D8-9832-F9EE7955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E3A5-C3B3-49D2-AC7A-3C008C4C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D506-69D4-4C01-85A2-175D991D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BC0C-D010-44C1-B5AC-6B36152E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C2E1-CC88-4CD2-A65B-24D6C963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E89C-F30A-4EB4-84F3-F16A8E63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925F-8712-4103-A410-7747847A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7C5F-8456-4FD8-A5CB-B9A917F1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C68F-0DB5-465A-80F1-A64C50AE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72A9-FB6A-477F-9A47-B9C06CBC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6C7B-F8F2-4517-8A83-E999765B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A8F3-DB5F-4D7C-9DD6-AA83EF8C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30722-8644-4CD9-AA4B-34BDEE78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6E98B-9678-4718-B7A3-C361A84D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29D05-7937-45F5-A62D-1C8099A8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7171D-1BE8-4BC3-94C5-8358E099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FCE6E-F55E-4738-8C16-676197CC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6DF-BCFC-4999-A0DF-4F1D4A4B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DD481-14E4-4F53-ABBF-F47F2C60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84FFB-47F0-4056-9ED3-DA4D1455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7A867-B138-486C-94DD-2FEDF016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F41C0-34E2-4AFC-9D1F-35E6592A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3D7FE-39F2-415D-A359-7486D67C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F0021-6579-4958-8E3C-20269D07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8C677-635E-467C-B13F-3ECC9A1D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35DC1-1AA3-42BA-9AD1-435E778C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79192-49AE-4A75-A445-752047FA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22855-15F9-4D3F-AD82-CF562F9E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A12-186A-40D0-BC21-F41E66DE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80A37-B9EA-481F-B95F-90F28AFD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A4ACC-768F-451D-8A5B-70E87533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6933D-F22C-476E-9360-46C1A73A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6A31E-A648-478D-9EC8-8BE8B6B4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62AEE-D3A7-49D8-8232-2DBC51DA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392E1-E12F-4461-B5F0-FA43CF6D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11512-D18A-464D-AA46-3357D430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D4D13-08C4-4B01-8A07-B7C9016A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697B9-0766-4D04-AA64-5C851939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14C05-75E8-4446-BC91-51F0D4EB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2E54-1DFC-4C5F-99F3-93253463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AD80F-293C-4EC2-A1E4-0E3340E9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60B81-9B3F-4807-AA9D-FE289B58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621B8-42F0-442A-B13F-FC95814A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E72F8-2888-4A10-B329-E79EED61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9BAC8-1374-4682-B0C5-1E92B877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C8A6D-1CDC-4D5B-844C-47623B6F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F8EA3-17D1-4C80-9523-585DCC56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1991B-6931-4937-93F1-774BAAA4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1993C-F0B4-4DE5-BB72-D86B31D5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2831B-4AA4-43C3-B386-B9499412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332-D353-410F-89DE-01E626A3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EA4F9-7D93-418C-90FE-258F258D4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45041-65F2-4818-885F-F3B944C1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08511-5B87-4A0D-9FD2-1F959020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3894B-7E81-484B-889F-162EF716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4B55A-670B-46F4-B0D3-96914E88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597F9-625C-410A-9B0E-3960898E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81A33-EC57-4D6E-919E-6960F6EB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9AF2E-3E4E-4012-9917-3C75A0EA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D8AA6-F1FD-4A65-B819-39C76B18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B160A-74B3-4FD4-830F-06CC0F63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9F07-A9D6-4B96-82A0-FFE1571E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CE2A9-9080-4052-B91C-8616584D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56EAB-8FC7-4834-BCC0-A434A2D4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B907E-226C-4D4A-B3AD-BACE60ED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957EA-7A8C-4A26-9F54-709701B7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524AD-472D-4A9A-9FD0-1875983B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7A86C-56E7-4D1E-BCDE-8DAC80E2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434AC-D11E-4EE8-8571-2E19E1F8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A9CAB-B6E5-4366-B940-3E97CF15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4211B-61AB-4AE7-BB3B-A46932E2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A139F-B2EE-4DFF-B0AE-80ECBD14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8D6B-9343-4446-ADD1-BE0368B8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90DE4-B42C-4991-B8FF-F21A117F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6BE78-A673-4040-AEFB-080C4C2D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7948B-0120-4612-A90D-1013919C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69889-CF61-4BAB-AF2E-28AAA0C9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1513C-C248-4093-8C5A-D0128A87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22D3-39F7-4AFA-ABE9-0E8730B5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A7FA-AECE-44F3-87CD-80ACCC43495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84DE-05C8-4226-B3AA-02E55ED9EA8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013A-B1C9-4FC8-8EF4-C439D40B127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A01A-6A34-4E3F-9C80-062E4F47390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6E32-B888-43C7-B8C0-54027B1FEC7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5677-4BB9-4808-8F74-716206A7036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62F5-7B7D-458C-A159-333577BBD31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85920" y="235728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енежная систем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Современные денежные системы зарубежных стран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071720" y="1143000"/>
            <a:ext cx="7858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ключают следующие элемент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ежную единицу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штаб це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нег, являющихся законным платежным средством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у денежной массы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иссионную систему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аппарат регулирования денежного обращ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Эмиссионная систем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71720" y="157140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Эмиссионные операции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перации по выпуску и изъятию денег из обращения) в государствах осуществляют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ый (эмиссионный) банк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начейство (государственный исполнительный орган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ргетирование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овление целевых ориентиров с целью регулирования прироста денежной массы в обращение и кредита, которыми должны руководствоваться центральные банки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1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00080" y="274680"/>
            <a:ext cx="8143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Основные черты современной денежной системы зарубежных стран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85880" y="135720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отме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фициального золотого содержания денежных едини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емонетизацией золота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ереход к неразменным на золото кредитным деньгам, немногим отличающимся по своей природе от бумажных денег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охранение в денежном обороте некоторых стран наряду с кредитными деньгами бумажных денег в форме казначейских билетов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ыпуск банкнот в обращение в порядке кредитования хозяйства, государства, а также под прирост официальных золотых и валютных резервов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00080" y="274680"/>
            <a:ext cx="8143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Основные черты современной денежной системы зарубежных стран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85880" y="135720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азвитие и преобладанием в денежном обращении безналичного оборота при одновременном сокращении наличного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усиление государственного регулирования денежного обращения в связи с постоянным нарушением основополагающего принципа денежной системы — соответствия количества денег объективным потребностям экономического оборота, которое ведет к инфляционному процесс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Денежная система Российской Федерации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971640" y="1356840"/>
            <a:ext cx="80294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ежная система России функционирует в соответствии с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законом о Центральном Банке РФ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анке России) от 12 апреля 1995 г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отношение между рублем и золотом или другими драгоценными металлами Законом </a:t>
            </a:r>
            <a:r>
              <a:rPr b="1" lang="ru-RU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 установлено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ительным правом эмиссии наличных денег, организации их обращения и изъятия на территории РФ обладает Банк России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ми денег, имеющими законную платежную силу, являются </a:t>
            </a:r>
            <a:r>
              <a:rPr b="0" i="1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нкнот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ие </a:t>
            </a:r>
            <a:r>
              <a:rPr b="0" i="1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неты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е обеспечиваются всеми активами Банка России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цы банкнот и монет утверждаются Банком России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Инструменты регулирования экономики Центральным банком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700280"/>
            <a:ext cx="7499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ки учетного процента (дисконтная политика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ы обязательных резервов кредитных учрежден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и на открытом рынк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ламентация экономических нормативов для кредитных учреждений и друг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Потребность в резервных фондах для РФ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ая реальность обусловлена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ю удовлетворить нужды экономики в наличных деньгах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лением денежной массы в обращении в связи с пришедшими в негодность деньгами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анием обязательного покупюрного состава денежной массы в целом по стране и регионам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м расходов на перевозку и хранение денежных знаков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Эмисс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142640" y="114300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нципы эмисси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номинал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необязательности обеспечени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монополии и уникальности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безусловной обязательн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неограниченной обмениваем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правового регулиров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Функции Банка России по эмиссии денег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нозирование и организация производства, перевозки и хранения банкнот и монет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резервных фондов банкнот и монеты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тверждение правил хранения, перевозки и инкассации наличных денег для кредитных организаци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тановление признаков платежеспособности денежных знаков, порядка замены поврежденных денежных знаков и их уничтожени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ение порядка ведения кассовых операци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План лекци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и элементы денежной систем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ежная система современной Росс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29289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Понятие и элементы денежной системы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Денежная систем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55280" y="1000080"/>
            <a:ext cx="83883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нежная система»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следующие элементы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денежной единицы как единицы денежного счета, необходимого для выражения цены товара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штаб цен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нег и денежных знаков, находящихся в обращении и являющихся законным платежным средством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эмиссии и характер обеспечения денежных знаков, выпущенных в обращение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регулирования денежного обращения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ю денежного оборота в стране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343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Типы денежных системы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1440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вида денег 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система металлического обращ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система бумажно-кредитного обращ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Система металлического обращения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128592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91a7"/>
                </a:solidFill>
                <a:latin typeface="Corbel"/>
              </a:rPr>
              <a:t>Биметаллиз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нежная система, при которой роль всеобщего эквивалента закреплена за государством за двумя металлами (медь и серебро, серебро и золото)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) свободная чеканка монет из двух металлов, их неограниченное обраще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) действуют две цен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) функционировал в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VI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VIII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в., а в ряде стран Западной Европы и в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IX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Система металлического обращения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128592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91a7"/>
                </a:solidFill>
                <a:latin typeface="Corbel"/>
              </a:rPr>
              <a:t>Монометаллиз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нежная система, при которой один металл выполнял роль всеобщего эквивалент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) свободная чеканка монет из одного металла (золота или серебра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) действует одна цена (золотая или серебряная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) функционировал в России 1842-1852 гг. (серебряный), с 1887 г. – золотой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Разновидности золотого монометаллизма: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золотомонетный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золотослитковый</a:t>
            </a:r>
            <a:r>
              <a:rPr b="0" lang="ru-RU" sz="32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з</a:t>
            </a:r>
            <a:r>
              <a:rPr b="0" lang="ru-RU" sz="35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олотодевиз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ндар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Система бумажно-кредитных денег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1440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ла господствующее положение банкнот, выпускаемых эмиссионным центром стран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4 г.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реттон-Вудская денежная систем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6 г. -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майская денежная систем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6:49:05Z</dcterms:created>
  <dc:creator>XP GAME 2010</dc:creator>
  <dc:description/>
  <dc:language>en-US</dc:language>
  <cp:lastModifiedBy>ZooM</cp:lastModifiedBy>
  <dcterms:modified xsi:type="dcterms:W3CDTF">2013-12-15T00:26:20Z</dcterms:modified>
  <cp:revision>14</cp:revision>
  <dc:subject/>
  <dc:title>Денежная система.</dc:title>
</cp:coreProperties>
</file>