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315-AC2A-4FB8-96D9-214AA086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F87-9298-49FA-B8A0-EA6F7A13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212-9831-4E4C-B598-B04F5F89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A65-B31F-476A-AE80-3D6EF73A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2E15-E6D1-4B65-A1DF-B2703287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B815-DF19-4257-8979-5FF40669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F843-1E91-4100-B99F-56461210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38F5-4BCA-4B9D-9C15-F3EA1DA6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7ED5-E693-4457-8B35-0B1F78C9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8433-9A0F-4847-A699-5E1C68B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09E9-BDE8-4473-97E1-19496DFE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504-5E4B-4980-9B97-39772C12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36CE-8B92-4F7F-88DE-3889B3D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00E2-5C99-47D2-B456-638611E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FD1D-2BF2-4288-8F9F-A2CF9642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947B-13C7-4DD6-97C9-1B8B13EB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9FB2-89ED-4102-BCCE-E907921F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626E-DA5B-4AA0-A0B3-9A89FA55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CDB0-716A-40E7-8980-75C6ECBD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E665-E595-4B76-98FA-246CFB5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2619-7989-4600-B80C-8F7B35F5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60CA-A2E7-4F29-8453-AB12A96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882-BEC8-4532-AD17-8FFFB278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5CF9-8807-4124-B01F-6F6E9665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1C89C-F671-47BC-A6A6-220C2C47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57C30-8DD8-4106-BF24-F0F9DAD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1D42-DD1E-44C1-99E1-0FF77A8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FAD9-5B37-48CA-88F9-0AAA6B89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BDD5-5FF5-4D30-9FDA-32811CC8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122D-81C0-4107-AEDF-6966681A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35A45-353A-46E3-9177-4B9455D8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2C079-B466-44AB-A25E-A9BB2F2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4193-E45E-485D-8ECA-5C27B5C1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0BB-3E4D-4A72-BC4F-B0125E2D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EE4D-9A25-4562-976B-A5FBA25A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E67A-AD5E-4414-B821-EFEE5EA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B5866-C282-4277-8E26-7975B37F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7207C-EF83-4CB1-8E6A-1556714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7706-FD42-43C6-B321-48678DB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C582-D799-4BD3-981A-2DBA7110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0D4E-EC31-4601-9B8E-57DB4D0B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C1F5-BCDE-48D6-B979-81946E7D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0D0C-F964-4566-9F45-163D564E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64548-BA59-4B80-B784-079FEC35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682-6884-49AB-AD50-A14818BE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A091-90DE-473E-A37E-8746DCB8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B8FC-444E-48C9-A1B2-24BDB6C3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7C6E0-FFEE-4B17-A332-695F77D2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4A84-6878-4BBC-8DE7-2A5E5673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DD52-3BF9-477D-815F-CC723631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782FC-65FF-4826-9E61-31BFDF06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74DC-FFE3-40F2-8188-0F72AECF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F73D6-8ED3-4C47-AEA8-96F90A94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3B4DB-E495-4ABA-893B-8DB3F108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502B8-3B4B-4A65-B32E-C82D130D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424-E928-4FBD-B834-1623387D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13C99-8567-49A8-BBAB-EC434EEF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CD73C-265A-442E-B817-C7337C3E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A382F-4ADD-4456-B228-38FF2819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B21D3-60B2-4DE9-99FF-EE7DA588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D2766-0400-43BD-B43D-299666C8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72D36-8565-453F-95A0-01BFD0D2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E9F1-593E-45F5-9B23-150D2763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87A1-889F-4B1F-80AF-751EF1FE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887E0-28AD-412E-A4F4-AAF69218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4DD8D-1DA7-4D35-A388-C5DDBD55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247-ED58-4E59-A0D2-B8FF336B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0A94D-7EF7-48CB-AD97-FDC0B0DC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5492-141F-45A0-B468-DDC23F67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A83B3-ABD3-459B-B532-B78A11FA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38F4-2B14-404D-BA57-A285F445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328C1-D5DD-4026-AB49-EBEEF0CD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4B4CA-FB29-4FAB-985E-CACDE4B5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79C71-116E-4F20-88E6-A663E432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6E317-DFCD-486F-9E4A-8BD9FFFE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8A4A8-FA4C-480C-A0E3-C3F5F763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E4542-EC5A-468C-ACFC-DDA04EAD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D7F-5E2B-4D31-B5F6-2331CCE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272EB-5A6D-4365-92FF-A46D712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5A423-2E5D-478D-8D3D-545EBB0C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5E86-A748-4AC0-A8DC-369577C1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C1293-2C8B-46D0-930B-0A11CDAF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1B299-1D17-4DEC-AE05-C4F69978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D08-7561-417F-AF6D-16B8AB9B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46CD-3A4F-4AA1-ACC8-80F14DD8E3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F76-C605-4413-B6A8-D6A1F7F813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EB01-F7EC-4FB8-A222-0C40AD2E25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6376-515A-4062-8633-DE8BC38C78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C6F2-2B07-48ED-94C7-1E14661A8F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1099-34CA-41A1-84C1-71A1096360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5062-66B3-487C-AA2B-FC6085560B0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23572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енежная систе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овременные денежные системы зарубежных стран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71720" y="11430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ют следующие элемент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ую единицу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 це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нег, являющихся законным платежным средством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денежной масс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иссионную систему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аппарат регулирования денежного обра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Эмиссионная систем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71720" y="157140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миссионные операци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ерации по выпуску и изъятию денег из обращения) в государствах осуществляют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эмиссионный) банк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начейство (государственный исполнительный орган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гетирование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ие целевых ориентиров с целью регулирования прироста денежной массы в обращение и кредита, которыми должны руководствоваться центральные бан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8143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Основные черты современной денежной системы зарубежных стран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8588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тме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ициального золотого содержания денежных един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монетизацией золот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ход к неразменным на золото кредитным деньгам, немногим отличающимся по своей природе от бумажных денег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хранение в денежном обороте некоторых стран наряду с кредитными деньгами бумажных денег в форме казначейских билет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ыпуск банкнот в обращение в порядке кредитования хозяйства, государства, а также под прирост официальных золотых и валютных резерв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8143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Основные черты современной денежной системы зарубежных стран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азвитие и преобладанием в денежном обращении безналичного оборота при одновременном сокращении наличного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силение государственного регулирования денежного обращения в связи с постоянным нарушением основополагающего принципа денежной системы — соответствия количества денег объективным потребностям экономического оборота, которое ведет к инфляционному процесс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Денежная система Российской Федераци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71640" y="1356840"/>
            <a:ext cx="80294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ая система России функционирует в соответствии с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о Центральном Банке РФ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нке России) от 12 апреля 1995 г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отношение между рублем и золотом или другими драгоценными металлами Законом </a:t>
            </a:r>
            <a:r>
              <a:rPr b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установлено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ым правом эмиссии наличных денег, организации их обращения и изъятия на территории РФ обладает Банк Росси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ми денег, имеющими законную платежную силу, являются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нкно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ие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еты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обеспечиваются всеми активами Банка России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цы банкнот и монет утверждаются Банком Росси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Инструменты регулирования экономики Центральным банком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и учетного процента (дисконтная политика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ы обязательных резервов кредитных учрежден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на открытом рынк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ация экономических нормативов для кредитных учреждений и друг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отребность в резервных фондах для РФ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ая реальность обусловлен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ю удовлетворить нужды экономики в наличных деньгах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м денежной массы в обращении в связи с пришедшими в негодность деньгам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анием обязательного покупюрного состава денежной массы в целом по стране и регионам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м расходов на перевозку и хранение денежных знако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Эмисс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42640" y="114300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ы эмисс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номинал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необязательности обеспече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монополии и уникальност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безусловной обязатель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неограниченной обмениваем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авового регулир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Функции Банка России по эмиссии денег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ирование и организация производства, перевозки и хранения банкнот и монет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резервных фондов банкнот и монет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верждение правил хранения, перевозки и инкассации наличных денег для кредитных организац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ление признаков платежеспособности денежных знаков, порядка замены поврежденных денежных знаков и их уничтоже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порядка ведения кассовых операц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лан лекци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элементы денежной систем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ая система современной Росс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29289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онятие и элементы денежной систем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Денежная систем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55280" y="1000080"/>
            <a:ext cx="83883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нежная система»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следующие элементы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денежной единицы как единицы денежного счета, необходимого для выражения цены товара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 цен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нег и денежных знаков, находящихся в обращении и являющихся законным платежным средством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эмиссии и характер обеспечения денежных знаков, выпущенных в обращение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регулирования денежного обращения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денежного оборота в стране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Типы денежных системы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вида денег 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система металлического обра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система бумажно-кредитного обра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истема металлического обращ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128592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91a7"/>
                </a:solidFill>
                <a:latin typeface="Corbel"/>
              </a:rPr>
              <a:t>Биметаллиз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нежная система, при которой роль всеобщего эквивалента закреплена за государством за двумя металлами (медь и серебро, серебро и золото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свободная чеканка монет из двух металлов, их неограниченное обращ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действуют две цен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функционировал 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VI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в., а в ряде стран Западной Европы и 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истема металлического обращ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128592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91a7"/>
                </a:solidFill>
                <a:latin typeface="Corbel"/>
              </a:rPr>
              <a:t>Монометаллиз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нежная система, при которой один металл выполнял роль всеобщего эквивален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свободная чеканка монет из одного металла (золота или серебра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действует одна цена (золотая или серебряна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функционировал в России 1842-1852 гг. (серебряный), с 1887 г. – золотой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Разновидности золотого монометаллизма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золотомонетный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золотослитковый</a:t>
            </a: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з</a:t>
            </a:r>
            <a:r>
              <a:rPr b="0" lang="ru-RU" sz="35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олотодевиз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истема бумажно-кредитных денег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ла господствующее положение банкнот, выпускаемых эмиссионным центром стра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4 г.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еттон-Вудская денежная систем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6 г.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майская денежная систем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6:49:05Z</dcterms:created>
  <dc:creator>XP GAME 2010</dc:creator>
  <dc:description/>
  <dc:language>en-US</dc:language>
  <cp:lastModifiedBy>ZooM</cp:lastModifiedBy>
  <dcterms:modified xsi:type="dcterms:W3CDTF">2013-12-15T00:26:20Z</dcterms:modified>
  <cp:revision>14</cp:revision>
  <dc:subject/>
  <dc:title>Денежная система.</dc:title>
</cp:coreProperties>
</file>