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FE0-45DA-4B10-AF2E-4BC2AE2D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812-D01C-41A8-A755-F256D42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6BF-086B-49AC-84D0-8AEBD525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CC-B526-4AA1-8C09-4B5358A6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A835-5E72-42C4-AAB5-303B8830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877-BA5B-49ED-9D98-20819EE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D36-C10A-44AB-81C2-57E1BE0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B63-6FE7-4CF0-84FC-A3A4A5D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17D1-D875-4EC5-902B-DFA18EE2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A774-8B1A-4793-9488-0442AB24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386A-8F17-4E29-A27C-D05BBE1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9C6-4C71-4AF3-B12E-428C348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3F2-7989-42FF-BC51-617FB79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AC08-39AA-41CE-AF4E-AA2E70D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1E6C-06D2-4170-8AB5-ED1B547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80AD-4CF3-4421-A5A7-C5613415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0B1-246A-4C32-AB42-9FC8ECAF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D70-E398-496C-8A7F-F0C8FB5E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EA3-FE3B-4817-99CC-A806A448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445-6ABD-40AF-9FD4-8F76229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F6E-8255-44E2-9ABE-87142797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22B-8E83-45A3-89E2-7EF9DCB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F51-F350-43FB-B088-7782C83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FD3-270C-4ADC-8195-FE8BE62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9C7B-0304-4B3D-9D89-ECB1978B5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66B8-0983-444A-A701-2911A8AEA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?title=&#1042;&#1099;&#1088;&#1072;&#1078;&#1077;&#1085;&#1080;&#1077;_%28&#1074;_&#1084;&#1072;&#1090;&#1077;&#1084;&#1072;&#1090;&#1080;&#1082;&#1077;%29&amp;action=edi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99cc00"/>
                </a:solidFill>
                <a:uFillTx/>
                <a:latin typeface="Arial Black"/>
              </a:rPr>
              <a:t>Функция и не функция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я – это зависимость, при которой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каждо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ю одного множества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оответствует единствен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е другого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307800">
            <a:off x="6084720" y="364500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76360" y="37148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-3х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-5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е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05000"/>
                </a:solidFill>
                <a:uFillTx/>
                <a:latin typeface="Arial Black"/>
              </a:rPr>
              <a:t>Способы задания функци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описать сло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форм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граф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таб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            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Формул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-вид математического 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выражен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записанное условными математическими символами правило совершения действий над математическими величинами или иными объектами для получения результата. Формулой можно выразить как общее положение в математике или иной точной науке, так и решение некоей частной задачи. Формула обеспечивает краткость и ясность выражения и простоту приме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4653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7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3х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</a:t>
            </a:r>
            <a:r>
              <a:rPr b="1" i="1" lang="en-US" sz="4400" spc="-1" strike="noStrike" u="sng">
                <a:solidFill>
                  <a:srgbClr val="008000"/>
                </a:solidFill>
                <a:uFillTx/>
                <a:latin typeface="Arial Black"/>
              </a:rPr>
              <a:t>Графи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к – множество точек, изображающих зависимость  двух вели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39400">
            <a:off x="5508360" y="3284640"/>
            <a:ext cx="29988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888880" y="4242960"/>
            <a:ext cx="2097000" cy="1164960"/>
            <a:chOff x="5888880" y="4242960"/>
            <a:chExt cx="2097000" cy="1164960"/>
          </a:xfrm>
        </p:grpSpPr>
        <p:sp>
          <p:nvSpPr>
            <p:cNvPr id="111" name=""/>
            <p:cNvSpPr/>
            <p:nvPr/>
          </p:nvSpPr>
          <p:spPr>
            <a:xfrm>
              <a:off x="5888880" y="4242960"/>
              <a:ext cx="209700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21168000">
            <a:off x="1619280" y="349992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59640" y="3644280"/>
            <a:ext cx="80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Таблиц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61356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Таблица- сведения о чем-нибудь расположенные по граф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4040" y="3408480"/>
            <a:ext cx="13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-3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19640" y="4724280"/>
          <a:ext cx="3926880" cy="1523520"/>
        </p:xfrm>
        <a:graphic>
          <a:graphicData uri="http://schemas.openxmlformats.org/drawingml/2006/table">
            <a:tbl>
              <a:tblPr/>
              <a:tblGrid>
                <a:gridCol w="785160"/>
                <a:gridCol w="785520"/>
                <a:gridCol w="785520"/>
                <a:gridCol w="785520"/>
                <a:gridCol w="7851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716 -0.68843 C -0.52692 -0.67361 -0.49931 -0.68773 -0.48369 -0.69005 C -0.47049 -0.68958 -0.4573 -0.6912 -0.44428 -0.68843 C -0.44167 -0.68796 -0.43838 -0.68056 -0.43838 -0.68056 C -0.4356 -0.66991 -0.4356 -0.66481 -0.44081 -0.65579 C -0.44515 -0.63449 -0.45227 -0.61505 -0.45938 -0.59537 C -0.46928 -0.56806 -0.47779 -0.53773 -0.48369 -0.50856 C -0.48525 -0.49028 -0.48786 -0.47245 -0.48977 -0.4544 C -0.48855 -0.43565 -0.4915 -0.41574 -0.48612 -0.39838 C -0.47813 -0.37199 -0.45504 -0.36227 -0.43612 -0.35972 C -0.41702 -0.36227 -0.3948 -0.36273 -0.37674 -0.37523 C -0.37258 -0.37847 -0.36928 -0.3831 -0.36511 -0.38611 C -0.36112 -0.38912 -0.35661 -0.38981 -0.35244 -0.39259 C -0.32779 -0.4081 -0.30348 -0.43148 -0.27553 -0.43565 C -0.24237 -0.43333 -0.21911 -0.43796 -0.20244 -0.4 C -0.19602 -0.36667 -0.2224 -0.34213 -0.23716 -0.32106 C -0.24029 -0.31667 -0.24202 -0.31088 -0.24549 -0.30694 C -0.26147 -0.2875 -0.28161 -0.27268 -0.29897 -0.25579 C -0.30244 -0.25231 -0.30765 -0.25231 -0.31164 -0.24954 C -0.32536 -0.24051 -0.33647 -0.22847 -0.34775 -0.21551 C -0.35174 -0.20463 -0.35452 -0.19606 -0.35695 -0.18449 C -0.35643 -0.17315 -0.35626 -0.16157 -0.3547 -0.15046 C -0.35053 -0.11736 -0.32171 -0.10023 -0.30018 -0.09468 C -0.27553 -0.09768 -0.25331 -0.10116 -0.22935 -0.10694 C -0.19428 -0.13009 -0.15817 -0.15046 -0.12327 -0.17361 C -0.08716 -0.19768 -0.04445 -0.23333 -0.00348 -0.24028 C 0.01301 -0.23912 0.01458 -0.24398 0.02447 -0.23403 C 0.02916 -0.22917 0.03836 -0.21852 0.03836 -0.21852 C 0.04374 -0.20393 0.04878 -0.18935 0.05208 -0.17361 C 0.05138 -0.15972 0.05155 -0.1456 0.04982 -0.13171 C 0.04947 -0.1294 0.04721 -0.12801 0.04635 -0.12569 C 0.04513 -0.12268 0.04513 -0.11898 0.04409 -0.1162 C 0.04096 -0.10903 0.03037 -0.09375 0.02551 -0.08704 C 0.02517 -0.08472 0.02534 -0.08241 0.02447 -0.08056 C 0.02256 -0.07685 0.01893 -0.07523 0.01735 -0.0713 C 0.01458 -0.06435 0.01041 -0.05833 0.00798 -0.05139 C 0.00485 -0.04143 0.00346 -0.03056 0.00121 -0.02014 C 0.00086 -0.01343 -6.38889E-006 2.96296E-006 -6.38889E-006 2.96296E-006 E">
                                      <p:cBhvr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 </a:t>
            </a:r>
            <a:r>
              <a:rPr b="1" i="1" lang="en-US" sz="4400" spc="-1" strike="noStrike" u="sng">
                <a:solidFill>
                  <a:srgbClr val="cc6600"/>
                </a:solidFill>
                <a:uFillTx/>
                <a:latin typeface="Arial Black"/>
              </a:rPr>
              <a:t>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5716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3080" y="1483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800360" cy="154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1873080" cy="140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0872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647040" y="3213000"/>
            <a:ext cx="2496960" cy="151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11280" y="4365720"/>
            <a:ext cx="1857240" cy="2334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789920" y="1647360"/>
            <a:ext cx="5343480" cy="3908520"/>
            <a:chOff x="1789920" y="1647360"/>
            <a:chExt cx="5343480" cy="3908520"/>
          </a:xfrm>
        </p:grpSpPr>
        <p:sp>
          <p:nvSpPr>
            <p:cNvPr id="127" name=""/>
            <p:cNvSpPr/>
            <p:nvPr/>
          </p:nvSpPr>
          <p:spPr>
            <a:xfrm>
              <a:off x="1789920" y="1647360"/>
              <a:ext cx="5343480" cy="39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82560" y="3696480"/>
            <a:ext cx="4178520" cy="2484000"/>
            <a:chOff x="2482560" y="3696480"/>
            <a:chExt cx="4178520" cy="2484000"/>
          </a:xfrm>
        </p:grpSpPr>
        <p:sp>
          <p:nvSpPr>
            <p:cNvPr id="129" name=""/>
            <p:cNvSpPr/>
            <p:nvPr/>
          </p:nvSpPr>
          <p:spPr>
            <a:xfrm flipV="1">
              <a:off x="2482560" y="3696480"/>
              <a:ext cx="4178520" cy="24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528280" y="1784880"/>
            <a:ext cx="4806360" cy="2206080"/>
            <a:chOff x="2528280" y="1784880"/>
            <a:chExt cx="4806360" cy="2206080"/>
          </a:xfrm>
        </p:grpSpPr>
        <p:sp>
          <p:nvSpPr>
            <p:cNvPr id="131" name=""/>
            <p:cNvSpPr/>
            <p:nvPr/>
          </p:nvSpPr>
          <p:spPr>
            <a:xfrm flipV="1">
              <a:off x="2528280" y="1784880"/>
              <a:ext cx="4806360" cy="22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Не 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бачев                                                 Та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ников                                              П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кина                                                Над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овская                                               С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тынова                                             В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1628640"/>
            <a:ext cx="47530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1628640"/>
            <a:ext cx="475164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284640"/>
            <a:ext cx="475308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421000"/>
            <a:ext cx="4608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8360" y="1557360"/>
            <a:ext cx="468000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11280" y="3284640"/>
            <a:ext cx="44658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i="1" lang="en-US" sz="4400" spc="-1" strike="noStrike" u="sng">
                <a:solidFill>
                  <a:srgbClr val="0066ff"/>
                </a:solidFill>
                <a:uFillTx/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6160" y="2349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Презентацию представи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Танаева Маргар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Макарцева Крист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8:24:57Z</dcterms:created>
  <dc:creator>Komp</dc:creator>
  <dc:description/>
  <dc:language>en-US</dc:language>
  <cp:lastModifiedBy>Komp</cp:lastModifiedBy>
  <dcterms:modified xsi:type="dcterms:W3CDTF">2009-03-18T10:25:00Z</dcterms:modified>
  <cp:revision>4</cp:revision>
  <dc:subject/>
  <dc:title>Функция и не функция</dc:title>
</cp:coreProperties>
</file>