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B0B3-B72E-4EAD-9463-ECA2BFD1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6224-A86C-49B2-B929-9E7EA47F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4982-0A3A-4C12-A655-072C0337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A23-D247-4569-8526-113D69A7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6FA2-F99F-476B-A393-41850422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2165-AD59-4884-97A9-0B0F83B8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6C7B-5B24-449E-86FA-84CD7707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FC53-771B-43DD-A29F-29D8FEBA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2E6E-C544-4147-9CF1-3FCD28DC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A6E7-801B-43AA-85C0-9F30B21D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80CB-5991-4AF8-AAC7-D3F4B381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769A-176E-4349-9014-70142808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B621-EA56-4A8F-8F2D-54546DC5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D386-2668-4F56-BE3A-E8EDE446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0448-2976-4676-A7F7-22E7E2F5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4889-5675-4F47-9F03-8144A736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8664-ACE2-44B8-B356-F1DD650E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214-AC1F-4F48-8454-5D2B62C3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CF5F-D4F6-4462-998F-41CB99E7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B04-9C0F-4072-83EB-D98168C9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57A-8F2E-4730-8DD7-0EFB63D6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520-5603-4B32-AFC2-09627527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030-5B08-4190-91D9-B0816911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5E8-1BF4-470E-AA54-FA032D49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2F18-E0C1-4CF5-ABED-E0E248F0D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1913-FB59-4B71-B1C4-5A27BFD7B1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ikiznanie.ru/ru-wz/index.php?title=&#1042;&#1099;&#1088;&#1072;&#1078;&#1077;&#1085;&#1080;&#1077;_%28&#1074;_&#1084;&#1072;&#1090;&#1077;&#1084;&#1072;&#1090;&#1080;&#1082;&#1077;%29&amp;action=edit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99cc00"/>
                </a:solidFill>
                <a:uFillTx/>
                <a:latin typeface="Arial Black"/>
              </a:rPr>
              <a:t>Функция и не функция</a:t>
            </a:r>
            <a:endParaRPr b="1" lang="en-US" sz="48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кция – это зависимость, при которой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каждом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начению одного множества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соответствует единствен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начение другого множ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 rot="307800">
            <a:off x="6084720" y="3645000"/>
            <a:ext cx="2735280" cy="2735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76360" y="3714840"/>
            <a:ext cx="31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=2х+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=-3х+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=2-5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независимая пе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зависимая перем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5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5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05000"/>
                </a:solidFill>
                <a:uFillTx/>
                <a:latin typeface="Arial Black"/>
              </a:rPr>
              <a:t>Способы задания функци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описать слов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форму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граф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табл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 Black"/>
              </a:rPr>
              <a:t>            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Arial Black"/>
              </a:rPr>
              <a:t>Формула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ула-вид математического </a:t>
            </a: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выражения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записанное условными математическими символами правило совершения действий над математическими величинами или иными объектами для получения результата. Формулой можно выразить как общее положение в математике или иной точной науке, так и решение некоей частной задачи. Формула обеспечивает краткость и ясность выражения и простоту примен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4653000"/>
            <a:ext cx="33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мер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=2х+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=7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=3х-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              </a:t>
            </a:r>
            <a:r>
              <a:rPr b="1" i="1" lang="en-US" sz="4400" spc="-1" strike="noStrike" u="sng">
                <a:solidFill>
                  <a:srgbClr val="008000"/>
                </a:solidFill>
                <a:uFillTx/>
                <a:latin typeface="Arial Black"/>
              </a:rPr>
              <a:t>Графи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афик – множество точек, изображающих зависимость  двух величи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rot="239400">
            <a:off x="5508360" y="3284640"/>
            <a:ext cx="2998800" cy="309564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5888880" y="4242960"/>
            <a:ext cx="2097000" cy="1164960"/>
            <a:chOff x="5888880" y="4242960"/>
            <a:chExt cx="2097000" cy="1164960"/>
          </a:xfrm>
        </p:grpSpPr>
        <p:sp>
          <p:nvSpPr>
            <p:cNvPr id="111" name=""/>
            <p:cNvSpPr/>
            <p:nvPr/>
          </p:nvSpPr>
          <p:spPr>
            <a:xfrm>
              <a:off x="5888880" y="4242960"/>
              <a:ext cx="2097000" cy="11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21168000">
            <a:off x="1619280" y="3499920"/>
            <a:ext cx="273672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659640" y="3644280"/>
            <a:ext cx="80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036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 Black"/>
              </a:rPr>
              <a:t>Таблица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661356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Таблица- сведения о чем-нибудь расположенные по граф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4040" y="3408480"/>
            <a:ext cx="13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=2-3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419640" y="4724280"/>
          <a:ext cx="3926880" cy="1523520"/>
        </p:xfrm>
        <a:graphic>
          <a:graphicData uri="http://schemas.openxmlformats.org/drawingml/2006/table">
            <a:tbl>
              <a:tblPr/>
              <a:tblGrid>
                <a:gridCol w="785160"/>
                <a:gridCol w="785520"/>
                <a:gridCol w="785520"/>
                <a:gridCol w="785520"/>
                <a:gridCol w="785160"/>
              </a:tblGrid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8300"/>
                                      </p:to>
                                    </p:animClr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28300"/>
                                      </p:to>
                                    </p:animClr>
                                    <p:set>
                                      <p:cBhvr>
                                        <p:cTn id="228" dur="1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716 -0.68843 C -0.52692 -0.67361 -0.49931 -0.68773 -0.48369 -0.69005 C -0.47049 -0.68958 -0.4573 -0.6912 -0.44428 -0.68843 C -0.44167 -0.68796 -0.43838 -0.68056 -0.43838 -0.68056 C -0.4356 -0.66991 -0.4356 -0.66481 -0.44081 -0.65579 C -0.44515 -0.63449 -0.45227 -0.61505 -0.45938 -0.59537 C -0.46928 -0.56806 -0.47779 -0.53773 -0.48369 -0.50856 C -0.48525 -0.49028 -0.48786 -0.47245 -0.48977 -0.4544 C -0.48855 -0.43565 -0.4915 -0.41574 -0.48612 -0.39838 C -0.47813 -0.37199 -0.45504 -0.36227 -0.43612 -0.35972 C -0.41702 -0.36227 -0.3948 -0.36273 -0.37674 -0.37523 C -0.37258 -0.37847 -0.36928 -0.3831 -0.36511 -0.38611 C -0.36112 -0.38912 -0.35661 -0.38981 -0.35244 -0.39259 C -0.32779 -0.4081 -0.30348 -0.43148 -0.27553 -0.43565 C -0.24237 -0.43333 -0.21911 -0.43796 -0.20244 -0.4 C -0.19602 -0.36667 -0.2224 -0.34213 -0.23716 -0.32106 C -0.24029 -0.31667 -0.24202 -0.31088 -0.24549 -0.30694 C -0.26147 -0.2875 -0.28161 -0.27268 -0.29897 -0.25579 C -0.30244 -0.25231 -0.30765 -0.25231 -0.31164 -0.24954 C -0.32536 -0.24051 -0.33647 -0.22847 -0.34775 -0.21551 C -0.35174 -0.20463 -0.35452 -0.19606 -0.35695 -0.18449 C -0.35643 -0.17315 -0.35626 -0.16157 -0.3547 -0.15046 C -0.35053 -0.11736 -0.32171 -0.10023 -0.30018 -0.09468 C -0.27553 -0.09768 -0.25331 -0.10116 -0.22935 -0.10694 C -0.19428 -0.13009 -0.15817 -0.15046 -0.12327 -0.17361 C -0.08716 -0.19768 -0.04445 -0.23333 -0.00348 -0.24028 C 0.01301 -0.23912 0.01458 -0.24398 0.02447 -0.23403 C 0.02916 -0.22917 0.03836 -0.21852 0.03836 -0.21852 C 0.04374 -0.20393 0.04878 -0.18935 0.05208 -0.17361 C 0.05138 -0.15972 0.05155 -0.1456 0.04982 -0.13171 C 0.04947 -0.1294 0.04721 -0.12801 0.04635 -0.12569 C 0.04513 -0.12268 0.04513 -0.11898 0.04409 -0.1162 C 0.04096 -0.10903 0.03037 -0.09375 0.02551 -0.08704 C 0.02517 -0.08472 0.02534 -0.08241 0.02447 -0.08056 C 0.02256 -0.07685 0.01893 -0.07523 0.01735 -0.0713 C 0.01458 -0.06435 0.01041 -0.05833 0.00798 -0.05139 C 0.00485 -0.04143 0.00346 -0.03056 0.00121 -0.02014 C 0.00086 -0.01343 -6.38889E-006 2.96296E-006 -6.38889E-006 2.96296E-006 E">
                                      <p:cBhvr>
                                        <p:cTn id="25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               </a:t>
            </a:r>
            <a:r>
              <a:rPr b="1" i="1" lang="en-US" sz="4400" spc="-1" strike="noStrike" u="sng">
                <a:solidFill>
                  <a:srgbClr val="cc6600"/>
                </a:solidFill>
                <a:uFillTx/>
                <a:latin typeface="Arial Black"/>
              </a:rPr>
              <a:t>Функц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571680" cy="1800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33080" y="14835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164360" y="5084640"/>
            <a:ext cx="1800360" cy="1540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84360" y="2852640"/>
            <a:ext cx="1873080" cy="1401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308720" y="1268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647040" y="3213000"/>
            <a:ext cx="2496960" cy="1511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11280" y="4365720"/>
            <a:ext cx="1857240" cy="233496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1789920" y="1647360"/>
            <a:ext cx="5343480" cy="3908520"/>
            <a:chOff x="1789920" y="1647360"/>
            <a:chExt cx="5343480" cy="3908520"/>
          </a:xfrm>
        </p:grpSpPr>
        <p:sp>
          <p:nvSpPr>
            <p:cNvPr id="127" name=""/>
            <p:cNvSpPr/>
            <p:nvPr/>
          </p:nvSpPr>
          <p:spPr>
            <a:xfrm>
              <a:off x="1789920" y="1647360"/>
              <a:ext cx="5343480" cy="39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482560" y="3696480"/>
            <a:ext cx="4178520" cy="2484000"/>
            <a:chOff x="2482560" y="3696480"/>
            <a:chExt cx="4178520" cy="2484000"/>
          </a:xfrm>
        </p:grpSpPr>
        <p:sp>
          <p:nvSpPr>
            <p:cNvPr id="129" name=""/>
            <p:cNvSpPr/>
            <p:nvPr/>
          </p:nvSpPr>
          <p:spPr>
            <a:xfrm flipV="1">
              <a:off x="2482560" y="3696480"/>
              <a:ext cx="4178520" cy="24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528280" y="1784880"/>
            <a:ext cx="4806360" cy="2206080"/>
            <a:chOff x="2528280" y="1784880"/>
            <a:chExt cx="4806360" cy="2206080"/>
          </a:xfrm>
        </p:grpSpPr>
        <p:sp>
          <p:nvSpPr>
            <p:cNvPr id="131" name=""/>
            <p:cNvSpPr/>
            <p:nvPr/>
          </p:nvSpPr>
          <p:spPr>
            <a:xfrm flipV="1">
              <a:off x="2528280" y="1784880"/>
              <a:ext cx="4806360" cy="220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         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 Black"/>
              </a:rPr>
              <a:t>Не функц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бачев                                                 Та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ников                                              Па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кина                                                Над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ловская                                               Са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тынова                                             Вит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1628640"/>
            <a:ext cx="475308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1628640"/>
            <a:ext cx="4751640" cy="338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4000" y="3284640"/>
            <a:ext cx="4753080" cy="25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68360" y="2421000"/>
            <a:ext cx="460872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68360" y="1557360"/>
            <a:ext cx="4680000" cy="25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411280" y="3284640"/>
            <a:ext cx="446580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   </a:t>
            </a:r>
            <a:r>
              <a:rPr b="1" i="1" lang="en-US" sz="4400" spc="-1" strike="noStrike" u="sng">
                <a:solidFill>
                  <a:srgbClr val="0066ff"/>
                </a:solidFill>
                <a:uFillTx/>
                <a:latin typeface="Arial Black"/>
              </a:rPr>
              <a:t>Спасибо за внимание!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36160" y="2349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Презентацию представил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Танаева Маргари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Макарцева Крист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8:24:57Z</dcterms:created>
  <dc:creator>Komp</dc:creator>
  <dc:description/>
  <dc:language>en-US</dc:language>
  <cp:lastModifiedBy>Komp</cp:lastModifiedBy>
  <dcterms:modified xsi:type="dcterms:W3CDTF">2009-03-18T10:25:00Z</dcterms:modified>
  <cp:revision>4</cp:revision>
  <dc:subject/>
  <dc:title>Функция и не функция</dc:title>
</cp:coreProperties>
</file>