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67288-A9BA-4D18-A83E-D48FEF545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D920B-8B14-4635-8141-6AB7E7C2B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B2328-1149-4384-802D-01F93E600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B4911-C354-4E1A-B92E-9D6686C7D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E20E6-183B-4FDD-9F12-C56A2ED18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3026C-2967-4D5E-926A-44DE2257F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8381D-C99A-4723-A2A0-FA2868856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9E55F-BB4B-4552-9AB2-1866D2875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3AA71-341C-4061-9575-621C27F8F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6E6EF-59B7-486B-9AED-0BB98B899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9F1BC-8D82-4236-9AF4-665BF3375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D47FF-F680-434A-9FE9-868786B7A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EC8A0-A7C6-4352-AF71-62DB8F4BA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2FFAA-12F7-4598-8A25-52295A2BE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BCC57-D24E-400D-A7FA-A3DA411A6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47560-2859-4CC0-9BB7-C36B00AC8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49BFD-E0EA-4356-9778-4E33AE2B7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5A2AA-2386-4363-AE60-007705B71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B7453-A37B-446F-830E-00BC17B43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87281-5DFD-46B7-AAFC-CD4B9A310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007BB-B050-42BC-B41F-DBC89EE72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D0065-DCFB-4751-8E81-5EB0DDFF7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72ADA-D86F-483A-8E7A-976C75413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F84C5-1BC5-4BAD-800F-85642D34A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ff99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07c00"/>
                </a:gs>
                <a:gs pos="100000">
                  <a:srgbClr val="ff99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ea41e"/>
                </a:gs>
                <a:gs pos="100000">
                  <a:srgbClr val="ff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fea41e"/>
                </a:gs>
                <a:gs pos="100000">
                  <a:srgbClr val="ff99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07c00"/>
                </a:gs>
                <a:gs pos="100000">
                  <a:srgbClr val="ff99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ea41e"/>
                </a:gs>
                <a:gs pos="100000">
                  <a:srgbClr val="ff99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782E1-2CFD-4862-A53A-98F88B48E95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8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b28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ff99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07c00"/>
                </a:gs>
                <a:gs pos="100000">
                  <a:srgbClr val="ff99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07c00"/>
                </a:gs>
                <a:gs pos="100000">
                  <a:srgbClr val="ff99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ea41e"/>
                </a:gs>
                <a:gs pos="100000">
                  <a:srgbClr val="ff99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ea41e"/>
                </a:gs>
                <a:gs pos="100000">
                  <a:srgbClr val="ff99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6600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11441-CA7C-41C4-80E1-D56C9C32EF7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283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wikiznanie.ru/ru-wz/index.php?title=&#1042;&#1099;&#1088;&#1072;&#1078;&#1077;&#1085;&#1080;&#1077;_%28&#1074;_&#1084;&#1072;&#1090;&#1077;&#1084;&#1072;&#1090;&#1080;&#1082;&#1077;%29&amp;action=edit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68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99cc00"/>
                </a:solidFill>
                <a:uFillTx/>
                <a:latin typeface="Arial Black"/>
              </a:rPr>
              <a:t>Функция и не функция</a:t>
            </a:r>
            <a:endParaRPr b="1" lang="en-US" sz="48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692360" y="2133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Функция – это зависимость, при которой </a:t>
            </a:r>
            <a:r>
              <a:rPr b="1" i="1" lang="en-US" sz="2400" spc="-1" strike="noStrike">
                <a:solidFill>
                  <a:srgbClr val="008000"/>
                </a:solidFill>
                <a:latin typeface="Arial"/>
              </a:rPr>
              <a:t>каждом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значению одного множества </a:t>
            </a:r>
            <a:r>
              <a:rPr b="1" i="1" lang="en-US" sz="2400" spc="-1" strike="noStrike">
                <a:solidFill>
                  <a:srgbClr val="008000"/>
                </a:solidFill>
                <a:latin typeface="Arial"/>
              </a:rPr>
              <a:t>соответствует единственно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значение другого множеств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 rot="307800">
            <a:off x="6084720" y="3645000"/>
            <a:ext cx="2735280" cy="273528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1476360" y="3714840"/>
            <a:ext cx="3168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мер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=2х+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=-3х+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=2-5х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независимая переменн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зависимая переменн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6" dur="2000" fill="hold"/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3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898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5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5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" dur="2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" dur="2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" dur="2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" dur="20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8" dur="20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" dur="2000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92360" y="11556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f05000"/>
                </a:solidFill>
                <a:uFillTx/>
                <a:latin typeface="Arial Black"/>
              </a:rPr>
              <a:t>Способы задания функции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)описать словам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)формул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)графи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)таблиц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8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8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8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8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6600"/>
                </a:solidFill>
                <a:latin typeface="Arial Black"/>
              </a:rPr>
              <a:t>             </a:t>
            </a:r>
            <a:r>
              <a:rPr b="0" i="1" lang="en-US" sz="4400" spc="-1" strike="noStrike" u="sng">
                <a:solidFill>
                  <a:srgbClr val="ff0000"/>
                </a:solidFill>
                <a:uFillTx/>
                <a:latin typeface="Arial Black"/>
              </a:rPr>
              <a:t>Формула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Формула-вид математического </a:t>
            </a:r>
            <a:r>
              <a:rPr b="0" lang="en-US" sz="2000" spc="-1" strike="noStrike" u="sng">
                <a:solidFill>
                  <a:srgbClr val="99cc00"/>
                </a:solidFill>
                <a:uFillTx/>
                <a:latin typeface="Arial"/>
                <a:hlinkClick r:id="rId1"/>
              </a:rPr>
              <a:t>выражения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, записанное условными математическими символами правило совершения действий над математическими величинами или иными объектами для получения результата. Формулой можно выразить как общее положение в математике или иной точной науке, так и решение некоей частной задачи. Формула обеспечивает краткость и ясность выражения и простоту применен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564000" y="4653000"/>
            <a:ext cx="3313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ример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У=2х+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У=7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У=3х-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8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8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8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8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77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4" dur="77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6" dur="77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8" dur="77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360" y="-24300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Arial Black"/>
              </a:rPr>
              <a:t>              </a:t>
            </a:r>
            <a:r>
              <a:rPr b="1" i="1" lang="en-US" sz="4400" spc="-1" strike="noStrike" u="sng">
                <a:solidFill>
                  <a:srgbClr val="008000"/>
                </a:solidFill>
                <a:uFillTx/>
                <a:latin typeface="Arial Black"/>
              </a:rPr>
              <a:t>График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26560" y="141264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График – множество точек, изображающих зависимость  двух величин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 rot="239400">
            <a:off x="5508360" y="3284640"/>
            <a:ext cx="2998800" cy="3095640"/>
          </a:xfrm>
          <a:prstGeom prst="rect">
            <a:avLst/>
          </a:prstGeom>
          <a:ln w="0">
            <a:noFill/>
          </a:ln>
        </p:spPr>
      </p:pic>
      <p:grpSp>
        <p:nvGrpSpPr>
          <p:cNvPr id="110" name=""/>
          <p:cNvGrpSpPr/>
          <p:nvPr/>
        </p:nvGrpSpPr>
        <p:grpSpPr>
          <a:xfrm>
            <a:off x="5888880" y="4242960"/>
            <a:ext cx="2097000" cy="1164960"/>
            <a:chOff x="5888880" y="4242960"/>
            <a:chExt cx="2097000" cy="1164960"/>
          </a:xfrm>
        </p:grpSpPr>
        <p:sp>
          <p:nvSpPr>
            <p:cNvPr id="111" name=""/>
            <p:cNvSpPr/>
            <p:nvPr/>
          </p:nvSpPr>
          <p:spPr>
            <a:xfrm>
              <a:off x="5888880" y="4242960"/>
              <a:ext cx="2097000" cy="1164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 rot="21168000">
            <a:off x="1619280" y="3499920"/>
            <a:ext cx="2736720" cy="273708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6659640" y="3644280"/>
            <a:ext cx="803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20364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ffffff"/>
                </a:solidFill>
                <a:uFillTx/>
                <a:latin typeface="Arial Black"/>
              </a:rPr>
              <a:t>Таблица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26560" y="1773000"/>
            <a:ext cx="6613560" cy="13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Таблица- сведения о чем-нибудь расположенные по графа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784040" y="3408480"/>
            <a:ext cx="1374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ример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У=2-3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3419640" y="4724280"/>
          <a:ext cx="3926880" cy="1523520"/>
        </p:xfrm>
        <a:graphic>
          <a:graphicData uri="http://schemas.openxmlformats.org/drawingml/2006/table">
            <a:tbl>
              <a:tblPr/>
              <a:tblGrid>
                <a:gridCol w="785160"/>
                <a:gridCol w="785520"/>
                <a:gridCol w="785520"/>
                <a:gridCol w="785520"/>
                <a:gridCol w="785160"/>
              </a:tblGrid>
              <a:tr h="761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2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6" dur="1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28300"/>
                                      </p:to>
                                    </p:animClr>
                                    <p:animClr clrSpc="rgb">
                                      <p:cBhvr>
                                        <p:cTn id="227" dur="1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28300"/>
                                      </p:to>
                                    </p:animClr>
                                    <p:set>
                                      <p:cBhvr>
                                        <p:cTn id="228" dur="1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2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3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3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3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53716 -0.68843 C -0.52692 -0.67361 -0.49931 -0.68773 -0.48369 -0.69005 C -0.47049 -0.68958 -0.4573 -0.6912 -0.44428 -0.68843 C -0.44167 -0.68796 -0.43838 -0.68056 -0.43838 -0.68056 C -0.4356 -0.66991 -0.4356 -0.66481 -0.44081 -0.65579 C -0.44515 -0.63449 -0.45227 -0.61505 -0.45938 -0.59537 C -0.46928 -0.56806 -0.47779 -0.53773 -0.48369 -0.50856 C -0.48525 -0.49028 -0.48786 -0.47245 -0.48977 -0.4544 C -0.48855 -0.43565 -0.4915 -0.41574 -0.48612 -0.39838 C -0.47813 -0.37199 -0.45504 -0.36227 -0.43612 -0.35972 C -0.41702 -0.36227 -0.3948 -0.36273 -0.37674 -0.37523 C -0.37258 -0.37847 -0.36928 -0.3831 -0.36511 -0.38611 C -0.36112 -0.38912 -0.35661 -0.38981 -0.35244 -0.39259 C -0.32779 -0.4081 -0.30348 -0.43148 -0.27553 -0.43565 C -0.24237 -0.43333 -0.21911 -0.43796 -0.20244 -0.4 C -0.19602 -0.36667 -0.2224 -0.34213 -0.23716 -0.32106 C -0.24029 -0.31667 -0.24202 -0.31088 -0.24549 -0.30694 C -0.26147 -0.2875 -0.28161 -0.27268 -0.29897 -0.25579 C -0.30244 -0.25231 -0.30765 -0.25231 -0.31164 -0.24954 C -0.32536 -0.24051 -0.33647 -0.22847 -0.34775 -0.21551 C -0.35174 -0.20463 -0.35452 -0.19606 -0.35695 -0.18449 C -0.35643 -0.17315 -0.35626 -0.16157 -0.3547 -0.15046 C -0.35053 -0.11736 -0.32171 -0.10023 -0.30018 -0.09468 C -0.27553 -0.09768 -0.25331 -0.10116 -0.22935 -0.10694 C -0.19428 -0.13009 -0.15817 -0.15046 -0.12327 -0.17361 C -0.08716 -0.19768 -0.04445 -0.23333 -0.00348 -0.24028 C 0.01301 -0.23912 0.01458 -0.24398 0.02447 -0.23403 C 0.02916 -0.22917 0.03836 -0.21852 0.03836 -0.21852 C 0.04374 -0.20393 0.04878 -0.18935 0.05208 -0.17361 C 0.05138 -0.15972 0.05155 -0.1456 0.04982 -0.13171 C 0.04947 -0.1294 0.04721 -0.12801 0.04635 -0.12569 C 0.04513 -0.12268 0.04513 -0.11898 0.04409 -0.1162 C 0.04096 -0.10903 0.03037 -0.09375 0.02551 -0.08704 C 0.02517 -0.08472 0.02534 -0.08241 0.02447 -0.08056 C 0.02256 -0.07685 0.01893 -0.07523 0.01735 -0.0713 C 0.01458 -0.06435 0.01041 -0.05833 0.00798 -0.05139 C 0.00485 -0.04143 0.00346 -0.03056 0.00121 -0.02014 C 0.00086 -0.01343 -6.38889E-006 2.96296E-006 -6.38889E-006 2.96296E-006 E">
                                      <p:cBhvr>
                                        <p:cTn id="251" dur="2000" fill="hold"/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Arial Black"/>
              </a:rPr>
              <a:t>               </a:t>
            </a:r>
            <a:r>
              <a:rPr b="1" i="1" lang="en-US" sz="4400" spc="-1" strike="noStrike" u="sng">
                <a:solidFill>
                  <a:srgbClr val="cc6600"/>
                </a:solidFill>
                <a:uFillTx/>
                <a:latin typeface="Arial Black"/>
              </a:rPr>
              <a:t>Функция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187280" y="907920"/>
            <a:ext cx="571680" cy="180036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333080" y="148356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7164360" y="5084640"/>
            <a:ext cx="1800360" cy="15400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684360" y="2852640"/>
            <a:ext cx="1873080" cy="140184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7308720" y="1268280"/>
            <a:ext cx="1428840" cy="142884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5"/>
          <a:stretch/>
        </p:blipFill>
        <p:spPr>
          <a:xfrm>
            <a:off x="6647040" y="3213000"/>
            <a:ext cx="2496960" cy="15112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6"/>
          <a:stretch/>
        </p:blipFill>
        <p:spPr>
          <a:xfrm>
            <a:off x="611280" y="4365720"/>
            <a:ext cx="1857240" cy="2334960"/>
          </a:xfrm>
          <a:prstGeom prst="rect">
            <a:avLst/>
          </a:prstGeom>
          <a:ln w="0">
            <a:noFill/>
          </a:ln>
        </p:spPr>
      </p:pic>
      <p:grpSp>
        <p:nvGrpSpPr>
          <p:cNvPr id="126" name=""/>
          <p:cNvGrpSpPr/>
          <p:nvPr/>
        </p:nvGrpSpPr>
        <p:grpSpPr>
          <a:xfrm>
            <a:off x="1789920" y="1647360"/>
            <a:ext cx="5343480" cy="3908520"/>
            <a:chOff x="1789920" y="1647360"/>
            <a:chExt cx="5343480" cy="3908520"/>
          </a:xfrm>
        </p:grpSpPr>
        <p:sp>
          <p:nvSpPr>
            <p:cNvPr id="127" name=""/>
            <p:cNvSpPr/>
            <p:nvPr/>
          </p:nvSpPr>
          <p:spPr>
            <a:xfrm>
              <a:off x="1789920" y="1647360"/>
              <a:ext cx="5343480" cy="3908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2482560" y="3696480"/>
            <a:ext cx="4178520" cy="2484000"/>
            <a:chOff x="2482560" y="3696480"/>
            <a:chExt cx="4178520" cy="2484000"/>
          </a:xfrm>
        </p:grpSpPr>
        <p:sp>
          <p:nvSpPr>
            <p:cNvPr id="129" name=""/>
            <p:cNvSpPr/>
            <p:nvPr/>
          </p:nvSpPr>
          <p:spPr>
            <a:xfrm flipV="1">
              <a:off x="2482560" y="3696480"/>
              <a:ext cx="4178520" cy="248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2528280" y="1784880"/>
            <a:ext cx="4806360" cy="2206080"/>
            <a:chOff x="2528280" y="1784880"/>
            <a:chExt cx="4806360" cy="2206080"/>
          </a:xfrm>
        </p:grpSpPr>
        <p:sp>
          <p:nvSpPr>
            <p:cNvPr id="131" name=""/>
            <p:cNvSpPr/>
            <p:nvPr/>
          </p:nvSpPr>
          <p:spPr>
            <a:xfrm flipV="1">
              <a:off x="2528280" y="1784880"/>
              <a:ext cx="4806360" cy="2206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ipe dir="d"/>
  </p:transition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0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898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8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8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8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8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0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8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8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8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8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05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 Black"/>
              </a:rPr>
              <a:t>          </a:t>
            </a:r>
            <a:r>
              <a:rPr b="1" i="1" lang="en-US" sz="4400" spc="-1" strike="noStrike" u="sng">
                <a:solidFill>
                  <a:srgbClr val="ff0000"/>
                </a:solidFill>
                <a:uFillTx/>
                <a:latin typeface="Arial Black"/>
              </a:rPr>
              <a:t>Не функция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68000" y="1341360"/>
            <a:ext cx="849636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орбачев                                                 Тан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ванников                                              Паш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Школкина                                                Над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гловская                                               Саш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артынова                                             Вит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Жен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124000" y="1628640"/>
            <a:ext cx="4753080" cy="792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124000" y="1628640"/>
            <a:ext cx="4751640" cy="33847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124000" y="3284640"/>
            <a:ext cx="4753080" cy="25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268360" y="2421000"/>
            <a:ext cx="4608720" cy="165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2268360" y="1557360"/>
            <a:ext cx="4680000" cy="255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2411280" y="3284640"/>
            <a:ext cx="4465800" cy="172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0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4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5888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Arial Black"/>
              </a:rPr>
              <a:t>   </a:t>
            </a:r>
            <a:r>
              <a:rPr b="1" i="1" lang="en-US" sz="4400" spc="-1" strike="noStrike" u="sng">
                <a:solidFill>
                  <a:srgbClr val="0066ff"/>
                </a:solidFill>
                <a:uFillTx/>
                <a:latin typeface="Arial Black"/>
              </a:rPr>
              <a:t>Спасибо за внимание!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36160" y="234936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33cc"/>
                </a:solidFill>
                <a:latin typeface="Arial"/>
              </a:rPr>
              <a:t>Презентацию представили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33cc"/>
                </a:solidFill>
                <a:latin typeface="Arial"/>
              </a:rPr>
              <a:t> </a:t>
            </a:r>
            <a:r>
              <a:rPr b="0" i="1" lang="ru-RU" sz="4400" spc="-1" strike="noStrike">
                <a:solidFill>
                  <a:srgbClr val="ff33cc"/>
                </a:solidFill>
                <a:latin typeface="Arial"/>
              </a:rPr>
              <a:t>Танаева Маргарит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33cc"/>
                </a:solidFill>
                <a:latin typeface="Arial"/>
              </a:rPr>
              <a:t>Макарцева Кристин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7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8" dur="8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9" dur="8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8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8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8T08:24:57Z</dcterms:created>
  <dc:creator>Komp</dc:creator>
  <dc:description/>
  <dc:language>en-US</dc:language>
  <cp:lastModifiedBy>Komp</cp:lastModifiedBy>
  <dcterms:modified xsi:type="dcterms:W3CDTF">2009-03-18T10:25:00Z</dcterms:modified>
  <cp:revision>4</cp:revision>
  <dc:subject/>
  <dc:title>Функция и не функция</dc:title>
</cp:coreProperties>
</file>