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3B9-08AD-4FAB-9482-CC9501E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C99-B5FF-48CE-B3A5-2A88FB6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4B1-FA5E-48E4-BA9B-BBEB7DC9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6EA-B1A1-4594-AA3B-AFFA2635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345-19A9-430D-863F-8F2AC3E7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B7A-BAA7-48FB-B942-8AE9A68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792-1FD3-4036-8DB8-E700C20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212-D115-406D-8A4A-797B7049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2CD-B126-4064-8885-61D7A801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EE5-FBD2-4A7D-B362-5B671B6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CF7-3B79-414B-B7CB-0A3F088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F66-528D-4603-B6F4-C574280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480-ECFA-445E-84D0-310EE8399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mm4.com/wp-content/uploads/2010/09/zagadki-s-kartinkami-transport-3.jpg"/>
          <p:cNvPicPr/>
          <p:nvPr/>
        </p:nvPicPr>
        <p:blipFill>
          <a:blip r:embed="rId1"/>
          <a:srcRect l="0" t="6493" r="34475" b="69429"/>
          <a:stretch/>
        </p:blipFill>
        <p:spPr>
          <a:xfrm>
            <a:off x="571680" y="4429080"/>
            <a:ext cx="796752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139680"/>
            <a:ext cx="8399520" cy="168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Helen\Desktop\ель\корабли\2012-03-04_183335.jpg"/>
          <p:cNvPicPr/>
          <p:nvPr/>
        </p:nvPicPr>
        <p:blipFill>
          <a:blip r:embed="rId1"/>
          <a:stretch/>
        </p:blipFill>
        <p:spPr>
          <a:xfrm>
            <a:off x="928800" y="846000"/>
            <a:ext cx="7270560" cy="515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elen\Desktop\ель\корабли\2012-03-04_183350.jpg"/>
          <p:cNvPicPr/>
          <p:nvPr/>
        </p:nvPicPr>
        <p:blipFill>
          <a:blip r:embed="rId1"/>
          <a:stretch/>
        </p:blipFill>
        <p:spPr>
          <a:xfrm>
            <a:off x="857160" y="554040"/>
            <a:ext cx="7129440" cy="55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elen\Desktop\ель\корабли\2012-03-04_183405.jpg"/>
          <p:cNvPicPr/>
          <p:nvPr/>
        </p:nvPicPr>
        <p:blipFill>
          <a:blip r:embed="rId1"/>
          <a:stretch/>
        </p:blipFill>
        <p:spPr>
          <a:xfrm>
            <a:off x="1500120" y="642960"/>
            <a:ext cx="6578640" cy="574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2376360" y="5786280"/>
            <a:ext cx="4449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нки паровозов Станиславы Лухи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appyhare.livejournal.com/1678.ht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Helen\Desktop\ель\корабли\2012-03-04_185315.jpg"/>
          <p:cNvPicPr/>
          <p:nvPr/>
        </p:nvPicPr>
        <p:blipFill>
          <a:blip r:embed="rId1"/>
          <a:stretch/>
        </p:blipFill>
        <p:spPr>
          <a:xfrm>
            <a:off x="2714760" y="285840"/>
            <a:ext cx="3539880" cy="44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57160" y="285840"/>
            <a:ext cx="65725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Ем я уголь, пью я воду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ак напьюсь – прибавлю ходу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езу обоз на сто колес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 называюсь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www.ljplus.ru/img4/h/a/happyhare/p2.jpg"/>
          <p:cNvPicPr/>
          <p:nvPr/>
        </p:nvPicPr>
        <p:blipFill>
          <a:blip r:embed="rId1"/>
          <a:stretch/>
        </p:blipFill>
        <p:spPr>
          <a:xfrm>
            <a:off x="1000080" y="2428920"/>
            <a:ext cx="628668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2444400" y="6143760"/>
            <a:ext cx="3449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ljplus.ru/img4/h/a/happyhare/p1.jpg"/>
          <p:cNvPicPr/>
          <p:nvPr/>
        </p:nvPicPr>
        <p:blipFill>
          <a:blip r:embed="rId1"/>
          <a:stretch/>
        </p:blipFill>
        <p:spPr>
          <a:xfrm>
            <a:off x="1428840" y="21420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808360" y="35712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паровоз серии 9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ljplus.ru/img4/h/a/happyhare/p4.jpg"/>
          <p:cNvPicPr/>
          <p:nvPr/>
        </p:nvPicPr>
        <p:blipFill>
          <a:blip r:embed="rId2"/>
          <a:stretch/>
        </p:blipFill>
        <p:spPr>
          <a:xfrm>
            <a:off x="1428840" y="350028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152520" y="61437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Л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jplus.ru/img4/h/a/happyhare/p3.jpg"/>
          <p:cNvPicPr/>
          <p:nvPr/>
        </p:nvPicPr>
        <p:blipFill>
          <a:blip r:embed="rId1"/>
          <a:stretch/>
        </p:blipFill>
        <p:spPr>
          <a:xfrm>
            <a:off x="1285920" y="285840"/>
            <a:ext cx="6215040" cy="3106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947320" y="4287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П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ljplus.ru/img4/h/a/happyhare/p5.jpg"/>
          <p:cNvPicPr/>
          <p:nvPr/>
        </p:nvPicPr>
        <p:blipFill>
          <a:blip r:embed="rId2"/>
          <a:stretch/>
        </p:blipFill>
        <p:spPr>
          <a:xfrm>
            <a:off x="1357200" y="3571920"/>
            <a:ext cx="6143760" cy="3071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2660400" y="60721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ьерский паровоз типа 2-3-2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ljplus.ru/img4/h/a/happyhare/p6.jpg"/>
          <p:cNvPicPr/>
          <p:nvPr/>
        </p:nvPicPr>
        <p:blipFill>
          <a:blip r:embed="rId1"/>
          <a:stretch/>
        </p:blipFill>
        <p:spPr>
          <a:xfrm>
            <a:off x="128592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437120" y="292896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"3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ljplus.ru/img4/h/a/happyhare/p7.jpg"/>
          <p:cNvPicPr/>
          <p:nvPr/>
        </p:nvPicPr>
        <p:blipFill>
          <a:blip r:embed="rId2"/>
          <a:stretch/>
        </p:blipFill>
        <p:spPr>
          <a:xfrm>
            <a:off x="1357200" y="3500280"/>
            <a:ext cx="6286680" cy="3143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506960" y="62150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ljplus.ru/img4/h/a/happyhare/p9.jpg"/>
          <p:cNvPicPr/>
          <p:nvPr/>
        </p:nvPicPr>
        <p:blipFill>
          <a:blip r:embed="rId1"/>
          <a:stretch/>
        </p:blipFill>
        <p:spPr>
          <a:xfrm>
            <a:off x="92880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21680" y="3571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ljplus.ru/img4/h/a/happyhare/p11.jpg"/>
          <p:cNvPicPr/>
          <p:nvPr/>
        </p:nvPicPr>
        <p:blipFill>
          <a:blip r:embed="rId2"/>
          <a:stretch/>
        </p:blipFill>
        <p:spPr>
          <a:xfrm>
            <a:off x="928800" y="350028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082520" y="36432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СО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Helen\Desktop\ель\корабли\2012-03-04_183300.jpg"/>
          <p:cNvPicPr/>
          <p:nvPr/>
        </p:nvPicPr>
        <p:blipFill>
          <a:blip r:embed="rId1"/>
          <a:stretch/>
        </p:blipFill>
        <p:spPr>
          <a:xfrm>
            <a:off x="1000080" y="714240"/>
            <a:ext cx="7475760" cy="497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Helen\Desktop\ель\корабли\2012-03-04_183316.jpg"/>
          <p:cNvPicPr/>
          <p:nvPr/>
        </p:nvPicPr>
        <p:blipFill>
          <a:blip r:embed="rId1"/>
          <a:stretch/>
        </p:blipFill>
        <p:spPr>
          <a:xfrm>
            <a:off x="785880" y="1068480"/>
            <a:ext cx="7451640" cy="46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ель\корабли\2012-03-04_183325.jpg"/>
          <p:cNvPicPr/>
          <p:nvPr/>
        </p:nvPicPr>
        <p:blipFill>
          <a:blip r:embed="rId1"/>
          <a:stretch/>
        </p:blipFill>
        <p:spPr>
          <a:xfrm>
            <a:off x="1071720" y="642960"/>
            <a:ext cx="697680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4:32:11Z</dcterms:created>
  <dc:creator>Helen</dc:creator>
  <dc:description/>
  <dc:language>en-US</dc:language>
  <cp:lastModifiedBy>Helen</cp:lastModifiedBy>
  <dcterms:modified xsi:type="dcterms:W3CDTF">2012-03-04T14:55:12Z</dcterms:modified>
  <cp:revision>3</cp:revision>
  <dc:subject/>
  <dc:title>Слайд 1</dc:title>
</cp:coreProperties>
</file>