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A45-1161-445C-B3B0-7D47626B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BD4-D1A4-48BA-ACE1-DB7DB43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835-5C48-497E-9B17-39B0E0FF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005-7E6F-427F-AD9C-F04FDE94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0BE2-0B0E-4651-861A-B5586F3F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EC8B-F892-437C-AC3C-2035E6F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A9B8-3F72-4DE3-B8EC-95E89B6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3AE5-70BA-4FB2-BFA4-8E98C81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9D55-C7AC-416F-8DC8-0542432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BB6-7DF6-4E0E-8F1E-78D6D5E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B651-D992-48AB-B7FF-B14299A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0FD-C2A6-4ED2-BE68-B388371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C427-6CA0-44E3-8249-FBBFCEE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841-AC95-442A-85E3-10781CC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73C4-7D4A-4ABB-951A-5819F8A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82E-F913-40C1-9FEA-5DD9918F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F407-BC1E-4447-BE84-3B8C0C11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B70-ED77-422F-8955-F5575526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68C-EAF0-4ADC-BC40-C79A9E1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7CC-AFD2-4CA1-AF36-7CCFF395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7DA-0C5B-4BCB-8C09-85B5ECFF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A70-B54F-4EFC-B154-43D894A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501-7589-4FE2-9488-16D83441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6C5-AC54-422C-971D-C168862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AD5-D32C-4B42-8C57-E0411C700E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321-736F-431E-8C8E-24F54FB95E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428840" y="571680"/>
            <a:ext cx="642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орамный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усской литерату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6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1285920" y="321480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Сюжетно-композиционные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повести А.С.Пушкина «Станционный смотри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 урока: урок – ис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Титульный лист первого издания «Повестей Белкина». 1831 г."/>
          <p:cNvPicPr/>
          <p:nvPr/>
        </p:nvPicPr>
        <p:blipFill>
          <a:blip r:embed="rId1"/>
          <a:stretch/>
        </p:blipFill>
        <p:spPr>
          <a:xfrm>
            <a:off x="0" y="142920"/>
            <a:ext cx="2049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85840" y="285840"/>
            <a:ext cx="8858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№ 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провести сравнение Притчи и  повести на сюжетном уров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00040" y="1281240"/>
          <a:ext cx="8501040" cy="52401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4712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тч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танционный смотритель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н уходит из до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сам отправляет дочь из родного дома (случайно, невольн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то не ищет 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разыскивает в Петербурге дочь, чтобы вернуть её дом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остная встреча сына с отц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умер. На печальном кладбище заканчивается 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н вернулся домой нищий и голод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вернулась, а зашла, проезжая мимо, богатая бары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ирение с отц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озможность встречи и прим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2" descr="Возвращение блудного сына. Рембрандт Харменс ван Рейн. 1669 г."/>
          <p:cNvPicPr/>
          <p:nvPr/>
        </p:nvPicPr>
        <p:blipFill>
          <a:blip r:embed="rId1"/>
          <a:stretch/>
        </p:blipFill>
        <p:spPr>
          <a:xfrm>
            <a:off x="4643280" y="1357200"/>
            <a:ext cx="4357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3"/>
          <p:cNvSpPr/>
          <p:nvPr/>
        </p:nvSpPr>
        <p:spPr>
          <a:xfrm>
            <a:off x="357120" y="142920"/>
            <a:ext cx="8358120" cy="20718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№ 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подготовить ответы (в которых выскажите собственный взгляд на проблему) на следующие вопросы: каким вы видите финал повести, где он счастливее? Зачем А.С.Пушкин в основе произведения использует Притч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428760" y="2928960"/>
            <a:ext cx="828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мощь учениками дается  слайд с репродукциями по повести “Станционный  смотритель”, картины Рембрандта “Возвращение блудного сына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428760" y="421488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Цель использования нагляд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действие на эмоциональное состояние 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ссоздание образной карти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Возвращение блудного сына. Рембрандт Харменс ван Рейн. 1669 г."/>
          <p:cNvPicPr/>
          <p:nvPr/>
        </p:nvPicPr>
        <p:blipFill>
          <a:blip r:embed="rId1"/>
          <a:stretch/>
        </p:blipFill>
        <p:spPr>
          <a:xfrm>
            <a:off x="-36360" y="182520"/>
            <a:ext cx="4084560" cy="4681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untitled.bmp"/>
          <p:cNvPicPr/>
          <p:nvPr/>
        </p:nvPicPr>
        <p:blipFill>
          <a:blip r:embed="rId2"/>
          <a:stretch/>
        </p:blipFill>
        <p:spPr>
          <a:xfrm>
            <a:off x="3882960" y="249120"/>
            <a:ext cx="5316480" cy="45309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4214880" y="49291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ллюстрация М.В. Добужинского к повести А.С. Пушкина «Станционный смотрите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428760" y="4929120"/>
            <a:ext cx="321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озвращение блудного сын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ембрандт Харменс ван Рейн. 1669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кругленный прямоугольник 1"/>
          <p:cNvSpPr/>
          <p:nvPr/>
        </p:nvSpPr>
        <p:spPr>
          <a:xfrm>
            <a:off x="571680" y="285840"/>
            <a:ext cx="8001000" cy="5500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ывод по поведенному исследов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1. Композиционный прием зеркального отображения автор использовал с целью точного и полного осмысления идеи пове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2.Своеобразие финальной сцены также  указывает на специфику композиции повести: «открытый» финал  дает возможность осмыслить основную идею произведения, сделать нравственный выб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42920" y="151740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учное обоснование: на этом этапе работы  ученики самостоятельно проводят сравнительный анализ чувств и состояния героев повести «Станционный смотритель», выявляют особенности сюжетной канвы. Расширить ответ, сделать его более осмысленным поможет табл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анный вид работы направлен на развитие мышления, исследовательских навыков, умения систематизировать материал, сопоставлять, делать выводы, совершенствует научные взгля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42920" y="2858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Организация исследовательской деятельности на уроке по выявлению особенностей сюжета повести 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57120" y="5715000"/>
            <a:ext cx="1000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Овал 7"/>
          <p:cNvSpPr/>
          <p:nvPr/>
        </p:nvSpPr>
        <p:spPr>
          <a:xfrm>
            <a:off x="1071720" y="5000760"/>
            <a:ext cx="7429320" cy="20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етоды: частично-поисковый, словесно-логический, исследовательский, наглядно-иллюстративный, эврист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00120" y="3357720"/>
          <a:ext cx="6000840" cy="865080"/>
        </p:xfrm>
        <a:graphic>
          <a:graphicData uri="http://schemas.openxmlformats.org/drawingml/2006/table">
            <a:tbl>
              <a:tblPr/>
              <a:tblGrid>
                <a:gridCol w="2714760"/>
                <a:gridCol w="3286080"/>
              </a:tblGrid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танционный смотрител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"/>
          <p:cNvSpPr/>
          <p:nvPr/>
        </p:nvSpPr>
        <p:spPr>
          <a:xfrm>
            <a:off x="0" y="2199960"/>
            <a:ext cx="8572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: Распределить слова, обозначающие чувств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ояние героев произ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357120" y="214200"/>
            <a:ext cx="8572680" cy="16430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 №1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арушает (кто прерывает) рассказ повествователя Белк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в канву повествования включен рассказ самого Самсона Вы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1714680" y="4357800"/>
            <a:ext cx="5715000" cy="20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Испуг, тревога, тоска, негодование, одиночество, бессилие, отчаяние, любопытство, привязанность, доверие, любовь, счастье, богатство, рождение детей, безысходность, грусть, смирение, скорбь, надежда, в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285840" y="357120"/>
            <a:ext cx="8358120" cy="15001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 № 2: зачем автор включает в повествование рассказ самого Самсона Выр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2920" y="2214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мощь учениками демонстрируется фрагмент видеофильма по повести “Станционный  смотритель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428760" y="328608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Цель использования фрагмента видеофильм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действие на эмоциональное состояние  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ссоздание образной карти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"/>
          <p:cNvSpPr/>
          <p:nvPr/>
        </p:nvSpPr>
        <p:spPr>
          <a:xfrm>
            <a:off x="928800" y="285840"/>
            <a:ext cx="7143480" cy="328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воеобразие сюжета повести  заключается во включении в канву повествования рассказа самого Самсона Вырина, что усиливает восприятие трагичного положения героя произведения, усиливает его достоверность и эмоциональный настро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D:\Банк\Наташа\Школа-Наташа\пушкин\П.А. Александров с оригинала.jpg"/>
          <p:cNvPicPr/>
          <p:nvPr/>
        </p:nvPicPr>
        <p:blipFill>
          <a:blip r:embed="rId1"/>
          <a:stretch/>
        </p:blipFill>
        <p:spPr>
          <a:xfrm>
            <a:off x="571680" y="3859200"/>
            <a:ext cx="4143240" cy="2719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D:\Банк\Наташа\Школа-Наташа\пушкин\Рисунок работы художника Соколова. 1837..jpg"/>
          <p:cNvPicPr/>
          <p:nvPr/>
        </p:nvPicPr>
        <p:blipFill>
          <a:blip r:embed="rId2"/>
          <a:stretch/>
        </p:blipFill>
        <p:spPr>
          <a:xfrm>
            <a:off x="5643720" y="3714840"/>
            <a:ext cx="3222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2520" y="285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85840" y="2858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Заключительная часть урока. Выводы. Рефлек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14200" y="171468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Научное обоснование: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данная часть урока поможет систематизировать весь полученный материал, обобщить его, выработать свою нравственную позицию по проблеме исследования, осмыслить свою работу на уроке, подготовит к  творческой письме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4"/>
          <p:cNvSpPr/>
          <p:nvPr/>
        </p:nvSpPr>
        <p:spPr>
          <a:xfrm>
            <a:off x="785880" y="4786200"/>
            <a:ext cx="7286400" cy="1714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Методы: словесно-логиче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677160" y="722160"/>
            <a:ext cx="746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готовиться к письме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ернутый ответ на вопро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Можно ли назвать финал счастливым и почему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214200" y="2571840"/>
            <a:ext cx="864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Научное обосновани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данный вид работы позволит ученику выразить  свою точку зр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пособствует развитию письменной 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истематизирует  знания, полученные на предыдущих зан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свечи картинки анимационные"/>
          <p:cNvPicPr/>
          <p:nvPr/>
        </p:nvPicPr>
        <p:blipFill>
          <a:blip r:embed="rId1"/>
          <a:stretch/>
        </p:blipFill>
        <p:spPr>
          <a:xfrm>
            <a:off x="4143240" y="4857840"/>
            <a:ext cx="150048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свечи картинки анимационные"/>
          <p:cNvPicPr/>
          <p:nvPr/>
        </p:nvPicPr>
        <p:blipFill>
          <a:blip r:embed="rId2"/>
          <a:stretch/>
        </p:blipFill>
        <p:spPr>
          <a:xfrm>
            <a:off x="7215120" y="17640"/>
            <a:ext cx="1928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NA00808_"/>
          <p:cNvPicPr/>
          <p:nvPr/>
        </p:nvPicPr>
        <p:blipFill>
          <a:blip r:embed="rId1"/>
          <a:stretch/>
        </p:blipFill>
        <p:spPr>
          <a:xfrm>
            <a:off x="8286840" y="6000840"/>
            <a:ext cx="669960" cy="733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571680" y="214200"/>
            <a:ext cx="8215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жидаемый результат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: учащиеся научатся проводить частичный литературоведческий анализ: выявление  сюжетно-композиционных особенностей произведения и их влияние на раскрытие темы и идеи произведения, будет сформулирована и осмыслена основная идея произведения А.С.Пушкина «Станционный смотритель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4"/>
          <p:cNvSpPr/>
          <p:nvPr/>
        </p:nvSpPr>
        <p:spPr>
          <a:xfrm>
            <a:off x="5072040" y="4143240"/>
            <a:ext cx="4071960" cy="2714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Методы</a:t>
            </a: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: эвристический, когнитивный, наглядно-иллюстративный, словесный, частично-поисковый, исследователь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5"/>
          <p:cNvSpPr/>
          <p:nvPr/>
        </p:nvSpPr>
        <p:spPr>
          <a:xfrm>
            <a:off x="0" y="3500280"/>
            <a:ext cx="5643720" cy="32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интерактивная доска, опорный конспект, фрагменты видеофильма, презентация, иллюстрации к “Станционному смотрителю”, репродукция картины Рембрандта “Возвращение блудного сына”, раздаточный матери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4600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учить литературоведческому анализу произведения на основе повести А.С.Пушкина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взаимосвязь сюжетно-композиционной организации и идейно-тематического уровня по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ыяснить, каково решение темы “блудных детей” в “Станционном смотрителе”; сравнить его с библейской “Притчей о блудном сыне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олжать работу по формированию речевых нав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ызвать у детей чувство сострадания к брошенным родителям, заставить их задуматься над своим отношением к собственным родителям. Воспитание чувства ответственности за свои поступ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542520" y="293400"/>
            <a:ext cx="7665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 этапа: настроить учеников на восприяти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ивное участие в работе над произвед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тановка задачи урока перед уче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4" descr=""/>
          <p:cNvPicPr/>
          <p:nvPr/>
        </p:nvPicPr>
        <p:blipFill>
          <a:blip r:embed="rId1"/>
          <a:stretch/>
        </p:blipFill>
        <p:spPr>
          <a:xfrm>
            <a:off x="5573880" y="3286080"/>
            <a:ext cx="318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428760" y="21420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Разминка. Тренинг по теории литер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обоснов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Эта форма работы поможет  сосредоточиться на проблеме урока, обострит произвольное внимание и улучшит мыслительные операции, повысит  мотивацию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 этом этапе задания направлены на развитие мышления, внимания, совершенствование теоретических знаний по литературе,  выявление основных составляющих литературных понятий: притча, повесть, сю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2"/>
          <p:cNvSpPr/>
          <p:nvPr/>
        </p:nvSpPr>
        <p:spPr>
          <a:xfrm>
            <a:off x="2286000" y="5214960"/>
            <a:ext cx="5429160" cy="164304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62b"/>
                </a:solidFill>
                <a:latin typeface="Arial"/>
              </a:rPr>
              <a:t>Методы: частично-поисковый, словесно-лог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/>
          <p:cNvSpPr/>
          <p:nvPr/>
        </p:nvSpPr>
        <p:spPr>
          <a:xfrm>
            <a:off x="214200" y="428760"/>
            <a:ext cx="8715600" cy="242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1 – средний уровень слож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и: восстановить определение понятия «повес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весть - _________ жанр, ____________ по объему, тяготеющий к ____________ сюжет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роизводящему __________    __________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шенный интриги сюжет сосредоточен вокруг _______       _________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чность и судьба которого раскрываются в пределах _________    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57120" y="32148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ный вопрос – высокий уровень сложности: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какие основные признаки повести следует обратить особое внимание и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428760" y="571680"/>
            <a:ext cx="8215200" cy="29286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428760" y="7239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 №2 – средний уровень сложност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восстановить понятие «притча», указать его основную особ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тча  - это ______   _______  рассказ в _______-__________ литературном жанре, заключающий в себе _______ или _____ по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57120" y="3857760"/>
            <a:ext cx="81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е №3 –высокий уровень сложности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вязать тему урока с данными пон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деляя основные их составляющ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Данное задание звучит как итог Разм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0" y="0"/>
            <a:ext cx="88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оверка домашнего задания: построить композицию повести «Станционный смотри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ь этапа: подвести учащихся к выявлению особенностей построения произведения и сюжета повести, начать исследовательскую деятельность на ур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Скругленный прямоугольник 3"/>
          <p:cNvSpPr/>
          <p:nvPr/>
        </p:nvSpPr>
        <p:spPr>
          <a:xfrm>
            <a:off x="142920" y="2643120"/>
            <a:ext cx="9001080" cy="27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Композиция повести «Станционный смотритель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1. Рассуждения автора о станционных смотрит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2. Первая встреча с Самсоном Выриным и его дочер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3. Вторая встреча. Рассказ Самсона Вырина о Ду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4. Третий приезд повествователя. Рассказ мальчика о бары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535680" y="5572080"/>
            <a:ext cx="76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кую роль в повеств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ет Притч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285840" y="142920"/>
            <a:ext cx="842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Организация исследовательской деятельности на уроке по выявлению особенностей композиции повести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бота с таблицей, сопоставительный анал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аучное обоснование: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на этом этапе работы используется  дифференцированный метод, ученики самостоятельно  проводят сопоставительный анализ Притчи о блудном сыне и повести  «Станционный смотритель».  Данный вид работы  направлен на развитие мышления, исследовательских навы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умения систематизировать материал, сопоставлять, делать выводы,  совершенствует научные взгля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"/>
          <p:cNvSpPr/>
          <p:nvPr/>
        </p:nvSpPr>
        <p:spPr>
          <a:xfrm>
            <a:off x="1000080" y="5214960"/>
            <a:ext cx="714384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2000160" y="5357880"/>
            <a:ext cx="585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Методы: частично-поисковый, словесно-логический, исследовательск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наглядно-иллюстративный, когнитив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2:53:08Z</dcterms:created>
  <dc:creator>XTreme</dc:creator>
  <dc:description/>
  <dc:language>en-US</dc:language>
  <cp:lastModifiedBy>XTreme</cp:lastModifiedBy>
  <dcterms:modified xsi:type="dcterms:W3CDTF">2010-03-28T06:06:56Z</dcterms:modified>
  <cp:revision>50</cp:revision>
  <dc:subject/>
  <dc:title>Слайд 1</dc:title>
</cp:coreProperties>
</file>