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D53-7520-4F10-8FA7-1F4F07C0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2B7E-9AF3-4AE3-A55D-78448029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000-6AC1-4AF2-AE05-B032D5CD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52EA-138B-47D1-985E-5127E8F0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3D89-0E37-49C1-9628-44FE3EA2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72FE-D83B-4B97-B555-71988EE4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E68F-E01B-4B6D-953A-B919637F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4647-0E77-45C8-9AA1-71401819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FAA0-77DE-4295-BDE4-71A5BB30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5DEE-5DFA-4238-907A-DA5FC83E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C78D-0F93-4D8E-B803-08896F81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D28-9F8F-48D7-A355-AB48F9EA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DC6A-B8D8-459F-93A2-E7CA9D12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54CB-3E2F-46FF-A759-D17AB328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204E-D2F3-4377-84F6-2C09747A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B2F0-A45E-454E-9544-CE2A028F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6A0C-96D0-4C46-92F6-BFA515F8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7004-7321-4878-A1E1-DD5CF288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78C-D1DB-4C01-889F-631AFD00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491-78C1-4946-B3D2-C910226C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B295-63E4-4258-828E-243BCBF0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1537-84D5-4A7F-9465-D79836D6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FBC-B365-463B-A758-2C723B7A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FB7-B403-4F15-B33D-11722651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F200-A50D-45FF-8439-7024BAEC39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D470-508F-475C-932E-A2E97714D4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1428840" y="571680"/>
            <a:ext cx="642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норамный ур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русской литератур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6 клас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1285920" y="3214800"/>
            <a:ext cx="7215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Arial"/>
              </a:rPr>
              <a:t>Сюжетно-композиционные особен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Arial"/>
              </a:rPr>
              <a:t>повести А.С.Пушкина «Станционный смотрител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п урока: урок – исслед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Титульный лист первого издания «Повестей Белкина». 1831 г."/>
          <p:cNvPicPr/>
          <p:nvPr/>
        </p:nvPicPr>
        <p:blipFill>
          <a:blip r:embed="rId1"/>
          <a:stretch/>
        </p:blipFill>
        <p:spPr>
          <a:xfrm>
            <a:off x="0" y="142920"/>
            <a:ext cx="20494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285840" y="285840"/>
            <a:ext cx="88581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ние № 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провести сравнение Притчи и  повести на сюжетном уров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00040" y="1281240"/>
          <a:ext cx="8501040" cy="5240160"/>
        </p:xfrm>
        <a:graphic>
          <a:graphicData uri="http://schemas.openxmlformats.org/drawingml/2006/table">
            <a:tbl>
              <a:tblPr/>
              <a:tblGrid>
                <a:gridCol w="4251240"/>
                <a:gridCol w="4249800"/>
              </a:tblGrid>
              <a:tr h="471240"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тч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Станционный смотритель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ын уходит из дом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ец сам отправляет дочь из родного дома (случайно, невольно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кто не ищет ег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ец разыскивает в Петербурге дочь, чтобы вернуть её дом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достная встреча сына с отц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ец умер. На печальном кладбище заканчивается ист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ын вернулся домой нищий и голодн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вернулась, а зашла, проезжая мимо, богатая бары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ирение с отц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1400" rIns="41400" tIns="41400" bIns="41400" anchor="ctr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возможность встречи и примир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Picture 2" descr="Возвращение блудного сына. Рембрандт Харменс ван Рейн. 1669 г."/>
          <p:cNvPicPr/>
          <p:nvPr/>
        </p:nvPicPr>
        <p:blipFill>
          <a:blip r:embed="rId1"/>
          <a:stretch/>
        </p:blipFill>
        <p:spPr>
          <a:xfrm>
            <a:off x="4643280" y="1357200"/>
            <a:ext cx="43578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3"/>
          <p:cNvSpPr/>
          <p:nvPr/>
        </p:nvSpPr>
        <p:spPr>
          <a:xfrm>
            <a:off x="357120" y="142920"/>
            <a:ext cx="8358120" cy="207180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ние № 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подготовить ответы (в которых выскажите собственный взгляд на проблему) на следующие вопросы: каким вы видите финал повести, где он счастливее? Зачем А.С.Пушкин в основе произведения использует Притчу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428760" y="2928960"/>
            <a:ext cx="828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омощь учениками дается  слайд с репродукциями по повести “Станционный  смотритель”, картины Рембрандта “Возвращение блудного сына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428760" y="4214880"/>
            <a:ext cx="80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Цель использования нагляднос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здействие на эмоциональное состояние  учащих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ссоздание образной картины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Возвращение блудного сына. Рембрандт Харменс ван Рейн. 1669 г."/>
          <p:cNvPicPr/>
          <p:nvPr/>
        </p:nvPicPr>
        <p:blipFill>
          <a:blip r:embed="rId1"/>
          <a:stretch/>
        </p:blipFill>
        <p:spPr>
          <a:xfrm>
            <a:off x="-36360" y="182520"/>
            <a:ext cx="4084560" cy="468144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2" descr="untitled.bmp"/>
          <p:cNvPicPr/>
          <p:nvPr/>
        </p:nvPicPr>
        <p:blipFill>
          <a:blip r:embed="rId2"/>
          <a:stretch/>
        </p:blipFill>
        <p:spPr>
          <a:xfrm>
            <a:off x="3882960" y="249120"/>
            <a:ext cx="5316480" cy="453096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3"/>
          <p:cNvSpPr/>
          <p:nvPr/>
        </p:nvSpPr>
        <p:spPr>
          <a:xfrm>
            <a:off x="4214880" y="49291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Иллюстрация М.В. Добужинского к повести А.С. Пушкина «Станционный смотрител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4"/>
          <p:cNvSpPr/>
          <p:nvPr/>
        </p:nvSpPr>
        <p:spPr>
          <a:xfrm>
            <a:off x="428760" y="4929120"/>
            <a:ext cx="321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Возвращение блудного сына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Рембрандт Харменс ван Рейн. 1669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Скругленный прямоугольник 1"/>
          <p:cNvSpPr/>
          <p:nvPr/>
        </p:nvSpPr>
        <p:spPr>
          <a:xfrm>
            <a:off x="571680" y="285840"/>
            <a:ext cx="8001000" cy="5500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Вывод по поведенному исследован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1. Композиционный прием зеркального отображения автор использовал с целью точного и полного осмысления идеи пове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2.Своеобразие финальной сцены также  указывает на специфику композиции повести: «открытый» финал  дает возможность осмыслить основную идею произведения, сделать нравственный выбо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142920" y="151740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аучное обоснование: на этом этапе работы  ученики самостоятельно проводят сравнительный анализ чувств и состояния героев повести «Станционный смотритель», выявляют особенности сюжетной канвы. Расширить ответ, сделать его более осмысленным поможет табл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анный вид работы направлен на развитие мышления, исследовательских навыков, умения систематизировать материал, сопоставлять, делать выводы, совершенствует научные взгляд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142920" y="28584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Организация исследовательской деятельности на уроке по выявлению особенностей сюжета повести  «Станционный смотритель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357120" y="5715000"/>
            <a:ext cx="1000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Овал 7"/>
          <p:cNvSpPr/>
          <p:nvPr/>
        </p:nvSpPr>
        <p:spPr>
          <a:xfrm>
            <a:off x="1071720" y="5000760"/>
            <a:ext cx="7429320" cy="2000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Методы: частично-поисковый, словесно-логический, исследовательский, наглядно-иллюстративный, эвристиче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1500120" y="3357720"/>
          <a:ext cx="6000840" cy="865080"/>
        </p:xfrm>
        <a:graphic>
          <a:graphicData uri="http://schemas.openxmlformats.org/drawingml/2006/table">
            <a:tbl>
              <a:tblPr/>
              <a:tblGrid>
                <a:gridCol w="2714760"/>
                <a:gridCol w="3286080"/>
              </a:tblGrid>
              <a:tr h="305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Станционный смотритель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е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ч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1"/>
          <p:cNvSpPr/>
          <p:nvPr/>
        </p:nvSpPr>
        <p:spPr>
          <a:xfrm>
            <a:off x="0" y="2199960"/>
            <a:ext cx="8572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Задание: Распределить слова, обозначающие чувства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остояние героев произве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5"/>
          <p:cNvSpPr/>
          <p:nvPr/>
        </p:nvSpPr>
        <p:spPr>
          <a:xfrm>
            <a:off x="357120" y="214200"/>
            <a:ext cx="8572680" cy="164304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ный вопрос №1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нарушает (кто прерывает) рассказ повествователя Белки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 в канву повествования включен рассказ самого Самсона Выри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Скругленный прямоугольник 6"/>
          <p:cNvSpPr/>
          <p:nvPr/>
        </p:nvSpPr>
        <p:spPr>
          <a:xfrm>
            <a:off x="1714680" y="4357800"/>
            <a:ext cx="5715000" cy="207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80"/>
                </a:solidFill>
                <a:latin typeface="Arial"/>
              </a:rPr>
              <a:t>Испуг, тревога, тоска, негодование, одиночество, бессилие, отчаяние, любопытство, привязанность, доверие, любовь, счастье, богатство, рождение детей, безысходность, грусть, смирение, скорбь, надежда, в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285840" y="357120"/>
            <a:ext cx="8358120" cy="15001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ный вопрос № 2: зачем автор включает в повествование рассказ самого Самсона Выри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2920" y="221472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мощь учениками демонстрируется фрагмент видеофильма по повести “Станционный  смотритель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7"/>
          <p:cNvSpPr/>
          <p:nvPr/>
        </p:nvSpPr>
        <p:spPr>
          <a:xfrm>
            <a:off x="428760" y="3286080"/>
            <a:ext cx="792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Цель использования фрагмента видеофильм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здействие на эмоциональное состояние   учащих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ссоздание образной картины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Скругленный прямоугольник 1"/>
          <p:cNvSpPr/>
          <p:nvPr/>
        </p:nvSpPr>
        <p:spPr>
          <a:xfrm>
            <a:off x="928800" y="285840"/>
            <a:ext cx="7143480" cy="328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Вывод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своеобразие сюжета повести  заключается во включении в канву повествования рассказа самого Самсона Вырина, что усиливает восприятие трагичного положения героя произведения, усиливает его достоверность и эмоциональный настро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D:\Банк\Наташа\Школа-Наташа\пушкин\П.А. Александров с оригинала.jpg"/>
          <p:cNvPicPr/>
          <p:nvPr/>
        </p:nvPicPr>
        <p:blipFill>
          <a:blip r:embed="rId1"/>
          <a:stretch/>
        </p:blipFill>
        <p:spPr>
          <a:xfrm>
            <a:off x="571680" y="3859200"/>
            <a:ext cx="4143240" cy="2719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D:\Банк\Наташа\Школа-Наташа\пушкин\Рисунок работы художника Соколова. 1837..jpg"/>
          <p:cNvPicPr/>
          <p:nvPr/>
        </p:nvPicPr>
        <p:blipFill>
          <a:blip r:embed="rId2"/>
          <a:stretch/>
        </p:blipFill>
        <p:spPr>
          <a:xfrm>
            <a:off x="5643720" y="3714840"/>
            <a:ext cx="3222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2520" y="2857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285840" y="2858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5.Заключительная часть урока. Выводы. Рефлекс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214200" y="171468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Научное обоснование: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данная часть урока поможет систематизировать весь полученный материал, обобщить его, выработать свою нравственную позицию по проблеме исследования, осмыслить свою работу на уроке, подготовит к  творческой письменной рабо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Овал 4"/>
          <p:cNvSpPr/>
          <p:nvPr/>
        </p:nvSpPr>
        <p:spPr>
          <a:xfrm>
            <a:off x="785880" y="4786200"/>
            <a:ext cx="7286400" cy="1714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Методы: словесно-логическ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677160" y="722160"/>
            <a:ext cx="746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6.Домашнее зад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готовиться к письменной рабо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вернутый ответ на вопро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«Можно ли назвать финал счастливым и почему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214200" y="2571840"/>
            <a:ext cx="8643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Научное обоснование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данный вид работы позволит ученику выразить  свою точку зре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способствует развитию письменной реч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систематизирует  знания, полученные на предыдущих занят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3" descr="свечи картинки анимационные"/>
          <p:cNvPicPr/>
          <p:nvPr/>
        </p:nvPicPr>
        <p:blipFill>
          <a:blip r:embed="rId1"/>
          <a:stretch/>
        </p:blipFill>
        <p:spPr>
          <a:xfrm>
            <a:off x="4143240" y="4857840"/>
            <a:ext cx="1500480" cy="2000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свечи картинки анимационные"/>
          <p:cNvPicPr/>
          <p:nvPr/>
        </p:nvPicPr>
        <p:blipFill>
          <a:blip r:embed="rId2"/>
          <a:stretch/>
        </p:blipFill>
        <p:spPr>
          <a:xfrm>
            <a:off x="7215120" y="17640"/>
            <a:ext cx="19288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NA00808_"/>
          <p:cNvPicPr/>
          <p:nvPr/>
        </p:nvPicPr>
        <p:blipFill>
          <a:blip r:embed="rId1"/>
          <a:stretch/>
        </p:blipFill>
        <p:spPr>
          <a:xfrm>
            <a:off x="8286840" y="6000840"/>
            <a:ext cx="669960" cy="7333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3"/>
          <p:cNvSpPr/>
          <p:nvPr/>
        </p:nvSpPr>
        <p:spPr>
          <a:xfrm>
            <a:off x="571680" y="214200"/>
            <a:ext cx="82152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Ожидаемый результат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: учащиеся научатся проводить частичный литературоведческий анализ: выявление  сюжетно-композиционных особенностей произведения и их влияние на раскрытие темы и идеи произведения, будет сформулирована и осмыслена основная идея произведения А.С.Пушкина «Станционный смотритель»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Овал 4"/>
          <p:cNvSpPr/>
          <p:nvPr/>
        </p:nvSpPr>
        <p:spPr>
          <a:xfrm>
            <a:off x="5072040" y="4143240"/>
            <a:ext cx="4071960" cy="2714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Arial"/>
              </a:rPr>
              <a:t>Методы</a:t>
            </a:r>
            <a:r>
              <a:rPr b="0" lang="ru-RU" sz="1800" spc="-1" strike="noStrike">
                <a:solidFill>
                  <a:srgbClr val="92d050"/>
                </a:solidFill>
                <a:latin typeface="Arial"/>
              </a:rPr>
              <a:t>: эвристический, когнитивный, наглядно-иллюстративный, словесный, частично-поисковый, исследовательс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Овал 5"/>
          <p:cNvSpPr/>
          <p:nvPr/>
        </p:nvSpPr>
        <p:spPr>
          <a:xfrm>
            <a:off x="0" y="3500280"/>
            <a:ext cx="5643720" cy="3200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борудовани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: интерактивная доска, опорный конспект, фрагменты видеофильма, презентация, иллюстрации к “Станционному смотрителю”, репродукция картины Рембрандта “Возвращение блудного сына”, раздаточный материа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0" y="4600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и и задачи уро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Научить литературоведческому анализу произведения на основе повести А.С.Пушкина «Станционный смотритель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казать взаимосвязь сюжетно-композиционной организации и идейно-тематического уровня пове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Выяснить, каково решение темы “блудных детей” в “Станционном смотрителе”; сравнить его с библейской “Притчей о блудном сыне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должать работу по формированию речевых навы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Вызвать у детей чувство сострадания к брошенным родителям, заставить их задуматься над своим отношением к собственным родителям. Воспитание чувства ответственности за свои поступ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542520" y="293400"/>
            <a:ext cx="76651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ационный мом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Цель этапа: настроить учеников на восприятие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ктивное участие в работе над произведени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становка задачи урока перед учени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4" descr=""/>
          <p:cNvPicPr/>
          <p:nvPr/>
        </p:nvPicPr>
        <p:blipFill>
          <a:blip r:embed="rId1"/>
          <a:stretch/>
        </p:blipFill>
        <p:spPr>
          <a:xfrm>
            <a:off x="5573880" y="3286080"/>
            <a:ext cx="31842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428760" y="214200"/>
            <a:ext cx="8715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2.Разминка. Тренинг по теории литера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ное обосновани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Эта форма работы поможет  сосредоточиться на проблеме урока, обострит произвольное внимание и улучшит мыслительные операции, повысит  мотивацию уча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На этом этапе задания направлены на развитие мышления, внимания, совершенствование теоретических знаний по литературе,  выявление основных составляющих литературных понятий: притча, повесть, сюж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Овал 2"/>
          <p:cNvSpPr/>
          <p:nvPr/>
        </p:nvSpPr>
        <p:spPr>
          <a:xfrm>
            <a:off x="2286000" y="5214960"/>
            <a:ext cx="5429160" cy="164304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62b"/>
                </a:solidFill>
                <a:latin typeface="Arial"/>
              </a:rPr>
              <a:t>Методы: частично-поисковый, словесно-логиче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2"/>
          <p:cNvSpPr/>
          <p:nvPr/>
        </p:nvSpPr>
        <p:spPr>
          <a:xfrm>
            <a:off x="214200" y="428760"/>
            <a:ext cx="8715600" cy="2428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ние №1 – средний уровень слож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ти: восстановить определение понятия «повесть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весть - _________ жанр, ____________ по объему, тяготеющий к ____________ сюжет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спроизводящему __________    __________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Лишенный интриги сюжет сосредоточен вокруг _______       _________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личность и судьба которого раскрываются в пределах _________    ______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357120" y="321480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блемный вопрос – высокий уровень сложности: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 какие основные признаки повести следует обратить особое внимание и почем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428760" y="571680"/>
            <a:ext cx="8215200" cy="292860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428760" y="72396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Задание №2 – средний уровень сложности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восстановить понятие «притча», указать его основную особен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тча  - это ______   _______  рассказ в _______-__________ литературном жанре, заключающий в себе _______ или _____ поуч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57120" y="3857760"/>
            <a:ext cx="814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е №3 –высокий уровень сложности: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связать тему урока с данными понятия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деляя основные их составляющ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Данное задание звучит как итог Разми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2"/>
          <p:cNvSpPr/>
          <p:nvPr/>
        </p:nvSpPr>
        <p:spPr>
          <a:xfrm>
            <a:off x="0" y="0"/>
            <a:ext cx="885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Проверка домашнего задания: построить композицию повести «Станционный смотрител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ь этапа: подвести учащихся к выявлению особенностей построения произведения и сюжета повести, начать исследовательскую деятельность на уро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Скругленный прямоугольник 3"/>
          <p:cNvSpPr/>
          <p:nvPr/>
        </p:nvSpPr>
        <p:spPr>
          <a:xfrm>
            <a:off x="142920" y="2643120"/>
            <a:ext cx="9001080" cy="2714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1aff"/>
                </a:solidFill>
                <a:latin typeface="Arial"/>
              </a:rPr>
              <a:t>Композиция повести «Станционный смотритель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1aff"/>
                </a:solidFill>
                <a:latin typeface="Arial"/>
              </a:rPr>
              <a:t>1. Рассуждения автора о станционных смотрител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1aff"/>
                </a:solidFill>
                <a:latin typeface="Arial"/>
              </a:rPr>
              <a:t>2. Первая встреча с Самсоном Выриным и его дочер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1aff"/>
                </a:solidFill>
                <a:latin typeface="Arial"/>
              </a:rPr>
              <a:t>3. Вторая встреча. Рассказ Самсона Вырина о Ду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1a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a1aff"/>
                </a:solidFill>
                <a:latin typeface="Arial"/>
              </a:rPr>
              <a:t>4. Третий приезд повествователя. Рассказ мальчика о бары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535680" y="5572080"/>
            <a:ext cx="767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ный вопрос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акую роль в повествов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грает Притч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285840" y="142920"/>
            <a:ext cx="84294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Организация исследовательской деятельности на уроке по выявлению особенностей композиции повести «Станционный смотритель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бота с таблицей, сопоставительный анали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Научное обоснование: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на этом этапе работы используется  дифференцированный метод, ученики самостоятельно  проводят сопоставительный анализ Притчи о блудном сыне и повести  «Станционный смотритель».  Данный вид работы  направлен на развитие мышления, исследовательских навык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умения систематизировать материал, сопоставлять, делать выводы,  совершенствует научные взгляд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Овал 2"/>
          <p:cNvSpPr/>
          <p:nvPr/>
        </p:nvSpPr>
        <p:spPr>
          <a:xfrm>
            <a:off x="1000080" y="5214960"/>
            <a:ext cx="7143840" cy="1643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2000160" y="5357880"/>
            <a:ext cx="585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80"/>
                </a:solidFill>
                <a:latin typeface="Arial"/>
              </a:rPr>
              <a:t>Методы: частично-поисковый, словесно-логический, исследовательски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80"/>
                </a:solidFill>
                <a:latin typeface="Arial"/>
              </a:rPr>
              <a:t>наглядно-иллюстративный, когнитив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02:53:08Z</dcterms:created>
  <dc:creator>XTreme</dc:creator>
  <dc:description/>
  <dc:language>en-US</dc:language>
  <cp:lastModifiedBy>XTreme</cp:lastModifiedBy>
  <dcterms:modified xsi:type="dcterms:W3CDTF">2010-03-28T06:06:56Z</dcterms:modified>
  <cp:revision>50</cp:revision>
  <dc:subject/>
  <dc:title>Слайд 1</dc:title>
</cp:coreProperties>
</file>