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5.wmf" ContentType="image/x-wmf"/>
  <Override PartName="/ppt/media/image16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D166-475E-48D2-86D0-11A4066F8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72C7-D7C2-457A-BA46-7F6B4589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A81C-64CD-4832-A1DF-CA8166CDB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4284-8D64-4129-9A87-C6DD1016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FF6D-EF66-4420-95A6-35EDF165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53A3-1428-4DDD-8AAA-395FEBD0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E464-4A4B-488B-956F-5A012856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9A37-6188-4040-A24B-1891FB51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0714-7984-4B6B-A6B1-8A752CED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8A3B-E95F-4AA4-9EF5-72A285B0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35A0-53DE-49BA-9515-59AF7582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B378-4CB7-4229-846A-A289659F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E8C2-D3A8-48B3-B972-9FF2191B0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2.wmf"/><Relationship Id="rId2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050920" y="1773360"/>
            <a:ext cx="536904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иумф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0"/>
            <a:ext cx="961920" cy="91440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84720" y="5661000"/>
            <a:ext cx="961920" cy="91440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0"/>
            <a:ext cx="961920" cy="91440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812000" y="0"/>
            <a:ext cx="962280" cy="91440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96360" y="5661000"/>
            <a:ext cx="961920" cy="91440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5157720"/>
            <a:ext cx="574560" cy="48276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ree"/>
          <p:cNvSpPr/>
          <p:nvPr/>
        </p:nvSpPr>
        <p:spPr>
          <a:xfrm>
            <a:off x="324000" y="5516640"/>
            <a:ext cx="1152360" cy="101736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4680" y="5591160"/>
            <a:ext cx="704520" cy="833400"/>
          </a:xfrm>
          <a:custGeom>
            <a:avLst/>
            <a:gdLst/>
            <a:ahLst/>
            <a:rect l="l" t="t" r="r" b="b"/>
            <a:pathLst>
              <a:path w="444" h="525">
                <a:moveTo>
                  <a:pt x="133" y="48"/>
                </a:moveTo>
                <a:cubicBezTo>
                  <a:pt x="194" y="54"/>
                  <a:pt x="209" y="44"/>
                  <a:pt x="240" y="88"/>
                </a:cubicBezTo>
                <a:cubicBezTo>
                  <a:pt x="235" y="95"/>
                  <a:pt x="234" y="106"/>
                  <a:pt x="226" y="108"/>
                </a:cubicBezTo>
                <a:cubicBezTo>
                  <a:pt x="153" y="122"/>
                  <a:pt x="149" y="65"/>
                  <a:pt x="200" y="48"/>
                </a:cubicBezTo>
                <a:cubicBezTo>
                  <a:pt x="211" y="36"/>
                  <a:pt x="238" y="0"/>
                  <a:pt x="260" y="41"/>
                </a:cubicBezTo>
                <a:cubicBezTo>
                  <a:pt x="271" y="61"/>
                  <a:pt x="253" y="86"/>
                  <a:pt x="253" y="108"/>
                </a:cubicBezTo>
                <a:cubicBezTo>
                  <a:pt x="253" y="115"/>
                  <a:pt x="255" y="93"/>
                  <a:pt x="260" y="88"/>
                </a:cubicBezTo>
                <a:cubicBezTo>
                  <a:pt x="265" y="83"/>
                  <a:pt x="273" y="83"/>
                  <a:pt x="280" y="81"/>
                </a:cubicBezTo>
                <a:cubicBezTo>
                  <a:pt x="291" y="83"/>
                  <a:pt x="307" y="78"/>
                  <a:pt x="313" y="88"/>
                </a:cubicBezTo>
                <a:cubicBezTo>
                  <a:pt x="334" y="125"/>
                  <a:pt x="305" y="129"/>
                  <a:pt x="287" y="135"/>
                </a:cubicBezTo>
                <a:cubicBezTo>
                  <a:pt x="271" y="90"/>
                  <a:pt x="288" y="95"/>
                  <a:pt x="333" y="101"/>
                </a:cubicBezTo>
                <a:cubicBezTo>
                  <a:pt x="340" y="145"/>
                  <a:pt x="357" y="169"/>
                  <a:pt x="307" y="182"/>
                </a:cubicBezTo>
                <a:cubicBezTo>
                  <a:pt x="311" y="177"/>
                  <a:pt x="316" y="163"/>
                  <a:pt x="320" y="168"/>
                </a:cubicBezTo>
                <a:cubicBezTo>
                  <a:pt x="325" y="174"/>
                  <a:pt x="319" y="184"/>
                  <a:pt x="313" y="189"/>
                </a:cubicBezTo>
                <a:cubicBezTo>
                  <a:pt x="306" y="195"/>
                  <a:pt x="296" y="193"/>
                  <a:pt x="287" y="195"/>
                </a:cubicBezTo>
                <a:cubicBezTo>
                  <a:pt x="271" y="193"/>
                  <a:pt x="254" y="197"/>
                  <a:pt x="240" y="189"/>
                </a:cubicBezTo>
                <a:cubicBezTo>
                  <a:pt x="235" y="186"/>
                  <a:pt x="253" y="169"/>
                  <a:pt x="253" y="175"/>
                </a:cubicBezTo>
                <a:cubicBezTo>
                  <a:pt x="253" y="224"/>
                  <a:pt x="249" y="219"/>
                  <a:pt x="220" y="229"/>
                </a:cubicBezTo>
                <a:cubicBezTo>
                  <a:pt x="203" y="223"/>
                  <a:pt x="193" y="225"/>
                  <a:pt x="193" y="202"/>
                </a:cubicBezTo>
                <a:cubicBezTo>
                  <a:pt x="193" y="199"/>
                  <a:pt x="200" y="209"/>
                  <a:pt x="200" y="209"/>
                </a:cubicBezTo>
                <a:cubicBezTo>
                  <a:pt x="209" y="238"/>
                  <a:pt x="202" y="252"/>
                  <a:pt x="173" y="262"/>
                </a:cubicBezTo>
                <a:cubicBezTo>
                  <a:pt x="128" y="246"/>
                  <a:pt x="170" y="255"/>
                  <a:pt x="159" y="276"/>
                </a:cubicBezTo>
                <a:cubicBezTo>
                  <a:pt x="156" y="282"/>
                  <a:pt x="146" y="280"/>
                  <a:pt x="139" y="282"/>
                </a:cubicBezTo>
                <a:cubicBezTo>
                  <a:pt x="131" y="279"/>
                  <a:pt x="50" y="244"/>
                  <a:pt x="119" y="262"/>
                </a:cubicBezTo>
                <a:cubicBezTo>
                  <a:pt x="108" y="327"/>
                  <a:pt x="107" y="310"/>
                  <a:pt x="52" y="329"/>
                </a:cubicBezTo>
                <a:cubicBezTo>
                  <a:pt x="47" y="311"/>
                  <a:pt x="44" y="294"/>
                  <a:pt x="39" y="276"/>
                </a:cubicBezTo>
                <a:cubicBezTo>
                  <a:pt x="37" y="269"/>
                  <a:pt x="26" y="259"/>
                  <a:pt x="32" y="255"/>
                </a:cubicBezTo>
                <a:cubicBezTo>
                  <a:pt x="40" y="250"/>
                  <a:pt x="50" y="260"/>
                  <a:pt x="59" y="262"/>
                </a:cubicBezTo>
                <a:cubicBezTo>
                  <a:pt x="80" y="284"/>
                  <a:pt x="72" y="294"/>
                  <a:pt x="45" y="302"/>
                </a:cubicBezTo>
                <a:cubicBezTo>
                  <a:pt x="28" y="276"/>
                  <a:pt x="0" y="256"/>
                  <a:pt x="52" y="269"/>
                </a:cubicBezTo>
                <a:cubicBezTo>
                  <a:pt x="63" y="300"/>
                  <a:pt x="51" y="312"/>
                  <a:pt x="25" y="329"/>
                </a:cubicBezTo>
                <a:cubicBezTo>
                  <a:pt x="59" y="341"/>
                  <a:pt x="80" y="325"/>
                  <a:pt x="92" y="363"/>
                </a:cubicBezTo>
                <a:cubicBezTo>
                  <a:pt x="85" y="365"/>
                  <a:pt x="77" y="374"/>
                  <a:pt x="72" y="369"/>
                </a:cubicBezTo>
                <a:cubicBezTo>
                  <a:pt x="67" y="364"/>
                  <a:pt x="72" y="351"/>
                  <a:pt x="79" y="349"/>
                </a:cubicBezTo>
                <a:cubicBezTo>
                  <a:pt x="92" y="345"/>
                  <a:pt x="106" y="354"/>
                  <a:pt x="119" y="356"/>
                </a:cubicBezTo>
                <a:cubicBezTo>
                  <a:pt x="150" y="385"/>
                  <a:pt x="118" y="394"/>
                  <a:pt x="166" y="383"/>
                </a:cubicBezTo>
                <a:cubicBezTo>
                  <a:pt x="188" y="385"/>
                  <a:pt x="213" y="380"/>
                  <a:pt x="233" y="389"/>
                </a:cubicBezTo>
                <a:cubicBezTo>
                  <a:pt x="240" y="392"/>
                  <a:pt x="233" y="408"/>
                  <a:pt x="226" y="410"/>
                </a:cubicBezTo>
                <a:cubicBezTo>
                  <a:pt x="209" y="414"/>
                  <a:pt x="191" y="405"/>
                  <a:pt x="173" y="403"/>
                </a:cubicBezTo>
                <a:cubicBezTo>
                  <a:pt x="180" y="372"/>
                  <a:pt x="181" y="359"/>
                  <a:pt x="213" y="369"/>
                </a:cubicBezTo>
                <a:cubicBezTo>
                  <a:pt x="220" y="376"/>
                  <a:pt x="231" y="380"/>
                  <a:pt x="233" y="389"/>
                </a:cubicBezTo>
                <a:cubicBezTo>
                  <a:pt x="234" y="395"/>
                  <a:pt x="220" y="409"/>
                  <a:pt x="220" y="403"/>
                </a:cubicBezTo>
                <a:cubicBezTo>
                  <a:pt x="220" y="380"/>
                  <a:pt x="246" y="380"/>
                  <a:pt x="260" y="376"/>
                </a:cubicBezTo>
                <a:cubicBezTo>
                  <a:pt x="286" y="393"/>
                  <a:pt x="280" y="383"/>
                  <a:pt x="287" y="416"/>
                </a:cubicBezTo>
                <a:cubicBezTo>
                  <a:pt x="289" y="427"/>
                  <a:pt x="291" y="439"/>
                  <a:pt x="293" y="450"/>
                </a:cubicBezTo>
                <a:cubicBezTo>
                  <a:pt x="295" y="459"/>
                  <a:pt x="289" y="432"/>
                  <a:pt x="287" y="423"/>
                </a:cubicBezTo>
                <a:cubicBezTo>
                  <a:pt x="298" y="374"/>
                  <a:pt x="309" y="397"/>
                  <a:pt x="347" y="410"/>
                </a:cubicBezTo>
                <a:cubicBezTo>
                  <a:pt x="357" y="439"/>
                  <a:pt x="375" y="446"/>
                  <a:pt x="340" y="456"/>
                </a:cubicBezTo>
                <a:cubicBezTo>
                  <a:pt x="300" y="394"/>
                  <a:pt x="350" y="420"/>
                  <a:pt x="394" y="430"/>
                </a:cubicBezTo>
                <a:cubicBezTo>
                  <a:pt x="392" y="446"/>
                  <a:pt x="393" y="463"/>
                  <a:pt x="387" y="477"/>
                </a:cubicBezTo>
                <a:cubicBezTo>
                  <a:pt x="384" y="484"/>
                  <a:pt x="375" y="492"/>
                  <a:pt x="367" y="490"/>
                </a:cubicBezTo>
                <a:cubicBezTo>
                  <a:pt x="360" y="488"/>
                  <a:pt x="354" y="474"/>
                  <a:pt x="360" y="470"/>
                </a:cubicBezTo>
                <a:cubicBezTo>
                  <a:pt x="368" y="465"/>
                  <a:pt x="378" y="475"/>
                  <a:pt x="387" y="477"/>
                </a:cubicBezTo>
                <a:cubicBezTo>
                  <a:pt x="411" y="525"/>
                  <a:pt x="391" y="501"/>
                  <a:pt x="360" y="490"/>
                </a:cubicBezTo>
                <a:cubicBezTo>
                  <a:pt x="367" y="488"/>
                  <a:pt x="373" y="483"/>
                  <a:pt x="380" y="483"/>
                </a:cubicBezTo>
                <a:cubicBezTo>
                  <a:pt x="392" y="483"/>
                  <a:pt x="403" y="487"/>
                  <a:pt x="414" y="490"/>
                </a:cubicBezTo>
                <a:cubicBezTo>
                  <a:pt x="423" y="492"/>
                  <a:pt x="434" y="490"/>
                  <a:pt x="441" y="497"/>
                </a:cubicBezTo>
                <a:cubicBezTo>
                  <a:pt x="444" y="500"/>
                  <a:pt x="436" y="506"/>
                  <a:pt x="434" y="510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6308640"/>
            <a:ext cx="1447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16000" y="602136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037E-007 C 0.21354 -0.00255 0.18056 0.02477 0.27431 -0.00764 C 0.28021 -0.01273 0.28716 -0.0162 0.2941 -0.01852 C 0.304 -0.03079 0.28889 -0.01111 0.29757 -0.02616 C 0.29914 -0.0287 0.30139 -0.03033 0.30348 -0.03241 C 0.30573 -0.03472 0.31042 -0.03866 0.31042 -0.03866 C 0.32275 -0.06389 0.33629 -0.07755 0.35799 -0.08519 C 0.36268 -0.08681 0.36476 -0.09144 0.36858 -0.09445 C 0.37848 -0.10208 0.39601 -0.10208 0.40556 -0.10232 C 0.49601 -0.1037 0.58646 -0.1044 0.67674 -0.10533 C 0.68108 -0.10741 0.68282 -0.11134 0.68716 -0.11296 C 0.69011 -0.11713 0.69254 -0.11759 0.69653 -0.11921 C 0.70104 -0.1257 0.70782 -0.12732 0.71389 -0.13009 C 0.71754 -0.13519 0.72448 -0.13796 0.729 -0.14097 C 0.73681 -0.14607 0.74045 -0.15509 0.74653 -0.16273 C 0.74792 -0.16644 0.74983 -0.16991 0.75104 -0.17361 C 0.75539 -0.18681 0.7566 -0.20116 0.76164 -0.21389 C 0.7625 -0.22176 0.7632 -0.22963 0.76511 -0.23704 C 0.76719 -0.25579 0.77084 -0.275 0.77552 -0.29283 C 0.77639 -0.29977 0.77726 -0.30509 0.779 -0.31158 C 0.78056 -0.32847 0.78004 -0.35324 0.78368 -0.36736 C 0.78316 -0.41435 0.79514 -0.46574 0.77431 -0.50533 C 0.77223 -0.51759 0.76632 -0.52222 0.7592 -0.53009 C 0.75573 -0.53403 0.75434 -0.53634 0.75 -0.53935 C 0.74688 -0.54514 0.74341 -0.54583 0.73941 -0.55023 C 0.7342 -0.55602 0.73473 -0.55972 0.72778 -0.56412 C 0.72483 -0.56829 0.7224 -0.56945 0.71858 -0.57199 C 0.71493 -0.57431 0.71302 -0.57917 0.7092 -0.58125 C 0.70764 -0.58218 0.70608 -0.58218 0.70452 -0.58287 C 0.70295 -0.58357 0.70157 -0.58495 0.7 -0.58588 C 0.69775 -0.58704 0.69289 -0.58912 0.69289 -0.58912 C 0.6842 -0.59815 0.68889 -0.59491 0.67084 -0.59514 C 0.58473 -0.59607 0.49861 -0.5963 0.41268 -0.59676 C 0.30729 -0.5963 0.20191 -0.59607 0.09653 -0.59514 C 0.09011 -0.59514 0.08282 -0.59005 0.07674 -0.5875 C 0.07292 -0.58588 0.06511 -0.58287 0.06511 -0.58287 C 0.05799 -0.57338 0.06164 -0.57662 0.05452 -0.57199 C 0.05261 -0.56389 0.05434 -0.56852 0.04757 -0.55949 C 0.04636 -0.55787 0.0441 -0.55486 0.0441 -0.55486 C 0.0415 -0.54514 0.03907 -0.53264 0.03368 -0.52546 C 0.03229 -0.5206 0.03039 -0.51644 0.029 -0.51158 C 0.02778 -0.49398 0.0283 -0.47593 0.02552 -0.4588 C 0.02466 -0.45324 0.02205 -0.44861 0.02084 -0.44329 C 0.01858 -0.43333 0.01719 -0.42245 0.01268 -0.41389 C 0.01146 -0.40417 0.00851 -0.39537 0.00695 -0.38588 C 0.00608 -0.30533 0.00539 -0.22454 0.00452 -0.14398 C 0.00382 -0.07384 0.00747 -0.0875 -0.00243 -0.04954 C -0.00121 -0.00394 -0.00399 -0.02014 8.33333E-007 -3.7037E-007 Z">
                                      <p:cBhvr>
                                        <p:cTn id="6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44520" y="1386000"/>
            <a:ext cx="6697800" cy="4101840"/>
          </a:xfrm>
          <a:prstGeom prst="rect">
            <a:avLst/>
          </a:prstGeom>
          <a:solidFill>
            <a:srgbClr val="323b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4520" y="4121280"/>
            <a:ext cx="79200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97240" y="2249640"/>
            <a:ext cx="576360" cy="48096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1960" y="2897280"/>
            <a:ext cx="431640" cy="40932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453440" y="4005360"/>
            <a:ext cx="503280" cy="34452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7042320" y="66492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42320" y="593640"/>
            <a:ext cx="792000" cy="503280"/>
          </a:xfrm>
          <a:custGeom>
            <a:avLst/>
            <a:gdLst>
              <a:gd name="textAreaLeft" fmla="*/ 0 w 792000"/>
              <a:gd name="textAreaRight" fmla="*/ 792360 w 792000"/>
              <a:gd name="textAreaTop" fmla="*/ 65160 h 503280"/>
              <a:gd name="textAreaBottom" fmla="*/ 4381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23b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42320" y="880920"/>
            <a:ext cx="792000" cy="216000"/>
          </a:xfrm>
          <a:custGeom>
            <a:avLst/>
            <a:gdLst>
              <a:gd name="textAreaLeft" fmla="*/ 0 w 792000"/>
              <a:gd name="textAreaRight" fmla="*/ 792360 w 792000"/>
              <a:gd name="textAreaTop" fmla="*/ 27720 h 216000"/>
              <a:gd name="textAreaBottom" fmla="*/ 1882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42320" y="593640"/>
            <a:ext cx="792000" cy="217440"/>
          </a:xfrm>
          <a:custGeom>
            <a:avLst/>
            <a:gdLst>
              <a:gd name="textAreaLeft" fmla="*/ 0 w 792000"/>
              <a:gd name="textAreaRight" fmla="*/ 792360 w 792000"/>
              <a:gd name="textAreaTop" fmla="*/ 28080 h 217440"/>
              <a:gd name="textAreaBottom" fmla="*/ 189360 h 2174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1600" y="1386000"/>
            <a:ext cx="6840720" cy="4316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5400000">
            <a:off x="5313240" y="181764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77080" y="4221000"/>
            <a:ext cx="1741320" cy="1741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-757080" y="4724280"/>
            <a:ext cx="1800000" cy="1800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25960" y="3473280"/>
            <a:ext cx="1008000" cy="322560"/>
          </a:xfrm>
          <a:custGeom>
            <a:avLst/>
            <a:gdLst>
              <a:gd name="textAreaLeft" fmla="*/ 252000 w 1008000"/>
              <a:gd name="textAreaRight" fmla="*/ 756000 w 1008000"/>
              <a:gd name="textAreaTop" fmla="*/ 40320 h 322560"/>
              <a:gd name="textAreaBottom" fmla="*/ 322560 h 3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 rot="5400000">
            <a:off x="4304880" y="332892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 rot="5400000">
            <a:off x="2865240" y="3328920"/>
            <a:ext cx="289080" cy="288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240680" y="4468680"/>
            <a:ext cx="1342800" cy="1206720"/>
          </a:xfrm>
          <a:custGeom>
            <a:avLst/>
            <a:gdLst/>
            <a:ahLst/>
            <a:rect l="l" t="t" r="r" b="b"/>
            <a:pathLst>
              <a:path w="967" h="904">
                <a:moveTo>
                  <a:pt x="318" y="67"/>
                </a:moveTo>
                <a:cubicBezTo>
                  <a:pt x="320" y="58"/>
                  <a:pt x="318" y="47"/>
                  <a:pt x="324" y="40"/>
                </a:cubicBezTo>
                <a:cubicBezTo>
                  <a:pt x="330" y="33"/>
                  <a:pt x="342" y="37"/>
                  <a:pt x="351" y="33"/>
                </a:cubicBezTo>
                <a:cubicBezTo>
                  <a:pt x="416" y="5"/>
                  <a:pt x="319" y="33"/>
                  <a:pt x="398" y="13"/>
                </a:cubicBezTo>
                <a:cubicBezTo>
                  <a:pt x="469" y="20"/>
                  <a:pt x="473" y="6"/>
                  <a:pt x="492" y="60"/>
                </a:cubicBezTo>
                <a:cubicBezTo>
                  <a:pt x="483" y="94"/>
                  <a:pt x="483" y="124"/>
                  <a:pt x="458" y="147"/>
                </a:cubicBezTo>
                <a:cubicBezTo>
                  <a:pt x="442" y="194"/>
                  <a:pt x="411" y="170"/>
                  <a:pt x="391" y="141"/>
                </a:cubicBezTo>
                <a:cubicBezTo>
                  <a:pt x="367" y="48"/>
                  <a:pt x="376" y="17"/>
                  <a:pt x="458" y="0"/>
                </a:cubicBezTo>
                <a:cubicBezTo>
                  <a:pt x="519" y="11"/>
                  <a:pt x="505" y="20"/>
                  <a:pt x="545" y="60"/>
                </a:cubicBezTo>
                <a:cubicBezTo>
                  <a:pt x="555" y="98"/>
                  <a:pt x="559" y="105"/>
                  <a:pt x="552" y="147"/>
                </a:cubicBezTo>
                <a:cubicBezTo>
                  <a:pt x="545" y="145"/>
                  <a:pt x="532" y="148"/>
                  <a:pt x="532" y="141"/>
                </a:cubicBezTo>
                <a:cubicBezTo>
                  <a:pt x="532" y="123"/>
                  <a:pt x="577" y="110"/>
                  <a:pt x="585" y="107"/>
                </a:cubicBezTo>
                <a:cubicBezTo>
                  <a:pt x="599" y="102"/>
                  <a:pt x="626" y="94"/>
                  <a:pt x="626" y="94"/>
                </a:cubicBezTo>
                <a:cubicBezTo>
                  <a:pt x="679" y="104"/>
                  <a:pt x="648" y="101"/>
                  <a:pt x="679" y="134"/>
                </a:cubicBezTo>
                <a:cubicBezTo>
                  <a:pt x="688" y="158"/>
                  <a:pt x="692" y="183"/>
                  <a:pt x="699" y="208"/>
                </a:cubicBezTo>
                <a:cubicBezTo>
                  <a:pt x="691" y="276"/>
                  <a:pt x="698" y="279"/>
                  <a:pt x="632" y="261"/>
                </a:cubicBezTo>
                <a:cubicBezTo>
                  <a:pt x="606" y="221"/>
                  <a:pt x="604" y="168"/>
                  <a:pt x="646" y="141"/>
                </a:cubicBezTo>
                <a:cubicBezTo>
                  <a:pt x="720" y="149"/>
                  <a:pt x="719" y="146"/>
                  <a:pt x="733" y="214"/>
                </a:cubicBezTo>
                <a:cubicBezTo>
                  <a:pt x="730" y="259"/>
                  <a:pt x="753" y="343"/>
                  <a:pt x="699" y="362"/>
                </a:cubicBezTo>
                <a:cubicBezTo>
                  <a:pt x="716" y="278"/>
                  <a:pt x="703" y="268"/>
                  <a:pt x="780" y="301"/>
                </a:cubicBezTo>
                <a:cubicBezTo>
                  <a:pt x="820" y="341"/>
                  <a:pt x="802" y="316"/>
                  <a:pt x="827" y="408"/>
                </a:cubicBezTo>
                <a:cubicBezTo>
                  <a:pt x="844" y="471"/>
                  <a:pt x="866" y="535"/>
                  <a:pt x="887" y="596"/>
                </a:cubicBezTo>
                <a:cubicBezTo>
                  <a:pt x="882" y="600"/>
                  <a:pt x="879" y="610"/>
                  <a:pt x="873" y="609"/>
                </a:cubicBezTo>
                <a:cubicBezTo>
                  <a:pt x="846" y="605"/>
                  <a:pt x="820" y="572"/>
                  <a:pt x="793" y="562"/>
                </a:cubicBezTo>
                <a:cubicBezTo>
                  <a:pt x="782" y="531"/>
                  <a:pt x="769" y="507"/>
                  <a:pt x="760" y="475"/>
                </a:cubicBezTo>
                <a:cubicBezTo>
                  <a:pt x="758" y="468"/>
                  <a:pt x="746" y="456"/>
                  <a:pt x="753" y="455"/>
                </a:cubicBezTo>
                <a:cubicBezTo>
                  <a:pt x="777" y="450"/>
                  <a:pt x="802" y="460"/>
                  <a:pt x="827" y="462"/>
                </a:cubicBezTo>
                <a:cubicBezTo>
                  <a:pt x="814" y="499"/>
                  <a:pt x="816" y="511"/>
                  <a:pt x="780" y="522"/>
                </a:cubicBezTo>
                <a:cubicBezTo>
                  <a:pt x="744" y="548"/>
                  <a:pt x="716" y="548"/>
                  <a:pt x="679" y="522"/>
                </a:cubicBezTo>
                <a:cubicBezTo>
                  <a:pt x="669" y="484"/>
                  <a:pt x="660" y="470"/>
                  <a:pt x="706" y="482"/>
                </a:cubicBezTo>
                <a:cubicBezTo>
                  <a:pt x="720" y="559"/>
                  <a:pt x="705" y="632"/>
                  <a:pt x="626" y="656"/>
                </a:cubicBezTo>
                <a:cubicBezTo>
                  <a:pt x="615" y="652"/>
                  <a:pt x="603" y="649"/>
                  <a:pt x="592" y="643"/>
                </a:cubicBezTo>
                <a:cubicBezTo>
                  <a:pt x="578" y="635"/>
                  <a:pt x="552" y="616"/>
                  <a:pt x="552" y="616"/>
                </a:cubicBezTo>
                <a:cubicBezTo>
                  <a:pt x="534" y="589"/>
                  <a:pt x="525" y="568"/>
                  <a:pt x="518" y="536"/>
                </a:cubicBezTo>
                <a:cubicBezTo>
                  <a:pt x="520" y="514"/>
                  <a:pt x="504" y="477"/>
                  <a:pt x="525" y="469"/>
                </a:cubicBezTo>
                <a:cubicBezTo>
                  <a:pt x="573" y="450"/>
                  <a:pt x="635" y="505"/>
                  <a:pt x="666" y="536"/>
                </a:cubicBezTo>
                <a:cubicBezTo>
                  <a:pt x="680" y="580"/>
                  <a:pt x="689" y="578"/>
                  <a:pt x="659" y="623"/>
                </a:cubicBezTo>
                <a:cubicBezTo>
                  <a:pt x="640" y="652"/>
                  <a:pt x="559" y="656"/>
                  <a:pt x="559" y="656"/>
                </a:cubicBezTo>
                <a:cubicBezTo>
                  <a:pt x="461" y="650"/>
                  <a:pt x="454" y="673"/>
                  <a:pt x="438" y="596"/>
                </a:cubicBezTo>
                <a:cubicBezTo>
                  <a:pt x="440" y="569"/>
                  <a:pt x="429" y="538"/>
                  <a:pt x="445" y="516"/>
                </a:cubicBezTo>
                <a:cubicBezTo>
                  <a:pt x="471" y="480"/>
                  <a:pt x="505" y="540"/>
                  <a:pt x="512" y="549"/>
                </a:cubicBezTo>
                <a:cubicBezTo>
                  <a:pt x="499" y="659"/>
                  <a:pt x="511" y="694"/>
                  <a:pt x="405" y="717"/>
                </a:cubicBezTo>
                <a:cubicBezTo>
                  <a:pt x="355" y="706"/>
                  <a:pt x="330" y="703"/>
                  <a:pt x="291" y="676"/>
                </a:cubicBezTo>
                <a:cubicBezTo>
                  <a:pt x="266" y="641"/>
                  <a:pt x="245" y="638"/>
                  <a:pt x="291" y="616"/>
                </a:cubicBezTo>
                <a:cubicBezTo>
                  <a:pt x="389" y="621"/>
                  <a:pt x="432" y="594"/>
                  <a:pt x="472" y="670"/>
                </a:cubicBezTo>
                <a:cubicBezTo>
                  <a:pt x="453" y="762"/>
                  <a:pt x="469" y="729"/>
                  <a:pt x="398" y="763"/>
                </a:cubicBezTo>
                <a:cubicBezTo>
                  <a:pt x="305" y="758"/>
                  <a:pt x="269" y="757"/>
                  <a:pt x="197" y="710"/>
                </a:cubicBezTo>
                <a:cubicBezTo>
                  <a:pt x="199" y="694"/>
                  <a:pt x="197" y="677"/>
                  <a:pt x="204" y="663"/>
                </a:cubicBezTo>
                <a:cubicBezTo>
                  <a:pt x="207" y="657"/>
                  <a:pt x="287" y="644"/>
                  <a:pt x="291" y="643"/>
                </a:cubicBezTo>
                <a:cubicBezTo>
                  <a:pt x="343" y="650"/>
                  <a:pt x="350" y="644"/>
                  <a:pt x="364" y="690"/>
                </a:cubicBezTo>
                <a:cubicBezTo>
                  <a:pt x="350" y="790"/>
                  <a:pt x="376" y="814"/>
                  <a:pt x="284" y="804"/>
                </a:cubicBezTo>
                <a:cubicBezTo>
                  <a:pt x="258" y="778"/>
                  <a:pt x="246" y="772"/>
                  <a:pt x="257" y="737"/>
                </a:cubicBezTo>
                <a:cubicBezTo>
                  <a:pt x="259" y="746"/>
                  <a:pt x="273" y="762"/>
                  <a:pt x="264" y="763"/>
                </a:cubicBezTo>
                <a:cubicBezTo>
                  <a:pt x="172" y="777"/>
                  <a:pt x="75" y="761"/>
                  <a:pt x="163" y="730"/>
                </a:cubicBezTo>
                <a:cubicBezTo>
                  <a:pt x="188" y="734"/>
                  <a:pt x="221" y="724"/>
                  <a:pt x="237" y="743"/>
                </a:cubicBezTo>
                <a:cubicBezTo>
                  <a:pt x="275" y="790"/>
                  <a:pt x="175" y="812"/>
                  <a:pt x="157" y="817"/>
                </a:cubicBezTo>
                <a:cubicBezTo>
                  <a:pt x="63" y="806"/>
                  <a:pt x="51" y="825"/>
                  <a:pt x="16" y="757"/>
                </a:cubicBezTo>
                <a:cubicBezTo>
                  <a:pt x="9" y="724"/>
                  <a:pt x="0" y="701"/>
                  <a:pt x="36" y="690"/>
                </a:cubicBezTo>
                <a:cubicBezTo>
                  <a:pt x="89" y="694"/>
                  <a:pt x="133" y="684"/>
                  <a:pt x="163" y="730"/>
                </a:cubicBezTo>
                <a:cubicBezTo>
                  <a:pt x="154" y="764"/>
                  <a:pt x="159" y="784"/>
                  <a:pt x="123" y="797"/>
                </a:cubicBezTo>
                <a:cubicBezTo>
                  <a:pt x="97" y="807"/>
                  <a:pt x="43" y="817"/>
                  <a:pt x="43" y="817"/>
                </a:cubicBezTo>
                <a:cubicBezTo>
                  <a:pt x="32" y="815"/>
                  <a:pt x="14" y="821"/>
                  <a:pt x="9" y="810"/>
                </a:cubicBezTo>
                <a:cubicBezTo>
                  <a:pt x="1" y="793"/>
                  <a:pt x="13" y="751"/>
                  <a:pt x="30" y="737"/>
                </a:cubicBezTo>
                <a:cubicBezTo>
                  <a:pt x="55" y="716"/>
                  <a:pt x="86" y="702"/>
                  <a:pt x="117" y="696"/>
                </a:cubicBezTo>
                <a:cubicBezTo>
                  <a:pt x="190" y="664"/>
                  <a:pt x="265" y="662"/>
                  <a:pt x="344" y="690"/>
                </a:cubicBezTo>
                <a:cubicBezTo>
                  <a:pt x="365" y="709"/>
                  <a:pt x="412" y="734"/>
                  <a:pt x="438" y="750"/>
                </a:cubicBezTo>
                <a:cubicBezTo>
                  <a:pt x="452" y="791"/>
                  <a:pt x="442" y="795"/>
                  <a:pt x="405" y="777"/>
                </a:cubicBezTo>
                <a:cubicBezTo>
                  <a:pt x="384" y="698"/>
                  <a:pt x="407" y="678"/>
                  <a:pt x="472" y="656"/>
                </a:cubicBezTo>
                <a:cubicBezTo>
                  <a:pt x="568" y="669"/>
                  <a:pt x="589" y="655"/>
                  <a:pt x="639" y="723"/>
                </a:cubicBezTo>
                <a:cubicBezTo>
                  <a:pt x="621" y="773"/>
                  <a:pt x="563" y="741"/>
                  <a:pt x="592" y="690"/>
                </a:cubicBezTo>
                <a:cubicBezTo>
                  <a:pt x="596" y="684"/>
                  <a:pt x="605" y="685"/>
                  <a:pt x="612" y="683"/>
                </a:cubicBezTo>
                <a:cubicBezTo>
                  <a:pt x="639" y="687"/>
                  <a:pt x="676" y="674"/>
                  <a:pt x="693" y="696"/>
                </a:cubicBezTo>
                <a:cubicBezTo>
                  <a:pt x="739" y="756"/>
                  <a:pt x="685" y="768"/>
                  <a:pt x="659" y="777"/>
                </a:cubicBezTo>
                <a:cubicBezTo>
                  <a:pt x="573" y="770"/>
                  <a:pt x="589" y="770"/>
                  <a:pt x="532" y="750"/>
                </a:cubicBezTo>
                <a:cubicBezTo>
                  <a:pt x="525" y="729"/>
                  <a:pt x="505" y="693"/>
                  <a:pt x="525" y="670"/>
                </a:cubicBezTo>
                <a:cubicBezTo>
                  <a:pt x="533" y="661"/>
                  <a:pt x="548" y="665"/>
                  <a:pt x="559" y="663"/>
                </a:cubicBezTo>
                <a:cubicBezTo>
                  <a:pt x="581" y="670"/>
                  <a:pt x="605" y="673"/>
                  <a:pt x="626" y="683"/>
                </a:cubicBezTo>
                <a:cubicBezTo>
                  <a:pt x="678" y="707"/>
                  <a:pt x="714" y="813"/>
                  <a:pt x="760" y="857"/>
                </a:cubicBezTo>
                <a:cubicBezTo>
                  <a:pt x="762" y="866"/>
                  <a:pt x="761" y="876"/>
                  <a:pt x="766" y="884"/>
                </a:cubicBezTo>
                <a:cubicBezTo>
                  <a:pt x="770" y="891"/>
                  <a:pt x="789" y="904"/>
                  <a:pt x="786" y="897"/>
                </a:cubicBezTo>
                <a:cubicBezTo>
                  <a:pt x="781" y="886"/>
                  <a:pt x="769" y="880"/>
                  <a:pt x="760" y="871"/>
                </a:cubicBezTo>
                <a:cubicBezTo>
                  <a:pt x="745" y="827"/>
                  <a:pt x="728" y="809"/>
                  <a:pt x="780" y="784"/>
                </a:cubicBezTo>
                <a:cubicBezTo>
                  <a:pt x="940" y="814"/>
                  <a:pt x="967" y="815"/>
                  <a:pt x="860" y="804"/>
                </a:cubicBezTo>
                <a:cubicBezTo>
                  <a:pt x="844" y="780"/>
                  <a:pt x="818" y="749"/>
                  <a:pt x="860" y="717"/>
                </a:cubicBezTo>
                <a:cubicBezTo>
                  <a:pt x="878" y="703"/>
                  <a:pt x="905" y="721"/>
                  <a:pt x="927" y="723"/>
                </a:cubicBezTo>
                <a:cubicBezTo>
                  <a:pt x="948" y="746"/>
                  <a:pt x="956" y="775"/>
                  <a:pt x="967" y="804"/>
                </a:cubicBezTo>
                <a:cubicBezTo>
                  <a:pt x="949" y="871"/>
                  <a:pt x="903" y="819"/>
                  <a:pt x="853" y="804"/>
                </a:cubicBezTo>
                <a:cubicBezTo>
                  <a:pt x="834" y="783"/>
                  <a:pt x="823" y="779"/>
                  <a:pt x="847" y="757"/>
                </a:cubicBezTo>
                <a:cubicBezTo>
                  <a:pt x="865" y="762"/>
                  <a:pt x="899" y="765"/>
                  <a:pt x="860" y="804"/>
                </a:cubicBezTo>
                <a:cubicBezTo>
                  <a:pt x="849" y="815"/>
                  <a:pt x="829" y="813"/>
                  <a:pt x="813" y="817"/>
                </a:cubicBezTo>
                <a:cubicBezTo>
                  <a:pt x="754" y="806"/>
                  <a:pt x="731" y="809"/>
                  <a:pt x="706" y="757"/>
                </a:cubicBezTo>
                <a:cubicBezTo>
                  <a:pt x="727" y="698"/>
                  <a:pt x="793" y="749"/>
                  <a:pt x="827" y="770"/>
                </a:cubicBezTo>
                <a:cubicBezTo>
                  <a:pt x="849" y="845"/>
                  <a:pt x="717" y="782"/>
                  <a:pt x="679" y="770"/>
                </a:cubicBezTo>
                <a:cubicBezTo>
                  <a:pt x="648" y="760"/>
                  <a:pt x="585" y="743"/>
                  <a:pt x="585" y="743"/>
                </a:cubicBezTo>
                <a:cubicBezTo>
                  <a:pt x="560" y="718"/>
                  <a:pt x="548" y="728"/>
                  <a:pt x="539" y="696"/>
                </a:cubicBezTo>
                <a:cubicBezTo>
                  <a:pt x="612" y="679"/>
                  <a:pt x="602" y="679"/>
                  <a:pt x="733" y="696"/>
                </a:cubicBezTo>
                <a:cubicBezTo>
                  <a:pt x="740" y="697"/>
                  <a:pt x="726" y="709"/>
                  <a:pt x="719" y="710"/>
                </a:cubicBezTo>
                <a:cubicBezTo>
                  <a:pt x="639" y="718"/>
                  <a:pt x="558" y="719"/>
                  <a:pt x="478" y="723"/>
                </a:cubicBezTo>
                <a:cubicBezTo>
                  <a:pt x="512" y="750"/>
                  <a:pt x="544" y="753"/>
                  <a:pt x="518" y="790"/>
                </a:cubicBezTo>
                <a:cubicBezTo>
                  <a:pt x="485" y="788"/>
                  <a:pt x="451" y="789"/>
                  <a:pt x="418" y="784"/>
                </a:cubicBezTo>
                <a:cubicBezTo>
                  <a:pt x="410" y="783"/>
                  <a:pt x="405" y="767"/>
                  <a:pt x="398" y="770"/>
                </a:cubicBezTo>
                <a:cubicBezTo>
                  <a:pt x="392" y="773"/>
                  <a:pt x="412" y="789"/>
                  <a:pt x="405" y="790"/>
                </a:cubicBezTo>
                <a:cubicBezTo>
                  <a:pt x="269" y="805"/>
                  <a:pt x="271" y="828"/>
                  <a:pt x="271" y="777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20000" y="4653000"/>
            <a:ext cx="1152360" cy="909720"/>
          </a:xfrm>
          <a:custGeom>
            <a:avLst/>
            <a:gdLst/>
            <a:ahLst/>
            <a:rect l="l" t="t" r="r" b="b"/>
            <a:pathLst>
              <a:path w="892" h="843">
                <a:moveTo>
                  <a:pt x="370" y="101"/>
                </a:moveTo>
                <a:cubicBezTo>
                  <a:pt x="369" y="101"/>
                  <a:pt x="316" y="96"/>
                  <a:pt x="316" y="81"/>
                </a:cubicBezTo>
                <a:cubicBezTo>
                  <a:pt x="316" y="71"/>
                  <a:pt x="329" y="67"/>
                  <a:pt x="337" y="61"/>
                </a:cubicBezTo>
                <a:cubicBezTo>
                  <a:pt x="368" y="39"/>
                  <a:pt x="401" y="20"/>
                  <a:pt x="437" y="7"/>
                </a:cubicBezTo>
                <a:cubicBezTo>
                  <a:pt x="480" y="11"/>
                  <a:pt x="517" y="0"/>
                  <a:pt x="531" y="41"/>
                </a:cubicBezTo>
                <a:cubicBezTo>
                  <a:pt x="490" y="79"/>
                  <a:pt x="457" y="94"/>
                  <a:pt x="403" y="101"/>
                </a:cubicBezTo>
                <a:cubicBezTo>
                  <a:pt x="372" y="109"/>
                  <a:pt x="366" y="124"/>
                  <a:pt x="343" y="101"/>
                </a:cubicBezTo>
                <a:cubicBezTo>
                  <a:pt x="345" y="90"/>
                  <a:pt x="343" y="77"/>
                  <a:pt x="350" y="68"/>
                </a:cubicBezTo>
                <a:cubicBezTo>
                  <a:pt x="358" y="56"/>
                  <a:pt x="420" y="39"/>
                  <a:pt x="437" y="28"/>
                </a:cubicBezTo>
                <a:cubicBezTo>
                  <a:pt x="425" y="97"/>
                  <a:pt x="436" y="98"/>
                  <a:pt x="390" y="128"/>
                </a:cubicBezTo>
                <a:cubicBezTo>
                  <a:pt x="346" y="120"/>
                  <a:pt x="344" y="120"/>
                  <a:pt x="330" y="81"/>
                </a:cubicBezTo>
                <a:cubicBezTo>
                  <a:pt x="340" y="14"/>
                  <a:pt x="332" y="36"/>
                  <a:pt x="390" y="21"/>
                </a:cubicBezTo>
                <a:cubicBezTo>
                  <a:pt x="419" y="23"/>
                  <a:pt x="448" y="22"/>
                  <a:pt x="477" y="28"/>
                </a:cubicBezTo>
                <a:cubicBezTo>
                  <a:pt x="502" y="33"/>
                  <a:pt x="504" y="107"/>
                  <a:pt x="511" y="128"/>
                </a:cubicBezTo>
                <a:cubicBezTo>
                  <a:pt x="500" y="138"/>
                  <a:pt x="484" y="160"/>
                  <a:pt x="464" y="135"/>
                </a:cubicBezTo>
                <a:cubicBezTo>
                  <a:pt x="460" y="130"/>
                  <a:pt x="488" y="104"/>
                  <a:pt x="491" y="101"/>
                </a:cubicBezTo>
                <a:cubicBezTo>
                  <a:pt x="503" y="105"/>
                  <a:pt x="541" y="111"/>
                  <a:pt x="504" y="141"/>
                </a:cubicBezTo>
                <a:cubicBezTo>
                  <a:pt x="497" y="147"/>
                  <a:pt x="486" y="137"/>
                  <a:pt x="477" y="135"/>
                </a:cubicBezTo>
                <a:cubicBezTo>
                  <a:pt x="439" y="95"/>
                  <a:pt x="492" y="75"/>
                  <a:pt x="524" y="68"/>
                </a:cubicBezTo>
                <a:cubicBezTo>
                  <a:pt x="567" y="78"/>
                  <a:pt x="555" y="88"/>
                  <a:pt x="564" y="128"/>
                </a:cubicBezTo>
                <a:cubicBezTo>
                  <a:pt x="562" y="141"/>
                  <a:pt x="569" y="161"/>
                  <a:pt x="558" y="168"/>
                </a:cubicBezTo>
                <a:cubicBezTo>
                  <a:pt x="545" y="177"/>
                  <a:pt x="523" y="172"/>
                  <a:pt x="511" y="162"/>
                </a:cubicBezTo>
                <a:cubicBezTo>
                  <a:pt x="492" y="147"/>
                  <a:pt x="531" y="139"/>
                  <a:pt x="544" y="135"/>
                </a:cubicBezTo>
                <a:cubicBezTo>
                  <a:pt x="579" y="140"/>
                  <a:pt x="599" y="135"/>
                  <a:pt x="611" y="168"/>
                </a:cubicBezTo>
                <a:cubicBezTo>
                  <a:pt x="609" y="179"/>
                  <a:pt x="613" y="195"/>
                  <a:pt x="604" y="202"/>
                </a:cubicBezTo>
                <a:cubicBezTo>
                  <a:pt x="577" y="224"/>
                  <a:pt x="572" y="171"/>
                  <a:pt x="571" y="168"/>
                </a:cubicBezTo>
                <a:cubicBezTo>
                  <a:pt x="593" y="132"/>
                  <a:pt x="598" y="124"/>
                  <a:pt x="638" y="115"/>
                </a:cubicBezTo>
                <a:cubicBezTo>
                  <a:pt x="696" y="132"/>
                  <a:pt x="632" y="217"/>
                  <a:pt x="598" y="229"/>
                </a:cubicBezTo>
                <a:cubicBezTo>
                  <a:pt x="576" y="196"/>
                  <a:pt x="577" y="165"/>
                  <a:pt x="611" y="141"/>
                </a:cubicBezTo>
                <a:cubicBezTo>
                  <a:pt x="624" y="143"/>
                  <a:pt x="641" y="139"/>
                  <a:pt x="651" y="148"/>
                </a:cubicBezTo>
                <a:cubicBezTo>
                  <a:pt x="660" y="156"/>
                  <a:pt x="658" y="170"/>
                  <a:pt x="658" y="182"/>
                </a:cubicBezTo>
                <a:cubicBezTo>
                  <a:pt x="658" y="215"/>
                  <a:pt x="653" y="249"/>
                  <a:pt x="651" y="282"/>
                </a:cubicBezTo>
                <a:cubicBezTo>
                  <a:pt x="635" y="257"/>
                  <a:pt x="628" y="243"/>
                  <a:pt x="638" y="215"/>
                </a:cubicBezTo>
                <a:cubicBezTo>
                  <a:pt x="656" y="217"/>
                  <a:pt x="675" y="215"/>
                  <a:pt x="691" y="222"/>
                </a:cubicBezTo>
                <a:cubicBezTo>
                  <a:pt x="695" y="224"/>
                  <a:pt x="709" y="292"/>
                  <a:pt x="712" y="302"/>
                </a:cubicBezTo>
                <a:cubicBezTo>
                  <a:pt x="679" y="335"/>
                  <a:pt x="681" y="292"/>
                  <a:pt x="691" y="269"/>
                </a:cubicBezTo>
                <a:cubicBezTo>
                  <a:pt x="697" y="255"/>
                  <a:pt x="722" y="247"/>
                  <a:pt x="732" y="242"/>
                </a:cubicBezTo>
                <a:cubicBezTo>
                  <a:pt x="743" y="246"/>
                  <a:pt x="757" y="246"/>
                  <a:pt x="765" y="255"/>
                </a:cubicBezTo>
                <a:cubicBezTo>
                  <a:pt x="774" y="266"/>
                  <a:pt x="779" y="295"/>
                  <a:pt x="779" y="295"/>
                </a:cubicBezTo>
                <a:cubicBezTo>
                  <a:pt x="774" y="317"/>
                  <a:pt x="770" y="340"/>
                  <a:pt x="765" y="362"/>
                </a:cubicBezTo>
                <a:cubicBezTo>
                  <a:pt x="763" y="369"/>
                  <a:pt x="765" y="380"/>
                  <a:pt x="758" y="383"/>
                </a:cubicBezTo>
                <a:cubicBezTo>
                  <a:pt x="752" y="386"/>
                  <a:pt x="745" y="378"/>
                  <a:pt x="738" y="376"/>
                </a:cubicBezTo>
                <a:cubicBezTo>
                  <a:pt x="713" y="349"/>
                  <a:pt x="700" y="311"/>
                  <a:pt x="745" y="295"/>
                </a:cubicBezTo>
                <a:cubicBezTo>
                  <a:pt x="797" y="309"/>
                  <a:pt x="785" y="316"/>
                  <a:pt x="779" y="376"/>
                </a:cubicBezTo>
                <a:cubicBezTo>
                  <a:pt x="768" y="374"/>
                  <a:pt x="751" y="379"/>
                  <a:pt x="745" y="369"/>
                </a:cubicBezTo>
                <a:cubicBezTo>
                  <a:pt x="725" y="339"/>
                  <a:pt x="759" y="333"/>
                  <a:pt x="772" y="329"/>
                </a:cubicBezTo>
                <a:cubicBezTo>
                  <a:pt x="828" y="339"/>
                  <a:pt x="815" y="335"/>
                  <a:pt x="825" y="389"/>
                </a:cubicBezTo>
                <a:cubicBezTo>
                  <a:pt x="823" y="407"/>
                  <a:pt x="829" y="428"/>
                  <a:pt x="819" y="443"/>
                </a:cubicBezTo>
                <a:cubicBezTo>
                  <a:pt x="814" y="451"/>
                  <a:pt x="796" y="445"/>
                  <a:pt x="792" y="436"/>
                </a:cubicBezTo>
                <a:cubicBezTo>
                  <a:pt x="787" y="424"/>
                  <a:pt x="792" y="407"/>
                  <a:pt x="799" y="396"/>
                </a:cubicBezTo>
                <a:cubicBezTo>
                  <a:pt x="803" y="389"/>
                  <a:pt x="837" y="379"/>
                  <a:pt x="846" y="376"/>
                </a:cubicBezTo>
                <a:cubicBezTo>
                  <a:pt x="867" y="409"/>
                  <a:pt x="881" y="422"/>
                  <a:pt x="852" y="476"/>
                </a:cubicBezTo>
                <a:cubicBezTo>
                  <a:pt x="847" y="486"/>
                  <a:pt x="830" y="472"/>
                  <a:pt x="819" y="470"/>
                </a:cubicBezTo>
                <a:cubicBezTo>
                  <a:pt x="821" y="461"/>
                  <a:pt x="819" y="450"/>
                  <a:pt x="825" y="443"/>
                </a:cubicBezTo>
                <a:cubicBezTo>
                  <a:pt x="849" y="413"/>
                  <a:pt x="862" y="463"/>
                  <a:pt x="866" y="476"/>
                </a:cubicBezTo>
                <a:cubicBezTo>
                  <a:pt x="855" y="520"/>
                  <a:pt x="847" y="569"/>
                  <a:pt x="799" y="583"/>
                </a:cubicBezTo>
                <a:cubicBezTo>
                  <a:pt x="699" y="553"/>
                  <a:pt x="755" y="577"/>
                  <a:pt x="705" y="523"/>
                </a:cubicBezTo>
                <a:cubicBezTo>
                  <a:pt x="720" y="479"/>
                  <a:pt x="764" y="505"/>
                  <a:pt x="799" y="517"/>
                </a:cubicBezTo>
                <a:cubicBezTo>
                  <a:pt x="806" y="524"/>
                  <a:pt x="818" y="528"/>
                  <a:pt x="819" y="537"/>
                </a:cubicBezTo>
                <a:cubicBezTo>
                  <a:pt x="820" y="545"/>
                  <a:pt x="811" y="551"/>
                  <a:pt x="805" y="557"/>
                </a:cubicBezTo>
                <a:cubicBezTo>
                  <a:pt x="782" y="580"/>
                  <a:pt x="754" y="592"/>
                  <a:pt x="725" y="604"/>
                </a:cubicBezTo>
                <a:cubicBezTo>
                  <a:pt x="695" y="588"/>
                  <a:pt x="683" y="571"/>
                  <a:pt x="665" y="543"/>
                </a:cubicBezTo>
                <a:cubicBezTo>
                  <a:pt x="658" y="510"/>
                  <a:pt x="649" y="488"/>
                  <a:pt x="685" y="476"/>
                </a:cubicBezTo>
                <a:cubicBezTo>
                  <a:pt x="751" y="481"/>
                  <a:pt x="779" y="466"/>
                  <a:pt x="799" y="523"/>
                </a:cubicBezTo>
                <a:cubicBezTo>
                  <a:pt x="785" y="564"/>
                  <a:pt x="778" y="576"/>
                  <a:pt x="738" y="590"/>
                </a:cubicBezTo>
                <a:cubicBezTo>
                  <a:pt x="710" y="576"/>
                  <a:pt x="701" y="572"/>
                  <a:pt x="691" y="543"/>
                </a:cubicBezTo>
                <a:cubicBezTo>
                  <a:pt x="693" y="530"/>
                  <a:pt x="698" y="489"/>
                  <a:pt x="698" y="503"/>
                </a:cubicBezTo>
                <a:cubicBezTo>
                  <a:pt x="698" y="525"/>
                  <a:pt x="698" y="549"/>
                  <a:pt x="691" y="570"/>
                </a:cubicBezTo>
                <a:cubicBezTo>
                  <a:pt x="688" y="578"/>
                  <a:pt x="677" y="578"/>
                  <a:pt x="671" y="583"/>
                </a:cubicBezTo>
                <a:cubicBezTo>
                  <a:pt x="664" y="589"/>
                  <a:pt x="658" y="597"/>
                  <a:pt x="651" y="604"/>
                </a:cubicBezTo>
                <a:cubicBezTo>
                  <a:pt x="624" y="602"/>
                  <a:pt x="597" y="603"/>
                  <a:pt x="571" y="597"/>
                </a:cubicBezTo>
                <a:cubicBezTo>
                  <a:pt x="553" y="593"/>
                  <a:pt x="555" y="566"/>
                  <a:pt x="564" y="557"/>
                </a:cubicBezTo>
                <a:cubicBezTo>
                  <a:pt x="571" y="550"/>
                  <a:pt x="582" y="552"/>
                  <a:pt x="591" y="550"/>
                </a:cubicBezTo>
                <a:cubicBezTo>
                  <a:pt x="604" y="552"/>
                  <a:pt x="619" y="550"/>
                  <a:pt x="631" y="557"/>
                </a:cubicBezTo>
                <a:cubicBezTo>
                  <a:pt x="637" y="561"/>
                  <a:pt x="639" y="570"/>
                  <a:pt x="638" y="577"/>
                </a:cubicBezTo>
                <a:cubicBezTo>
                  <a:pt x="634" y="620"/>
                  <a:pt x="619" y="628"/>
                  <a:pt x="584" y="637"/>
                </a:cubicBezTo>
                <a:cubicBezTo>
                  <a:pt x="573" y="648"/>
                  <a:pt x="558" y="670"/>
                  <a:pt x="537" y="664"/>
                </a:cubicBezTo>
                <a:cubicBezTo>
                  <a:pt x="513" y="657"/>
                  <a:pt x="470" y="630"/>
                  <a:pt x="470" y="630"/>
                </a:cubicBezTo>
                <a:cubicBezTo>
                  <a:pt x="450" y="605"/>
                  <a:pt x="433" y="587"/>
                  <a:pt x="424" y="557"/>
                </a:cubicBezTo>
                <a:cubicBezTo>
                  <a:pt x="442" y="498"/>
                  <a:pt x="517" y="535"/>
                  <a:pt x="537" y="577"/>
                </a:cubicBezTo>
                <a:cubicBezTo>
                  <a:pt x="511" y="639"/>
                  <a:pt x="515" y="628"/>
                  <a:pt x="457" y="650"/>
                </a:cubicBezTo>
                <a:cubicBezTo>
                  <a:pt x="423" y="628"/>
                  <a:pt x="410" y="551"/>
                  <a:pt x="457" y="537"/>
                </a:cubicBezTo>
                <a:cubicBezTo>
                  <a:pt x="492" y="554"/>
                  <a:pt x="507" y="555"/>
                  <a:pt x="517" y="590"/>
                </a:cubicBezTo>
                <a:cubicBezTo>
                  <a:pt x="496" y="725"/>
                  <a:pt x="518" y="756"/>
                  <a:pt x="410" y="704"/>
                </a:cubicBezTo>
                <a:cubicBezTo>
                  <a:pt x="391" y="678"/>
                  <a:pt x="364" y="664"/>
                  <a:pt x="403" y="650"/>
                </a:cubicBezTo>
                <a:cubicBezTo>
                  <a:pt x="420" y="661"/>
                  <a:pt x="446" y="677"/>
                  <a:pt x="437" y="684"/>
                </a:cubicBezTo>
                <a:cubicBezTo>
                  <a:pt x="425" y="694"/>
                  <a:pt x="406" y="690"/>
                  <a:pt x="390" y="691"/>
                </a:cubicBezTo>
                <a:cubicBezTo>
                  <a:pt x="354" y="694"/>
                  <a:pt x="319" y="695"/>
                  <a:pt x="283" y="697"/>
                </a:cubicBezTo>
                <a:cubicBezTo>
                  <a:pt x="255" y="711"/>
                  <a:pt x="235" y="737"/>
                  <a:pt x="223" y="697"/>
                </a:cubicBezTo>
                <a:cubicBezTo>
                  <a:pt x="261" y="688"/>
                  <a:pt x="269" y="684"/>
                  <a:pt x="310" y="691"/>
                </a:cubicBezTo>
                <a:cubicBezTo>
                  <a:pt x="333" y="766"/>
                  <a:pt x="239" y="773"/>
                  <a:pt x="189" y="791"/>
                </a:cubicBezTo>
                <a:cubicBezTo>
                  <a:pt x="177" y="756"/>
                  <a:pt x="168" y="742"/>
                  <a:pt x="176" y="704"/>
                </a:cubicBezTo>
                <a:cubicBezTo>
                  <a:pt x="185" y="706"/>
                  <a:pt x="202" y="702"/>
                  <a:pt x="203" y="711"/>
                </a:cubicBezTo>
                <a:cubicBezTo>
                  <a:pt x="208" y="752"/>
                  <a:pt x="159" y="780"/>
                  <a:pt x="129" y="791"/>
                </a:cubicBezTo>
                <a:cubicBezTo>
                  <a:pt x="72" y="785"/>
                  <a:pt x="63" y="791"/>
                  <a:pt x="28" y="758"/>
                </a:cubicBezTo>
                <a:cubicBezTo>
                  <a:pt x="55" y="731"/>
                  <a:pt x="83" y="742"/>
                  <a:pt x="102" y="771"/>
                </a:cubicBezTo>
                <a:cubicBezTo>
                  <a:pt x="91" y="825"/>
                  <a:pt x="102" y="827"/>
                  <a:pt x="8" y="798"/>
                </a:cubicBezTo>
                <a:cubicBezTo>
                  <a:pt x="0" y="796"/>
                  <a:pt x="21" y="788"/>
                  <a:pt x="28" y="784"/>
                </a:cubicBezTo>
                <a:cubicBezTo>
                  <a:pt x="41" y="778"/>
                  <a:pt x="55" y="776"/>
                  <a:pt x="69" y="771"/>
                </a:cubicBezTo>
                <a:cubicBezTo>
                  <a:pt x="114" y="775"/>
                  <a:pt x="266" y="750"/>
                  <a:pt x="209" y="831"/>
                </a:cubicBezTo>
                <a:cubicBezTo>
                  <a:pt x="165" y="821"/>
                  <a:pt x="182" y="816"/>
                  <a:pt x="169" y="778"/>
                </a:cubicBezTo>
                <a:cubicBezTo>
                  <a:pt x="179" y="700"/>
                  <a:pt x="171" y="729"/>
                  <a:pt x="236" y="704"/>
                </a:cubicBezTo>
                <a:cubicBezTo>
                  <a:pt x="387" y="711"/>
                  <a:pt x="348" y="695"/>
                  <a:pt x="430" y="738"/>
                </a:cubicBezTo>
                <a:cubicBezTo>
                  <a:pt x="494" y="830"/>
                  <a:pt x="221" y="775"/>
                  <a:pt x="330" y="731"/>
                </a:cubicBezTo>
                <a:cubicBezTo>
                  <a:pt x="343" y="726"/>
                  <a:pt x="357" y="726"/>
                  <a:pt x="370" y="724"/>
                </a:cubicBezTo>
                <a:cubicBezTo>
                  <a:pt x="441" y="726"/>
                  <a:pt x="514" y="719"/>
                  <a:pt x="584" y="731"/>
                </a:cubicBezTo>
                <a:cubicBezTo>
                  <a:pt x="593" y="732"/>
                  <a:pt x="583" y="750"/>
                  <a:pt x="578" y="758"/>
                </a:cubicBezTo>
                <a:cubicBezTo>
                  <a:pt x="563" y="779"/>
                  <a:pt x="533" y="783"/>
                  <a:pt x="511" y="791"/>
                </a:cubicBezTo>
                <a:cubicBezTo>
                  <a:pt x="472" y="777"/>
                  <a:pt x="467" y="757"/>
                  <a:pt x="497" y="717"/>
                </a:cubicBezTo>
                <a:cubicBezTo>
                  <a:pt x="503" y="709"/>
                  <a:pt x="569" y="694"/>
                  <a:pt x="584" y="691"/>
                </a:cubicBezTo>
                <a:cubicBezTo>
                  <a:pt x="620" y="693"/>
                  <a:pt x="657" y="687"/>
                  <a:pt x="691" y="697"/>
                </a:cubicBezTo>
                <a:cubicBezTo>
                  <a:pt x="700" y="700"/>
                  <a:pt x="699" y="715"/>
                  <a:pt x="698" y="724"/>
                </a:cubicBezTo>
                <a:cubicBezTo>
                  <a:pt x="688" y="805"/>
                  <a:pt x="698" y="792"/>
                  <a:pt x="658" y="818"/>
                </a:cubicBezTo>
                <a:cubicBezTo>
                  <a:pt x="651" y="811"/>
                  <a:pt x="639" y="807"/>
                  <a:pt x="638" y="798"/>
                </a:cubicBezTo>
                <a:cubicBezTo>
                  <a:pt x="633" y="761"/>
                  <a:pt x="641" y="691"/>
                  <a:pt x="685" y="671"/>
                </a:cubicBezTo>
                <a:cubicBezTo>
                  <a:pt x="715" y="658"/>
                  <a:pt x="748" y="659"/>
                  <a:pt x="779" y="644"/>
                </a:cubicBezTo>
                <a:cubicBezTo>
                  <a:pt x="872" y="656"/>
                  <a:pt x="837" y="685"/>
                  <a:pt x="825" y="791"/>
                </a:cubicBezTo>
                <a:cubicBezTo>
                  <a:pt x="780" y="769"/>
                  <a:pt x="792" y="756"/>
                  <a:pt x="799" y="704"/>
                </a:cubicBezTo>
                <a:cubicBezTo>
                  <a:pt x="837" y="710"/>
                  <a:pt x="866" y="706"/>
                  <a:pt x="879" y="744"/>
                </a:cubicBezTo>
                <a:cubicBezTo>
                  <a:pt x="860" y="832"/>
                  <a:pt x="886" y="788"/>
                  <a:pt x="839" y="818"/>
                </a:cubicBezTo>
                <a:cubicBezTo>
                  <a:pt x="800" y="843"/>
                  <a:pt x="853" y="821"/>
                  <a:pt x="805" y="838"/>
                </a:cubicBezTo>
                <a:cubicBezTo>
                  <a:pt x="794" y="836"/>
                  <a:pt x="781" y="838"/>
                  <a:pt x="772" y="831"/>
                </a:cubicBezTo>
                <a:cubicBezTo>
                  <a:pt x="728" y="795"/>
                  <a:pt x="816" y="764"/>
                  <a:pt x="832" y="758"/>
                </a:cubicBezTo>
                <a:cubicBezTo>
                  <a:pt x="850" y="760"/>
                  <a:pt x="870" y="756"/>
                  <a:pt x="886" y="764"/>
                </a:cubicBezTo>
                <a:cubicBezTo>
                  <a:pt x="892" y="767"/>
                  <a:pt x="879" y="778"/>
                  <a:pt x="872" y="778"/>
                </a:cubicBezTo>
                <a:cubicBezTo>
                  <a:pt x="866" y="778"/>
                  <a:pt x="863" y="769"/>
                  <a:pt x="859" y="764"/>
                </a:cubicBezTo>
                <a:cubicBezTo>
                  <a:pt x="888" y="743"/>
                  <a:pt x="886" y="755"/>
                  <a:pt x="886" y="738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53440" y="4941720"/>
            <a:ext cx="126720" cy="120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69080" y="4437000"/>
            <a:ext cx="12708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44000" y="5589720"/>
            <a:ext cx="12672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53440" y="5397480"/>
            <a:ext cx="12672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885080" y="5110200"/>
            <a:ext cx="12708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812000" y="4797360"/>
            <a:ext cx="12708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340000" y="5678640"/>
            <a:ext cx="503280" cy="1179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95640" y="5678640"/>
            <a:ext cx="503280" cy="1179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-1189440" y="6842160"/>
            <a:ext cx="360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95640" y="6858000"/>
            <a:ext cx="5329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1857240" y="5850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1569960" y="6066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272880" y="5921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5025960" y="5921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0"/>
          <a:stretch/>
        </p:blipFill>
        <p:spPr>
          <a:xfrm>
            <a:off x="6753240" y="5921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1"/>
          <a:stretch/>
        </p:blipFill>
        <p:spPr>
          <a:xfrm>
            <a:off x="993600" y="5678640"/>
            <a:ext cx="721080" cy="720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2"/>
          <a:stretch/>
        </p:blipFill>
        <p:spPr>
          <a:xfrm>
            <a:off x="5889600" y="56786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flipH="1">
            <a:off x="2484000" y="5877000"/>
            <a:ext cx="71640" cy="216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84360" y="5805360"/>
            <a:ext cx="1447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3"/>
          <a:stretch/>
        </p:blipFill>
        <p:spPr>
          <a:xfrm rot="5400000">
            <a:off x="5816520" y="181764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4"/>
          <a:stretch/>
        </p:blipFill>
        <p:spPr>
          <a:xfrm rot="5400000">
            <a:off x="6321600" y="181764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5"/>
          <a:stretch/>
        </p:blipFill>
        <p:spPr>
          <a:xfrm rot="5400000">
            <a:off x="6753240" y="181764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6"/>
          <a:stretch/>
        </p:blipFill>
        <p:spPr>
          <a:xfrm rot="5400000">
            <a:off x="4808520" y="181764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7"/>
          <a:stretch/>
        </p:blipFill>
        <p:spPr>
          <a:xfrm rot="5400000">
            <a:off x="704880" y="181764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8"/>
          <a:stretch/>
        </p:blipFill>
        <p:spPr>
          <a:xfrm rot="5400000">
            <a:off x="1208160" y="181764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9"/>
          <a:stretch/>
        </p:blipFill>
        <p:spPr>
          <a:xfrm rot="5400000">
            <a:off x="1712880" y="181764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0"/>
          <a:stretch/>
        </p:blipFill>
        <p:spPr>
          <a:xfrm rot="5400000">
            <a:off x="2144880" y="181764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1"/>
          <a:stretch/>
        </p:blipFill>
        <p:spPr>
          <a:xfrm rot="5400000">
            <a:off x="200160" y="1817640"/>
            <a:ext cx="217440" cy="217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09600" y="4121280"/>
            <a:ext cx="79236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73240" y="4121280"/>
            <a:ext cx="79236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49960" y="4121280"/>
            <a:ext cx="79236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86320" y="4121280"/>
            <a:ext cx="79236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21240" y="4121280"/>
            <a:ext cx="79200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36880" y="3905280"/>
            <a:ext cx="151128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28880" y="390528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6320" y="46972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1960" y="4697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4520" y="4121280"/>
            <a:ext cx="14436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3240" y="4121280"/>
            <a:ext cx="1447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3600" y="4121280"/>
            <a:ext cx="1447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08160" y="4121280"/>
            <a:ext cx="14436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96880" y="4121280"/>
            <a:ext cx="1447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57240" y="4121280"/>
            <a:ext cx="1447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73240" y="4121280"/>
            <a:ext cx="14436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4121280"/>
            <a:ext cx="14436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22680" y="4121280"/>
            <a:ext cx="14436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89600" y="2825640"/>
            <a:ext cx="432000" cy="40968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572000" y="5877000"/>
            <a:ext cx="71280" cy="216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580536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427640" y="6164280"/>
            <a:ext cx="71280" cy="216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27640" y="6093000"/>
            <a:ext cx="144360" cy="142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410920" y="6164280"/>
            <a:ext cx="71640" cy="216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11280" y="6093000"/>
            <a:ext cx="144720" cy="142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284720" y="6453360"/>
            <a:ext cx="71280" cy="215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84720" y="6381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978680" y="4437000"/>
            <a:ext cx="503280" cy="34452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2"/>
          <a:stretch/>
        </p:blipFill>
        <p:spPr>
          <a:xfrm>
            <a:off x="7402680" y="4653000"/>
            <a:ext cx="1741320" cy="1741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765920" y="4900680"/>
            <a:ext cx="1343160" cy="1206360"/>
          </a:xfrm>
          <a:custGeom>
            <a:avLst/>
            <a:gdLst/>
            <a:ahLst/>
            <a:rect l="l" t="t" r="r" b="b"/>
            <a:pathLst>
              <a:path w="967" h="904">
                <a:moveTo>
                  <a:pt x="318" y="67"/>
                </a:moveTo>
                <a:cubicBezTo>
                  <a:pt x="320" y="58"/>
                  <a:pt x="318" y="47"/>
                  <a:pt x="324" y="40"/>
                </a:cubicBezTo>
                <a:cubicBezTo>
                  <a:pt x="330" y="33"/>
                  <a:pt x="342" y="37"/>
                  <a:pt x="351" y="33"/>
                </a:cubicBezTo>
                <a:cubicBezTo>
                  <a:pt x="416" y="5"/>
                  <a:pt x="319" y="33"/>
                  <a:pt x="398" y="13"/>
                </a:cubicBezTo>
                <a:cubicBezTo>
                  <a:pt x="469" y="20"/>
                  <a:pt x="473" y="6"/>
                  <a:pt x="492" y="60"/>
                </a:cubicBezTo>
                <a:cubicBezTo>
                  <a:pt x="483" y="94"/>
                  <a:pt x="483" y="124"/>
                  <a:pt x="458" y="147"/>
                </a:cubicBezTo>
                <a:cubicBezTo>
                  <a:pt x="442" y="194"/>
                  <a:pt x="411" y="170"/>
                  <a:pt x="391" y="141"/>
                </a:cubicBezTo>
                <a:cubicBezTo>
                  <a:pt x="367" y="48"/>
                  <a:pt x="376" y="17"/>
                  <a:pt x="458" y="0"/>
                </a:cubicBezTo>
                <a:cubicBezTo>
                  <a:pt x="519" y="11"/>
                  <a:pt x="505" y="20"/>
                  <a:pt x="545" y="60"/>
                </a:cubicBezTo>
                <a:cubicBezTo>
                  <a:pt x="555" y="98"/>
                  <a:pt x="559" y="105"/>
                  <a:pt x="552" y="147"/>
                </a:cubicBezTo>
                <a:cubicBezTo>
                  <a:pt x="545" y="145"/>
                  <a:pt x="532" y="148"/>
                  <a:pt x="532" y="141"/>
                </a:cubicBezTo>
                <a:cubicBezTo>
                  <a:pt x="532" y="123"/>
                  <a:pt x="577" y="110"/>
                  <a:pt x="585" y="107"/>
                </a:cubicBezTo>
                <a:cubicBezTo>
                  <a:pt x="599" y="102"/>
                  <a:pt x="626" y="94"/>
                  <a:pt x="626" y="94"/>
                </a:cubicBezTo>
                <a:cubicBezTo>
                  <a:pt x="679" y="104"/>
                  <a:pt x="648" y="101"/>
                  <a:pt x="679" y="134"/>
                </a:cubicBezTo>
                <a:cubicBezTo>
                  <a:pt x="688" y="158"/>
                  <a:pt x="692" y="183"/>
                  <a:pt x="699" y="208"/>
                </a:cubicBezTo>
                <a:cubicBezTo>
                  <a:pt x="691" y="276"/>
                  <a:pt x="698" y="279"/>
                  <a:pt x="632" y="261"/>
                </a:cubicBezTo>
                <a:cubicBezTo>
                  <a:pt x="606" y="221"/>
                  <a:pt x="604" y="168"/>
                  <a:pt x="646" y="141"/>
                </a:cubicBezTo>
                <a:cubicBezTo>
                  <a:pt x="720" y="149"/>
                  <a:pt x="719" y="146"/>
                  <a:pt x="733" y="214"/>
                </a:cubicBezTo>
                <a:cubicBezTo>
                  <a:pt x="730" y="259"/>
                  <a:pt x="753" y="343"/>
                  <a:pt x="699" y="362"/>
                </a:cubicBezTo>
                <a:cubicBezTo>
                  <a:pt x="716" y="278"/>
                  <a:pt x="703" y="268"/>
                  <a:pt x="780" y="301"/>
                </a:cubicBezTo>
                <a:cubicBezTo>
                  <a:pt x="820" y="341"/>
                  <a:pt x="802" y="316"/>
                  <a:pt x="827" y="408"/>
                </a:cubicBezTo>
                <a:cubicBezTo>
                  <a:pt x="844" y="471"/>
                  <a:pt x="866" y="535"/>
                  <a:pt x="887" y="596"/>
                </a:cubicBezTo>
                <a:cubicBezTo>
                  <a:pt x="882" y="600"/>
                  <a:pt x="879" y="610"/>
                  <a:pt x="873" y="609"/>
                </a:cubicBezTo>
                <a:cubicBezTo>
                  <a:pt x="846" y="605"/>
                  <a:pt x="820" y="572"/>
                  <a:pt x="793" y="562"/>
                </a:cubicBezTo>
                <a:cubicBezTo>
                  <a:pt x="782" y="531"/>
                  <a:pt x="769" y="507"/>
                  <a:pt x="760" y="475"/>
                </a:cubicBezTo>
                <a:cubicBezTo>
                  <a:pt x="758" y="468"/>
                  <a:pt x="746" y="456"/>
                  <a:pt x="753" y="455"/>
                </a:cubicBezTo>
                <a:cubicBezTo>
                  <a:pt x="777" y="450"/>
                  <a:pt x="802" y="460"/>
                  <a:pt x="827" y="462"/>
                </a:cubicBezTo>
                <a:cubicBezTo>
                  <a:pt x="814" y="499"/>
                  <a:pt x="816" y="511"/>
                  <a:pt x="780" y="522"/>
                </a:cubicBezTo>
                <a:cubicBezTo>
                  <a:pt x="744" y="548"/>
                  <a:pt x="716" y="548"/>
                  <a:pt x="679" y="522"/>
                </a:cubicBezTo>
                <a:cubicBezTo>
                  <a:pt x="669" y="484"/>
                  <a:pt x="660" y="470"/>
                  <a:pt x="706" y="482"/>
                </a:cubicBezTo>
                <a:cubicBezTo>
                  <a:pt x="720" y="559"/>
                  <a:pt x="705" y="632"/>
                  <a:pt x="626" y="656"/>
                </a:cubicBezTo>
                <a:cubicBezTo>
                  <a:pt x="615" y="652"/>
                  <a:pt x="603" y="649"/>
                  <a:pt x="592" y="643"/>
                </a:cubicBezTo>
                <a:cubicBezTo>
                  <a:pt x="578" y="635"/>
                  <a:pt x="552" y="616"/>
                  <a:pt x="552" y="616"/>
                </a:cubicBezTo>
                <a:cubicBezTo>
                  <a:pt x="534" y="589"/>
                  <a:pt x="525" y="568"/>
                  <a:pt x="518" y="536"/>
                </a:cubicBezTo>
                <a:cubicBezTo>
                  <a:pt x="520" y="514"/>
                  <a:pt x="504" y="477"/>
                  <a:pt x="525" y="469"/>
                </a:cubicBezTo>
                <a:cubicBezTo>
                  <a:pt x="573" y="450"/>
                  <a:pt x="635" y="505"/>
                  <a:pt x="666" y="536"/>
                </a:cubicBezTo>
                <a:cubicBezTo>
                  <a:pt x="680" y="580"/>
                  <a:pt x="689" y="578"/>
                  <a:pt x="659" y="623"/>
                </a:cubicBezTo>
                <a:cubicBezTo>
                  <a:pt x="640" y="652"/>
                  <a:pt x="559" y="656"/>
                  <a:pt x="559" y="656"/>
                </a:cubicBezTo>
                <a:cubicBezTo>
                  <a:pt x="461" y="650"/>
                  <a:pt x="454" y="673"/>
                  <a:pt x="438" y="596"/>
                </a:cubicBezTo>
                <a:cubicBezTo>
                  <a:pt x="440" y="569"/>
                  <a:pt x="429" y="538"/>
                  <a:pt x="445" y="516"/>
                </a:cubicBezTo>
                <a:cubicBezTo>
                  <a:pt x="471" y="480"/>
                  <a:pt x="505" y="540"/>
                  <a:pt x="512" y="549"/>
                </a:cubicBezTo>
                <a:cubicBezTo>
                  <a:pt x="499" y="659"/>
                  <a:pt x="511" y="694"/>
                  <a:pt x="405" y="717"/>
                </a:cubicBezTo>
                <a:cubicBezTo>
                  <a:pt x="355" y="706"/>
                  <a:pt x="330" y="703"/>
                  <a:pt x="291" y="676"/>
                </a:cubicBezTo>
                <a:cubicBezTo>
                  <a:pt x="266" y="641"/>
                  <a:pt x="245" y="638"/>
                  <a:pt x="291" y="616"/>
                </a:cubicBezTo>
                <a:cubicBezTo>
                  <a:pt x="389" y="621"/>
                  <a:pt x="432" y="594"/>
                  <a:pt x="472" y="670"/>
                </a:cubicBezTo>
                <a:cubicBezTo>
                  <a:pt x="453" y="762"/>
                  <a:pt x="469" y="729"/>
                  <a:pt x="398" y="763"/>
                </a:cubicBezTo>
                <a:cubicBezTo>
                  <a:pt x="305" y="758"/>
                  <a:pt x="269" y="757"/>
                  <a:pt x="197" y="710"/>
                </a:cubicBezTo>
                <a:cubicBezTo>
                  <a:pt x="199" y="694"/>
                  <a:pt x="197" y="677"/>
                  <a:pt x="204" y="663"/>
                </a:cubicBezTo>
                <a:cubicBezTo>
                  <a:pt x="207" y="657"/>
                  <a:pt x="287" y="644"/>
                  <a:pt x="291" y="643"/>
                </a:cubicBezTo>
                <a:cubicBezTo>
                  <a:pt x="343" y="650"/>
                  <a:pt x="350" y="644"/>
                  <a:pt x="364" y="690"/>
                </a:cubicBezTo>
                <a:cubicBezTo>
                  <a:pt x="350" y="790"/>
                  <a:pt x="376" y="814"/>
                  <a:pt x="284" y="804"/>
                </a:cubicBezTo>
                <a:cubicBezTo>
                  <a:pt x="258" y="778"/>
                  <a:pt x="246" y="772"/>
                  <a:pt x="257" y="737"/>
                </a:cubicBezTo>
                <a:cubicBezTo>
                  <a:pt x="259" y="746"/>
                  <a:pt x="273" y="762"/>
                  <a:pt x="264" y="763"/>
                </a:cubicBezTo>
                <a:cubicBezTo>
                  <a:pt x="172" y="777"/>
                  <a:pt x="75" y="761"/>
                  <a:pt x="163" y="730"/>
                </a:cubicBezTo>
                <a:cubicBezTo>
                  <a:pt x="188" y="734"/>
                  <a:pt x="221" y="724"/>
                  <a:pt x="237" y="743"/>
                </a:cubicBezTo>
                <a:cubicBezTo>
                  <a:pt x="275" y="790"/>
                  <a:pt x="175" y="812"/>
                  <a:pt x="157" y="817"/>
                </a:cubicBezTo>
                <a:cubicBezTo>
                  <a:pt x="63" y="806"/>
                  <a:pt x="51" y="825"/>
                  <a:pt x="16" y="757"/>
                </a:cubicBezTo>
                <a:cubicBezTo>
                  <a:pt x="9" y="724"/>
                  <a:pt x="0" y="701"/>
                  <a:pt x="36" y="690"/>
                </a:cubicBezTo>
                <a:cubicBezTo>
                  <a:pt x="89" y="694"/>
                  <a:pt x="133" y="684"/>
                  <a:pt x="163" y="730"/>
                </a:cubicBezTo>
                <a:cubicBezTo>
                  <a:pt x="154" y="764"/>
                  <a:pt x="159" y="784"/>
                  <a:pt x="123" y="797"/>
                </a:cubicBezTo>
                <a:cubicBezTo>
                  <a:pt x="97" y="807"/>
                  <a:pt x="43" y="817"/>
                  <a:pt x="43" y="817"/>
                </a:cubicBezTo>
                <a:cubicBezTo>
                  <a:pt x="32" y="815"/>
                  <a:pt x="14" y="821"/>
                  <a:pt x="9" y="810"/>
                </a:cubicBezTo>
                <a:cubicBezTo>
                  <a:pt x="1" y="793"/>
                  <a:pt x="13" y="751"/>
                  <a:pt x="30" y="737"/>
                </a:cubicBezTo>
                <a:cubicBezTo>
                  <a:pt x="55" y="716"/>
                  <a:pt x="86" y="702"/>
                  <a:pt x="117" y="696"/>
                </a:cubicBezTo>
                <a:cubicBezTo>
                  <a:pt x="190" y="664"/>
                  <a:pt x="265" y="662"/>
                  <a:pt x="344" y="690"/>
                </a:cubicBezTo>
                <a:cubicBezTo>
                  <a:pt x="365" y="709"/>
                  <a:pt x="412" y="734"/>
                  <a:pt x="438" y="750"/>
                </a:cubicBezTo>
                <a:cubicBezTo>
                  <a:pt x="452" y="791"/>
                  <a:pt x="442" y="795"/>
                  <a:pt x="405" y="777"/>
                </a:cubicBezTo>
                <a:cubicBezTo>
                  <a:pt x="384" y="698"/>
                  <a:pt x="407" y="678"/>
                  <a:pt x="472" y="656"/>
                </a:cubicBezTo>
                <a:cubicBezTo>
                  <a:pt x="568" y="669"/>
                  <a:pt x="589" y="655"/>
                  <a:pt x="639" y="723"/>
                </a:cubicBezTo>
                <a:cubicBezTo>
                  <a:pt x="621" y="773"/>
                  <a:pt x="563" y="741"/>
                  <a:pt x="592" y="690"/>
                </a:cubicBezTo>
                <a:cubicBezTo>
                  <a:pt x="596" y="684"/>
                  <a:pt x="605" y="685"/>
                  <a:pt x="612" y="683"/>
                </a:cubicBezTo>
                <a:cubicBezTo>
                  <a:pt x="639" y="687"/>
                  <a:pt x="676" y="674"/>
                  <a:pt x="693" y="696"/>
                </a:cubicBezTo>
                <a:cubicBezTo>
                  <a:pt x="739" y="756"/>
                  <a:pt x="685" y="768"/>
                  <a:pt x="659" y="777"/>
                </a:cubicBezTo>
                <a:cubicBezTo>
                  <a:pt x="573" y="770"/>
                  <a:pt x="589" y="770"/>
                  <a:pt x="532" y="750"/>
                </a:cubicBezTo>
                <a:cubicBezTo>
                  <a:pt x="525" y="729"/>
                  <a:pt x="505" y="693"/>
                  <a:pt x="525" y="670"/>
                </a:cubicBezTo>
                <a:cubicBezTo>
                  <a:pt x="533" y="661"/>
                  <a:pt x="548" y="665"/>
                  <a:pt x="559" y="663"/>
                </a:cubicBezTo>
                <a:cubicBezTo>
                  <a:pt x="581" y="670"/>
                  <a:pt x="605" y="673"/>
                  <a:pt x="626" y="683"/>
                </a:cubicBezTo>
                <a:cubicBezTo>
                  <a:pt x="678" y="707"/>
                  <a:pt x="714" y="813"/>
                  <a:pt x="760" y="857"/>
                </a:cubicBezTo>
                <a:cubicBezTo>
                  <a:pt x="762" y="866"/>
                  <a:pt x="761" y="876"/>
                  <a:pt x="766" y="884"/>
                </a:cubicBezTo>
                <a:cubicBezTo>
                  <a:pt x="770" y="891"/>
                  <a:pt x="789" y="904"/>
                  <a:pt x="786" y="897"/>
                </a:cubicBezTo>
                <a:cubicBezTo>
                  <a:pt x="781" y="886"/>
                  <a:pt x="769" y="880"/>
                  <a:pt x="760" y="871"/>
                </a:cubicBezTo>
                <a:cubicBezTo>
                  <a:pt x="745" y="827"/>
                  <a:pt x="728" y="809"/>
                  <a:pt x="780" y="784"/>
                </a:cubicBezTo>
                <a:cubicBezTo>
                  <a:pt x="940" y="814"/>
                  <a:pt x="967" y="815"/>
                  <a:pt x="860" y="804"/>
                </a:cubicBezTo>
                <a:cubicBezTo>
                  <a:pt x="844" y="780"/>
                  <a:pt x="818" y="749"/>
                  <a:pt x="860" y="717"/>
                </a:cubicBezTo>
                <a:cubicBezTo>
                  <a:pt x="878" y="703"/>
                  <a:pt x="905" y="721"/>
                  <a:pt x="927" y="723"/>
                </a:cubicBezTo>
                <a:cubicBezTo>
                  <a:pt x="948" y="746"/>
                  <a:pt x="956" y="775"/>
                  <a:pt x="967" y="804"/>
                </a:cubicBezTo>
                <a:cubicBezTo>
                  <a:pt x="949" y="871"/>
                  <a:pt x="903" y="819"/>
                  <a:pt x="853" y="804"/>
                </a:cubicBezTo>
                <a:cubicBezTo>
                  <a:pt x="834" y="783"/>
                  <a:pt x="823" y="779"/>
                  <a:pt x="847" y="757"/>
                </a:cubicBezTo>
                <a:cubicBezTo>
                  <a:pt x="865" y="762"/>
                  <a:pt x="899" y="765"/>
                  <a:pt x="860" y="804"/>
                </a:cubicBezTo>
                <a:cubicBezTo>
                  <a:pt x="849" y="815"/>
                  <a:pt x="829" y="813"/>
                  <a:pt x="813" y="817"/>
                </a:cubicBezTo>
                <a:cubicBezTo>
                  <a:pt x="754" y="806"/>
                  <a:pt x="731" y="809"/>
                  <a:pt x="706" y="757"/>
                </a:cubicBezTo>
                <a:cubicBezTo>
                  <a:pt x="727" y="698"/>
                  <a:pt x="793" y="749"/>
                  <a:pt x="827" y="770"/>
                </a:cubicBezTo>
                <a:cubicBezTo>
                  <a:pt x="849" y="845"/>
                  <a:pt x="717" y="782"/>
                  <a:pt x="679" y="770"/>
                </a:cubicBezTo>
                <a:cubicBezTo>
                  <a:pt x="648" y="760"/>
                  <a:pt x="585" y="743"/>
                  <a:pt x="585" y="743"/>
                </a:cubicBezTo>
                <a:cubicBezTo>
                  <a:pt x="560" y="718"/>
                  <a:pt x="548" y="728"/>
                  <a:pt x="539" y="696"/>
                </a:cubicBezTo>
                <a:cubicBezTo>
                  <a:pt x="612" y="679"/>
                  <a:pt x="602" y="679"/>
                  <a:pt x="733" y="696"/>
                </a:cubicBezTo>
                <a:cubicBezTo>
                  <a:pt x="740" y="697"/>
                  <a:pt x="726" y="709"/>
                  <a:pt x="719" y="710"/>
                </a:cubicBezTo>
                <a:cubicBezTo>
                  <a:pt x="639" y="718"/>
                  <a:pt x="558" y="719"/>
                  <a:pt x="478" y="723"/>
                </a:cubicBezTo>
                <a:cubicBezTo>
                  <a:pt x="512" y="750"/>
                  <a:pt x="544" y="753"/>
                  <a:pt x="518" y="790"/>
                </a:cubicBezTo>
                <a:cubicBezTo>
                  <a:pt x="485" y="788"/>
                  <a:pt x="451" y="789"/>
                  <a:pt x="418" y="784"/>
                </a:cubicBezTo>
                <a:cubicBezTo>
                  <a:pt x="410" y="783"/>
                  <a:pt x="405" y="767"/>
                  <a:pt x="398" y="770"/>
                </a:cubicBezTo>
                <a:cubicBezTo>
                  <a:pt x="392" y="773"/>
                  <a:pt x="412" y="789"/>
                  <a:pt x="405" y="790"/>
                </a:cubicBezTo>
                <a:cubicBezTo>
                  <a:pt x="269" y="805"/>
                  <a:pt x="271" y="828"/>
                  <a:pt x="271" y="777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45240" y="5084640"/>
            <a:ext cx="1152720" cy="909720"/>
          </a:xfrm>
          <a:custGeom>
            <a:avLst/>
            <a:gdLst/>
            <a:ahLst/>
            <a:rect l="l" t="t" r="r" b="b"/>
            <a:pathLst>
              <a:path w="892" h="843">
                <a:moveTo>
                  <a:pt x="370" y="101"/>
                </a:moveTo>
                <a:cubicBezTo>
                  <a:pt x="369" y="101"/>
                  <a:pt x="316" y="96"/>
                  <a:pt x="316" y="81"/>
                </a:cubicBezTo>
                <a:cubicBezTo>
                  <a:pt x="316" y="71"/>
                  <a:pt x="329" y="67"/>
                  <a:pt x="337" y="61"/>
                </a:cubicBezTo>
                <a:cubicBezTo>
                  <a:pt x="368" y="39"/>
                  <a:pt x="401" y="20"/>
                  <a:pt x="437" y="7"/>
                </a:cubicBezTo>
                <a:cubicBezTo>
                  <a:pt x="480" y="11"/>
                  <a:pt x="517" y="0"/>
                  <a:pt x="531" y="41"/>
                </a:cubicBezTo>
                <a:cubicBezTo>
                  <a:pt x="490" y="79"/>
                  <a:pt x="457" y="94"/>
                  <a:pt x="403" y="101"/>
                </a:cubicBezTo>
                <a:cubicBezTo>
                  <a:pt x="372" y="109"/>
                  <a:pt x="366" y="124"/>
                  <a:pt x="343" y="101"/>
                </a:cubicBezTo>
                <a:cubicBezTo>
                  <a:pt x="345" y="90"/>
                  <a:pt x="343" y="77"/>
                  <a:pt x="350" y="68"/>
                </a:cubicBezTo>
                <a:cubicBezTo>
                  <a:pt x="358" y="56"/>
                  <a:pt x="420" y="39"/>
                  <a:pt x="437" y="28"/>
                </a:cubicBezTo>
                <a:cubicBezTo>
                  <a:pt x="425" y="97"/>
                  <a:pt x="436" y="98"/>
                  <a:pt x="390" y="128"/>
                </a:cubicBezTo>
                <a:cubicBezTo>
                  <a:pt x="346" y="120"/>
                  <a:pt x="344" y="120"/>
                  <a:pt x="330" y="81"/>
                </a:cubicBezTo>
                <a:cubicBezTo>
                  <a:pt x="340" y="14"/>
                  <a:pt x="332" y="36"/>
                  <a:pt x="390" y="21"/>
                </a:cubicBezTo>
                <a:cubicBezTo>
                  <a:pt x="419" y="23"/>
                  <a:pt x="448" y="22"/>
                  <a:pt x="477" y="28"/>
                </a:cubicBezTo>
                <a:cubicBezTo>
                  <a:pt x="502" y="33"/>
                  <a:pt x="504" y="107"/>
                  <a:pt x="511" y="128"/>
                </a:cubicBezTo>
                <a:cubicBezTo>
                  <a:pt x="500" y="138"/>
                  <a:pt x="484" y="160"/>
                  <a:pt x="464" y="135"/>
                </a:cubicBezTo>
                <a:cubicBezTo>
                  <a:pt x="460" y="130"/>
                  <a:pt x="488" y="104"/>
                  <a:pt x="491" y="101"/>
                </a:cubicBezTo>
                <a:cubicBezTo>
                  <a:pt x="503" y="105"/>
                  <a:pt x="541" y="111"/>
                  <a:pt x="504" y="141"/>
                </a:cubicBezTo>
                <a:cubicBezTo>
                  <a:pt x="497" y="147"/>
                  <a:pt x="486" y="137"/>
                  <a:pt x="477" y="135"/>
                </a:cubicBezTo>
                <a:cubicBezTo>
                  <a:pt x="439" y="95"/>
                  <a:pt x="492" y="75"/>
                  <a:pt x="524" y="68"/>
                </a:cubicBezTo>
                <a:cubicBezTo>
                  <a:pt x="567" y="78"/>
                  <a:pt x="555" y="88"/>
                  <a:pt x="564" y="128"/>
                </a:cubicBezTo>
                <a:cubicBezTo>
                  <a:pt x="562" y="141"/>
                  <a:pt x="569" y="161"/>
                  <a:pt x="558" y="168"/>
                </a:cubicBezTo>
                <a:cubicBezTo>
                  <a:pt x="545" y="177"/>
                  <a:pt x="523" y="172"/>
                  <a:pt x="511" y="162"/>
                </a:cubicBezTo>
                <a:cubicBezTo>
                  <a:pt x="492" y="147"/>
                  <a:pt x="531" y="139"/>
                  <a:pt x="544" y="135"/>
                </a:cubicBezTo>
                <a:cubicBezTo>
                  <a:pt x="579" y="140"/>
                  <a:pt x="599" y="135"/>
                  <a:pt x="611" y="168"/>
                </a:cubicBezTo>
                <a:cubicBezTo>
                  <a:pt x="609" y="179"/>
                  <a:pt x="613" y="195"/>
                  <a:pt x="604" y="202"/>
                </a:cubicBezTo>
                <a:cubicBezTo>
                  <a:pt x="577" y="224"/>
                  <a:pt x="572" y="171"/>
                  <a:pt x="571" y="168"/>
                </a:cubicBezTo>
                <a:cubicBezTo>
                  <a:pt x="593" y="132"/>
                  <a:pt x="598" y="124"/>
                  <a:pt x="638" y="115"/>
                </a:cubicBezTo>
                <a:cubicBezTo>
                  <a:pt x="696" y="132"/>
                  <a:pt x="632" y="217"/>
                  <a:pt x="598" y="229"/>
                </a:cubicBezTo>
                <a:cubicBezTo>
                  <a:pt x="576" y="196"/>
                  <a:pt x="577" y="165"/>
                  <a:pt x="611" y="141"/>
                </a:cubicBezTo>
                <a:cubicBezTo>
                  <a:pt x="624" y="143"/>
                  <a:pt x="641" y="139"/>
                  <a:pt x="651" y="148"/>
                </a:cubicBezTo>
                <a:cubicBezTo>
                  <a:pt x="660" y="156"/>
                  <a:pt x="658" y="170"/>
                  <a:pt x="658" y="182"/>
                </a:cubicBezTo>
                <a:cubicBezTo>
                  <a:pt x="658" y="215"/>
                  <a:pt x="653" y="249"/>
                  <a:pt x="651" y="282"/>
                </a:cubicBezTo>
                <a:cubicBezTo>
                  <a:pt x="635" y="257"/>
                  <a:pt x="628" y="243"/>
                  <a:pt x="638" y="215"/>
                </a:cubicBezTo>
                <a:cubicBezTo>
                  <a:pt x="656" y="217"/>
                  <a:pt x="675" y="215"/>
                  <a:pt x="691" y="222"/>
                </a:cubicBezTo>
                <a:cubicBezTo>
                  <a:pt x="695" y="224"/>
                  <a:pt x="709" y="292"/>
                  <a:pt x="712" y="302"/>
                </a:cubicBezTo>
                <a:cubicBezTo>
                  <a:pt x="679" y="335"/>
                  <a:pt x="681" y="292"/>
                  <a:pt x="691" y="269"/>
                </a:cubicBezTo>
                <a:cubicBezTo>
                  <a:pt x="697" y="255"/>
                  <a:pt x="722" y="247"/>
                  <a:pt x="732" y="242"/>
                </a:cubicBezTo>
                <a:cubicBezTo>
                  <a:pt x="743" y="246"/>
                  <a:pt x="757" y="246"/>
                  <a:pt x="765" y="255"/>
                </a:cubicBezTo>
                <a:cubicBezTo>
                  <a:pt x="774" y="266"/>
                  <a:pt x="779" y="295"/>
                  <a:pt x="779" y="295"/>
                </a:cubicBezTo>
                <a:cubicBezTo>
                  <a:pt x="774" y="317"/>
                  <a:pt x="770" y="340"/>
                  <a:pt x="765" y="362"/>
                </a:cubicBezTo>
                <a:cubicBezTo>
                  <a:pt x="763" y="369"/>
                  <a:pt x="765" y="380"/>
                  <a:pt x="758" y="383"/>
                </a:cubicBezTo>
                <a:cubicBezTo>
                  <a:pt x="752" y="386"/>
                  <a:pt x="745" y="378"/>
                  <a:pt x="738" y="376"/>
                </a:cubicBezTo>
                <a:cubicBezTo>
                  <a:pt x="713" y="349"/>
                  <a:pt x="700" y="311"/>
                  <a:pt x="745" y="295"/>
                </a:cubicBezTo>
                <a:cubicBezTo>
                  <a:pt x="797" y="309"/>
                  <a:pt x="785" y="316"/>
                  <a:pt x="779" y="376"/>
                </a:cubicBezTo>
                <a:cubicBezTo>
                  <a:pt x="768" y="374"/>
                  <a:pt x="751" y="379"/>
                  <a:pt x="745" y="369"/>
                </a:cubicBezTo>
                <a:cubicBezTo>
                  <a:pt x="725" y="339"/>
                  <a:pt x="759" y="333"/>
                  <a:pt x="772" y="329"/>
                </a:cubicBezTo>
                <a:cubicBezTo>
                  <a:pt x="828" y="339"/>
                  <a:pt x="815" y="335"/>
                  <a:pt x="825" y="389"/>
                </a:cubicBezTo>
                <a:cubicBezTo>
                  <a:pt x="823" y="407"/>
                  <a:pt x="829" y="428"/>
                  <a:pt x="819" y="443"/>
                </a:cubicBezTo>
                <a:cubicBezTo>
                  <a:pt x="814" y="451"/>
                  <a:pt x="796" y="445"/>
                  <a:pt x="792" y="436"/>
                </a:cubicBezTo>
                <a:cubicBezTo>
                  <a:pt x="787" y="424"/>
                  <a:pt x="792" y="407"/>
                  <a:pt x="799" y="396"/>
                </a:cubicBezTo>
                <a:cubicBezTo>
                  <a:pt x="803" y="389"/>
                  <a:pt x="837" y="379"/>
                  <a:pt x="846" y="376"/>
                </a:cubicBezTo>
                <a:cubicBezTo>
                  <a:pt x="867" y="409"/>
                  <a:pt x="881" y="422"/>
                  <a:pt x="852" y="476"/>
                </a:cubicBezTo>
                <a:cubicBezTo>
                  <a:pt x="847" y="486"/>
                  <a:pt x="830" y="472"/>
                  <a:pt x="819" y="470"/>
                </a:cubicBezTo>
                <a:cubicBezTo>
                  <a:pt x="821" y="461"/>
                  <a:pt x="819" y="450"/>
                  <a:pt x="825" y="443"/>
                </a:cubicBezTo>
                <a:cubicBezTo>
                  <a:pt x="849" y="413"/>
                  <a:pt x="862" y="463"/>
                  <a:pt x="866" y="476"/>
                </a:cubicBezTo>
                <a:cubicBezTo>
                  <a:pt x="855" y="520"/>
                  <a:pt x="847" y="569"/>
                  <a:pt x="799" y="583"/>
                </a:cubicBezTo>
                <a:cubicBezTo>
                  <a:pt x="699" y="553"/>
                  <a:pt x="755" y="577"/>
                  <a:pt x="705" y="523"/>
                </a:cubicBezTo>
                <a:cubicBezTo>
                  <a:pt x="720" y="479"/>
                  <a:pt x="764" y="505"/>
                  <a:pt x="799" y="517"/>
                </a:cubicBezTo>
                <a:cubicBezTo>
                  <a:pt x="806" y="524"/>
                  <a:pt x="818" y="528"/>
                  <a:pt x="819" y="537"/>
                </a:cubicBezTo>
                <a:cubicBezTo>
                  <a:pt x="820" y="545"/>
                  <a:pt x="811" y="551"/>
                  <a:pt x="805" y="557"/>
                </a:cubicBezTo>
                <a:cubicBezTo>
                  <a:pt x="782" y="580"/>
                  <a:pt x="754" y="592"/>
                  <a:pt x="725" y="604"/>
                </a:cubicBezTo>
                <a:cubicBezTo>
                  <a:pt x="695" y="588"/>
                  <a:pt x="683" y="571"/>
                  <a:pt x="665" y="543"/>
                </a:cubicBezTo>
                <a:cubicBezTo>
                  <a:pt x="658" y="510"/>
                  <a:pt x="649" y="488"/>
                  <a:pt x="685" y="476"/>
                </a:cubicBezTo>
                <a:cubicBezTo>
                  <a:pt x="751" y="481"/>
                  <a:pt x="779" y="466"/>
                  <a:pt x="799" y="523"/>
                </a:cubicBezTo>
                <a:cubicBezTo>
                  <a:pt x="785" y="564"/>
                  <a:pt x="778" y="576"/>
                  <a:pt x="738" y="590"/>
                </a:cubicBezTo>
                <a:cubicBezTo>
                  <a:pt x="710" y="576"/>
                  <a:pt x="701" y="572"/>
                  <a:pt x="691" y="543"/>
                </a:cubicBezTo>
                <a:cubicBezTo>
                  <a:pt x="693" y="530"/>
                  <a:pt x="698" y="489"/>
                  <a:pt x="698" y="503"/>
                </a:cubicBezTo>
                <a:cubicBezTo>
                  <a:pt x="698" y="525"/>
                  <a:pt x="698" y="549"/>
                  <a:pt x="691" y="570"/>
                </a:cubicBezTo>
                <a:cubicBezTo>
                  <a:pt x="688" y="578"/>
                  <a:pt x="677" y="578"/>
                  <a:pt x="671" y="583"/>
                </a:cubicBezTo>
                <a:cubicBezTo>
                  <a:pt x="664" y="589"/>
                  <a:pt x="658" y="597"/>
                  <a:pt x="651" y="604"/>
                </a:cubicBezTo>
                <a:cubicBezTo>
                  <a:pt x="624" y="602"/>
                  <a:pt x="597" y="603"/>
                  <a:pt x="571" y="597"/>
                </a:cubicBezTo>
                <a:cubicBezTo>
                  <a:pt x="553" y="593"/>
                  <a:pt x="555" y="566"/>
                  <a:pt x="564" y="557"/>
                </a:cubicBezTo>
                <a:cubicBezTo>
                  <a:pt x="571" y="550"/>
                  <a:pt x="582" y="552"/>
                  <a:pt x="591" y="550"/>
                </a:cubicBezTo>
                <a:cubicBezTo>
                  <a:pt x="604" y="552"/>
                  <a:pt x="619" y="550"/>
                  <a:pt x="631" y="557"/>
                </a:cubicBezTo>
                <a:cubicBezTo>
                  <a:pt x="637" y="561"/>
                  <a:pt x="639" y="570"/>
                  <a:pt x="638" y="577"/>
                </a:cubicBezTo>
                <a:cubicBezTo>
                  <a:pt x="634" y="620"/>
                  <a:pt x="619" y="628"/>
                  <a:pt x="584" y="637"/>
                </a:cubicBezTo>
                <a:cubicBezTo>
                  <a:pt x="573" y="648"/>
                  <a:pt x="558" y="670"/>
                  <a:pt x="537" y="664"/>
                </a:cubicBezTo>
                <a:cubicBezTo>
                  <a:pt x="513" y="657"/>
                  <a:pt x="470" y="630"/>
                  <a:pt x="470" y="630"/>
                </a:cubicBezTo>
                <a:cubicBezTo>
                  <a:pt x="450" y="605"/>
                  <a:pt x="433" y="587"/>
                  <a:pt x="424" y="557"/>
                </a:cubicBezTo>
                <a:cubicBezTo>
                  <a:pt x="442" y="498"/>
                  <a:pt x="517" y="535"/>
                  <a:pt x="537" y="577"/>
                </a:cubicBezTo>
                <a:cubicBezTo>
                  <a:pt x="511" y="639"/>
                  <a:pt x="515" y="628"/>
                  <a:pt x="457" y="650"/>
                </a:cubicBezTo>
                <a:cubicBezTo>
                  <a:pt x="423" y="628"/>
                  <a:pt x="410" y="551"/>
                  <a:pt x="457" y="537"/>
                </a:cubicBezTo>
                <a:cubicBezTo>
                  <a:pt x="492" y="554"/>
                  <a:pt x="507" y="555"/>
                  <a:pt x="517" y="590"/>
                </a:cubicBezTo>
                <a:cubicBezTo>
                  <a:pt x="496" y="725"/>
                  <a:pt x="518" y="756"/>
                  <a:pt x="410" y="704"/>
                </a:cubicBezTo>
                <a:cubicBezTo>
                  <a:pt x="391" y="678"/>
                  <a:pt x="364" y="664"/>
                  <a:pt x="403" y="650"/>
                </a:cubicBezTo>
                <a:cubicBezTo>
                  <a:pt x="420" y="661"/>
                  <a:pt x="446" y="677"/>
                  <a:pt x="437" y="684"/>
                </a:cubicBezTo>
                <a:cubicBezTo>
                  <a:pt x="425" y="694"/>
                  <a:pt x="406" y="690"/>
                  <a:pt x="390" y="691"/>
                </a:cubicBezTo>
                <a:cubicBezTo>
                  <a:pt x="354" y="694"/>
                  <a:pt x="319" y="695"/>
                  <a:pt x="283" y="697"/>
                </a:cubicBezTo>
                <a:cubicBezTo>
                  <a:pt x="255" y="711"/>
                  <a:pt x="235" y="737"/>
                  <a:pt x="223" y="697"/>
                </a:cubicBezTo>
                <a:cubicBezTo>
                  <a:pt x="261" y="688"/>
                  <a:pt x="269" y="684"/>
                  <a:pt x="310" y="691"/>
                </a:cubicBezTo>
                <a:cubicBezTo>
                  <a:pt x="333" y="766"/>
                  <a:pt x="239" y="773"/>
                  <a:pt x="189" y="791"/>
                </a:cubicBezTo>
                <a:cubicBezTo>
                  <a:pt x="177" y="756"/>
                  <a:pt x="168" y="742"/>
                  <a:pt x="176" y="704"/>
                </a:cubicBezTo>
                <a:cubicBezTo>
                  <a:pt x="185" y="706"/>
                  <a:pt x="202" y="702"/>
                  <a:pt x="203" y="711"/>
                </a:cubicBezTo>
                <a:cubicBezTo>
                  <a:pt x="208" y="752"/>
                  <a:pt x="159" y="780"/>
                  <a:pt x="129" y="791"/>
                </a:cubicBezTo>
                <a:cubicBezTo>
                  <a:pt x="72" y="785"/>
                  <a:pt x="63" y="791"/>
                  <a:pt x="28" y="758"/>
                </a:cubicBezTo>
                <a:cubicBezTo>
                  <a:pt x="55" y="731"/>
                  <a:pt x="83" y="742"/>
                  <a:pt x="102" y="771"/>
                </a:cubicBezTo>
                <a:cubicBezTo>
                  <a:pt x="91" y="825"/>
                  <a:pt x="102" y="827"/>
                  <a:pt x="8" y="798"/>
                </a:cubicBezTo>
                <a:cubicBezTo>
                  <a:pt x="0" y="796"/>
                  <a:pt x="21" y="788"/>
                  <a:pt x="28" y="784"/>
                </a:cubicBezTo>
                <a:cubicBezTo>
                  <a:pt x="41" y="778"/>
                  <a:pt x="55" y="776"/>
                  <a:pt x="69" y="771"/>
                </a:cubicBezTo>
                <a:cubicBezTo>
                  <a:pt x="114" y="775"/>
                  <a:pt x="266" y="750"/>
                  <a:pt x="209" y="831"/>
                </a:cubicBezTo>
                <a:cubicBezTo>
                  <a:pt x="165" y="821"/>
                  <a:pt x="182" y="816"/>
                  <a:pt x="169" y="778"/>
                </a:cubicBezTo>
                <a:cubicBezTo>
                  <a:pt x="179" y="700"/>
                  <a:pt x="171" y="729"/>
                  <a:pt x="236" y="704"/>
                </a:cubicBezTo>
                <a:cubicBezTo>
                  <a:pt x="387" y="711"/>
                  <a:pt x="348" y="695"/>
                  <a:pt x="430" y="738"/>
                </a:cubicBezTo>
                <a:cubicBezTo>
                  <a:pt x="494" y="830"/>
                  <a:pt x="221" y="775"/>
                  <a:pt x="330" y="731"/>
                </a:cubicBezTo>
                <a:cubicBezTo>
                  <a:pt x="343" y="726"/>
                  <a:pt x="357" y="726"/>
                  <a:pt x="370" y="724"/>
                </a:cubicBezTo>
                <a:cubicBezTo>
                  <a:pt x="441" y="726"/>
                  <a:pt x="514" y="719"/>
                  <a:pt x="584" y="731"/>
                </a:cubicBezTo>
                <a:cubicBezTo>
                  <a:pt x="593" y="732"/>
                  <a:pt x="583" y="750"/>
                  <a:pt x="578" y="758"/>
                </a:cubicBezTo>
                <a:cubicBezTo>
                  <a:pt x="563" y="779"/>
                  <a:pt x="533" y="783"/>
                  <a:pt x="511" y="791"/>
                </a:cubicBezTo>
                <a:cubicBezTo>
                  <a:pt x="472" y="777"/>
                  <a:pt x="467" y="757"/>
                  <a:pt x="497" y="717"/>
                </a:cubicBezTo>
                <a:cubicBezTo>
                  <a:pt x="503" y="709"/>
                  <a:pt x="569" y="694"/>
                  <a:pt x="584" y="691"/>
                </a:cubicBezTo>
                <a:cubicBezTo>
                  <a:pt x="620" y="693"/>
                  <a:pt x="657" y="687"/>
                  <a:pt x="691" y="697"/>
                </a:cubicBezTo>
                <a:cubicBezTo>
                  <a:pt x="700" y="700"/>
                  <a:pt x="699" y="715"/>
                  <a:pt x="698" y="724"/>
                </a:cubicBezTo>
                <a:cubicBezTo>
                  <a:pt x="688" y="805"/>
                  <a:pt x="698" y="792"/>
                  <a:pt x="658" y="818"/>
                </a:cubicBezTo>
                <a:cubicBezTo>
                  <a:pt x="651" y="811"/>
                  <a:pt x="639" y="807"/>
                  <a:pt x="638" y="798"/>
                </a:cubicBezTo>
                <a:cubicBezTo>
                  <a:pt x="633" y="761"/>
                  <a:pt x="641" y="691"/>
                  <a:pt x="685" y="671"/>
                </a:cubicBezTo>
                <a:cubicBezTo>
                  <a:pt x="715" y="658"/>
                  <a:pt x="748" y="659"/>
                  <a:pt x="779" y="644"/>
                </a:cubicBezTo>
                <a:cubicBezTo>
                  <a:pt x="872" y="656"/>
                  <a:pt x="837" y="685"/>
                  <a:pt x="825" y="791"/>
                </a:cubicBezTo>
                <a:cubicBezTo>
                  <a:pt x="780" y="769"/>
                  <a:pt x="792" y="756"/>
                  <a:pt x="799" y="704"/>
                </a:cubicBezTo>
                <a:cubicBezTo>
                  <a:pt x="837" y="710"/>
                  <a:pt x="866" y="706"/>
                  <a:pt x="879" y="744"/>
                </a:cubicBezTo>
                <a:cubicBezTo>
                  <a:pt x="860" y="832"/>
                  <a:pt x="886" y="788"/>
                  <a:pt x="839" y="818"/>
                </a:cubicBezTo>
                <a:cubicBezTo>
                  <a:pt x="800" y="843"/>
                  <a:pt x="853" y="821"/>
                  <a:pt x="805" y="838"/>
                </a:cubicBezTo>
                <a:cubicBezTo>
                  <a:pt x="794" y="836"/>
                  <a:pt x="781" y="838"/>
                  <a:pt x="772" y="831"/>
                </a:cubicBezTo>
                <a:cubicBezTo>
                  <a:pt x="728" y="795"/>
                  <a:pt x="816" y="764"/>
                  <a:pt x="832" y="758"/>
                </a:cubicBezTo>
                <a:cubicBezTo>
                  <a:pt x="850" y="760"/>
                  <a:pt x="870" y="756"/>
                  <a:pt x="886" y="764"/>
                </a:cubicBezTo>
                <a:cubicBezTo>
                  <a:pt x="892" y="767"/>
                  <a:pt x="879" y="778"/>
                  <a:pt x="872" y="778"/>
                </a:cubicBezTo>
                <a:cubicBezTo>
                  <a:pt x="866" y="778"/>
                  <a:pt x="863" y="769"/>
                  <a:pt x="859" y="764"/>
                </a:cubicBezTo>
                <a:cubicBezTo>
                  <a:pt x="888" y="743"/>
                  <a:pt x="886" y="755"/>
                  <a:pt x="886" y="738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78680" y="5373720"/>
            <a:ext cx="12708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94680" y="4869000"/>
            <a:ext cx="12708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69240" y="6021360"/>
            <a:ext cx="12708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78680" y="5829480"/>
            <a:ext cx="12708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410680" y="5541840"/>
            <a:ext cx="12672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37600" y="5229360"/>
            <a:ext cx="12708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-252360" y="476280"/>
            <a:ext cx="5748120" cy="19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довольствие без границ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т игры без тормозов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26920" y="2924280"/>
            <a:ext cx="682164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пециально для Среднего и Малого Бизнеса</a:t>
            </a:r>
            <a:endParaRPr b="0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00000" y="3429000"/>
            <a:ext cx="7164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т и розниц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50920" y="5877000"/>
            <a:ext cx="3636720" cy="6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. (+7495) 777-23-73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6372360" y="333360"/>
            <a:ext cx="1895400" cy="1895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469800" y="4313160"/>
            <a:ext cx="1895400" cy="990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2916360" y="4437000"/>
            <a:ext cx="1895400" cy="990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5021280" y="4867200"/>
            <a:ext cx="990720" cy="1895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9"/>
          <a:stretch/>
        </p:blipFill>
        <p:spPr>
          <a:xfrm>
            <a:off x="6156360" y="4005360"/>
            <a:ext cx="1895400" cy="990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0"/>
          <a:stretch/>
        </p:blipFill>
        <p:spPr>
          <a:xfrm>
            <a:off x="6804000" y="5013360"/>
            <a:ext cx="2352600" cy="17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15920"/>
            <a:ext cx="8964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иторы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CG 2008, SyncMaster 931bf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ео карты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d 3D, GeForce 9600GT,8800GS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88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TX, 8900GS, 9500GT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утбуки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y VAIO AR50, MSI qx620, DEPO VIP P971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ьютер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aftway Idea,Kit Exclusive 130, FLEXTRON Quattro Pl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332000" y="2205000"/>
            <a:ext cx="6334200" cy="21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многое друго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92360" y="4724280"/>
            <a:ext cx="5769000" cy="1770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ля компьютор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7740720" y="1052640"/>
            <a:ext cx="1039680" cy="7873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179280" y="1773360"/>
            <a:ext cx="1195560" cy="6253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7758000" y="5472000"/>
            <a:ext cx="1386000" cy="1386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rot="2931600">
            <a:off x="252000" y="2708280"/>
            <a:ext cx="574920" cy="14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9177200">
            <a:off x="279360" y="27014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9177200">
            <a:off x="206280" y="262908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9177200">
            <a:off x="351000" y="277308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9177200">
            <a:off x="422280" y="284436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9177200">
            <a:off x="495360" y="29174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9177200">
            <a:off x="566640" y="2989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2931600">
            <a:off x="252000" y="3645000"/>
            <a:ext cx="574560" cy="14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9177200">
            <a:off x="279360" y="363816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9177200">
            <a:off x="206280" y="35654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9177200">
            <a:off x="351000" y="3709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9177200">
            <a:off x="422280" y="378108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9177200">
            <a:off x="495360" y="38541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9177200">
            <a:off x="566640" y="392580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2931600">
            <a:off x="298080" y="3221280"/>
            <a:ext cx="574560" cy="14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9177200">
            <a:off x="325440" y="3214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9177200">
            <a:off x="252360" y="3141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9177200">
            <a:off x="396720" y="328608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9177200">
            <a:off x="468360" y="3357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9177200">
            <a:off x="541440" y="3430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9177200">
            <a:off x="612720" y="350172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187280" y="-171360"/>
            <a:ext cx="623880" cy="7218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164360" y="-171360"/>
            <a:ext cx="623880" cy="7218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2771640" y="1125360"/>
            <a:ext cx="3529080" cy="7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ЛИЦЕНЗ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5280" y="2060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 12673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loorlamp"/>
          <p:cNvSpPr/>
          <p:nvPr/>
        </p:nvSpPr>
        <p:spPr>
          <a:xfrm>
            <a:off x="4788000" y="4149720"/>
            <a:ext cx="1244520" cy="12445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9718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80000" y="3933720"/>
            <a:ext cx="1095480" cy="2268720"/>
          </a:xfrm>
          <a:custGeom>
            <a:avLst/>
            <a:gdLst/>
            <a:ahLst/>
            <a:rect l="l" t="t" r="r" b="b"/>
            <a:pathLst>
              <a:path w="690" h="1429">
                <a:moveTo>
                  <a:pt x="0" y="1031"/>
                </a:moveTo>
                <a:cubicBezTo>
                  <a:pt x="16" y="1006"/>
                  <a:pt x="32" y="994"/>
                  <a:pt x="60" y="984"/>
                </a:cubicBezTo>
                <a:cubicBezTo>
                  <a:pt x="177" y="899"/>
                  <a:pt x="297" y="817"/>
                  <a:pt x="335" y="669"/>
                </a:cubicBezTo>
                <a:cubicBezTo>
                  <a:pt x="331" y="662"/>
                  <a:pt x="329" y="653"/>
                  <a:pt x="322" y="649"/>
                </a:cubicBezTo>
                <a:cubicBezTo>
                  <a:pt x="298" y="634"/>
                  <a:pt x="268" y="631"/>
                  <a:pt x="241" y="622"/>
                </a:cubicBezTo>
                <a:cubicBezTo>
                  <a:pt x="227" y="617"/>
                  <a:pt x="215" y="607"/>
                  <a:pt x="201" y="602"/>
                </a:cubicBezTo>
                <a:cubicBezTo>
                  <a:pt x="192" y="604"/>
                  <a:pt x="181" y="602"/>
                  <a:pt x="174" y="609"/>
                </a:cubicBezTo>
                <a:cubicBezTo>
                  <a:pt x="131" y="652"/>
                  <a:pt x="110" y="721"/>
                  <a:pt x="74" y="770"/>
                </a:cubicBezTo>
                <a:cubicBezTo>
                  <a:pt x="65" y="815"/>
                  <a:pt x="43" y="854"/>
                  <a:pt x="27" y="897"/>
                </a:cubicBezTo>
                <a:cubicBezTo>
                  <a:pt x="33" y="751"/>
                  <a:pt x="13" y="752"/>
                  <a:pt x="67" y="669"/>
                </a:cubicBezTo>
                <a:cubicBezTo>
                  <a:pt x="141" y="678"/>
                  <a:pt x="132" y="675"/>
                  <a:pt x="174" y="729"/>
                </a:cubicBezTo>
                <a:cubicBezTo>
                  <a:pt x="208" y="828"/>
                  <a:pt x="192" y="865"/>
                  <a:pt x="188" y="997"/>
                </a:cubicBezTo>
                <a:cubicBezTo>
                  <a:pt x="117" y="860"/>
                  <a:pt x="164" y="753"/>
                  <a:pt x="167" y="569"/>
                </a:cubicBezTo>
                <a:cubicBezTo>
                  <a:pt x="203" y="591"/>
                  <a:pt x="195" y="636"/>
                  <a:pt x="201" y="676"/>
                </a:cubicBezTo>
                <a:cubicBezTo>
                  <a:pt x="188" y="859"/>
                  <a:pt x="201" y="918"/>
                  <a:pt x="154" y="1051"/>
                </a:cubicBezTo>
                <a:cubicBezTo>
                  <a:pt x="29" y="964"/>
                  <a:pt x="118" y="1034"/>
                  <a:pt x="141" y="649"/>
                </a:cubicBezTo>
                <a:cubicBezTo>
                  <a:pt x="144" y="600"/>
                  <a:pt x="153" y="600"/>
                  <a:pt x="181" y="582"/>
                </a:cubicBezTo>
                <a:cubicBezTo>
                  <a:pt x="243" y="732"/>
                  <a:pt x="288" y="887"/>
                  <a:pt x="328" y="1044"/>
                </a:cubicBezTo>
                <a:cubicBezTo>
                  <a:pt x="321" y="1167"/>
                  <a:pt x="321" y="1290"/>
                  <a:pt x="308" y="1412"/>
                </a:cubicBezTo>
                <a:cubicBezTo>
                  <a:pt x="307" y="1420"/>
                  <a:pt x="296" y="1429"/>
                  <a:pt x="288" y="1426"/>
                </a:cubicBezTo>
                <a:cubicBezTo>
                  <a:pt x="279" y="1422"/>
                  <a:pt x="279" y="1408"/>
                  <a:pt x="275" y="1399"/>
                </a:cubicBezTo>
                <a:cubicBezTo>
                  <a:pt x="285" y="0"/>
                  <a:pt x="278" y="353"/>
                  <a:pt x="295" y="749"/>
                </a:cubicBezTo>
                <a:cubicBezTo>
                  <a:pt x="285" y="865"/>
                  <a:pt x="300" y="1017"/>
                  <a:pt x="241" y="1131"/>
                </a:cubicBezTo>
                <a:cubicBezTo>
                  <a:pt x="230" y="1109"/>
                  <a:pt x="189" y="1033"/>
                  <a:pt x="188" y="1011"/>
                </a:cubicBezTo>
                <a:cubicBezTo>
                  <a:pt x="184" y="895"/>
                  <a:pt x="190" y="778"/>
                  <a:pt x="201" y="662"/>
                </a:cubicBezTo>
                <a:cubicBezTo>
                  <a:pt x="224" y="416"/>
                  <a:pt x="534" y="468"/>
                  <a:pt x="69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40000" y="5877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.12.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24000" y="44280"/>
            <a:ext cx="8712000" cy="70516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1763640" y="1773360"/>
            <a:ext cx="4346640" cy="33512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Lucida Sans Unicode"/>
              </a:rPr>
              <a:t> </a:t>
            </a: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Lucida Sans Unicode"/>
              </a:rPr>
              <a:t>1Генеральный план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Lucida Sans Unicode"/>
              <a:ea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Lucida Sans Unicode"/>
              </a:rPr>
              <a:t> </a:t>
            </a: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Lucida Sans Unicode"/>
              </a:rPr>
              <a:t>2 Электроснабжение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Lucida Sans Unicode"/>
              <a:ea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Lucida Sans Unicode"/>
              </a:rPr>
              <a:t> </a:t>
            </a: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Lucida Sans Unicode"/>
              </a:rPr>
              <a:t>3 Телефонизация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Lucida Sans Unicode"/>
              <a:ea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Lucida Sans Unicode"/>
              </a:rPr>
              <a:t> </a:t>
            </a: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Lucida Sans Unicode"/>
              </a:rPr>
              <a:t>4 Отопление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Lucida Sans Unicode"/>
              <a:ea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Lucida Sans Unicode"/>
              </a:rPr>
              <a:t> </a:t>
            </a: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Lucida Sans Unicode"/>
              </a:rPr>
              <a:t>5 Противопожарные 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Lucida Sans Unicode"/>
              <a:ea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Lucida Sans Unicode"/>
              </a:rPr>
              <a:t>    </a:t>
            </a: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Lucida Sans Unicode"/>
              </a:rPr>
              <a:t>требования 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Lucida Sans Unicode"/>
              <a:ea typeface="Lucida Sans Unicode"/>
            </a:endParaRPr>
          </a:p>
        </p:txBody>
      </p:sp>
    </p:spTree>
  </p:cSld>
  <p:transition spd="slow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2484360" y="189000"/>
            <a:ext cx="41767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оварная накладная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6360" y="1793880"/>
            <a:ext cx="7991280" cy="34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Артику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Наимен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Това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Количеств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Це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Сумма без НДС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НДС %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Сумма НДС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умма с налог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443640" y="501336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7308720" y="4437000"/>
            <a:ext cx="1095480" cy="2268720"/>
          </a:xfrm>
          <a:custGeom>
            <a:avLst/>
            <a:gdLst/>
            <a:ahLst/>
            <a:rect l="l" t="t" r="r" b="b"/>
            <a:pathLst>
              <a:path w="690" h="1429">
                <a:moveTo>
                  <a:pt x="0" y="1031"/>
                </a:moveTo>
                <a:cubicBezTo>
                  <a:pt x="16" y="1006"/>
                  <a:pt x="32" y="994"/>
                  <a:pt x="60" y="984"/>
                </a:cubicBezTo>
                <a:cubicBezTo>
                  <a:pt x="177" y="899"/>
                  <a:pt x="297" y="817"/>
                  <a:pt x="335" y="669"/>
                </a:cubicBezTo>
                <a:cubicBezTo>
                  <a:pt x="331" y="662"/>
                  <a:pt x="329" y="653"/>
                  <a:pt x="322" y="649"/>
                </a:cubicBezTo>
                <a:cubicBezTo>
                  <a:pt x="298" y="634"/>
                  <a:pt x="268" y="631"/>
                  <a:pt x="241" y="622"/>
                </a:cubicBezTo>
                <a:cubicBezTo>
                  <a:pt x="227" y="617"/>
                  <a:pt x="215" y="607"/>
                  <a:pt x="201" y="602"/>
                </a:cubicBezTo>
                <a:cubicBezTo>
                  <a:pt x="192" y="604"/>
                  <a:pt x="181" y="602"/>
                  <a:pt x="174" y="609"/>
                </a:cubicBezTo>
                <a:cubicBezTo>
                  <a:pt x="131" y="652"/>
                  <a:pt x="110" y="721"/>
                  <a:pt x="74" y="770"/>
                </a:cubicBezTo>
                <a:cubicBezTo>
                  <a:pt x="65" y="815"/>
                  <a:pt x="43" y="854"/>
                  <a:pt x="27" y="897"/>
                </a:cubicBezTo>
                <a:cubicBezTo>
                  <a:pt x="33" y="751"/>
                  <a:pt x="13" y="752"/>
                  <a:pt x="67" y="669"/>
                </a:cubicBezTo>
                <a:cubicBezTo>
                  <a:pt x="141" y="678"/>
                  <a:pt x="132" y="675"/>
                  <a:pt x="174" y="729"/>
                </a:cubicBezTo>
                <a:cubicBezTo>
                  <a:pt x="208" y="828"/>
                  <a:pt x="192" y="865"/>
                  <a:pt x="188" y="997"/>
                </a:cubicBezTo>
                <a:cubicBezTo>
                  <a:pt x="117" y="860"/>
                  <a:pt x="164" y="753"/>
                  <a:pt x="167" y="569"/>
                </a:cubicBezTo>
                <a:cubicBezTo>
                  <a:pt x="203" y="591"/>
                  <a:pt x="195" y="636"/>
                  <a:pt x="201" y="676"/>
                </a:cubicBezTo>
                <a:cubicBezTo>
                  <a:pt x="188" y="859"/>
                  <a:pt x="201" y="918"/>
                  <a:pt x="154" y="1051"/>
                </a:cubicBezTo>
                <a:cubicBezTo>
                  <a:pt x="29" y="964"/>
                  <a:pt x="118" y="1034"/>
                  <a:pt x="141" y="649"/>
                </a:cubicBezTo>
                <a:cubicBezTo>
                  <a:pt x="144" y="600"/>
                  <a:pt x="153" y="600"/>
                  <a:pt x="181" y="582"/>
                </a:cubicBezTo>
                <a:cubicBezTo>
                  <a:pt x="243" y="732"/>
                  <a:pt x="288" y="887"/>
                  <a:pt x="328" y="1044"/>
                </a:cubicBezTo>
                <a:cubicBezTo>
                  <a:pt x="321" y="1167"/>
                  <a:pt x="321" y="1290"/>
                  <a:pt x="308" y="1412"/>
                </a:cubicBezTo>
                <a:cubicBezTo>
                  <a:pt x="307" y="1420"/>
                  <a:pt x="296" y="1429"/>
                  <a:pt x="288" y="1426"/>
                </a:cubicBezTo>
                <a:cubicBezTo>
                  <a:pt x="279" y="1422"/>
                  <a:pt x="279" y="1408"/>
                  <a:pt x="275" y="1399"/>
                </a:cubicBezTo>
                <a:cubicBezTo>
                  <a:pt x="285" y="0"/>
                  <a:pt x="278" y="353"/>
                  <a:pt x="295" y="749"/>
                </a:cubicBezTo>
                <a:cubicBezTo>
                  <a:pt x="285" y="865"/>
                  <a:pt x="300" y="1017"/>
                  <a:pt x="241" y="1131"/>
                </a:cubicBezTo>
                <a:cubicBezTo>
                  <a:pt x="230" y="1109"/>
                  <a:pt x="189" y="1033"/>
                  <a:pt x="188" y="1011"/>
                </a:cubicBezTo>
                <a:cubicBezTo>
                  <a:pt x="184" y="895"/>
                  <a:pt x="190" y="778"/>
                  <a:pt x="201" y="662"/>
                </a:cubicBezTo>
                <a:cubicBezTo>
                  <a:pt x="224" y="416"/>
                  <a:pt x="534" y="468"/>
                  <a:pt x="69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1T17:12:45Z</dcterms:created>
  <dc:creator>User</dc:creator>
  <dc:description/>
  <dc:language>en-US</dc:language>
  <cp:lastModifiedBy>User</cp:lastModifiedBy>
  <dcterms:modified xsi:type="dcterms:W3CDTF">2008-12-22T17:26:20Z</dcterms:modified>
  <cp:revision>11</cp:revision>
  <dc:subject/>
  <dc:title>Слайд 1</dc:title>
</cp:coreProperties>
</file>