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AD8F0-18FB-400D-B061-56ACCFC4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9C36E-AE4D-4273-A1A2-A839B594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D1527-8F9E-4C1D-86F8-A5DD869E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87144-B303-4B30-8B8D-421DE676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2C85-6526-444A-B279-69F1F564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ABA4-4317-46CC-88E6-4BB2D69E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7339-0968-476B-B4C9-BD01EA0C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A4DD-A6B9-42F1-96D7-5B46A83F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4AD9-76D1-4C47-AB9E-4DCCE7F4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CCBB-4B31-4F5C-BB4B-41DCCDF8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7706-F299-4A2A-93F7-C00635A1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B62C0-A974-4386-91AC-E4EF3B3C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A1EE-CB91-42EC-BC54-90809DD4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E975-1986-4215-943F-CCF1ED25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E1A7-F86E-4507-8448-41158E16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27B3-65D5-4E78-B11D-A3850ABC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F334-09BE-4363-903A-BCB9EF12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907DB-EF37-415A-880D-147E90A5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2FC03-A59A-4D2C-AE90-5A7894F5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7D545-E93D-4ABB-99D1-B394C991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1E623-1C1A-46E8-831C-DFFEAA4F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FE04-F2FE-4159-B8E8-EBCA4563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78ECF-D376-4CC1-A4E2-4E752CEB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3566-91F2-4576-A077-4913749F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8E0C-0D0A-47F9-805C-3E48647A97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Группа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Группа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Полилиния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Полилиния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Полилиния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Полилиния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Полилиния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Полилиния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Полилиния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Группа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Группа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Полилиния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Полилиния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Полилиния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Полилиния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Полилиния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Полилиния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Полилиния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96E0-B33A-4460-9404-0876A1BFEE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е 4"/>
          <p:cNvSpPr/>
          <p:nvPr/>
        </p:nvSpPr>
        <p:spPr>
          <a:xfrm>
            <a:off x="1403280" y="189000"/>
            <a:ext cx="676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ветская средняя общеобразовательная школ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упинского района Новосибирской облас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Объект WordArt 5"/>
          <p:cNvSpPr txBox="1"/>
          <p:nvPr/>
        </p:nvSpPr>
        <p:spPr>
          <a:xfrm>
            <a:off x="1042920" y="2276640"/>
            <a:ext cx="741672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 по тем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Наименьшее общее кратное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Поле 6"/>
          <p:cNvSpPr/>
          <p:nvPr/>
        </p:nvSpPr>
        <p:spPr>
          <a:xfrm>
            <a:off x="5364000" y="5445000"/>
            <a:ext cx="352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читель математики 2-ой квалификационной категори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езух И. С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Поле 7"/>
          <p:cNvSpPr/>
          <p:nvPr/>
        </p:nvSpPr>
        <p:spPr>
          <a:xfrm>
            <a:off x="3419640" y="652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009 г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Определение НОК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Garamond"/>
              </a:rPr>
              <a:t>  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Наименьшим общим кратным натуральных чисел </a:t>
            </a:r>
            <a:r>
              <a:rPr b="1" i="1" lang="ru-RU" sz="54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 называют наименьшее натуральное число , которое кратно и </a:t>
            </a:r>
            <a:r>
              <a:rPr b="1" i="1" lang="ru-RU" sz="54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План нахождения НОК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Разложим данные числа на простые множители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Разложение одного из них дополним теми множителями разложения другого числа, которых нет в разложении первого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ычислим произведение полученных множителе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Например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йдём НОК (462, 420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ОК (462, 416) = 2*3*7*11*2*5 = 462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Закрепляем изученно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171 (а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172 (а, б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173 (а, г, е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186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187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Домашнее задание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п.7, № 193 (а), № 194 (а), № 197 (а, в)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Подведём итог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ое число называют наименьшим общим кратным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найти наименьшее общее кратно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цените себ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цените своих одноклассник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получилось? Что понравилось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д чем нужно работать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ши пожела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Объект WordArt 6"/>
          <p:cNvSpPr txBox="1"/>
          <p:nvPr/>
        </p:nvSpPr>
        <p:spPr>
          <a:xfrm>
            <a:off x="684360" y="1628640"/>
            <a:ext cx="755964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66ff"/>
                </a:solidFill>
                <a:latin typeface="Garamond"/>
              </a:rPr>
              <a:t>Тема урока: Наименьшее общее кратное.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План уро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астроимся на работ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Математический диктан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Математическое лото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Изучаем ново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тдыхае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Закрепляем изученно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одведём итог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66ff"/>
                </a:solidFill>
                <a:uFillTx/>
                <a:latin typeface="Garamond"/>
              </a:rPr>
              <a:t>Знать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пределение Н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лан нахождения Н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66ff"/>
                </a:solidFill>
                <a:uFillTx/>
                <a:latin typeface="Garamond"/>
              </a:rPr>
              <a:t>Уметь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ходить НОК нескольких натуральных чисе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Математический диктан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Garamond"/>
              </a:rPr>
              <a:t>«ДА» - 1 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8000" spc="-1" strike="noStrike">
                <a:solidFill>
                  <a:srgbClr val="ffffff"/>
                </a:solidFill>
                <a:latin typeface="Garamond"/>
              </a:rPr>
              <a:t>«НЕТ» - 0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Математический диктан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Garamond"/>
              </a:rPr>
              <a:t>100100100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Математическое лот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10*4,52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4,8:4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3,2:8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32+14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1,2+5,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0,24-0,1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4-1,8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0,6*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Изучаем ново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Задача: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Из порта А в порт В одновременно вышли два теплохода. Первый из них тратит на рейс туда и обратно 3 суток, а второй 4 суток. Через сколько суток оба теплохода окажутся снова вместе в порту А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Решение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Числа, кратные 3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3, 6, 9, 12, 15, 18, 21, 24, 27, 30, 33, 36,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Числа, кратные 4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4, 8, 12, 16, 20, 24, 28, 32, 36, 40,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бщие кратные чисел 3 и 4: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2, 24, 36,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аименьшее общее кратное – 12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Линия 7"/>
          <p:cNvSpPr/>
          <p:nvPr/>
        </p:nvSpPr>
        <p:spPr>
          <a:xfrm>
            <a:off x="2050920" y="27813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Линия 8"/>
          <p:cNvSpPr/>
          <p:nvPr/>
        </p:nvSpPr>
        <p:spPr>
          <a:xfrm>
            <a:off x="1547640" y="422100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Линия 9"/>
          <p:cNvSpPr/>
          <p:nvPr/>
        </p:nvSpPr>
        <p:spPr>
          <a:xfrm>
            <a:off x="4859280" y="27813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Линия 10"/>
          <p:cNvSpPr/>
          <p:nvPr/>
        </p:nvSpPr>
        <p:spPr>
          <a:xfrm>
            <a:off x="3708360" y="422100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Линия 11"/>
          <p:cNvSpPr/>
          <p:nvPr/>
        </p:nvSpPr>
        <p:spPr>
          <a:xfrm>
            <a:off x="7812000" y="278136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Линия 12"/>
          <p:cNvSpPr/>
          <p:nvPr/>
        </p:nvSpPr>
        <p:spPr>
          <a:xfrm>
            <a:off x="5940360" y="422100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4:09:46Z</dcterms:created>
  <dc:creator>1</dc:creator>
  <dc:description/>
  <dc:language>en-US</dc:language>
  <cp:lastModifiedBy>Admin</cp:lastModifiedBy>
  <dcterms:modified xsi:type="dcterms:W3CDTF">2010-02-22T10:59:52Z</dcterms:modified>
  <cp:revision>4</cp:revision>
  <dc:subject/>
  <dc:title>Наименьшее общее кратное</dc:title>
</cp:coreProperties>
</file>