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C1967-34D0-4508-8005-3DB5A1A5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BE23-5E97-4006-993B-603C5B5D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B046-4717-4FA5-8691-C19589DD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D8FE-E98F-43B6-AAE6-B97C6BA1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B4CA-2B64-42BA-9C01-9EA553D8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357A-905E-4CA0-B1BC-D2BFDD87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50A7-4BC2-4C90-AD78-C17B870E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79E3-5469-4B23-80EE-84BBFEA6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DA68-CE5F-4721-85B1-7E56B9D3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2532-9A8B-4857-9EF3-61F955A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F25-75D8-4F16-9FF0-AB559D0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C0BB-9226-4396-B5E7-7E33300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96C-2070-424B-A857-7848964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751-69E5-4DFD-A64C-F426728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C0B2-AEBE-4AE1-837C-83F8320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BBC7-73D1-482B-AF25-25589D87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7093-9D64-493B-9FCF-78B662F6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7416-BA84-43AD-8249-3559EF86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CB94-DDEA-4545-A361-AB112D7F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4B99-54AE-4F95-A79B-BFE4068A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94E1-87C0-4AC8-9925-4A0E384D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1153-0E49-47FD-B90B-10A5940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354C-5C5A-423B-811F-C1E6438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0171-278B-4F58-85B8-7609BCE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96C1-D586-499B-8915-6F0469179C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Группа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Полилиния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Полилиния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Полилиния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Полилиния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Полилиния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Полилиния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Полилиния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Полилиния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Полилиния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Полилиния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Полилиния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Полилиния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Полилиния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Полилиния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1C9E-2933-45CB-AA6F-DB0D02E23A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е 4"/>
          <p:cNvSpPr/>
          <p:nvPr/>
        </p:nvSpPr>
        <p:spPr>
          <a:xfrm>
            <a:off x="1403280" y="189000"/>
            <a:ext cx="67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ветская средняя общеобразовательная шко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пинского района Новосибирской обла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Объект WordArt 5"/>
          <p:cNvSpPr txBox="1"/>
          <p:nvPr/>
        </p:nvSpPr>
        <p:spPr>
          <a:xfrm>
            <a:off x="1042920" y="2276640"/>
            <a:ext cx="7416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именьшее общее кратно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Поле 6"/>
          <p:cNvSpPr/>
          <p:nvPr/>
        </p:nvSpPr>
        <p:spPr>
          <a:xfrm>
            <a:off x="5364000" y="544500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итель математики 2-ой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зух И.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Поле 7"/>
          <p:cNvSpPr/>
          <p:nvPr/>
        </p:nvSpPr>
        <p:spPr>
          <a:xfrm>
            <a:off x="3419640" y="652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9 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Определение НОК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аименьшим общим кратным натуральных чисел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называют наименьшее натуральное число , которое кратно и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лан нахождения НОК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ложим данные числа на простые множители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ложение одного из них дополним теми множителями разложения другого числа, которых нет в разложении первого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ычислим произведение полученных множител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Например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йдём НОК (462, 420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ОК (462, 416) = 2*3*7*11*2*5 = 462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Закрепляем изученно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1 (а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2 (а, б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3 (а, г, е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86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87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п.7, № 193 (а), № 194 (а), № 197 (а, в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одведём итог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ое число называют наименьшим общим кратны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йти наименьшее общее кратно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ите себ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ите своих одноклассн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олучилось? Что понравилос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д чем нужно работат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ши пожел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Объект WordArt 6"/>
          <p:cNvSpPr txBox="1"/>
          <p:nvPr/>
        </p:nvSpPr>
        <p:spPr>
          <a:xfrm>
            <a:off x="684360" y="1628640"/>
            <a:ext cx="75596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ff"/>
                </a:solidFill>
                <a:latin typeface="Garamond"/>
              </a:rPr>
              <a:t>Тема урока: Наименьшее общее кратное.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лан уро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строимся на работ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тематический диктан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тематическое лот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зучаем нов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ыха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крепляем изучен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дведём итог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Garamond"/>
              </a:rPr>
              <a:t>Знать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лан нахождения 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Garamond"/>
              </a:rPr>
              <a:t>Уметь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ходить НОК нескольких натуральных чисе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«ДА» - 1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«НЕТ» - 0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100100100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ое лот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10*4,52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4,8:4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3,2:8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32+14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1,2+5,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0,24-0,1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4-1,8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0,6*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Изучаем ново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Задача: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з порта А в порт В одновременно вышли два теплохода. Первый из них тратит на рейс туда и обратно 3 суток, а второй 4 суток. Через сколько суток оба теплохода окажутся снова вместе в порту А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а, кратные 3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, 6, 9, 12, 15, 18, 21, 24, 27, 30, 33, 36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а, кратные 4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, 8, 12, 16, 20, 24, 28, 32, 36, 40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ие кратные чисел 3 и 4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2, 24, 36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именьшее общее кратное – 12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Линия 7"/>
          <p:cNvSpPr/>
          <p:nvPr/>
        </p:nvSpPr>
        <p:spPr>
          <a:xfrm>
            <a:off x="205092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Линия 8"/>
          <p:cNvSpPr/>
          <p:nvPr/>
        </p:nvSpPr>
        <p:spPr>
          <a:xfrm>
            <a:off x="154764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Линия 9"/>
          <p:cNvSpPr/>
          <p:nvPr/>
        </p:nvSpPr>
        <p:spPr>
          <a:xfrm>
            <a:off x="485928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Линия 10"/>
          <p:cNvSpPr/>
          <p:nvPr/>
        </p:nvSpPr>
        <p:spPr>
          <a:xfrm>
            <a:off x="370836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Линия 11"/>
          <p:cNvSpPr/>
          <p:nvPr/>
        </p:nvSpPr>
        <p:spPr>
          <a:xfrm>
            <a:off x="781200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Линия 12"/>
          <p:cNvSpPr/>
          <p:nvPr/>
        </p:nvSpPr>
        <p:spPr>
          <a:xfrm>
            <a:off x="594036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4:09:46Z</dcterms:created>
  <dc:creator>1</dc:creator>
  <dc:description/>
  <dc:language>en-US</dc:language>
  <cp:lastModifiedBy>Admin</cp:lastModifiedBy>
  <dcterms:modified xsi:type="dcterms:W3CDTF">2010-02-22T10:59:52Z</dcterms:modified>
  <cp:revision>4</cp:revision>
  <dc:subject/>
  <dc:title>Наименьшее общее кратное</dc:title>
</cp:coreProperties>
</file>