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5225-E7E0-4AD7-BF76-5E4FE55D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F606-CC13-4083-8A14-AFE628FF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6DD6-22CF-4DBA-B248-2FC3936A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6196-642F-4BCA-B16D-3C2DFB08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2AAF-1619-4F7A-8820-0AAEEE8B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C70C-E4DD-4A16-8103-2DC1B3E8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B60-9C68-40D2-9E41-05A4EE6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8418-F177-4AC1-82A0-439C9EAD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049B-D19F-4D38-ACE2-DB79009C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555C-CC3C-4057-874D-F2236530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7553-C821-43C2-BDED-D4CD4178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ECB9-6D7C-41B3-875E-21AEB67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5647-BE35-4D72-92B5-89789BC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3F59-DD97-437A-AD75-83B434B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93CC-78D0-41BB-8DA3-9D730AB5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9D55-6763-4BBB-B007-AE1F16E5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C1A1-7A16-4106-943F-3B11F0C4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4458-0328-4577-9FD9-2CB80A78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0AE4-9CED-459C-AEDA-3BA59200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8B47-44CE-4CF0-9989-7B2BE3D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9357-402C-4CFB-8164-7A402B7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68B6-DCCA-4664-A463-BE02C0B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15CE-A0BD-4DBB-BBD8-DFB56AD3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97CD-C43E-4813-BBD0-A3B66D34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5CF4-5285-4DD2-A9DD-FE269FDD44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Группа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Полилиния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Полилиния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Полилиния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Полилиния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Полилиния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Полилиния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Полилиния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Полилиния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Полилиния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Полилиния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Полилиния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Полилиния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Полилиния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Полилиния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588D-B08D-4901-9625-35DA7C2384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е 4"/>
          <p:cNvSpPr/>
          <p:nvPr/>
        </p:nvSpPr>
        <p:spPr>
          <a:xfrm>
            <a:off x="1403280" y="189000"/>
            <a:ext cx="67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ветская средняя общеобразовательная шко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упинского района Новосибирской обла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Объект WordArt 5"/>
          <p:cNvSpPr txBox="1"/>
          <p:nvPr/>
        </p:nvSpPr>
        <p:spPr>
          <a:xfrm>
            <a:off x="1042920" y="2276640"/>
            <a:ext cx="74167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тем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Наименьшее общее кратно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Поле 6"/>
          <p:cNvSpPr/>
          <p:nvPr/>
        </p:nvSpPr>
        <p:spPr>
          <a:xfrm>
            <a:off x="5364000" y="544500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итель математики 2-ой квалификационной категор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зух И.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Поле 7"/>
          <p:cNvSpPr/>
          <p:nvPr/>
        </p:nvSpPr>
        <p:spPr>
          <a:xfrm>
            <a:off x="3419640" y="652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9 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Определение НОК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aramond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Наименьшим общим кратным натуральных чисел </a:t>
            </a: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называют наименьшее натуральное число , которое кратно и </a:t>
            </a: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лан нахождения НОК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ложим данные числа на простые множители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ложение одного из них дополним теми множителями разложения другого числа, которых нет в разложении первого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ычислим произведение полученных множител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Например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йдём НОК (462, 420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ОК (462, 416) = 2*3*7*11*2*5 = 462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Закрепляем изученно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1 (а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2 (а, б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3 (а, г, е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86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87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Домашнее зад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п.7, № 193 (а), № 194 (а), № 197 (а, в)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одведём итог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ое число называют наименьшим общим кратны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йти наименьшее общее кратно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цените себ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цените своих одноклассни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олучилось? Что понравилос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д чем нужно работат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ши пожел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Объект WordArt 6"/>
          <p:cNvSpPr txBox="1"/>
          <p:nvPr/>
        </p:nvSpPr>
        <p:spPr>
          <a:xfrm>
            <a:off x="684360" y="1628640"/>
            <a:ext cx="755964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ff"/>
                </a:solidFill>
                <a:latin typeface="Garamond"/>
              </a:rPr>
              <a:t>Тема урока: Наименьшее общее кратное.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лан уро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строимся на работ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атематический диктан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атематическое лото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зучаем нов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тдыхае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крепляем изученн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дведём итог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66ff"/>
                </a:solidFill>
                <a:uFillTx/>
                <a:latin typeface="Garamond"/>
              </a:rPr>
              <a:t>Знать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Н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лан нахождения Н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66ff"/>
                </a:solidFill>
                <a:uFillTx/>
                <a:latin typeface="Garamond"/>
              </a:rPr>
              <a:t>Уметь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ходить НОК нескольких натуральных чисе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ий дикта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«ДА» - 1 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«НЕТ» - 0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ий дикта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100100100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ое лот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10*4,52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4,8:4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3,2:8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32+14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1,2+5,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0,24-0,1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4-1,8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0,6*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Изучаем ново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Задача: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з порта А в порт В одновременно вышли два теплохода. Первый из них тратит на рейс туда и обратно 3 суток, а второй 4 суток. Через сколько суток оба теплохода окажутся снова вместе в порту А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Реше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исла, кратные 3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, 6, 9, 12, 15, 18, 21, 24, 27, 30, 33, 36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исла, кратные 4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, 8, 12, 16, 20, 24, 28, 32, 36, 40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щие кратные чисел 3 и 4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2, 24, 36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именьшее общее кратное – 12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Линия 7"/>
          <p:cNvSpPr/>
          <p:nvPr/>
        </p:nvSpPr>
        <p:spPr>
          <a:xfrm>
            <a:off x="205092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Линия 8"/>
          <p:cNvSpPr/>
          <p:nvPr/>
        </p:nvSpPr>
        <p:spPr>
          <a:xfrm>
            <a:off x="154764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Линия 9"/>
          <p:cNvSpPr/>
          <p:nvPr/>
        </p:nvSpPr>
        <p:spPr>
          <a:xfrm>
            <a:off x="485928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Линия 10"/>
          <p:cNvSpPr/>
          <p:nvPr/>
        </p:nvSpPr>
        <p:spPr>
          <a:xfrm>
            <a:off x="370836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Линия 11"/>
          <p:cNvSpPr/>
          <p:nvPr/>
        </p:nvSpPr>
        <p:spPr>
          <a:xfrm>
            <a:off x="781200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Линия 12"/>
          <p:cNvSpPr/>
          <p:nvPr/>
        </p:nvSpPr>
        <p:spPr>
          <a:xfrm>
            <a:off x="594036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4:09:46Z</dcterms:created>
  <dc:creator>1</dc:creator>
  <dc:description/>
  <dc:language>en-US</dc:language>
  <cp:lastModifiedBy>Admin</cp:lastModifiedBy>
  <dcterms:modified xsi:type="dcterms:W3CDTF">2010-02-22T10:59:52Z</dcterms:modified>
  <cp:revision>4</cp:revision>
  <dc:subject/>
  <dc:title>Наименьшее общее кратное</dc:title>
</cp:coreProperties>
</file>