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BD3B-8468-45C5-8667-943EE36F7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50DF-DE91-493D-8DA5-02F98F655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1291-57C3-458D-95B6-AC35E9910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CD70-8EDA-4497-BFD8-48DD21B6F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816F3-4E81-4884-AB06-864ABCA44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AB192-2B9F-4619-9018-8B5FFC8C0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A3B61-A27E-4871-972C-3360CDAAA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0C3B6-AC6F-4051-9511-A459BD856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BF2CB-6D73-4DD8-BD35-1E2AD07FB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2C1FD-9D53-4789-8090-AE3A263F7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1755F-EB6B-4CC4-B27C-39674E67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2A5A-24E9-4624-899B-66E7297EE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EE5A9-B7F1-4EA6-B85F-6FB2796C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212EF-3C1E-4943-A5FB-BEA54484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7F442-230C-47E0-9080-EB9EAFE91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A2110-771D-4020-B6DC-B0D51A9E4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DC7A3-4360-4946-B432-47A4D9D33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8625-18CE-4ED1-9584-B57A3233B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1C1D-5637-41AA-82F4-CE135814F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56B2-C380-4C79-A6EB-3B617B478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9B0F-F7C4-473C-ABC1-ABFF3F97D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E505-D66E-4656-A7D9-AE125FDF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27FB-7A00-4ACB-A4C7-1833FA4A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E219-5E95-49B3-8F19-B1E565A3F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1484280"/>
            <a:ext cx="9144000" cy="53737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ab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ab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ab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ab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ab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56D87-D0E9-4E5C-B6B9-568821C74C4A}" type="slidenum">
              <a:rPr b="0" lang="en-US" sz="1400" spc="-1" strike="noStrike">
                <a:solidFill>
                  <a:srgbClr val="002ab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D4BF6-C3D8-4979-9E5F-702BEE51DC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8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офильное образование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Элективный курс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сновы безопасности жизнедеятельности</a:t>
            </a:r>
            <a:br>
              <a:rPr sz="28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9 класс</a:t>
            </a:r>
            <a:br>
              <a:rPr sz="36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«МЫ И ДОРОГА»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556000" y="3644640"/>
            <a:ext cx="64008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Работу выполнил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оискатель высш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квалификационной категории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Голован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Алекс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Александрович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реподаватель-организатор ОБ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МОУ СОШ №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городского округа города Урюпин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олгоградской област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61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обеседова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ес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648320" y="1557360"/>
            <a:ext cx="4495680" cy="53006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971640" y="189000"/>
            <a:ext cx="73454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Формы контроля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ния-знаком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ния-коп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ния-умения, навы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90600" y="0"/>
            <a:ext cx="8753400" cy="12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ровни усвоения знаний учащимися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661000" y="37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skazki-0044" descr="Про правила дорожного движения. Иллюстрация к сказке"/>
          <p:cNvPicPr/>
          <p:nvPr/>
        </p:nvPicPr>
        <p:blipFill>
          <a:blip r:embed="rId1"/>
          <a:stretch/>
        </p:blipFill>
        <p:spPr>
          <a:xfrm>
            <a:off x="4140360" y="1557360"/>
            <a:ext cx="5003640" cy="53006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179280" y="692280"/>
          <a:ext cx="8686800" cy="6269040"/>
        </p:xfrm>
        <a:graphic>
          <a:graphicData uri="http://schemas.openxmlformats.org/drawingml/2006/table">
            <a:tbl>
              <a:tblPr/>
              <a:tblGrid>
                <a:gridCol w="752760"/>
                <a:gridCol w="2446200"/>
                <a:gridCol w="1563480"/>
                <a:gridCol w="2016360"/>
                <a:gridCol w="19080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№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/п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о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оретически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нятия. Час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ктические      занятия. Ча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дное занятие. Инструктаж по ТБ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Д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ветственность водителей и пешеходов за нарушения ПДД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ила движения транспортных средств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лотехника. ПДД для велосипедистов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азание ПМП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вый урок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 txBox="1"/>
          <p:nvPr/>
        </p:nvSpPr>
        <p:spPr>
          <a:xfrm>
            <a:off x="1547640" y="0"/>
            <a:ext cx="6067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чебно - тематичсекий план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храна здоровья и жизни детей предполагает систему обучения правилам поведения на улицах и дорогах. Необычные формы занятий и контроля знаний учащихся, викторины, тесты, нестандартные подходы к изучению ПДД помогут убедить подростков в необходимости бережного отношения к своему здоров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195640" y="260280"/>
            <a:ext cx="43210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ключение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5210280" y="265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skazki-0039" descr="Про правила дорожного движения. Иллюстрация к сказк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1835280" y="260280"/>
            <a:ext cx="5976720" cy="1413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здание условий для формирования у обучающихся культуры безопасности жизнедеятельности как участников дорожного дви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00720" y="1484280"/>
            <a:ext cx="4643280" cy="5373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2050920" y="0"/>
            <a:ext cx="5400720" cy="12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Цель программы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825640" y="14320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71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еспечение системного подхода к обучению учащихся безопасному поведению на дорога и улиц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ширение и углубление знаний по Правилам дорожного движения и профилактике детского дорожно-транспортного травматиз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работка содержания курса ОБЖ с учётом современной  концепции безопасности дорожного движения, совершенствование методики преподавания предмета с применением ТС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619280" y="189000"/>
            <a:ext cx="66978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дачи программы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анная программа рассчитана на 1 год обуч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284720" y="1600200"/>
            <a:ext cx="4859280" cy="52578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1042920" y="189000"/>
            <a:ext cx="7345440" cy="12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должительность программы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 часов, которые распределены следующим образо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оретические занятия – 13 час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актические занятия – 4 ча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140360" y="1484280"/>
            <a:ext cx="5003640" cy="5373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2124000" y="189000"/>
            <a:ext cx="5473800" cy="12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бъём программы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чностно ориентированного подх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родосообраз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нательного усвоения обучающимися учебного матери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тичности, последовательности и нагляд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211640" y="1700280"/>
            <a:ext cx="4932360" cy="48243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179280" y="0"/>
            <a:ext cx="8675640" cy="17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едагогические принципы обучения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ъяснительно-иллюстратив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ятельност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вристиче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следователь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284720" y="1600200"/>
            <a:ext cx="4859280" cy="52578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68360" y="333360"/>
            <a:ext cx="8101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етоды обучения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95280" y="1483920"/>
            <a:ext cx="40384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иповое заня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бесед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нсульт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актическое упражнение под руководством педагога по закреплению определённых навы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мостоятельные тренировочные упражн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чебная иг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84720" y="1628640"/>
            <a:ext cx="4859280" cy="5229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68360" y="260280"/>
            <a:ext cx="84247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Формы учебных занятий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вод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екущ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убеж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тоговы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708360" y="1700280"/>
            <a:ext cx="5435640" cy="51577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1835280" y="189000"/>
            <a:ext cx="5976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иды контроля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9:25:16Z</dcterms:created>
  <dc:creator>DOM</dc:creator>
  <dc:description/>
  <dc:language>en-US</dc:language>
  <cp:lastModifiedBy>DOM</cp:lastModifiedBy>
  <dcterms:modified xsi:type="dcterms:W3CDTF">2010-12-11T15:43:33Z</dcterms:modified>
  <cp:revision>5</cp:revision>
  <dc:subject/>
  <dc:title>Профильное образование Элективный курс Основы безопасности жизнедеятельности 9 класс «МЫ И ДОРОГА»</dc:title>
</cp:coreProperties>
</file>