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07B-9043-46D1-9AD4-FF628151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968-8BD2-4BF9-BA2B-DC571348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912-511B-4967-98DA-78AA9978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D829-16AD-4EE3-B9EE-94AEB070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2488-C2DB-4056-81F4-54E5F793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21D9-473A-4652-9072-0E166A8E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8D92-DCAE-49E7-84BA-13EFFB52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E052-4236-4D13-B316-7D0796FA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11BE-FDD9-44AE-B611-A5178C79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FBB8-D5A4-4758-AEC2-A3192238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0A88-CB35-4E02-A979-31812C5B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480-3F77-4412-A722-A561BCE8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F244-B847-4280-AB20-307CB97E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2411-5B84-4925-9D6B-97FFE77D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19CF-10CF-4ED2-BB1E-E1E7A07B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C71D-9217-4731-9C1B-E01DC484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6A4A-9189-4E96-BECE-6FF3F539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5A9-5C62-445B-A0D6-76E92E24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A4E-0D54-4ABB-9DB9-706C6761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063-D0C1-4D0B-9C5B-7DC564C6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250C-163F-458C-AC5E-1D86AA0E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95D-7588-4F88-A781-F0501FCB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D89-DCCD-4266-9600-41A276BD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895-2C0B-4D0B-9D4E-FC681A18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484280"/>
            <a:ext cx="9144000" cy="5373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a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ab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ab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ab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a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C703-56A5-4D02-B7B5-58A7DE0A88FD}" type="slidenum">
              <a:rPr b="0" lang="en-US" sz="1400" spc="-1" strike="noStrike">
                <a:solidFill>
                  <a:srgbClr val="002ab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91CA-29E7-4007-BFA2-AF3881D24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8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фильное образование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лективный курс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ы безопасности жизнедеятельности</a:t>
            </a:r>
            <a:br>
              <a:rPr sz="2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 класс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МЫ И ДОРОГА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56000" y="3644640"/>
            <a:ext cx="64008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боту выполни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искатель высш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валификационной категори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олова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лекс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лександрович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еподаватель-организатор ОБ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ОУ СОШ №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ородского округа города Урюп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олгоградской обла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беседов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1557360"/>
            <a:ext cx="4495680" cy="5300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971640" y="189000"/>
            <a:ext cx="734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ормы контроля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я-знаком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я-ко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я-умения, навы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0600" y="0"/>
            <a:ext cx="875340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вни усвоения знаний учащимися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61000" y="37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kazki-0044" descr="Про правила дорожного движения. Иллюстрация к сказке"/>
          <p:cNvPicPr/>
          <p:nvPr/>
        </p:nvPicPr>
        <p:blipFill>
          <a:blip r:embed="rId1"/>
          <a:stretch/>
        </p:blipFill>
        <p:spPr>
          <a:xfrm>
            <a:off x="4140360" y="1557360"/>
            <a:ext cx="5003640" cy="5300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79280" y="692280"/>
          <a:ext cx="8686800" cy="6269040"/>
        </p:xfrm>
        <a:graphic>
          <a:graphicData uri="http://schemas.openxmlformats.org/drawingml/2006/table">
            <a:tbl>
              <a:tblPr/>
              <a:tblGrid>
                <a:gridCol w="752760"/>
                <a:gridCol w="2446200"/>
                <a:gridCol w="1563480"/>
                <a:gridCol w="2016360"/>
                <a:gridCol w="1908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ия. Час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ие      занятия. Ч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ое занятие. Инструктаж по ТБ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Д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ственность водителей и пешеходов за нарушения ПД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а движения транспортных средств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отехника. ПДД для велосипедисто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МП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ый урок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 txBox="1"/>
          <p:nvPr/>
        </p:nvSpPr>
        <p:spPr>
          <a:xfrm>
            <a:off x="1547640" y="0"/>
            <a:ext cx="606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ебно - тематичсекий пла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храна здоровья и жизни детей предполагает систему обучения правилам поведения на улицах и дорогах. Необычные формы занятий и контроля знаний учащихся, викторины, тесты, нестандартные подходы к изучению ПДД помогут убедить подростков в необходимости бережного отношения к своему здо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95640" y="260280"/>
            <a:ext cx="432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ключение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210280" y="26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skazki-0039" descr="Про правила дорожного движения. Иллюстрация к сказ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835280" y="260280"/>
            <a:ext cx="5976720" cy="141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у обучающихся культуры безопасности жизнедеятельности как участников дорожного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643280" cy="5373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050920" y="0"/>
            <a:ext cx="5400720" cy="12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ь программ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25640" y="1432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спечение системного подхода к обучению учащихся безопасному поведению на дорога и ули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ширение и углубление знаний по Правилам дорожного движения и профилактике детского дорожно-транспортного травмат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работка содержания курса ОБЖ с учётом современной  концепции безопасности дорожного движения, совершенствование методики преподавания предмета с применением ТС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619280" y="189000"/>
            <a:ext cx="669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чи программ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ная программа рассчитана на 1 год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84720" y="1600200"/>
            <a:ext cx="4859280" cy="5257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042920" y="189000"/>
            <a:ext cx="73454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должительность программ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 часов, которые распределены следующим образ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оретические занятия – 13 ча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ктические занятия – 4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140360" y="1484280"/>
            <a:ext cx="5003640" cy="5373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124000" y="189000"/>
            <a:ext cx="5473800" cy="12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ъём программы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но ориентированного под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осообраз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нательного усвоения обучающимися учеб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чности, последовательности и нагляд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4932360" cy="4824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79280" y="0"/>
            <a:ext cx="867564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дагогические принципы обучения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яснительно-иллюстратив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рис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ель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84720" y="1600200"/>
            <a:ext cx="485928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333360"/>
            <a:ext cx="810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тоды обучения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пов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ес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суль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ктическое упражнение под руководством педагога по закреплению определён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стоятельные тренировочные упраж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бная иг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4859280" cy="5229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8360" y="260280"/>
            <a:ext cx="84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ормы учебных занятий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вод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кущ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убеж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ов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08360" y="1700280"/>
            <a:ext cx="5435640" cy="5157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835280" y="189000"/>
            <a:ext cx="597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 контроля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09:25:16Z</dcterms:created>
  <dc:creator>DOM</dc:creator>
  <dc:description/>
  <dc:language>en-US</dc:language>
  <cp:lastModifiedBy>DOM</cp:lastModifiedBy>
  <dcterms:modified xsi:type="dcterms:W3CDTF">2010-12-11T15:43:33Z</dcterms:modified>
  <cp:revision>5</cp:revision>
  <dc:subject/>
  <dc:title>Профильное образование Элективный курс Основы безопасности жизнедеятельности 9 класс «МЫ И ДОРОГА»</dc:title>
</cp:coreProperties>
</file>