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905-4F86-47F9-9326-0DA88C8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6CC-E544-424D-A1D0-A2459A1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7D8-96DD-48BB-A4DC-5786A67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ABD-8B9E-4C9F-B7E5-F6D847E1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8CF3-1090-4696-9733-C7028FEE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9CF3-9483-4939-99E9-40FB1FB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B09-35EC-4883-8F18-15BB1CF8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90BF-D8D1-4EB5-9ACF-3486EFA4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C664-EC5B-4E87-B12C-489ACDD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30E-459D-46F8-986E-53E9DEFB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2CC-A681-4543-B83E-38A04A5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26D-3197-4084-B3D2-78FF37D8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E13-1F8D-41EF-9E4C-E361493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098D-D1D1-4DA2-AE7C-E809604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9691-FDF4-4288-A167-55BC65A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5FD-CC14-48C2-96D1-318B0501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5F6F-088D-405C-A31A-9AE6CD7B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09F-2160-4651-8519-16042B96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113-3B52-4960-8EC4-9FD905D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68A-9386-43B6-85C7-B17459E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7F1-37E7-42B0-9250-83622CD2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186-534B-4159-A7CE-A6120D7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831-BED8-4A3E-AE03-F002488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EAD-08D5-465A-B92E-632F31B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DAB-E50E-40A0-8473-86A0B65CBAB1}" type="slidenum"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9CD-B911-4FD0-A97E-E55E6EA6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фильное образовани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лективный кур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класс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Ы И ДОРОГА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56000" y="364464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искатель высш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валификационной категор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лов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ородского округа города Урюп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лгогра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есед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495680" cy="530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знаком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к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умения,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0600" y="0"/>
            <a:ext cx="87534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 усвоения знаний учащимис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61000" y="37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kazki-0044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530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692280"/>
          <a:ext cx="8686800" cy="6269040"/>
        </p:xfrm>
        <a:graphic>
          <a:graphicData uri="http://schemas.openxmlformats.org/drawingml/2006/table">
            <a:tbl>
              <a:tblPr/>
              <a:tblGrid>
                <a:gridCol w="752760"/>
                <a:gridCol w="2446200"/>
                <a:gridCol w="1563480"/>
                <a:gridCol w="2016360"/>
                <a:gridCol w="190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. Ча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е      занятия.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ое занятие. Инструктаж по Т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Д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ость водителей и пешеходов за нарушения ПД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движения транспортных средств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отехника. ПДД для велосипедисто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М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уро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 txBox="1"/>
          <p:nvPr/>
        </p:nvSpPr>
        <p:spPr>
          <a:xfrm>
            <a:off x="1547640" y="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о - тематичсекий пла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храна здоровья и жизни детей предполагает систему обучения правилам поведения на улицах и дорогах. Необычные формы занятий и контроля знаний учащихся, викторины, тесты, нестандартные подходы к изучению ПДД помогут убедить подростков в необходимости бережного отношения к своему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260280"/>
            <a:ext cx="43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1028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kazki-0039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835280" y="260280"/>
            <a:ext cx="597672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обучающихся культуры безопасности жизнедеятельности как участников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050920" y="0"/>
            <a:ext cx="540072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25640" y="143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системного подхода к обучению учащихся безопасному поведению на дорога и ули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углубление знаний по Правилам дорожного движения и профилактике детского дорожно-транспортного травма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аботка содержания курса ОБЖ с учётом современной  концепции безопасности дорожного движения, совершенствование методики преподавания предмета с применением Т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19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ая программа рассчитана на 1 год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042920" y="189000"/>
            <a:ext cx="7345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часов, которые распределены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тические занятия – 13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е занятия – 4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24000" y="189000"/>
            <a:ext cx="547380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ём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го под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сообр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тельного усвоения обучаю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чности, последовательности и н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9280" y="0"/>
            <a:ext cx="8675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ие принцип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яснительно-иллюстра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рис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333360"/>
            <a:ext cx="81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ов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ес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ое упражнение под руководством педагога по закреплению определён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ые тренировоч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ая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859280" cy="52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учебных занятий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о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еж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435640" cy="51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35280" y="189000"/>
            <a:ext cx="59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9:25:16Z</dcterms:created>
  <dc:creator>DOM</dc:creator>
  <dc:description/>
  <dc:language>en-US</dc:language>
  <cp:lastModifiedBy>DOM</cp:lastModifiedBy>
  <dcterms:modified xsi:type="dcterms:W3CDTF">2010-12-11T15:43:33Z</dcterms:modified>
  <cp:revision>5</cp:revision>
  <dc:subject/>
  <dc:title>Профильное образование Элективный курс Основы безопасности жизнедеятельности 9 класс «МЫ И ДОРОГА»</dc:title>
</cp:coreProperties>
</file>