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A14-6986-429D-8ED4-7065F6EE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781-5FA8-40BB-8863-D0CC6F33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CE9-7733-4E72-979F-21886232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DE0-3BD8-490A-B8FE-24795284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3B0-C84B-4A7C-ACA4-19D7E973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757-C10E-48DA-9861-92E8AA2B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D0C-7002-49A8-A538-FB55161E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CEF-7938-4334-B3CA-472232C6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FD9-C375-4661-920C-CC5331B4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164-C130-4543-A28A-613F7B7B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899-0A6B-4E3A-BEF3-E89D526B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221-B117-405E-B441-614945EE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4743-A05B-4085-A9CB-A597457607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611280" y="2205000"/>
            <a:ext cx="79992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f0"/>
                </a:solidFill>
                <a:latin typeface="Arial Black"/>
              </a:rPr>
              <a:t>КОНФЕРЕН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7eb7"/>
                </a:solidFill>
                <a:latin typeface="Arial Black"/>
              </a:rPr>
              <a:t>по выборам президент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7eb7"/>
                </a:solidFill>
                <a:latin typeface="Arial Black"/>
              </a:rPr>
              <a:t>4 мар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611280" y="5661000"/>
            <a:ext cx="799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00b0f0"/>
                </a:solidFill>
                <a:latin typeface="Arial Black"/>
              </a:rPr>
              <a:t>24 февраля 2012г.  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Ирина\Desktop\презентация картинки\levadatheme_logo.png"/>
          <p:cNvPicPr/>
          <p:nvPr/>
        </p:nvPicPr>
        <p:blipFill>
          <a:blip r:embed="rId1"/>
          <a:stretch/>
        </p:blipFill>
        <p:spPr>
          <a:xfrm>
            <a:off x="324000" y="457200"/>
            <a:ext cx="8496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 Black"/>
              </a:rPr>
              <a:t>ДОЛЯ ГОЛОСОВ, ОТДАННЫХ ЗА В. ПУТИНА </a:t>
            </a:r>
            <a:br>
              <a:rPr sz="2200"/>
            </a:br>
            <a:r>
              <a:rPr b="0" lang="ru-RU" sz="2200" spc="-1" strike="noStrike">
                <a:solidFill>
                  <a:srgbClr val="254061"/>
                </a:solidFill>
                <a:latin typeface="Arial Black"/>
              </a:rPr>
              <a:t>от числа избирателей, пришедших на выборы</a:t>
            </a:r>
            <a:br>
              <a:rPr sz="3600"/>
            </a:br>
            <a:r>
              <a:rPr b="0" lang="ru-RU" sz="1800" spc="-1" strike="noStrike">
                <a:solidFill>
                  <a:srgbClr val="254061"/>
                </a:solidFill>
                <a:latin typeface="Arial Black"/>
              </a:rPr>
              <a:t>(по данным Ц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5932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ЕСЛИ БЫ ВЫБОРЫ СОСТОЯЛИСЬ В БЛИЖАЙШЕЕ ВОСКРЕСЕНЬЕ</a:t>
            </a:r>
            <a:br>
              <a:rPr sz="2000"/>
            </a:b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(по данным вопроса Пришли бы вы на выборы президента России, и если да - за кого бы Вы проголосовали, если бы в списке кандидатов были следующие политики?</a:t>
            </a: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(% от числа намеренных прийти на выборы и определившихся с выбором))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231840" y="2468520"/>
            <a:ext cx="86803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355680" y="87480"/>
            <a:ext cx="8638920" cy="6611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Ирина\Desktop\презентация картинки\9b39a290582a21d36646f9da97102039.jpg"/>
          <p:cNvPicPr/>
          <p:nvPr/>
        </p:nvPicPr>
        <p:blipFill>
          <a:blip r:embed="rId2"/>
          <a:stretch/>
        </p:blipFill>
        <p:spPr>
          <a:xfrm>
            <a:off x="689040" y="1079640"/>
            <a:ext cx="87156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Ирина\Desktop\презентация картинки\i.jpeg7.jpeg"/>
          <p:cNvPicPr/>
          <p:nvPr/>
        </p:nvPicPr>
        <p:blipFill>
          <a:blip r:embed="rId3"/>
          <a:stretch/>
        </p:blipFill>
        <p:spPr>
          <a:xfrm>
            <a:off x="719280" y="2120760"/>
            <a:ext cx="834840" cy="830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Ирина\Desktop\презентация картинки\title.jpg"/>
          <p:cNvPicPr/>
          <p:nvPr/>
        </p:nvPicPr>
        <p:blipFill>
          <a:blip r:embed="rId4"/>
          <a:stretch/>
        </p:blipFill>
        <p:spPr>
          <a:xfrm>
            <a:off x="731880" y="3181320"/>
            <a:ext cx="884160" cy="8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Ирина\Desktop\презентация картинки\5678.jpeg"/>
          <p:cNvPicPr/>
          <p:nvPr/>
        </p:nvPicPr>
        <p:blipFill>
          <a:blip r:embed="rId5"/>
          <a:stretch/>
        </p:blipFill>
        <p:spPr>
          <a:xfrm>
            <a:off x="689040" y="5303880"/>
            <a:ext cx="901800" cy="79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Users\Ирина\Desktop\презентация картинки\14.jpeg"/>
          <p:cNvPicPr/>
          <p:nvPr/>
        </p:nvPicPr>
        <p:blipFill>
          <a:blip r:embed="rId6"/>
          <a:stretch/>
        </p:blipFill>
        <p:spPr>
          <a:xfrm>
            <a:off x="731880" y="4290840"/>
            <a:ext cx="884160" cy="793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468360" y="1270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 Black"/>
              </a:rPr>
              <a:t>ЕСЛИ БЫ ВЫБОРЫ СОСТОЯЛИСЬ В БЛИЖАЙШЕЕ ВОСКРЕСЕНЬЕ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480" y="188640"/>
            <a:ext cx="8451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 Black"/>
              </a:rPr>
              <a:t>ПРЕДСТАВЛЕНИЯ О РЕЗУЛЬТАТАХ ВЫБОРОВ ПРЕЗИДЕНТА РФ:    </a:t>
            </a:r>
            <a:br>
              <a:rPr sz="2200"/>
            </a:br>
            <a:r>
              <a:rPr b="1" lang="ru-RU" sz="2600" spc="-1" strike="noStrike">
                <a:solidFill>
                  <a:srgbClr val="002060"/>
                </a:solidFill>
                <a:latin typeface="Arial Black"/>
              </a:rPr>
              <a:t>ПУТИН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Объект 4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60580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 Black"/>
              </a:rPr>
              <a:t>КАКИМИ БУДУТ ПРЕДСТОЯЩИЕ ВЫБОРЫ ПРЕЗИДЕНТА РФ </a:t>
            </a:r>
            <a:br>
              <a:rPr sz="1800"/>
            </a:br>
            <a:r>
              <a:rPr b="1" lang="ru-RU" sz="1300" spc="-1" strike="noStrike">
                <a:solidFill>
                  <a:srgbClr val="254061"/>
                </a:solidFill>
                <a:latin typeface="Arial Black"/>
              </a:rPr>
              <a:t>(по данным вопроса: Как Вы считаете, предстоящие выборы </a:t>
            </a:r>
            <a:br>
              <a:rPr sz="1300"/>
            </a:br>
            <a:r>
              <a:rPr b="1" lang="ru-RU" sz="1300" spc="-1" strike="noStrike">
                <a:solidFill>
                  <a:srgbClr val="254061"/>
                </a:solidFill>
                <a:latin typeface="Arial Black"/>
              </a:rPr>
              <a:t>президента России будут..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4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2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53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УДОВЛЕТВОРЕННОСТЬ РЕЗУЛЬТАТАМИ ВЫБОРОВ В ГД РФ</a:t>
            </a:r>
            <a:br>
              <a:rPr sz="2000"/>
            </a:br>
            <a:r>
              <a:rPr b="0" lang="ru-RU" sz="1300" spc="-1" strike="noStrike">
                <a:solidFill>
                  <a:srgbClr val="0070c0"/>
                </a:solidFill>
                <a:latin typeface="Arial Black"/>
              </a:rPr>
              <a:t>(по данным вопроса Удовлетворены ли вы в целом результатами этих выборов?)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804960" y="1249200"/>
            <a:ext cx="745488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3366cc"/>
                </a:solidFill>
                <a:latin typeface="Arial Black"/>
              </a:rPr>
              <a:t>СООТВЕТСТВИЕ ОБНАРОДОВАННЫХ ЦИК РЕЗУЛЬТАТОВ ВЫБОРОВ ДЕЙСТВИТЕЛЬНОСТИ</a:t>
            </a:r>
            <a:r>
              <a:rPr b="0" lang="ru-RU" sz="1400" spc="-1" strike="noStrike">
                <a:solidFill>
                  <a:srgbClr val="3366cc"/>
                </a:solidFill>
                <a:latin typeface="Arial Black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000" spc="-1" strike="noStrike">
                <a:solidFill>
                  <a:srgbClr val="3366cc"/>
                </a:solidFill>
                <a:latin typeface="Arial Black"/>
              </a:rPr>
              <a:t>(</a:t>
            </a:r>
            <a:r>
              <a:rPr b="0" lang="ru-RU" sz="900" spc="-1" strike="noStrike">
                <a:solidFill>
                  <a:srgbClr val="3366cc"/>
                </a:solidFill>
                <a:latin typeface="Arial Black"/>
              </a:rPr>
              <a:t>по данным вопроса КАК ВЫ ДУМАЕТЕ, СООТВЕТСТВУЮТ ЛИ ДЕЙСТВИТЕЛЬНОСТИ ОБНАРОДОВАННЫЕ ЦЕНТРАЛЬНЫЙ ИЗБИРАТЕЛЬНОЙ КОМИССИЕЙ РЕЗУЛЬТАТЫ ВЫБОРОВ В ГОСУДАРСТВЕННУЮ ДУМУ 4 ДЕКАБРЯ?)</a:t>
            </a:r>
            <a:br>
              <a:rPr sz="14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785628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ОДДЕРЖКА ПРОВЕДЕНИЯ УЛИЧНЫХ АКЦИЙ ПРОТЕСТА ПРОТИВ ФАЛЬСИФИКАЦИИ ВЫБОРОВ В ГОСУДАРСТВЕННУЮ ДУМУ</a:t>
            </a:r>
            <a:r>
              <a:rPr b="1" lang="en-US" sz="1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br>
              <a:rPr sz="13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Объект 4" descr=""/>
          <p:cNvPicPr/>
          <p:nvPr/>
        </p:nvPicPr>
        <p:blipFill>
          <a:blip r:embed="rId1"/>
          <a:stretch/>
        </p:blipFill>
        <p:spPr>
          <a:xfrm>
            <a:off x="1006560" y="1600200"/>
            <a:ext cx="712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ГОТОВНОСТЬ ПРИНЯТЬ УЧАСТИЕ В АКЦИЯХ ПРОТЕСТА ПРОТИВ </a:t>
            </a: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ФАЛЬСИФИКАЦИИ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ВЫБОРОВ В ГОСУДАРСТВЕННУЮ ДУМУ</a:t>
            </a:r>
            <a:br>
              <a:rPr sz="2000"/>
            </a:b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(по данным вопроса Если в ближайшее время в вашем городе (районе) пройдут новые массовые акции протеста против нарушений при организации и проведении выборов и фальсификации их результатов, готовы ли вы принять в них участие?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Таблица 1" descr=""/>
          <p:cNvPicPr/>
          <p:nvPr/>
        </p:nvPicPr>
        <p:blipFill>
          <a:blip r:embed="rId1"/>
          <a:stretch/>
        </p:blipFill>
        <p:spPr>
          <a:xfrm>
            <a:off x="304920" y="2041560"/>
            <a:ext cx="85341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Black"/>
              </a:rPr>
              <a:t>ГОТОВЫ ПРИНЯТЬ УЧАСТИЕ В АКЦИЯХ ПРОТЕСТА ПРОТИВ ФАЛЬСИФИКАЦИИ  ВЫБОРОВ В ГОСУДАРСТВЕННУЮ ДУМУ</a:t>
            </a:r>
            <a:br>
              <a:rPr sz="1600"/>
            </a:b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ДОБРЕНИЕ ДЕЯТЕЛЬНОСТИ В. ПУТИНА </a:t>
            </a:r>
            <a:br>
              <a:rPr sz="2000"/>
            </a:br>
            <a:r>
              <a:rPr b="0" lang="ru-RU" sz="1300" spc="-1" strike="noStrike">
                <a:solidFill>
                  <a:srgbClr val="000000"/>
                </a:solidFill>
                <a:latin typeface="Arial Black"/>
              </a:rPr>
              <a:t>(по данным вопроса: Вы в целом одобряете или не одобряете деятельность В. Путина на посту Президента РФ (с марта 2000г. до февраля 2008г.) / премьер-министра РФ?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58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310680"/>
            <a:ext cx="8218440" cy="10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 Black"/>
              </a:rPr>
              <a:t>ПОДДЕРЖКА АКЦИЙ В ПОДДЕРЖКУ КУРСА            ВЛАДИМИРА ПУТИНА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5" descr=""/>
          <p:cNvPicPr/>
          <p:nvPr/>
        </p:nvPicPr>
        <p:blipFill>
          <a:blip r:embed="rId1"/>
          <a:stretch/>
        </p:blipFill>
        <p:spPr>
          <a:xfrm>
            <a:off x="639720" y="1600200"/>
            <a:ext cx="786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188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КАК ВЫ СЧИТАЕТЕ, СЛЕДУЕТ ЛИ ВЛАДИМИРУ ПУТИНУ СЕЙЧАС ПОЙТИ НА КОНТАКТЫ, ПРОВЕСТИ КОНСУЛЬТАЦИИ С ЛИДЕРАМИ МАССОВЫХ ВЫСТУПЛЕНИЙ ПРОТИВ ФАЛЬСИФИКАЦИЙ РЕЗУЛЬТАТОВ ВЫБОРОВ В ГОСУДАРСТВЕННУЮ ДУМУ РОСС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2714760"/>
          <a:ext cx="4043520" cy="3857400"/>
        </p:xfrm>
        <a:graphic>
          <a:graphicData uri="http://schemas.openxmlformats.org/drawingml/2006/table">
            <a:tbl>
              <a:tblPr/>
              <a:tblGrid>
                <a:gridCol w="2022480"/>
                <a:gridCol w="2021040"/>
              </a:tblGrid>
              <a:tr h="90324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пределенно 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57456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корее 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7456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корее 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ленно 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03240">
                <a:tc>
                  <a:txBody>
                    <a:bodyPr lIns="4680" rIns="468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трудняюсь ответ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857840" y="2714760"/>
          <a:ext cx="3900240" cy="3857400"/>
        </p:xfrm>
        <a:graphic>
          <a:graphicData uri="http://schemas.openxmlformats.org/drawingml/2006/table">
            <a:tbl>
              <a:tblPr/>
              <a:tblGrid>
                <a:gridCol w="1950840"/>
                <a:gridCol w="1949400"/>
              </a:tblGrid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пределенно 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корее 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корее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пределенно 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трудняюсь ответ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bacc6"/>
                      </a:solidFill>
                    </a:lnL>
                    <a:lnR>
                      <a:noFill/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Прямоугольник 7"/>
          <p:cNvSpPr/>
          <p:nvPr/>
        </p:nvSpPr>
        <p:spPr>
          <a:xfrm>
            <a:off x="4643280" y="428760"/>
            <a:ext cx="4214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КАК ВЫ СЧИТАЕТЕ, ПОЙДЕТ ЛИ ВЛАДИМИР ПУТИН СЕЙЧАС НА КОНТАКТЫ С ЛИДЕРАМИ МАССОВЫХ ВЫСТУПЛЕНИЙ ПРОТИВ ФАЛЬСИФИКАЦИЙ РЕЗУЛЬТАТОВ ВЫБОРОВ В ГОСУДАРСТВЕННУЮ ДУМУ РОСС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1859c"/>
                </a:solidFill>
                <a:latin typeface="Arial Black"/>
              </a:rPr>
              <a:t>В СЛУЧАЕ ИЗБРАНИЯ ВЛАДИМИРА ПУТИНА ПРЕЗИДЕНТОМ РОССИИ</a:t>
            </a:r>
            <a:r>
              <a:rPr b="0" lang="ru-RU" sz="1800" spc="-1" strike="noStrike">
                <a:solidFill>
                  <a:srgbClr val="31859c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4240" y="1600200"/>
          <a:ext cx="7972560" cy="4606920"/>
        </p:xfrm>
        <a:graphic>
          <a:graphicData uri="http://schemas.openxmlformats.org/drawingml/2006/table">
            <a:tbl>
              <a:tblPr/>
              <a:tblGrid>
                <a:gridCol w="3986280"/>
                <a:gridCol w="3986280"/>
              </a:tblGrid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1859c"/>
                          </a:solidFill>
                          <a:latin typeface="Arial Black"/>
                        </a:rPr>
                        <a:t>ПОЛИТИЧЕСКИЙ РЕЖИМ В СТРАНЕ, ПО СРАВНЕНИЮ С 2008-2011 ГОДАМИ СТА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более жест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7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более мяг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29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1859c"/>
                          </a:solidFill>
                          <a:latin typeface="Arial Black"/>
                        </a:rPr>
                        <a:t>КОНТРОЛЬ ГОСУДАРСТВА, ЧИНОВНИКОВ НАД БИЗНЕС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усил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ослаб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1859c"/>
                          </a:solidFill>
                          <a:latin typeface="Arial Black"/>
                        </a:rPr>
                        <a:t>СИТУАЦИЯ С ДЕМОКРАТИЧЕСКИМИ СВОБОДАМИ В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улучш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ухудши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1859c"/>
                          </a:solidFill>
                          <a:latin typeface="Arial Black"/>
                        </a:rPr>
                        <a:t>ДОВЕРИЕ К ПУТИНУ СРЕДИ НАСЕЛЕНИЯ 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будет р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19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будет пад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5968"/>
                          </a:solidFill>
                          <a:latin typeface="Arial Black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4061"/>
                </a:solidFill>
                <a:latin typeface="Arial Black"/>
              </a:rPr>
              <a:t>ВЕРОЯТНЫЕ ВАРИАНТЫ РАЗВИТИЯ СОБЫТИЙ ПОСЛЕ ВЫБОРОВ</a:t>
            </a:r>
            <a:br>
              <a:rPr sz="1600"/>
            </a:br>
            <a:r>
              <a:rPr b="1" lang="ru-RU" sz="1600" spc="-1" strike="noStrike">
                <a:solidFill>
                  <a:srgbClr val="254061"/>
                </a:solidFill>
                <a:latin typeface="Arial Black"/>
              </a:rPr>
              <a:t> (по данным вопроса: Какой из следующих вариантов развития событий после выборов 4 марта представляется Вам наиболее вероятным?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8585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981000"/>
            <a:ext cx="8075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376092"/>
                </a:solidFill>
                <a:latin typeface="Arial Black"/>
              </a:rPr>
              <a:t>Благодарим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6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376092"/>
                </a:solidFill>
                <a:latin typeface="Arial Black"/>
              </a:rPr>
              <a:t>за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636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376092"/>
                </a:solidFill>
                <a:latin typeface="Arial Black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 Black"/>
              </a:rPr>
              <a:t>НЕОДОБРЕНИЕ ДЕЯТЕЛЬНОСТИ В. ПУТИНА</a:t>
            </a:r>
            <a:r>
              <a:rPr b="0" lang="ru-RU" sz="25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500"/>
            </a:b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(по данным вопроса: Вы в целом одобряете или не одобряете деятельность В. Путина на посту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резидента РФ (с марта 2000г. до февраля 2008г.) / премьер-министр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8429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Таблица 1" descr=""/>
          <p:cNvPicPr/>
          <p:nvPr/>
        </p:nvPicPr>
        <p:blipFill>
          <a:blip r:embed="rId1"/>
          <a:stretch/>
        </p:blipFill>
        <p:spPr>
          <a:xfrm>
            <a:off x="347760" y="1243080"/>
            <a:ext cx="8424720" cy="532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 Black"/>
              </a:rPr>
              <a:t>ИНТЕРЕС К ВЫБОРАМ ПРЕЗИДЕНТА РОССИИ</a:t>
            </a:r>
            <a:br>
              <a:rPr sz="1600"/>
            </a:br>
            <a:r>
              <a:rPr b="0" lang="ru-RU" sz="1400" spc="-1" strike="noStrike">
                <a:solidFill>
                  <a:srgbClr val="002060"/>
                </a:solidFill>
                <a:latin typeface="Arial Black"/>
              </a:rPr>
              <a:t>(по кампаниям 2004, 2008 и 2012 гг.);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 Black"/>
              </a:rPr>
              <a:t>по данным вопроса Интересуют ли Вас предстоящие в марте этого года выборы президента России?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Arial Black"/>
              </a:rPr>
              <a:t>НАМЕРЕНИЕ УЧАСТВОВАТЬ В ВЫБОРАХ ПРЕЗИДЕНТА РФ </a:t>
            </a:r>
            <a:br>
              <a:rPr sz="17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(по кампаниям 2004,  2008  и 2012 гг.;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по данным вопроса Если бы в ближайшее воскресенье состоялись выборы президента России, какое из следующих утверждений наиболее точно отражает ваше намерение голосовать на этих выборах?)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158760" y="1682640"/>
            <a:ext cx="87534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6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700" spc="-1" strike="noStrike">
                <a:solidFill>
                  <a:srgbClr val="002060"/>
                </a:solidFill>
                <a:latin typeface="Arial Black"/>
              </a:rPr>
              <a:t>НАМЕРЕНИЕ УЧАСТВОВАТЬ В ВЫБОРАХ ПРЕЗИДЕНТА РФ </a:t>
            </a:r>
            <a:br>
              <a:rPr sz="17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 (по кампаниям 2004,  2008  и 2012 гг.;</a:t>
            </a:r>
            <a:br>
              <a:rPr sz="1300"/>
            </a:br>
            <a:br>
              <a:rPr sz="1300"/>
            </a:br>
            <a:r>
              <a:rPr b="1" lang="ru-RU" sz="1100" spc="-1" strike="noStrike">
                <a:solidFill>
                  <a:srgbClr val="002060"/>
                </a:solidFill>
                <a:latin typeface="Arial Black"/>
              </a:rPr>
              <a:t>по данным вопроса Если бы в ближайшее воскресенье состоялись выборы президента России, какое из следующих утверждений наиболее точно отражает ваше намерение голосовать на этих выборах? в % от числа тех, кто «скорее» и «совершенно точно» будет голосовать)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465120" y="1649520"/>
            <a:ext cx="8212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254061"/>
                </a:solidFill>
                <a:latin typeface="Arial Black"/>
              </a:rPr>
              <a:t>ЯВКА ИЗБИРАТЕЛЕЙ НА ВЫБОРАХ ПРЕЗИДЕНТА РФ</a:t>
            </a:r>
            <a:r>
              <a:rPr b="0" lang="ru-RU" sz="3200" spc="-1" strike="noStrike">
                <a:solidFill>
                  <a:srgbClr val="25406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254061"/>
                </a:solidFill>
                <a:latin typeface="Arial Black"/>
              </a:rPr>
              <a:t>(по данным Ц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164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Arial Black"/>
              </a:rPr>
              <a:t>НАМЕРЕНИЕ ОТДАТЬ СВОЙ ГОЛОС НА ВЫБОРАХ ПРЕЗИДЕНТА РФ ЗА В.ПУТ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441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11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 % от числа всех опрошенны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писок кандидатов не предлагал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 % от числа всех опро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 списком; кандид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 % от числа намеренных прийти на выб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 определившихся с выбо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Arial Black"/>
                        </a:rPr>
                        <a:t>Декабрь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Arial Black"/>
                        </a:rPr>
                        <a:t>20-23 января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Arial Black"/>
                        </a:rPr>
                        <a:t>27-30 января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3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d0d0d"/>
                          </a:solidFill>
                          <a:latin typeface="Arial Black"/>
                        </a:rPr>
                        <a:t>Февраль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НАМЕРЕНИЕ ОТДАТЬ СВОЙ ГОЛОС НА ВЫБОРАХ ПРЕЗИДЕНТА РФ ЗА В.ПУТИНА</a:t>
            </a:r>
            <a:r>
              <a:rPr b="1" lang="ru-RU" sz="2000" spc="-1" strike="noStrike">
                <a:solidFill>
                  <a:srgbClr val="002060"/>
                </a:solidFill>
                <a:latin typeface="Arial Black"/>
              </a:rPr>
              <a:t>*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br>
              <a:rPr sz="2000"/>
            </a:br>
            <a:r>
              <a:rPr b="0" lang="ru-RU" sz="1300" spc="-1" strike="noStrike">
                <a:solidFill>
                  <a:srgbClr val="002060"/>
                </a:solidFill>
                <a:latin typeface="Arial Black"/>
              </a:rPr>
              <a:t> (по кампаниям 2004,  2008  и 2012 гг.)</a:t>
            </a:r>
            <a:br>
              <a:rPr sz="1300"/>
            </a:br>
            <a:br>
              <a:rPr sz="1600"/>
            </a:br>
            <a:br>
              <a:rPr sz="16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396720" y="1268280"/>
            <a:ext cx="8224920" cy="4849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6473160" y="61372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Black"/>
              </a:rPr>
              <a:t>* </a:t>
            </a:r>
            <a:r>
              <a:rPr b="0" lang="ru-RU" sz="1400" spc="-1" strike="noStrike">
                <a:solidFill>
                  <a:srgbClr val="002060"/>
                </a:solidFill>
                <a:latin typeface="Arial Black"/>
              </a:rPr>
              <a:t>в 2008 г. Д.Медвед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0:47:27Z</dcterms:created>
  <dc:creator>Admin</dc:creator>
  <dc:description/>
  <dc:language>en-US</dc:language>
  <cp:lastModifiedBy>ZooM</cp:lastModifiedBy>
  <dcterms:modified xsi:type="dcterms:W3CDTF">2013-11-07T13:36:11Z</dcterms:modified>
  <cp:revision>8</cp:revision>
  <dc:subject/>
  <dc:title>Слайд 1</dc:title>
</cp:coreProperties>
</file>