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DEE-80BE-4A3E-97A5-ADA6EA9D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84F-3536-48B5-B1C2-3E3208DA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D3A-4D80-4E56-843C-6B83C944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C7C-F127-4582-844F-C40D0633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271-9F48-4F36-BFCF-F2B5B86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523-9715-4DDC-9D91-F4C77C9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14-608B-4328-BBA5-173ABD97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325-6E54-4C8A-8DF7-7119A53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4FB-29A7-49DE-9E7E-A890A96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A1E-B9C7-49AA-8B3B-5C46B74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756-A7BC-4A64-B539-44A508B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A4D-9E3E-47E1-B38A-01886C1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F14A-786F-4733-AAEE-78019AB44C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611280" y="2205000"/>
            <a:ext cx="7999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Arial Black"/>
              </a:rPr>
              <a:t>КОНФЕРЕН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по выборам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4 м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611280" y="5661000"/>
            <a:ext cx="799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24 февраля 2012г.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Ирина\Desktop\презентация картинки\levadatheme_logo.png"/>
          <p:cNvPicPr/>
          <p:nvPr/>
        </p:nvPicPr>
        <p:blipFill>
          <a:blip r:embed="rId1"/>
          <a:stretch/>
        </p:blipFill>
        <p:spPr>
          <a:xfrm>
            <a:off x="324000" y="457200"/>
            <a:ext cx="8496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ДОЛЯ ГОЛОСОВ, ОТДАННЫХ ЗА В. ПУТИНА </a:t>
            </a:r>
            <a:br>
              <a:rPr sz="2200"/>
            </a:b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от числа избирателей, пришедших на выборы</a:t>
            </a:r>
            <a:br>
              <a:rPr sz="3600"/>
            </a:b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93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Пришли бы вы на выборы президента России, и если да - за кого бы Вы проголосовали, если бы в списке кандидатов были следующие политики?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% от числа намеренных прийти на выборы и определившихся с выбором)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31840" y="2468520"/>
            <a:ext cx="86803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355680" y="87480"/>
            <a:ext cx="8638920" cy="661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Ирина\Desktop\презентация картинки\9b39a290582a21d36646f9da97102039.jpg"/>
          <p:cNvPicPr/>
          <p:nvPr/>
        </p:nvPicPr>
        <p:blipFill>
          <a:blip r:embed="rId2"/>
          <a:stretch/>
        </p:blipFill>
        <p:spPr>
          <a:xfrm>
            <a:off x="689040" y="1079640"/>
            <a:ext cx="87156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Ирина\Desktop\презентация картинки\i.jpeg7.jpeg"/>
          <p:cNvPicPr/>
          <p:nvPr/>
        </p:nvPicPr>
        <p:blipFill>
          <a:blip r:embed="rId3"/>
          <a:stretch/>
        </p:blipFill>
        <p:spPr>
          <a:xfrm>
            <a:off x="719280" y="2120760"/>
            <a:ext cx="834840" cy="83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Ирина\Desktop\презентация картинки\title.jpg"/>
          <p:cNvPicPr/>
          <p:nvPr/>
        </p:nvPicPr>
        <p:blipFill>
          <a:blip r:embed="rId4"/>
          <a:stretch/>
        </p:blipFill>
        <p:spPr>
          <a:xfrm>
            <a:off x="731880" y="3181320"/>
            <a:ext cx="884160" cy="8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Ирина\Desktop\презентация картинки\5678.jpeg"/>
          <p:cNvPicPr/>
          <p:nvPr/>
        </p:nvPicPr>
        <p:blipFill>
          <a:blip r:embed="rId5"/>
          <a:stretch/>
        </p:blipFill>
        <p:spPr>
          <a:xfrm>
            <a:off x="689040" y="5303880"/>
            <a:ext cx="90180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Ирина\Desktop\презентация картинки\14.jpeg"/>
          <p:cNvPicPr/>
          <p:nvPr/>
        </p:nvPicPr>
        <p:blipFill>
          <a:blip r:embed="rId6"/>
          <a:stretch/>
        </p:blipFill>
        <p:spPr>
          <a:xfrm>
            <a:off x="731880" y="4290840"/>
            <a:ext cx="884160" cy="79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468360" y="127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451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РЕДСТАВЛЕНИЯ О РЕЗУЛЬТАТАХ ВЫБОРОВ ПРЕЗИДЕНТА РФ:    </a:t>
            </a:r>
            <a:br>
              <a:rPr sz="2200"/>
            </a:br>
            <a:r>
              <a:rPr b="1" lang="ru-RU" sz="2600" spc="-1" strike="noStrike">
                <a:solidFill>
                  <a:srgbClr val="002060"/>
                </a:solidFill>
                <a:latin typeface="Arial Black"/>
              </a:rPr>
              <a:t>ПУ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6058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 Black"/>
              </a:rPr>
              <a:t>КАКИМИ БУДУТ ПРЕДСТОЯЩИЕ ВЫБОРЫ ПРЕЗИДЕНТА РФ </a:t>
            </a:r>
            <a:br>
              <a:rPr sz="18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(по данным вопроса: Как Вы считаете, предстоящие выборы </a:t>
            </a:r>
            <a:br>
              <a:rPr sz="13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президента России будут..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УДОВЛЕТВОРЕННОСТЬ РЕЗУЛЬТАТАМИ ВЫБОРОВ В ГД РФ</a:t>
            </a:r>
            <a:br>
              <a:rPr sz="2000"/>
            </a:b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(по данным вопроса Удовлетворены ли вы в целом результатами этих выборов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804960" y="1249200"/>
            <a:ext cx="74548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3366cc"/>
                </a:solidFill>
                <a:latin typeface="Arial Black"/>
              </a:rPr>
              <a:t>СООТВЕТСТВИЕ ОБНАРОДОВАННЫХ ЦИК РЕЗУЛЬТАТОВ ВЫБОРОВ ДЕЙСТВИТЕЛЬНОСТИ</a:t>
            </a:r>
            <a:r>
              <a:rPr b="0" lang="ru-RU" sz="1400" spc="-1" strike="noStrike">
                <a:solidFill>
                  <a:srgbClr val="3366cc"/>
                </a:solidFill>
                <a:latin typeface="Arial Black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000" spc="-1" strike="noStrike">
                <a:solidFill>
                  <a:srgbClr val="3366cc"/>
                </a:solidFill>
                <a:latin typeface="Arial Black"/>
              </a:rPr>
              <a:t>(</a:t>
            </a:r>
            <a:r>
              <a:rPr b="0" lang="ru-RU" sz="900" spc="-1" strike="noStrike">
                <a:solidFill>
                  <a:srgbClr val="3366cc"/>
                </a:solidFill>
                <a:latin typeface="Arial Black"/>
              </a:rPr>
              <a:t>по данным вопроса КАК ВЫ ДУМАЕТЕ, СООТВЕТСТВУЮТ ЛИ ДЕЙСТВИТЕЛЬНОСТИ ОБНАРОДОВАННЫЕ ЦЕНТРАЛЬНЫЙ ИЗБИРАТЕЛЬНОЙ КОМИССИЕЙ РЕЗУЛЬТАТЫ ВЫБОРОВ В ГОСУДАРСТВЕННУЮ ДУМУ 4 ДЕКАБРЯ?)</a:t>
            </a:r>
            <a:br>
              <a:rPr sz="14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78562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ОДДЕРЖКА ПРОВЕДЕНИЯ УЛИЧНЫХ АКЦИЙ ПРОТЕСТА ПРОТИВ ФАЛЬСИФИКАЦИИ ВЫБОРОВ В ГОСУДАРСТВЕННУЮ ДУМУ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ГОТОВНОСТЬ ПРИНЯТЬ УЧАСТИЕ В АКЦИЯХ ПРОТЕСТА ПРОТИВ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ФАЛЬСИФИКАЦИ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ВЫБОРОВ В ГОСУДАРСТВЕННУЮ ДУМУ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Если в ближайшее время в вашем городе (районе) пройдут новые массовые акции протеста против нарушений при организации и проведении выборов и фальсификации их результатов, готовы ли вы принять в них участие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Таблица 1" descr=""/>
          <p:cNvPicPr/>
          <p:nvPr/>
        </p:nvPicPr>
        <p:blipFill>
          <a:blip r:embed="rId1"/>
          <a:stretch/>
        </p:blipFill>
        <p:spPr>
          <a:xfrm>
            <a:off x="304920" y="2041560"/>
            <a:ext cx="85341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ТОВЫ ПРИНЯТЬ УЧАСТИЕ В АКЦИЯХ ПРОТЕСТА ПРОТИВ ФАЛЬСИФИКАЦИИ  ВЫБОРОВ В ГОСУДАРСТВЕННУЮ ДУМУ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ДОБРЕНИЕ ДЕЯТЕЛЬНОСТИ В. ПУТИНА </a:t>
            </a:r>
            <a:br>
              <a:rPr sz="2000"/>
            </a:b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Президента РФ (с марта 2000г. до февраля 2008г.) / премьер-министра РФ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310680"/>
            <a:ext cx="821844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ОДДЕРЖКА АКЦИЙ В ПОДДЕРЖКУ КУРСА            ВЛАДИМИРА ПУТИН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639720" y="1600200"/>
            <a:ext cx="786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1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СЛЕДУЕТ ЛИ ВЛАДИМИРУ ПУТИНУ СЕЙЧАС ПОЙТИ НА КОНТАКТЫ, ПРОВЕСТИ КОНСУЛЬТАЦИИ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714760"/>
          <a:ext cx="4043520" cy="3857400"/>
        </p:xfrm>
        <a:graphic>
          <a:graphicData uri="http://schemas.openxmlformats.org/drawingml/2006/table">
            <a:tbl>
              <a:tblPr/>
              <a:tblGrid>
                <a:gridCol w="2022480"/>
                <a:gridCol w="2021040"/>
              </a:tblGrid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857840" y="2714760"/>
          <a:ext cx="3900240" cy="3857400"/>
        </p:xfrm>
        <a:graphic>
          <a:graphicData uri="http://schemas.openxmlformats.org/drawingml/2006/table">
            <a:tbl>
              <a:tblPr/>
              <a:tblGrid>
                <a:gridCol w="1950840"/>
                <a:gridCol w="1949400"/>
              </a:tblGrid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7"/>
          <p:cNvSpPr/>
          <p:nvPr/>
        </p:nvSpPr>
        <p:spPr>
          <a:xfrm>
            <a:off x="4643280" y="428760"/>
            <a:ext cx="421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ПОЙДЕТ ЛИ ВЛАДИМИР ПУТИН СЕЙЧАС НА КОНТАКТЫ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Arial Black"/>
              </a:rPr>
              <a:t>В СЛУЧАЕ ИЗБРАНИЯ ВЛАДИМИРА ПУТИНА ПРЕЗИДЕНТОМ РОССИИ</a:t>
            </a:r>
            <a:r>
              <a:rPr b="0" lang="ru-RU" sz="1800" spc="-1" strike="noStrike">
                <a:solidFill>
                  <a:srgbClr val="31859c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4240" y="1600200"/>
          <a:ext cx="7972560" cy="460692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ПОЛИТИЧЕСКИЙ РЕЖИМ В СТРАНЕ, ПО СРАВНЕНИЮ С 2008-2011 ГОДАМИ СТ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жест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мяг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29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КОНТРОЛЬ ГОСУДАРСТВА, ЧИНОВНИКОВ НАД БИЗН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сил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ослаб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СИТУАЦИЯ С ДЕМОКРАТИЧЕСКИМИ СВОБОДАМИ 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луч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худ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ДОВЕРИЕ К ПУТИНУ СРЕДИ НАСЕЛЕНИЯ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р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19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па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ВЕРОЯТНЫЕ ВАРИАНТЫ РАЗВИТИЯ СОБЫТИЙ ПОСЛЕ ВЫБОРОВ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 (по данным вопроса: Какой из следующих вариантов развития событий после выборов 4 марта представляется Вам наиболее вероятным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8585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Благодарим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 Black"/>
              </a:rPr>
              <a:t>НЕОДОБРЕНИЕ ДЕЯТЕЛЬНОСТИ В. ПУТИНА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5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зидента РФ (с марта 2000г. до февраля 2008г.) / премьер-министр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429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аблица 1" descr=""/>
          <p:cNvPicPr/>
          <p:nvPr/>
        </p:nvPicPr>
        <p:blipFill>
          <a:blip r:embed="rId1"/>
          <a:stretch/>
        </p:blipFill>
        <p:spPr>
          <a:xfrm>
            <a:off x="347760" y="1243080"/>
            <a:ext cx="8424720" cy="532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ИНТЕРЕС К ВЫБОРАМ ПРЕЗИДЕНТА РОССИИ</a:t>
            </a:r>
            <a:br>
              <a:rPr sz="16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(по кампаниям 2004, 2008 и 2012 гг.);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Black"/>
              </a:rPr>
              <a:t>по данным вопроса Интересуют ли Вас предстоящие в марте этого года выборы президента России?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кампаниям 2004,  2008  и 2012 гг.;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58760" y="1682640"/>
            <a:ext cx="875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;</a:t>
            </a:r>
            <a:br>
              <a:rPr sz="1300"/>
            </a:br>
            <a:br>
              <a:rPr sz="1300"/>
            </a:br>
            <a:r>
              <a:rPr b="1" lang="ru-RU" sz="11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 в % от числа тех, кто «скорее» и «совершенно точно» будет голосовать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465120" y="1649520"/>
            <a:ext cx="821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54061"/>
                </a:solidFill>
                <a:latin typeface="Arial Black"/>
              </a:rPr>
              <a:t>ЯВКА ИЗБИРАТЕЛЕЙ НА ВЫБОРАХ ПРЕЗИДЕНТА РФ</a:t>
            </a:r>
            <a:r>
              <a:rPr b="0" lang="ru-RU" sz="3200" spc="-1" strike="noStrike">
                <a:solidFill>
                  <a:srgbClr val="25406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441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11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писок кандидатов не предлагал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 списком; кандид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намеренных прийти на выб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 определившихся с выбо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Декабрь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0-23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7-30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Февраль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*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)</a:t>
            </a:r>
            <a:br>
              <a:rPr sz="1300"/>
            </a:br>
            <a:br>
              <a:rPr sz="1600"/>
            </a:br>
            <a:br>
              <a:rPr sz="16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224920" cy="4849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6473160" y="6137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* </a:t>
            </a: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в 2008 г. Д.Медвед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0:47:27Z</dcterms:created>
  <dc:creator>Admin</dc:creator>
  <dc:description/>
  <dc:language>en-US</dc:language>
  <cp:lastModifiedBy>ZooM</cp:lastModifiedBy>
  <dcterms:modified xsi:type="dcterms:W3CDTF">2013-11-07T13:36:11Z</dcterms:modified>
  <cp:revision>8</cp:revision>
  <dc:subject/>
  <dc:title>Слайд 1</dc:title>
</cp:coreProperties>
</file>