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E9F-74FB-49B7-B554-70B803D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CEA-C086-4004-A138-57CD8C3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CE9-CB9D-44BF-AFC3-092B6EF3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429-8001-483A-85A6-937601E2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19B-73FD-4F62-A8D3-85C58C4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927-B6F8-4172-8439-8A9F7B3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173-5023-40E1-A02B-13662453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5B7-2AA8-4D4A-AB71-7E27EAA6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177-5FE7-4B6E-81DA-2E0707AD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1DF-EE17-44C8-A856-458A4FA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21C-18C6-427E-93C6-A107B76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2DD-4265-439A-9C44-6B27390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02B-16F2-439E-B593-CB1D11DA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лезные ископаемые Кировской об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с углублённым изучением отдельных предметов им. Октябрьской революции №28 учитель начальных классов Н.Б.Бронникова, С.К.Загре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05756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648320" cy="462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3860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96252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ча неф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9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ная 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86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еральные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жне-Ивкинский источ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3939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жите об одном полезном ископаемом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добываю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Подготовить сообщения о редких полезных ископаемых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Расскажите о полезных ископаемых: угле и торфе. Сравните их. Чем они похожи, чем отлича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иши одно из полезных ископаем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по выбору)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(жидкое, твёрд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сть (по отношению к стекл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воде (легче, тяжелее; растворяется или н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ог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Применение, основанное на свой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 Где и как добывается в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  Охрана полезного ископа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он бывает тёмно-серого цвета, округлой или угловатой формы. Внутри них нередко встречаются раковины и другие остатки живых организмов. Иногда его называют- «камень плодород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чёрный цвет, блестит. Твёрдый, но хрупкий.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ючее ископаемое, которое представляет собой густую маслянистую жидкость красно-коричневого ц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лся в недрах Земли из остатков других растений, причём сначала образовался торф, а со временем превратился в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ёмно-коричневого цвета, состоит из остатков растений. Рыхлое, непрочное, легче в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бывает коричневого цвета. Во влажном состоянии хорошо лепится и сохраняет форму, которую ей при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 из списка свойства каменного угля и песка. Второй вариант – свойства нефти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;                          10.  сыпу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е;                           11.  легче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дкость;                         12.  газообраз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яжелее воды;                 13.  белого ц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ого цвета;                 14.  плав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лтого цвета;                 15.  пласти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упкое;                             16.  плох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запах;                  пропускает 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ропускает воду; 17. коричн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бел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менный уголь: 1, 4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ок: 2, 4, 6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ть:1, 3, 8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а: 4, 15, 16,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стрелками полезное ископаемое и его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                                       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                                             маслянис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резким запа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ч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ина                                        тяжеле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сти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                         плавко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Наши подземные богатства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обведи правильный 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орождение полезных ископаемых отыски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е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лог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лезным ископаемым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рпич, бетон, бен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ки, вазы, 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газ, г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При помощи буровых установок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природн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и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рамор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В шахт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ракушечник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железную 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аренная соль,  граф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В карьер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песок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олото, малахит, мра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торф, бурый 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Полезные ископаемые, обладающие свойствами горючести,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маз, 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, поваренная соль, м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Бакина «Родина мои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Ворончихин «По Вятск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образования администрации г.Кирова. Информационно-методический центр г.Кирова 2003г. Методические рекомендации по изучению темы «Сохраним природу своего кра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В.Максимова, Т.Ю.Целоусова Поурочные разработки по курсу «Окружающий ми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фосфориты, известняк, песок и глина).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фосфоритов, известняка, песк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сфор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606744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682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864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 и 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9604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092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ь рассказ об одном (по своему выбору) из полезных ископаемых своего края, показывая его месторождения на физ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торф, нефть, каменный уголь, природный газ, железная руда, минеральная вода). Их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торфа, нефти, каменного угля, природного газа, железной руды, минеральной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5</cp:lastModifiedBy>
  <dcterms:modified xsi:type="dcterms:W3CDTF">2009-09-23T13:55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