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AF1-6FEE-48C3-AD2F-E4172D26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9B0-02FD-404A-9D98-DF9AED7A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D93-C69B-4C34-B55A-001B638A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D73-94B5-4B86-A9E1-B0B3A7DB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040-474B-47ED-A079-DD4A725C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F31-089D-479E-95F6-CEA3A96B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920-06FB-4968-9E96-C53AC92F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C1D-3CE8-475C-932E-E6FB3E0D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1A8-E1B4-4C9E-98A2-CDED6204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1AC-A0B2-4F1A-BDFE-249AA656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643-D9A9-49C2-8293-CCDA1D10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A67-B875-43DB-9F80-C90D7EF4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49BF-3BB4-426A-9DB7-CA038525C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лезные ископаемые Кировской обла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У СОШ с углублённым изучением отдельных предметов им. Октябрьской революции №28 учитель начальных классов Н.Б.Бронникова, С.К.Загре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057560" cy="426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4648320" cy="462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38609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ф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962520" cy="4496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886200" cy="4496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05320" y="55627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ыча неф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ф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010640" cy="4343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5930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ная 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648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010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3863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неральные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267080" cy="4267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31240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жне-Ивкинский источ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696440" cy="4724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39397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кажите об одном полезном ископаемом по пл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й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добываю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 Подготовить сообщения о редких полезных ископаемых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Расскажите о полезных ископаемых: угле и торфе. Сравните их. Чем они похожи, чем отличаю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иши одно из полезных ископаем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по выбору)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яние (жидкое, твёрдо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ёрдость (по отношению к стекл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ношение к воде (легче, тяжелее; растворяется или не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ношение к ог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  Применение, основанное на свойст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   Где и как добывается в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   Охрана полезного ископа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знай полезные ископаемые по описанию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ще всего он бывает тёмно-серого цвета, округлой или угловатой формы. Внутри них нередко встречаются раковины и другие остатки живых организмов. Иногда его называют- «камень плодород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еет чёрный цвет, блестит. Твёрдый, но хрупкий.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знай полезные ископаемые по описанию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ючее ископаемое, которое представляет собой густую маслянистую жидкость красно-коричневого цв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лся в недрах Земли из остатков других растений, причём сначала образовался торф, а со временем превратился в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знай полезные ископаемые по описанию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ёмно-коричневого цвета, состоит из остатков растений. Рыхлое, непрочное, легче в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ще всего бывает коричневого цвета. Во влажном состоянии хорошо лепится и сохраняет форму, которую ей при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ери из списка свойства каменного угля и песка. Второй вариант – свойства нефти и г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ючее;                          10.  сыпуч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ёрдое;                           11.  легче в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дкость;                         12.  газообраз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яжелее воды;                 13.  белого цв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ёрного цвета;                 14.  плави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ёлтого цвета;                 15.  пластич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упкое;                             16.  плох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ет запах;                  пропускает в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рошо пропускает воду; 17. коричнев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 белого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менный уголь: 1, 4, 5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сок: 2, 4, 6,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фть:1, 3, 8,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ина: 4, 15, 16,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едини стрелками полезное ископаемое и его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ть                                        жид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юч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зообраз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з                                             маслянист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резким запа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гч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ина                                        тяжеле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стич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ная руда                         плавко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Наши подземные богатства»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обведи правильный отве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сторождение полезных ископаемых отыски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хе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олог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полезным ископаемым относ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рпич, бетон, бен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нки, вазы, нож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ть, газ, гл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При помощи буровых установок доб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ть, природны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яки, то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рамор, гра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В шахтах доб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як, ракушечник, гра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менный уголь, железную р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аренная соль,  граф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В карьерах доб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як, песок, г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олото, малахит, мрам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ть, торф, бурый у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Полезные ископаемые, обладающие свойствами горючести,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маз, известн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ная руда, поваренная соль, м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менный уголь, то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.Бакина «Родина моих де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Ворончихин «По Вятскому кра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ение образования администрации г.Кирова. Информационно-методический центр г.Кирова 2003г. Методические рекомендации по изучению темы «Сохраним природу своего кра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В.Максимова, Т.Ю.Целоусова Поурочные разработки по курсу «Окружающий мир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класс, 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4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30592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ть полезные ископаемые своего края (фосфориты, известняк, песок и глина). Их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ть, как они охраняются, их обозначение на ка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ть, где добываются полезные ископаемые в родном кра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азывать свойства полезных ископаемых: фосфоритов, известняка, песка и г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сфор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6067440" cy="4800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76829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3886200" cy="434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0864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сок и г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4114800" cy="5105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4496040" cy="4952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2092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ставь рассказ об одном (по своему выбору) из полезных ископаемых своего края, показывая его месторождения на физической кар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ть полезные ископаемые своего края (торф, нефть, каменный уголь, природный газ, железная руда, минеральная вода). Их сво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ть, как они охраняются, их обозначение на кар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ть, где добываются полезные ископаемые в родном кра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казывать свойства полезных ископаемых: торфа, нефти, каменного угля, природного газа, железной руды, минеральной в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5</cp:lastModifiedBy>
  <dcterms:modified xsi:type="dcterms:W3CDTF">2009-09-23T13:55:0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