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F7FF-00F5-4E38-A52D-7298BBE6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078F-7638-4637-B540-DC50558C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EEE-400D-4F45-9E8B-0203E06C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B02C-5142-44D5-9497-19434AA2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E90C-C194-468B-A28D-5C87D922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B941-46EC-436C-8953-300AFBCC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71D5-FEEF-4F64-956C-94300E00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673-E472-463F-A9F4-00420905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55B-D98B-4CE1-8C1A-227FBFE8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C735-75FB-4A60-93C9-4165C256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64E-A44F-40AE-830D-B34B6568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E1FD-D8B5-44AC-85A7-D9D95524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F45D-4794-4E46-A017-4ACA67515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олезные ископаемые Кировской обла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У СОШ с углублённым изучением отдельных предметов им. Октябрьской революции №28 учитель начальных классов Н.Б.Бронникова, С.К.Загреб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057560" cy="4267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343400" y="1676520"/>
            <a:ext cx="4648320" cy="462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72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38609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фт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3962520" cy="4496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3886200" cy="4496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05320" y="55627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ыча неф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ф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010640" cy="4343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5930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ная 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4648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0010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38639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неральные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267080" cy="4267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31240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жне-Ивкинский источ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696440" cy="4724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059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39397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кажите об одном полезном ископаемом по пла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й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добываю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 Подготовить сообщения о редких полезных ископаемых кр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Расскажите о полезных ископаемых: угле и торфе. Сравните их. Чем они похожи, чем отличаю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иши одно из полезных ископаем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по выбору)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ояние (жидкое, твёрдо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вёрдость (по отношению к стеклу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ношение к воде (легче, тяжелее; растворяется или нет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ношение к ог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  Применение, основанное на свойств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   Где и как добывается в об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   Охрана полезного ископае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знай полезные ископаемые по описанию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ще всего он бывает тёмно-серого цвета, округлой или угловатой формы. Внутри них нередко встречаются раковины и другие остатки живых организмов. Иногда его называют- «камень плодород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еет чёрный цвет, блестит. Твёрдый, но хрупкий.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знай полезные ископаемые по описанию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рючее ископаемое, которое представляет собой густую маслянистую жидкость красно-коричневого цв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лся в недрах Земли из остатков других растений, причём сначала образовался торф, а со временем превратился в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знай полезные ископаемые по описанию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ёмно-коричневого цвета, состоит из остатков растений. Рыхлое, непрочное, легче во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ще всего бывает коричневого цвета. Во влажном состоянии хорошо лепится и сохраняет форму, которую ей прид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ери из списка свойства каменного угля и песка. Второй вариант – свойства нефти и г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ючее;                          10.  сыпуч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вёрдое;                           11.  легче во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дкость;                         12.  газообраз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яжелее воды;                 13.  белого цв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ёрного цвета;                 14.  плавить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ёлтого цвета;                 15.  пластично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рупкое;                             16.  плох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ет запах;                  пропускает во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рошо пропускает воду; 17. коричнев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 белого ц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менный уголь: 1, 4, 5,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сок: 2, 4, 6,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фть:1, 3, 8,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ина: 4, 15, 16,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едини стрелками полезное ископаемое и его 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фть                                        жид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юч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азообраз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аз                                             маслянист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резким запах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гче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ина                                        тяжелее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астич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езная руда                         плавко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Наши подземные богатства»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обведи правильный отве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сторождение полезных ископаемых отыски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хео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олог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полезным ископаемым относя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рпич, бетон, бенз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нки, вазы, нож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фть, газ, гл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При помощи буровых установок добы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фть, природны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няки, то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рамор, гран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В шахтах добы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няк, ракушечник, гран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менный уголь, железную р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аренная соль,  граф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В карьерах добы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няк, песок, г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олото, малахит, мрам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фть, торф, бурый уг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 Полезные ископаемые, обладающие свойствами горючести, 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маз, известня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езная руда, поваренная соль, м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менный уголь, то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.Бакина «Родина моих дет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.Ворончихин «По Вятскому кра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авление образования администрации г.Кирова. Информационно-методический центр г.Кирова 2003г. Методические рекомендации по изучению темы «Сохраним природу своего кра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В.Максимова, Т.Ю.Целоусова Поурочные разработки по курсу «Окружающий мир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класс, 4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4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30592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ть полезные ископаемые своего края (фосфориты, известняк, песок и глина). Их св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ть, как они охраняются, их обозначение на кар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ть, где добываются полезные ископаемые в родном кра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азывать свойства полезных ископаемых: фосфоритов, известняка, песка и г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осфор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6067440" cy="4800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57800" y="243828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76829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вестня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3886200" cy="4343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2296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08647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сок и г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4114800" cy="5105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4496040" cy="4952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20924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ставь рассказ об одном (по своему выбору) из полезных ископаемых своего края, показывая его месторождения на физической кар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af4"/>
            </a:gs>
            <a:gs pos="100000">
              <a:srgbClr val="0073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ть полезные ископаемые своего края (торф, нефть, каменный уголь, природный газ, железная руда, минеральная вода). Их свой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ть, как они охраняются, их обозначение на кар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ть, где добываются полезные ископаемые в родном кра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казывать свойства полезных ископаемых: торфа, нефти, каменного угля, природного газа, железной руды, минеральной в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28 учителя нач.классов Н.Б.Бронникова, С.К.Загребина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бинет 5</cp:lastModifiedBy>
  <dcterms:modified xsi:type="dcterms:W3CDTF">2009-09-23T13:55:0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