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5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CE73-ED2F-4634-8D48-60FC5F080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46A1-B6C0-4CEC-8920-EE6AEDC1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F7E4-306E-4A2E-A884-0B325DF8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6F25-42BE-4F52-B865-B18B72B7E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B046-0FC1-4524-8030-7F28032E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F363-67DE-4672-8BA4-97A9C70D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47A7-55EB-476D-8EB0-1515E8D6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5587-D752-4628-A372-78E0763E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81A2-6B39-4A2E-92F2-6ABC1E34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F6EB-5688-4776-89FF-241D6B44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BC42-2651-44BB-924B-56BE03C5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61F2-3EF4-4A3E-B6AD-68DE5329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446F-1BA3-434F-ACDC-6DA671B72C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3500280" y="1428840"/>
            <a:ext cx="5786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32523"/>
                </a:solidFill>
                <a:latin typeface="Calibri"/>
              </a:rPr>
              <a:t>Псковская судная грамота 1467 года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6" descr="F:\0460322313.jpg"/>
          <p:cNvPicPr/>
          <p:nvPr/>
        </p:nvPicPr>
        <p:blipFill>
          <a:blip r:embed="rId2"/>
          <a:stretch/>
        </p:blipFill>
        <p:spPr>
          <a:xfrm>
            <a:off x="401760" y="1755720"/>
            <a:ext cx="2927160" cy="860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www.travol.ru/images/pskov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Горизонтальный свиток 9" descr=""/>
          <p:cNvPicPr/>
          <p:nvPr/>
        </p:nvPicPr>
        <p:blipFill>
          <a:blip r:embed="rId2"/>
          <a:stretch/>
        </p:blipFill>
        <p:spPr>
          <a:xfrm>
            <a:off x="5376960" y="5175360"/>
            <a:ext cx="3535200" cy="175572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10"/>
          <p:cNvSpPr/>
          <p:nvPr/>
        </p:nvSpPr>
        <p:spPr>
          <a:xfrm>
            <a:off x="571680" y="357120"/>
            <a:ext cx="807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ПСГ вводит в понятие «</a:t>
            </a:r>
            <a:r>
              <a:rPr b="1" i="1" lang="ru-RU" sz="2000" spc="-1" strike="noStrike">
                <a:solidFill>
                  <a:srgbClr val="10253f"/>
                </a:solidFill>
                <a:latin typeface="Bookman Old Style"/>
              </a:rPr>
              <a:t>преступление»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 не только причинение ущерба лицу, но и </a:t>
            </a:r>
            <a:r>
              <a:rPr b="1" i="1" lang="ru-RU" sz="2000" spc="-1" strike="noStrike">
                <a:solidFill>
                  <a:srgbClr val="10253f"/>
                </a:solidFill>
                <a:latin typeface="Bookman Old Style"/>
              </a:rPr>
              <a:t>государств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11"/>
          <p:cNvSpPr/>
          <p:nvPr/>
        </p:nvSpPr>
        <p:spPr>
          <a:xfrm>
            <a:off x="500040" y="1214280"/>
            <a:ext cx="807264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0253f"/>
                </a:solidFill>
                <a:latin typeface="Bookman Old Style"/>
              </a:rPr>
              <a:t>Система преступлений выглядела следующим образом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ротив государства: измена («перевет»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ротив порядка управления: взятка («посул») судье), вторжение в судебное помещение, насилие в отношении судь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ротив личности: убийство («головщина»), побои, оскорбление действием. Наиболее тяжкими считались — братоубийство и убийство родител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Имущественные преступления: кража, кража церковного имущества, поджог, конокрадство, грабёж, разбой.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12"/>
          <p:cNvSpPr/>
          <p:nvPr/>
        </p:nvSpPr>
        <p:spPr>
          <a:xfrm>
            <a:off x="428760" y="521496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54061"/>
                </a:solidFill>
                <a:latin typeface="Bookman Old Style"/>
              </a:rPr>
              <a:t>Система наказаний</a:t>
            </a:r>
            <a:r>
              <a:rPr b="1" i="1" lang="ru-RU" sz="1800" spc="-1" strike="noStrike">
                <a:solidFill>
                  <a:srgbClr val="c00000"/>
                </a:solidFill>
                <a:latin typeface="Bookman Old Style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Смертная казн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Денежные штрафы — за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большинство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преступлений по ПС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4" descr="Картинка 47 из 101"/>
          <p:cNvPicPr/>
          <p:nvPr/>
        </p:nvPicPr>
        <p:blipFill>
          <a:blip r:embed="rId1"/>
          <a:stretch/>
        </p:blipFill>
        <p:spPr>
          <a:xfrm>
            <a:off x="0" y="-84240"/>
            <a:ext cx="9144000" cy="6942240"/>
          </a:xfrm>
          <a:prstGeom prst="rect">
            <a:avLst/>
          </a:prstGeom>
          <a:ln w="0">
            <a:noFill/>
          </a:ln>
        </p:spPr>
      </p:pic>
      <p:pic>
        <p:nvPicPr>
          <p:cNvPr id="89" name="Горизонтальный свиток 13" descr=""/>
          <p:cNvPicPr/>
          <p:nvPr/>
        </p:nvPicPr>
        <p:blipFill>
          <a:blip r:embed="rId2"/>
          <a:stretch/>
        </p:blipFill>
        <p:spPr>
          <a:xfrm>
            <a:off x="5230800" y="324000"/>
            <a:ext cx="3468600" cy="174924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14"/>
          <p:cNvSpPr/>
          <p:nvPr/>
        </p:nvSpPr>
        <p:spPr>
          <a:xfrm>
            <a:off x="285840" y="714240"/>
            <a:ext cx="457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роцесс в целом носил </a:t>
            </a:r>
            <a:r>
              <a:rPr b="1" i="1" lang="ru-RU" sz="2000" spc="-1" strike="noStrike">
                <a:solidFill>
                  <a:srgbClr val="003300"/>
                </a:solidFill>
                <a:latin typeface="Bookman Old Style"/>
              </a:rPr>
              <a:t>состязательный характер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, то есть строился на началах процессуального равенства сторон и разделения функций между обвинителем, защитой и судо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ри этом обвинитель нёс «бремя доказывания» виновности обвиняемого, а суд выступал как </a:t>
            </a:r>
            <a:r>
              <a:rPr b="1" i="1" lang="ru-RU" sz="2000" spc="-1" strike="noStrike">
                <a:solidFill>
                  <a:srgbClr val="003300"/>
                </a:solidFill>
                <a:latin typeface="Bookman Old Style"/>
              </a:rPr>
              <a:t>арбитр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между сторон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Прямоугольник 15" descr=""/>
          <p:cNvPicPr/>
          <p:nvPr/>
        </p:nvPicPr>
        <p:blipFill>
          <a:blip r:embed="rId5"/>
          <a:stretch/>
        </p:blipFill>
        <p:spPr>
          <a:xfrm>
            <a:off x="3328920" y="4376880"/>
            <a:ext cx="56818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www.turizm.ellink.ru/test/pskov/Pskov.JPG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Горизонтальный свиток 4" descr=""/>
          <p:cNvPicPr/>
          <p:nvPr/>
        </p:nvPicPr>
        <p:blipFill>
          <a:blip r:embed="rId2"/>
          <a:stretch/>
        </p:blipFill>
        <p:spPr>
          <a:xfrm>
            <a:off x="2359080" y="165240"/>
            <a:ext cx="3492360" cy="127944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142920" y="1571760"/>
            <a:ext cx="8643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сковская судная грамота рисует важнейшие черты социально- экономического развития  Псковского государств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Отмечает роль торгово - ремесленной жизн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Большое внимание уделяется положению феодально – зависимых крестьян, издольщик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амятник дает возможность представить основные черты государственного строя Древнего Пскова, как феодальной республики, возглавлявшейся псковским боярством, в руках которого находились важнейшие органы государственного управл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Грамота показывает сравнительно высокий уровень развития пра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http://derjava.pskov.ru/images/material-images/pskov_vasili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Горизонтальный свиток 6" descr=""/>
          <p:cNvPicPr/>
          <p:nvPr/>
        </p:nvPicPr>
        <p:blipFill>
          <a:blip r:embed="rId2"/>
          <a:stretch/>
        </p:blipFill>
        <p:spPr>
          <a:xfrm>
            <a:off x="2395440" y="182520"/>
            <a:ext cx="3481560" cy="1212840"/>
          </a:xfrm>
          <a:prstGeom prst="rect">
            <a:avLst/>
          </a:prstGeom>
          <a:ln w="0">
            <a:noFill/>
          </a:ln>
        </p:spPr>
      </p:pic>
      <p:sp>
        <p:nvSpPr>
          <p:cNvPr id="97" name="TextBox 7"/>
          <p:cNvSpPr/>
          <p:nvPr/>
        </p:nvSpPr>
        <p:spPr>
          <a:xfrm>
            <a:off x="857160" y="2000160"/>
            <a:ext cx="6786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А. А. Зимин. Памятники русского права. – М. , 195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Беляев И.Д. История русского законодательства. - СПб.: Изд-во "Лань", 199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Исаев И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.А.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История государства и права России. — М.: 200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extBox 1" descr=""/>
          <p:cNvPicPr/>
          <p:nvPr/>
        </p:nvPicPr>
        <p:blipFill>
          <a:blip r:embed="rId2"/>
          <a:stretch/>
        </p:blipFill>
        <p:spPr>
          <a:xfrm>
            <a:off x="5353200" y="-30240"/>
            <a:ext cx="3535200" cy="224316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214200" y="855720"/>
            <a:ext cx="4572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Источники ПС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Структура ПС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Вопрос о времени и происхождении памятн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Основные издания и переводы тек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Содержание ПС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Гражданское пра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Уголовное пра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Судопроизвод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F:\0460322313.jpg"/>
          <p:cNvPicPr/>
          <p:nvPr/>
        </p:nvPicPr>
        <p:blipFill>
          <a:blip r:embed="rId13"/>
          <a:stretch/>
        </p:blipFill>
        <p:spPr>
          <a:xfrm>
            <a:off x="5675400" y="1962000"/>
            <a:ext cx="2975040" cy="46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504d"/>
            </a:gs>
            <a:gs pos="100000">
              <a:srgbClr val="953735">
                <a:alpha val="86274"/>
              </a:srgbClr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TextBox 2" descr=""/>
          <p:cNvPicPr/>
          <p:nvPr/>
        </p:nvPicPr>
        <p:blipFill>
          <a:blip r:embed="rId1"/>
          <a:stretch/>
        </p:blipFill>
        <p:spPr>
          <a:xfrm>
            <a:off x="1158840" y="396720"/>
            <a:ext cx="6613560" cy="1779840"/>
          </a:xfrm>
          <a:prstGeom prst="rect">
            <a:avLst/>
          </a:prstGeom>
          <a:ln w="0">
            <a:noFill/>
          </a:ln>
        </p:spPr>
      </p:pic>
      <p:sp>
        <p:nvSpPr>
          <p:cNvPr id="47" name="Вертикальный свиток 5"/>
          <p:cNvSpPr/>
          <p:nvPr/>
        </p:nvSpPr>
        <p:spPr>
          <a:xfrm>
            <a:off x="6929280" y="2000160"/>
            <a:ext cx="1928880" cy="22147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Договоры города с князья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Вертикальный свиток 6"/>
          <p:cNvSpPr/>
          <p:nvPr/>
        </p:nvSpPr>
        <p:spPr>
          <a:xfrm>
            <a:off x="357120" y="2000160"/>
            <a:ext cx="1785960" cy="207180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Русская Прав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Вертикальный свиток 7"/>
          <p:cNvSpPr/>
          <p:nvPr/>
        </p:nvSpPr>
        <p:spPr>
          <a:xfrm>
            <a:off x="3714840" y="2000160"/>
            <a:ext cx="2000160" cy="21430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Вечевое законодательс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Вертикальный свиток 8"/>
          <p:cNvSpPr/>
          <p:nvPr/>
        </p:nvSpPr>
        <p:spPr>
          <a:xfrm>
            <a:off x="1143000" y="4357800"/>
            <a:ext cx="1857240" cy="228600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Судебная практ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Вертикальный свиток 9"/>
          <p:cNvGrpSpPr/>
          <p:nvPr/>
        </p:nvGrpSpPr>
        <p:grpSpPr>
          <a:xfrm>
            <a:off x="6754680" y="4327560"/>
            <a:ext cx="2140200" cy="2427120"/>
            <a:chOff x="6754680" y="4327560"/>
            <a:chExt cx="2140200" cy="2427120"/>
          </a:xfrm>
        </p:grpSpPr>
        <p:pic>
          <p:nvPicPr>
            <p:cNvPr id="52" name="Вертикальный свиток 9" descr=""/>
            <p:cNvPicPr/>
            <p:nvPr/>
          </p:nvPicPr>
          <p:blipFill>
            <a:blip r:embed="rId2"/>
            <a:stretch/>
          </p:blipFill>
          <p:spPr>
            <a:xfrm>
              <a:off x="6754680" y="4327560"/>
              <a:ext cx="2140200" cy="24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7099200" y="4670280"/>
              <a:ext cx="1446480" cy="185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Bookman Old Style"/>
                </a:rPr>
                <a:t>Договоры с иностранными купцам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Вертикальный свиток 10"/>
          <p:cNvSpPr/>
          <p:nvPr/>
        </p:nvSpPr>
        <p:spPr>
          <a:xfrm>
            <a:off x="3929040" y="4357800"/>
            <a:ext cx="2071800" cy="23572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Обычное пра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рямоугольник 36" descr=""/>
          <p:cNvPicPr/>
          <p:nvPr/>
        </p:nvPicPr>
        <p:blipFill>
          <a:blip r:embed="rId1"/>
          <a:stretch/>
        </p:blipFill>
        <p:spPr>
          <a:xfrm>
            <a:off x="3475080" y="-73080"/>
            <a:ext cx="1981080" cy="1079640"/>
          </a:xfrm>
          <a:prstGeom prst="rect">
            <a:avLst/>
          </a:prstGeom>
          <a:ln w="0">
            <a:noFill/>
          </a:ln>
        </p:spPr>
      </p:pic>
      <p:sp>
        <p:nvSpPr>
          <p:cNvPr id="56" name="TextBox 37"/>
          <p:cNvSpPr/>
          <p:nvPr/>
        </p:nvSpPr>
        <p:spPr>
          <a:xfrm>
            <a:off x="142920" y="1357200"/>
            <a:ext cx="3429000" cy="1191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Грамоты великого князя Александра Михайлович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8"/>
          <p:cNvSpPr/>
          <p:nvPr/>
        </p:nvSpPr>
        <p:spPr>
          <a:xfrm>
            <a:off x="5357880" y="1357200"/>
            <a:ext cx="3286080" cy="1191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Грамоты князя Константина Дмитриевич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39"/>
          <p:cNvSpPr/>
          <p:nvPr/>
        </p:nvSpPr>
        <p:spPr>
          <a:xfrm>
            <a:off x="142920" y="3429000"/>
            <a:ext cx="900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«Ся грамота выписана из великаго князя Александровы грамоты и из княж Костянтиновы грамоты и изо всех приписков псковъских пошлин по благословению отец своих попов всех 5 съборов, и священноиноков, и дияконов, и священников и всего Божиа священьства всем Псковом на вечи, в лето 6905-е.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2"/>
          <p:cNvSpPr/>
          <p:nvPr/>
        </p:nvSpPr>
        <p:spPr>
          <a:xfrm>
            <a:off x="285840" y="3429000"/>
            <a:ext cx="4214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В первом говорится об уголовных преступления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Во II отделе говорится о порядке су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В III отделе заключаются статьи о судебных доказательствах и судебных пошлин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6"/>
          <p:cNvSpPr/>
          <p:nvPr/>
        </p:nvSpPr>
        <p:spPr>
          <a:xfrm>
            <a:off x="5500800" y="3357720"/>
            <a:ext cx="3500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1 - об уголовных преступлени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2- о поземельной собствен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3- о займах, кредите , процент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4- о наследстве и опек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5- о братчи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6- о пайщиках или «сябрах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7- о договор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8- о торговл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TextBox 14" descr=""/>
          <p:cNvPicPr/>
          <p:nvPr/>
        </p:nvPicPr>
        <p:blipFill>
          <a:blip r:embed="rId13"/>
          <a:stretch/>
        </p:blipFill>
        <p:spPr>
          <a:xfrm>
            <a:off x="2133720" y="133200"/>
            <a:ext cx="4138560" cy="99396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5"/>
          <p:cNvSpPr/>
          <p:nvPr/>
        </p:nvSpPr>
        <p:spPr>
          <a:xfrm>
            <a:off x="0" y="135720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сковская грамота делится на две части, которые подразделяются на несколько отдел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Блок-схема: перфолента 16"/>
          <p:cNvSpPr/>
          <p:nvPr/>
        </p:nvSpPr>
        <p:spPr>
          <a:xfrm>
            <a:off x="428760" y="2286000"/>
            <a:ext cx="2428920" cy="928800"/>
          </a:xfrm>
          <a:prstGeom prst="flowChartPunchedTape">
            <a:avLst/>
          </a:prstGeom>
          <a:solidFill>
            <a:srgbClr val="ebf1de"/>
          </a:solidFill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Bookman Old Style"/>
              </a:rPr>
              <a:t>I </a:t>
            </a:r>
            <a:r>
              <a:rPr b="1" lang="ru-RU" sz="2400" spc="-1" strike="noStrike">
                <a:solidFill>
                  <a:srgbClr val="003300"/>
                </a:solidFill>
                <a:latin typeface="Bookman Old Style"/>
              </a:rPr>
              <a:t>ча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Блок-схема: перфолента 17"/>
          <p:cNvSpPr/>
          <p:nvPr/>
        </p:nvSpPr>
        <p:spPr>
          <a:xfrm>
            <a:off x="5929200" y="2214720"/>
            <a:ext cx="2428920" cy="928440"/>
          </a:xfrm>
          <a:prstGeom prst="flowChartPunchedTape">
            <a:avLst/>
          </a:prstGeom>
          <a:solidFill>
            <a:srgbClr val="ebf1de"/>
          </a:solidFill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Bookman Old Style"/>
              </a:rPr>
              <a:t>II </a:t>
            </a:r>
            <a:r>
              <a:rPr b="1" lang="ru-RU" sz="2400" spc="-1" strike="noStrike">
                <a:solidFill>
                  <a:srgbClr val="003300"/>
                </a:solidFill>
                <a:latin typeface="Bookman Old Style"/>
              </a:rPr>
              <a:t>ча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TextBox 1" descr=""/>
          <p:cNvPicPr/>
          <p:nvPr/>
        </p:nvPicPr>
        <p:blipFill>
          <a:blip r:embed="rId1"/>
          <a:stretch/>
        </p:blipFill>
        <p:spPr>
          <a:xfrm>
            <a:off x="30240" y="317520"/>
            <a:ext cx="8974080" cy="70020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357120" y="1500120"/>
            <a:ext cx="3786120" cy="1618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381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. В. Черепни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1 редакция – 139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2 редакция- 14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3 редакция – 1435-14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4 редакция - 146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4929120" y="1428840"/>
            <a:ext cx="3714840" cy="1618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2844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Б.Б. Кафенгау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1 редакция – 139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2 редакция-60-е гг.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X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3 редакция – 1474- 147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2428920" y="3357720"/>
            <a:ext cx="4714920" cy="1618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381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И. И. Полосн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1 редакция –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XI- X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2 редакция-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2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оловина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XI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3 редакция –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1409-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14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4 редакция – 1462- 146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428760" y="5072040"/>
            <a:ext cx="8715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Кодекс норм  псковского обычного права и новых постановлений, утвержденных  псковским вече по представлению князей Александра  Тверского и Константина Дмитриевича. Отдельные части были объединены в 1467го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TextBox 1" descr=""/>
          <p:cNvPicPr/>
          <p:nvPr/>
        </p:nvPicPr>
        <p:blipFill>
          <a:blip r:embed="rId1"/>
          <a:stretch/>
        </p:blipFill>
        <p:spPr>
          <a:xfrm>
            <a:off x="493560" y="139680"/>
            <a:ext cx="8017200" cy="147636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42920" y="1785960"/>
            <a:ext cx="8786880" cy="46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сковская Судная   грамота (издана Мурзакевичем), Одесса, 1847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Владимирский – Буданов М.Ф.  Хрестоматия по истории русского права. (разные издания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сковская Правда. Перевод и комментарии В.О. Ключевского (литографированное издание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сковская Судная грамота.- СПБ, 1914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сковская Судная грамота. Новый комментарий Л.В. Черепнина и А.И. Яковлева. Исторические записки, книга 6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амятники истории Великого Новгорода и Пскова. – М, 1935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сковская Судная грамота, перевод и комментарии Полосина И. И. Ученые записки Московского Государственного педагогического института, т.65. М, 195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Картинка 37 из 1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21" descr=""/>
          <p:cNvPicPr/>
          <p:nvPr/>
        </p:nvPicPr>
        <p:blipFill>
          <a:blip r:embed="rId2"/>
          <a:stretch/>
        </p:blipFill>
        <p:spPr>
          <a:xfrm>
            <a:off x="1560600" y="225360"/>
            <a:ext cx="5925960" cy="91440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22" descr=""/>
          <p:cNvPicPr/>
          <p:nvPr/>
        </p:nvPicPr>
        <p:blipFill>
          <a:blip r:embed="rId3"/>
          <a:stretch/>
        </p:blipFill>
        <p:spPr>
          <a:xfrm>
            <a:off x="30240" y="3303720"/>
            <a:ext cx="5297400" cy="359712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3"/>
          <p:cNvSpPr/>
          <p:nvPr/>
        </p:nvSpPr>
        <p:spPr>
          <a:xfrm>
            <a:off x="5500800" y="4826160"/>
            <a:ext cx="3500280" cy="20142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Обязательственное право регламентировало договоры: купли-продажи, дарения, залога, займа, мены, поклажи, найма помещений, личного найм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Горизонтальный свиток 24"/>
          <p:cNvGrpSpPr/>
          <p:nvPr/>
        </p:nvGrpSpPr>
        <p:grpSpPr>
          <a:xfrm>
            <a:off x="85680" y="871560"/>
            <a:ext cx="3827520" cy="1901880"/>
            <a:chOff x="85680" y="871560"/>
            <a:chExt cx="3827520" cy="1901880"/>
          </a:xfrm>
        </p:grpSpPr>
        <p:pic>
          <p:nvPicPr>
            <p:cNvPr id="77" name="Горизонтальный свиток 24" descr=""/>
            <p:cNvPicPr/>
            <p:nvPr/>
          </p:nvPicPr>
          <p:blipFill>
            <a:blip r:embed="rId4"/>
            <a:stretch/>
          </p:blipFill>
          <p:spPr>
            <a:xfrm>
              <a:off x="85680" y="871560"/>
              <a:ext cx="3827520" cy="19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19040" y="1204920"/>
              <a:ext cx="326412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632523"/>
                  </a:solidFill>
                  <a:latin typeface="Bookman Old Style"/>
                </a:rPr>
                <a:t>Гражданское право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Картинка 33 из 101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8"/>
          <p:cNvSpPr/>
          <p:nvPr/>
        </p:nvSpPr>
        <p:spPr>
          <a:xfrm>
            <a:off x="4572000" y="500040"/>
            <a:ext cx="4286160" cy="1618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Форма договора могла быть устной и письменной. Его оформление осуществлялось в присутствии свидетелей и священн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9"/>
          <p:cNvSpPr/>
          <p:nvPr/>
        </p:nvSpPr>
        <p:spPr>
          <a:xfrm>
            <a:off x="2500200" y="2500200"/>
            <a:ext cx="4572000" cy="1465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Долговые обязательства ложились не на личность должника, а на его имущество. Таким образом, должник не расплачивался по долгам собственной свобод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10"/>
          <p:cNvSpPr/>
          <p:nvPr/>
        </p:nvSpPr>
        <p:spPr>
          <a:xfrm>
            <a:off x="785880" y="4500720"/>
            <a:ext cx="6357960" cy="1739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ПСГ знает два вида наследования: по закону («отморщина») и по завещанию («приказное»). Предусматривались и случаи, когда имущество поступало не в собственность наследника, а в его пожизненное пользование и не мог его отчуждат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15:44:05Z</dcterms:created>
  <dc:creator>Масютка</dc:creator>
  <dc:description/>
  <dc:language>en-US</dc:language>
  <cp:lastModifiedBy>Анастасия Валерьевна</cp:lastModifiedBy>
  <dcterms:modified xsi:type="dcterms:W3CDTF">2008-12-28T15:36:59Z</dcterms:modified>
  <cp:revision>56</cp:revision>
  <dc:subject/>
  <dc:title>Слайд 1</dc:title>
</cp:coreProperties>
</file>