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325-132E-47A9-B39A-E15046C5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3F2-B219-49B4-8C45-32A9409E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503-F9B1-45A2-9C7C-F94BCF57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33A-3C38-4BAB-8D01-6F7C0FB9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D3E-081D-4733-83CE-D840F935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A8E-85D8-4F65-8836-B98548D1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D47-7B3F-4369-9B5C-6D225914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691-BBFC-4F15-AA48-EEA7480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3E4-762E-4A1C-AE70-7E25222F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399-77FB-4DC2-8289-181221EF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ACE-4810-4611-9760-91120EFF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E52-3D86-4CA7-9EC0-01DE67C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297F-D3CC-455E-9D82-E2C4F86E8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500280" y="1428840"/>
            <a:ext cx="578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32523"/>
                </a:solidFill>
                <a:latin typeface="Calibri"/>
              </a:rPr>
              <a:t>Псковская судная грамота 1467 год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F:\0460322313.jpg"/>
          <p:cNvPicPr/>
          <p:nvPr/>
        </p:nvPicPr>
        <p:blipFill>
          <a:blip r:embed="rId2"/>
          <a:stretch/>
        </p:blipFill>
        <p:spPr>
          <a:xfrm>
            <a:off x="401760" y="1755720"/>
            <a:ext cx="2927160" cy="860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ravol.ru/images/pskov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Горизонтальный свиток 9" descr=""/>
          <p:cNvPicPr/>
          <p:nvPr/>
        </p:nvPicPr>
        <p:blipFill>
          <a:blip r:embed="rId2"/>
          <a:stretch/>
        </p:blipFill>
        <p:spPr>
          <a:xfrm>
            <a:off x="5376960" y="5175360"/>
            <a:ext cx="3535200" cy="1755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0"/>
          <p:cNvSpPr/>
          <p:nvPr/>
        </p:nvSpPr>
        <p:spPr>
          <a:xfrm>
            <a:off x="571680" y="35712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СГ вводит в понятие «</a:t>
            </a: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преступление»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не только причинение ущерба лицу, но и </a:t>
            </a: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государ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500040" y="1214280"/>
            <a:ext cx="80726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</a:rPr>
              <a:t>Система преступлений выглядела следующим образ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ив государства: измена («перевет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ив порядка управления: взятка («посул») судье), вторжение в судебное помещение, насилие в отношении суд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ив личности: убийство («головщина»), побои, оскорбление действием. Наиболее тяжкими считались — братоубийство и убийство родите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мущественные преступления: кража, кража церковного имущества, поджог, конокрадство, грабёж, разбой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428760" y="521496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Bookman Old Style"/>
              </a:rPr>
              <a:t>Система наказаний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мертная казн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енежные штрафы — за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большинство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преступлений по ПС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Картинка 47 из 101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89" name="Горизонтальный свиток 13" descr=""/>
          <p:cNvPicPr/>
          <p:nvPr/>
        </p:nvPicPr>
        <p:blipFill>
          <a:blip r:embed="rId2"/>
          <a:stretch/>
        </p:blipFill>
        <p:spPr>
          <a:xfrm>
            <a:off x="5230800" y="324000"/>
            <a:ext cx="3468600" cy="17492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4"/>
          <p:cNvSpPr/>
          <p:nvPr/>
        </p:nvSpPr>
        <p:spPr>
          <a:xfrm>
            <a:off x="285840" y="71424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цесс в целом носил </a:t>
            </a:r>
            <a:r>
              <a:rPr b="1" i="1" lang="ru-RU" sz="2000" spc="-1" strike="noStrike">
                <a:solidFill>
                  <a:srgbClr val="003300"/>
                </a:solidFill>
                <a:latin typeface="Bookman Old Style"/>
              </a:rPr>
              <a:t>состязательный характер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, то есть строился на началах процессуального равенства сторон и разделения функций между обвинителем, защитой и суд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и этом обвинитель нёс «бремя доказывания» виновности обвиняемого, а суд выступал как </a:t>
            </a:r>
            <a:r>
              <a:rPr b="1" i="1" lang="ru-RU" sz="2000" spc="-1" strike="noStrike">
                <a:solidFill>
                  <a:srgbClr val="003300"/>
                </a:solidFill>
                <a:latin typeface="Bookman Old Style"/>
              </a:rPr>
              <a:t>арбитр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между сторо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Прямоугольник 15" descr=""/>
          <p:cNvPicPr/>
          <p:nvPr/>
        </p:nvPicPr>
        <p:blipFill>
          <a:blip r:embed="rId5"/>
          <a:stretch/>
        </p:blipFill>
        <p:spPr>
          <a:xfrm>
            <a:off x="3328920" y="4376880"/>
            <a:ext cx="5681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turizm.ellink.ru/test/pskov/Pskov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Горизонтальный свиток 4" descr=""/>
          <p:cNvPicPr/>
          <p:nvPr/>
        </p:nvPicPr>
        <p:blipFill>
          <a:blip r:embed="rId2"/>
          <a:stretch/>
        </p:blipFill>
        <p:spPr>
          <a:xfrm>
            <a:off x="2359080" y="165240"/>
            <a:ext cx="3492360" cy="1279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42920" y="157176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 рисует важнейшие черты социально- экономического развития  Псковского государ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тмечает роль торгово - ремесленной жиз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ольшое внимание уделяется положению феодально – зависимых крестьян, издольщ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мятник дает возможность представить основные черты государственного строя Древнего Пскова, как феодальной республики, возглавлявшейся псковским боярством, в руках которого находились важнейшие органы государственного управ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рамота показывает сравнительно высокий уровень развития пра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://derjava.pskov.ru/images/material-images/pskov_vasili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Горизонтальный свиток 6" descr=""/>
          <p:cNvPicPr/>
          <p:nvPr/>
        </p:nvPicPr>
        <p:blipFill>
          <a:blip r:embed="rId2"/>
          <a:stretch/>
        </p:blipFill>
        <p:spPr>
          <a:xfrm>
            <a:off x="2395440" y="182520"/>
            <a:ext cx="3481560" cy="1212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857160" y="2000160"/>
            <a:ext cx="678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А. А. Зимин. Памятники русского права. – М. , 19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Беляев И.Д. История русского законодательства. - СПб.: Изд-во "Лань", 19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аев И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.А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История государства и права России. — М.: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2"/>
          <a:stretch/>
        </p:blipFill>
        <p:spPr>
          <a:xfrm>
            <a:off x="5353200" y="-30240"/>
            <a:ext cx="3535200" cy="2243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14200" y="85572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точники ПС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труктура ПС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опрос о времени и происхождении памят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сновные издания и переводы 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держание ПС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головное пра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удопроизво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F:\0460322313.jpg"/>
          <p:cNvPicPr/>
          <p:nvPr/>
        </p:nvPicPr>
        <p:blipFill>
          <a:blip r:embed="rId13"/>
          <a:stretch/>
        </p:blipFill>
        <p:spPr>
          <a:xfrm>
            <a:off x="5675400" y="1962000"/>
            <a:ext cx="297504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953735">
                <a:alpha val="86274"/>
              </a:srgbClr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2" descr=""/>
          <p:cNvPicPr/>
          <p:nvPr/>
        </p:nvPicPr>
        <p:blipFill>
          <a:blip r:embed="rId1"/>
          <a:stretch/>
        </p:blipFill>
        <p:spPr>
          <a:xfrm>
            <a:off x="1158840" y="396720"/>
            <a:ext cx="6613560" cy="1779840"/>
          </a:xfrm>
          <a:prstGeom prst="rect">
            <a:avLst/>
          </a:prstGeom>
          <a:ln w="0">
            <a:noFill/>
          </a:ln>
        </p:spPr>
      </p:pic>
      <p:sp>
        <p:nvSpPr>
          <p:cNvPr id="47" name="Вертикальный свиток 5"/>
          <p:cNvSpPr/>
          <p:nvPr/>
        </p:nvSpPr>
        <p:spPr>
          <a:xfrm>
            <a:off x="6929280" y="2000160"/>
            <a:ext cx="1928880" cy="22147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говоры города с князь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Вертикальный свиток 6"/>
          <p:cNvSpPr/>
          <p:nvPr/>
        </p:nvSpPr>
        <p:spPr>
          <a:xfrm>
            <a:off x="357120" y="2000160"/>
            <a:ext cx="1785960" cy="20718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усская Прав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Вертикальный свиток 7"/>
          <p:cNvSpPr/>
          <p:nvPr/>
        </p:nvSpPr>
        <p:spPr>
          <a:xfrm>
            <a:off x="3714840" y="2000160"/>
            <a:ext cx="2000160" cy="2143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чевое законодатель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Вертикальный свиток 8"/>
          <p:cNvSpPr/>
          <p:nvPr/>
        </p:nvSpPr>
        <p:spPr>
          <a:xfrm>
            <a:off x="1143000" y="4357800"/>
            <a:ext cx="1857240" cy="2286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удебная прак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Вертикальный свиток 9"/>
          <p:cNvGrpSpPr/>
          <p:nvPr/>
        </p:nvGrpSpPr>
        <p:grpSpPr>
          <a:xfrm>
            <a:off x="6754680" y="4327560"/>
            <a:ext cx="2140200" cy="2427120"/>
            <a:chOff x="6754680" y="4327560"/>
            <a:chExt cx="2140200" cy="2427120"/>
          </a:xfrm>
        </p:grpSpPr>
        <p:pic>
          <p:nvPicPr>
            <p:cNvPr id="52" name="Вертикальный свиток 9" descr=""/>
            <p:cNvPicPr/>
            <p:nvPr/>
          </p:nvPicPr>
          <p:blipFill>
            <a:blip r:embed="rId2"/>
            <a:stretch/>
          </p:blipFill>
          <p:spPr>
            <a:xfrm>
              <a:off x="6754680" y="4327560"/>
              <a:ext cx="214020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099200" y="4670280"/>
              <a:ext cx="1446480" cy="18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Договоры с иностранными купца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Вертикальный свиток 10"/>
          <p:cNvSpPr/>
          <p:nvPr/>
        </p:nvSpPr>
        <p:spPr>
          <a:xfrm>
            <a:off x="3929040" y="4357800"/>
            <a:ext cx="2071800" cy="23572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бычное пра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36" descr=""/>
          <p:cNvPicPr/>
          <p:nvPr/>
        </p:nvPicPr>
        <p:blipFill>
          <a:blip r:embed="rId1"/>
          <a:stretch/>
        </p:blipFill>
        <p:spPr>
          <a:xfrm>
            <a:off x="3475080" y="-73080"/>
            <a:ext cx="1981080" cy="1079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37"/>
          <p:cNvSpPr/>
          <p:nvPr/>
        </p:nvSpPr>
        <p:spPr>
          <a:xfrm>
            <a:off x="142920" y="1357200"/>
            <a:ext cx="34290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рамоты великого князя Александра Михайлови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5357880" y="1357200"/>
            <a:ext cx="328608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рамоты князя Константина Дмитриеви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9"/>
          <p:cNvSpPr/>
          <p:nvPr/>
        </p:nvSpPr>
        <p:spPr>
          <a:xfrm>
            <a:off x="142920" y="3429000"/>
            <a:ext cx="90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Ся грамота выписана из великаго князя Александровы грамоты и из княж Костянтиновы грамоты и изо всех приписков псковъских пошлин по благословению отец своих попов всех 5 съборов, и священноиноков, и дияконов, и священников и всего Божиа священьства всем Псковом на вечи, в лето 6905-е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285840" y="3429000"/>
            <a:ext cx="4214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 первом говорится об уголовных преступл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о II отделе говорится о порядке с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 III отделе заключаются статьи о судебных доказательствах и судебных пошлин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500800" y="335772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1 - об уголовных преступле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2- о поземельной собстве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3- о займах, кредите , процент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4- о наследстве и опе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5- о братч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6- о пайщиках или «сябрах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7- о договор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8- о торгов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extBox 14" descr=""/>
          <p:cNvPicPr/>
          <p:nvPr/>
        </p:nvPicPr>
        <p:blipFill>
          <a:blip r:embed="rId13"/>
          <a:stretch/>
        </p:blipFill>
        <p:spPr>
          <a:xfrm>
            <a:off x="2133720" y="133200"/>
            <a:ext cx="4138560" cy="993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5"/>
          <p:cNvSpPr/>
          <p:nvPr/>
        </p:nvSpPr>
        <p:spPr>
          <a:xfrm>
            <a:off x="0" y="135720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грамота делится на две части, которые подразделяются на несколько отде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Блок-схема: перфолента 16"/>
          <p:cNvSpPr/>
          <p:nvPr/>
        </p:nvSpPr>
        <p:spPr>
          <a:xfrm>
            <a:off x="428760" y="2286000"/>
            <a:ext cx="2428920" cy="928800"/>
          </a:xfrm>
          <a:prstGeom prst="flowChartPunchedTape">
            <a:avLst/>
          </a:prstGeom>
          <a:solidFill>
            <a:srgbClr val="ebf1de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Bookman Old Style"/>
              </a:rPr>
              <a:t>I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Блок-схема: перфолента 17"/>
          <p:cNvSpPr/>
          <p:nvPr/>
        </p:nvSpPr>
        <p:spPr>
          <a:xfrm>
            <a:off x="5929200" y="2214720"/>
            <a:ext cx="2428920" cy="928440"/>
          </a:xfrm>
          <a:prstGeom prst="flowChartPunchedTape">
            <a:avLst/>
          </a:prstGeom>
          <a:solidFill>
            <a:srgbClr val="ebf1de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Bookman Old Style"/>
              </a:rPr>
              <a:t>II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1" descr=""/>
          <p:cNvPicPr/>
          <p:nvPr/>
        </p:nvPicPr>
        <p:blipFill>
          <a:blip r:embed="rId1"/>
          <a:stretch/>
        </p:blipFill>
        <p:spPr>
          <a:xfrm>
            <a:off x="30240" y="317520"/>
            <a:ext cx="8974080" cy="700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357120" y="1500120"/>
            <a:ext cx="378612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. В. Черепн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 редакция – 13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2 редакция- 14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 редакция – 1435-14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4 редакция - 146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929120" y="1428840"/>
            <a:ext cx="371484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2844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.Б. Кафенгау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 редакция – 13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2 редакция-60-е гг.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X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 редакция – 1474- 14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428920" y="3357720"/>
            <a:ext cx="471492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. И. Полос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 редакция –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XI-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2 редакция-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ловина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 редакция –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409-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4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4 редакция – 1462- 14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428760" y="5072040"/>
            <a:ext cx="87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декс норм  псковского обычного права и новых постановлений, утвержденных  псковским вече по представлению князей Александра  Тверского и Константина Дмитриевича. Отдельные части были объединены в 1467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Box 1" descr=""/>
          <p:cNvPicPr/>
          <p:nvPr/>
        </p:nvPicPr>
        <p:blipFill>
          <a:blip r:embed="rId1"/>
          <a:stretch/>
        </p:blipFill>
        <p:spPr>
          <a:xfrm>
            <a:off x="493560" y="139680"/>
            <a:ext cx="8017200" cy="1476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42920" y="1785960"/>
            <a:ext cx="878688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  грамота (издана Мурзакевичем), Одесса, 1847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ладимирский – Буданов М.Ф.  Хрестоматия по истории русского права. (разные издан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Правда. Перевод и комментарии В.О. Ключевского (литографированное издан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.- СПБ, 191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. Новый комментарий Л.В. Черепнина и А.И. Яковлева. Исторические записки, книга 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мятники истории Великого Новгорода и Пскова. – М, 193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, перевод и комментарии Полосина И. И. Ученые записки Московского Государственного педагогического института, т.65. М, 195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Картинка 37 из 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1" descr=""/>
          <p:cNvPicPr/>
          <p:nvPr/>
        </p:nvPicPr>
        <p:blipFill>
          <a:blip r:embed="rId2"/>
          <a:stretch/>
        </p:blipFill>
        <p:spPr>
          <a:xfrm>
            <a:off x="1560600" y="225360"/>
            <a:ext cx="59259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2" descr=""/>
          <p:cNvPicPr/>
          <p:nvPr/>
        </p:nvPicPr>
        <p:blipFill>
          <a:blip r:embed="rId3"/>
          <a:stretch/>
        </p:blipFill>
        <p:spPr>
          <a:xfrm>
            <a:off x="30240" y="3303720"/>
            <a:ext cx="5297400" cy="35971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3"/>
          <p:cNvSpPr/>
          <p:nvPr/>
        </p:nvSpPr>
        <p:spPr>
          <a:xfrm>
            <a:off x="5500800" y="4826160"/>
            <a:ext cx="3500280" cy="20142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бязательственное право регламентировало договоры: купли-продажи, дарения, залога, займа, мены, поклажи, найма помещений, личного най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Горизонтальный свиток 24"/>
          <p:cNvGrpSpPr/>
          <p:nvPr/>
        </p:nvGrpSpPr>
        <p:grpSpPr>
          <a:xfrm>
            <a:off x="85680" y="871560"/>
            <a:ext cx="3827520" cy="1901880"/>
            <a:chOff x="85680" y="871560"/>
            <a:chExt cx="3827520" cy="1901880"/>
          </a:xfrm>
        </p:grpSpPr>
        <p:pic>
          <p:nvPicPr>
            <p:cNvPr id="77" name="Горизонтальный свиток 24" descr=""/>
            <p:cNvPicPr/>
            <p:nvPr/>
          </p:nvPicPr>
          <p:blipFill>
            <a:blip r:embed="rId4"/>
            <a:stretch/>
          </p:blipFill>
          <p:spPr>
            <a:xfrm>
              <a:off x="85680" y="871560"/>
              <a:ext cx="382752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19040" y="1204920"/>
              <a:ext cx="32641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32523"/>
                  </a:solidFill>
                  <a:latin typeface="Bookman Old Style"/>
                </a:rPr>
                <a:t>Гражданское прав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Картинка 33 из 101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8"/>
          <p:cNvSpPr/>
          <p:nvPr/>
        </p:nvSpPr>
        <p:spPr>
          <a:xfrm>
            <a:off x="4572000" y="500040"/>
            <a:ext cx="4286160" cy="161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Форма договора могла быть устной и письменной. Его оформление осуществлялось в присутствии свидетелей и священ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2500200" y="2500200"/>
            <a:ext cx="457200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лговые обязательства ложились не на личность должника, а на его имущество. Таким образом, должник не расплачивался по долгам собственной свобод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785880" y="4500720"/>
            <a:ext cx="6357960" cy="173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СГ знает два вида наследования: по закону («отморщина») и по завещанию («приказное»). Предусматривались и случаи, когда имущество поступало не в собственность наследника, а в его пожизненное пользование и не мог его отчужд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5:44:05Z</dcterms:created>
  <dc:creator>Масютка</dc:creator>
  <dc:description/>
  <dc:language>en-US</dc:language>
  <cp:lastModifiedBy>Анастасия Валерьевна</cp:lastModifiedBy>
  <dcterms:modified xsi:type="dcterms:W3CDTF">2008-12-28T15:36:59Z</dcterms:modified>
  <cp:revision>56</cp:revision>
  <dc:subject/>
  <dc:title>Слайд 1</dc:title>
</cp:coreProperties>
</file>