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514-77CC-4380-A4BE-CE4FD9D8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9A3-18E6-4D2C-9544-D50D5064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2B6-D899-4325-AAF4-5233DDE9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C00-C5DD-4713-8785-7E9B7330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AD9-4907-4DB4-BCE4-0CA4086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804-C064-4852-8D42-37F45C0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B85-2027-4755-B635-E2751719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D01-DB3D-42B7-A7F7-4A0D4F15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6B7-FF22-4619-9ECB-A437022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E74-7D23-4DB8-90EF-5E21043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F84-B751-4A1B-A12A-672B95BF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698-2D61-4A3E-8539-55F8C56C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E22E-D8CE-4431-9A96-5A7CF297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99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Презента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9280" y="4076640"/>
            <a:ext cx="568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ОУ СОШ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г. 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Bookman Old Style"/>
              </a:rPr>
              <a:t>Журавлева Н. Н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700280"/>
            <a:ext cx="820908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7c80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ЛИСТВЕННЫЕ И ХВОЙНЫЕ РАСТЕНИЯ</a:t>
            </a:r>
            <a:endParaRPr b="0" lang="en-US" sz="1800" spc="1" strike="noStrike">
              <a:ln w="9360">
                <a:solidFill>
                  <a:srgbClr val="ff7c80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a6da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4360" y="1628640"/>
            <a:ext cx="7272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abcfe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58920" y="1700280"/>
            <a:ext cx="612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78087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НАЗОВИ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СТВЕННЫЕ                    ХВО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0000" y="0"/>
            <a:ext cx="73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258560" y="2492280"/>
            <a:ext cx="1152360" cy="64944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64360" y="2565360"/>
            <a:ext cx="863640" cy="792360"/>
          </a:xfrm>
          <a:prstGeom prst="line">
            <a:avLst/>
          </a:prstGeom>
          <a:ln w="76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284640"/>
            <a:ext cx="1344600" cy="5745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2565360"/>
            <a:ext cx="792000" cy="5763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3573360"/>
            <a:ext cx="1295280" cy="503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867280" y="2565360"/>
            <a:ext cx="649440" cy="719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357720"/>
            <a:ext cx="1368720" cy="504720"/>
          </a:xfrm>
          <a:prstGeom prst="flowChartTermina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500280"/>
            <a:ext cx="1368360" cy="505080"/>
          </a:xfrm>
          <a:prstGeom prst="flowChartTermina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4000" y="2708280"/>
            <a:ext cx="432000" cy="1225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2637000"/>
            <a:ext cx="0" cy="1512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221000"/>
            <a:ext cx="1224000" cy="5050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4365720"/>
            <a:ext cx="1295280" cy="504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021360"/>
            <a:ext cx="8569440" cy="647640"/>
          </a:xfrm>
          <a:custGeom>
            <a:avLst/>
            <a:gdLst>
              <a:gd name="textAreaLeft" fmla="*/ 0 w 8569440"/>
              <a:gd name="textAreaRight" fmla="*/ 8569800 w 8569440"/>
              <a:gd name="textAreaTop" fmla="*/ 83880 h 647640"/>
              <a:gd name="textAreaBottom" fmla="*/ 563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ем отличаются лиственные растения от хвой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48639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Какое из хвойных деревьев сбрасывает листья на зи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78400" y="529596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а) со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54400" y="529596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б) листв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2560" y="5295960"/>
            <a:ext cx="8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) 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0efe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3284280"/>
            <a:ext cx="821844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71640" y="333360"/>
            <a:ext cx="633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тения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4000" y="342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ря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6510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35772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пих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42210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1477080" y="3501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листвен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400000">
            <a:off x="6011280" y="3573360"/>
            <a:ext cx="46814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вой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68360" y="1557360"/>
            <a:ext cx="43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ваю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77640" y="495468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каш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5675400"/>
            <a:ext cx="19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ябл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558972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листвен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7840" y="4941720"/>
            <a:ext cx="9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Arial"/>
              </a:rPr>
              <a:t>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03280" y="3213000"/>
            <a:ext cx="647640" cy="50328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476360" y="3860640"/>
            <a:ext cx="647640" cy="14472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581360"/>
            <a:ext cx="57456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5157720"/>
            <a:ext cx="576360" cy="7164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5373720"/>
            <a:ext cx="576360" cy="57636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732720" y="3141720"/>
            <a:ext cx="1008000" cy="28728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877080" y="3789360"/>
            <a:ext cx="790560" cy="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948000" y="4221000"/>
            <a:ext cx="863640" cy="2876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59280" y="4869000"/>
            <a:ext cx="1152360" cy="36036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380000" y="5300640"/>
            <a:ext cx="431640" cy="433440"/>
          </a:xfrm>
          <a:prstGeom prst="line">
            <a:avLst/>
          </a:prstGeom>
          <a:ln w="7632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Клён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Он желанный гость парков и улиц городов. Его резные листья так красивы в осенний листопад! У клёна крепкая древесина, её применяют в токарном и столярном деле, в машиностроении. Клен энергично усваивает из воздуха различные вред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260280"/>
            <a:ext cx="763272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о интерес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357336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Ли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4076640"/>
            <a:ext cx="836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Королева сибирских лесов. Осенью золотые хвоинки, как листья, падают на землю. Отсюда и название дерева. Древесина не знает износа. Знаете вы, что внутренние детали Московского Кремля сделаны из лиственницы и служат уже по 400-500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515772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51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Это дерево знакомо всем с детства. Обычай украшать ёлку пришел издалека.  Когда день начинал прибывать, люди в ожидании тёплых дней шли в лес, который согревал и кормил их. Там они украшали самую большую 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грушками, символизирующими богатый урожай в поле, обилие птиц и зверей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082680" cy="3529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258920" y="620640"/>
            <a:ext cx="626436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275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ЗОВИ 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144960" cy="3529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32000" y="5805360"/>
            <a:ext cx="2006640" cy="648000"/>
          </a:xfrm>
          <a:custGeom>
            <a:avLst/>
            <a:gdLst>
              <a:gd name="textAreaLeft" fmla="*/ 501480 w 2006640"/>
              <a:gd name="textAreaRight" fmla="*/ 1505160 w 200664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5805360"/>
            <a:ext cx="1656000" cy="648000"/>
          </a:xfrm>
          <a:custGeom>
            <a:avLst/>
            <a:gdLst>
              <a:gd name="textAreaLeft" fmla="*/ 414000 w 1656000"/>
              <a:gd name="textAreaRight" fmla="*/ 1242000 w 1656000"/>
              <a:gd name="textAreaTop" fmla="*/ 0 h 648000"/>
              <a:gd name="textAreaBottom" fmla="*/ 567000 h 648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Д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7200" y="654120"/>
            <a:ext cx="4186440" cy="497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057560" cy="47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734080"/>
            <a:ext cx="1295640" cy="863640"/>
          </a:xfrm>
          <a:custGeom>
            <a:avLst/>
            <a:gdLst>
              <a:gd name="textAreaLeft" fmla="*/ 0 w 1295640"/>
              <a:gd name="textAreaRight" fmla="*/ 1296000 w 1295640"/>
              <a:gd name="textAreaTop" fmla="*/ 111960 h 863640"/>
              <a:gd name="textAreaBottom" fmla="*/ 7516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805360"/>
            <a:ext cx="1130400" cy="792360"/>
          </a:xfrm>
          <a:custGeom>
            <a:avLst/>
            <a:gdLst>
              <a:gd name="textAreaLeft" fmla="*/ 0 w 1130400"/>
              <a:gd name="textAreaRight" fmla="*/ 1130760 w 1130400"/>
              <a:gd name="textAreaTop" fmla="*/ 102600 h 792360"/>
              <a:gd name="textAreaBottom" fmla="*/ 6897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75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0040" cy="468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749840" y="549360"/>
            <a:ext cx="408636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76360" y="5516640"/>
            <a:ext cx="1562040" cy="1152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5589720"/>
            <a:ext cx="1562040" cy="1008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175e75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-3562" t="0" r="0" b="1504"/>
          <a:stretch/>
        </p:blipFill>
        <p:spPr>
          <a:xfrm>
            <a:off x="395280" y="549360"/>
            <a:ext cx="3770280" cy="48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1928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5805360"/>
            <a:ext cx="144000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0920" y="189000"/>
            <a:ext cx="864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правильно назвать лист хвойного растения?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3068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7c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олка</a:t>
            </a:r>
            <a:endParaRPr b="0" lang="en-US" sz="1800" spc="1" strike="noStrike">
              <a:ln w="12600">
                <a:solidFill>
                  <a:srgbClr val="ff7c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635280" y="5084640"/>
            <a:ext cx="28083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ючка</a:t>
            </a:r>
            <a:endParaRPr b="0" lang="en-US" sz="1800" spc="1" strike="noStrike">
              <a:ln w="9360">
                <a:solidFill>
                  <a:srgbClr val="ff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6720" y="3357720"/>
            <a:ext cx="2374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воинка</a:t>
            </a:r>
            <a:endParaRPr b="0" lang="en-US" sz="1800" spc="1" strike="noStrike">
              <a:ln w="9360">
                <a:solidFill>
                  <a:srgbClr val="ff99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00ff00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55640" y="1773360"/>
            <a:ext cx="799308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50000">
                      <a:srgbClr val="ffff99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Impact"/>
              </a:rPr>
              <a:t>Неправильно!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50000">
                    <a:srgbClr val="ffff99"/>
                  </a:gs>
                  <a:gs pos="100000">
                    <a:srgbClr val="0066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6:23:29Z</dcterms:created>
  <dc:creator>Журавлев</dc:creator>
  <dc:description/>
  <dc:language>en-US</dc:language>
  <cp:lastModifiedBy>КарМаН</cp:lastModifiedBy>
  <dcterms:modified xsi:type="dcterms:W3CDTF">2012-01-28T08:59:55Z</dcterms:modified>
  <cp:revision>22</cp:revision>
  <dc:subject/>
  <dc:title>Слайд 1</dc:title>
</cp:coreProperties>
</file>