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AD5-2DAB-46EC-AAEB-30CD7E2F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54D-2C9F-4D90-A749-72ABDBC8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3EA-850D-4A94-83B9-E5E29FC2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674-3235-44F2-BAE1-3E23BFA0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4DF-788D-4272-BB0F-6EFAD4A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5A7-67DE-4F4F-9BF8-59DC2CB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F49-F255-4175-BEFB-00022300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8EA-5B8A-45F0-9041-0A9E2270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33C-B2C3-4CA1-9D42-AAF31C4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E00-964C-441A-B49D-9AF6B888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3BB-0E0A-4016-8E8C-8518296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68C-7353-456D-884A-1B4A1990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EF2B-D331-4AD7-8A57-47782E1B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99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Презента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4076640"/>
            <a:ext cx="568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ОУ СОШ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г. 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Bookman Old Style"/>
              </a:rPr>
              <a:t>Журавлева Н. Н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700280"/>
            <a:ext cx="820908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ЛИСТВЕННЫЕ И ХВОЙНЫЕ РАСТЕНИЯ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a6d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4360" y="1628640"/>
            <a:ext cx="7272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bc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58920" y="1700280"/>
            <a:ext cx="612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78087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НАЗОВИ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ВЕННЫЕ                    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0000" y="0"/>
            <a:ext cx="73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58560" y="2492280"/>
            <a:ext cx="1152360" cy="64944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2565360"/>
            <a:ext cx="863640" cy="79236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284640"/>
            <a:ext cx="1344600" cy="5745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565360"/>
            <a:ext cx="792000" cy="5763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3573360"/>
            <a:ext cx="1295280" cy="503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867280" y="2565360"/>
            <a:ext cx="649440" cy="719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357720"/>
            <a:ext cx="1368720" cy="504720"/>
          </a:xfrm>
          <a:prstGeom prst="flowChartTermina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500280"/>
            <a:ext cx="1368360" cy="505080"/>
          </a:xfrm>
          <a:prstGeom prst="flowChartTermina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4000" y="2708280"/>
            <a:ext cx="432000" cy="1225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637000"/>
            <a:ext cx="0" cy="1512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221000"/>
            <a:ext cx="1224000" cy="50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4365720"/>
            <a:ext cx="1295280" cy="504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021360"/>
            <a:ext cx="8569440" cy="647640"/>
          </a:xfrm>
          <a:custGeom>
            <a:avLst/>
            <a:gdLst>
              <a:gd name="textAreaLeft" fmla="*/ 0 w 8569440"/>
              <a:gd name="textAreaRight" fmla="*/ 8569800 w 856944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ем отличаются лиственные растения от хвой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639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Какое из хвойных деревьев сбрасывает листья на зи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400" y="529596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а) со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4400" y="529596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б) листв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2560" y="5295960"/>
            <a:ext cx="8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) 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0efe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284280"/>
            <a:ext cx="8218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333360"/>
            <a:ext cx="633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ния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42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ря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651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35772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пи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4221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1477080" y="3501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листвен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6011280" y="3573360"/>
            <a:ext cx="46814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вой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68360" y="1557360"/>
            <a:ext cx="43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ваю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77640" y="495468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аш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5675400"/>
            <a:ext cx="19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ябл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558972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ствен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7840" y="494172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03280" y="3213000"/>
            <a:ext cx="647640" cy="50328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76360" y="3860640"/>
            <a:ext cx="647640" cy="14472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581360"/>
            <a:ext cx="57456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5157720"/>
            <a:ext cx="576360" cy="7164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5373720"/>
            <a:ext cx="576360" cy="57636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732720" y="3141720"/>
            <a:ext cx="1008000" cy="28728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77080" y="3789360"/>
            <a:ext cx="790560" cy="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948000" y="4221000"/>
            <a:ext cx="863640" cy="2876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59280" y="4869000"/>
            <a:ext cx="1152360" cy="36036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380000" y="5300640"/>
            <a:ext cx="431640" cy="4334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Клён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Он желанный гость парков и улиц городов. Его резные листья так красивы в осенний листопад! У клёна крепкая древесина, её применяют в токарном и столярном деле, в машиностроении. Клен энергично усваивает из воздуха различные вред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260280"/>
            <a:ext cx="763272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357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83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Королева сибирских лесов. Осенью золотые хвоинки, как листья, падают на землю. Отсюда и название дерева. Древесина не знает износа. Знаете вы, что внутренние детали Московского Кремля сделаны из лиственницы и служат уже по 400-500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515772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51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Это дерево знакомо всем с детства. Обычай украшать ёлку пришел издалека.  Когда день начинал прибывать, люди в ожидании тёплых дней шли в лес, который согревал и кормил их. Там они украшали самую большую 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грушками, символизирующими богатый урожай в поле, обилие птиц и зверей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082680" cy="352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58920" y="620640"/>
            <a:ext cx="626436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275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ОВИ 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14496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32000" y="5805360"/>
            <a:ext cx="2006640" cy="648000"/>
          </a:xfrm>
          <a:custGeom>
            <a:avLst/>
            <a:gdLst>
              <a:gd name="textAreaLeft" fmla="*/ 501480 w 2006640"/>
              <a:gd name="textAreaRight" fmla="*/ 1505160 w 200664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5805360"/>
            <a:ext cx="1656000" cy="64800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7200" y="654120"/>
            <a:ext cx="4186440" cy="497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057560" cy="47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734080"/>
            <a:ext cx="1295640" cy="863640"/>
          </a:xfrm>
          <a:custGeom>
            <a:avLst/>
            <a:gdLst>
              <a:gd name="textAreaLeft" fmla="*/ 0 w 1295640"/>
              <a:gd name="textAreaRight" fmla="*/ 1296000 w 1295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805360"/>
            <a:ext cx="1130400" cy="792360"/>
          </a:xfrm>
          <a:custGeom>
            <a:avLst/>
            <a:gdLst>
              <a:gd name="textAreaLeft" fmla="*/ 0 w 1130400"/>
              <a:gd name="textAreaRight" fmla="*/ 1130760 w 11304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0040" cy="468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49840" y="549360"/>
            <a:ext cx="408636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6360" y="5516640"/>
            <a:ext cx="1562040" cy="1152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5589720"/>
            <a:ext cx="15620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-3562" t="0" r="0" b="1504"/>
          <a:stretch/>
        </p:blipFill>
        <p:spPr>
          <a:xfrm>
            <a:off x="395280" y="549360"/>
            <a:ext cx="3770280" cy="48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0920" y="189000"/>
            <a:ext cx="86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правильно назвать лист хвойного растения?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3068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7c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олка</a:t>
            </a:r>
            <a:endParaRPr b="0" lang="en-US" sz="1800" spc="1" strike="noStrike">
              <a:ln w="12600">
                <a:solidFill>
                  <a:srgbClr val="ff7c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5280" y="5084640"/>
            <a:ext cx="2808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ючка</a:t>
            </a:r>
            <a:endParaRPr b="0" lang="en-US" sz="1800" spc="1" strike="noStrike">
              <a:ln w="9360">
                <a:solidFill>
                  <a:srgbClr val="ff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672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воинка</a:t>
            </a:r>
            <a:endParaRPr b="0" lang="en-US" sz="1800" spc="1" strike="noStrike">
              <a:ln w="9360">
                <a:solidFill>
                  <a:srgbClr val="ff99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00ff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1773360"/>
            <a:ext cx="79930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ff99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Неправильно!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ff99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6:23:29Z</dcterms:created>
  <dc:creator>Журавлев</dc:creator>
  <dc:description/>
  <dc:language>en-US</dc:language>
  <cp:lastModifiedBy>КарМаН</cp:lastModifiedBy>
  <dcterms:modified xsi:type="dcterms:W3CDTF">2012-01-28T08:59:55Z</dcterms:modified>
  <cp:revision>22</cp:revision>
  <dc:subject/>
  <dc:title>Слайд 1</dc:title>
</cp:coreProperties>
</file>