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B31-E7CD-4E9B-8DA1-0AC7AE38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6B5-916C-4FB3-91B6-154C875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E0B-8474-4DA0-8A58-26861F5D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E06-3003-49B7-BEE2-1543E6EE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A25-E48D-431B-852A-DE998D3B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FB1-76F1-4252-B977-F295CE88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D96-8080-472C-AB86-E1560A24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7DC-9F59-46DA-BF3B-C13580AB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305-9F0C-4B9D-8289-69DF4693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536-02A2-4F2E-BACD-702292F0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0FF-9948-48B3-B722-57216DFE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B9E-7879-4097-9373-4F4037B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C345-4B4D-4207-BDA5-E1C5B2D50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99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Презентация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9280" y="4076640"/>
            <a:ext cx="568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ОУ СОШ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г. Минераль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Bookman Old Style"/>
              </a:rPr>
              <a:t>Журавлева Н. Н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700280"/>
            <a:ext cx="8209080" cy="21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ЛИСТВЕННЫЕ И ХВОЙНЫЕ РАСТЕНИЯ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a6d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4360" y="1628640"/>
            <a:ext cx="7272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bcfe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258920" y="1700280"/>
            <a:ext cx="6121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10920" y="1413000"/>
            <a:ext cx="78087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НАЗОВИ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ТВЕННЫЕ                    ХВО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00000" y="0"/>
            <a:ext cx="73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верь себя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58560" y="2492280"/>
            <a:ext cx="1152360" cy="649440"/>
          </a:xfrm>
          <a:prstGeom prst="line">
            <a:avLst/>
          </a:prstGeom>
          <a:ln w="76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2565360"/>
            <a:ext cx="863640" cy="792360"/>
          </a:xfrm>
          <a:prstGeom prst="line">
            <a:avLst/>
          </a:prstGeom>
          <a:ln w="76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284640"/>
            <a:ext cx="1344600" cy="5745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2565360"/>
            <a:ext cx="792000" cy="57636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24720" y="3573360"/>
            <a:ext cx="1295280" cy="503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867280" y="2565360"/>
            <a:ext cx="649440" cy="7192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357720"/>
            <a:ext cx="1368720" cy="504720"/>
          </a:xfrm>
          <a:prstGeom prst="flowChartTerminator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3500280"/>
            <a:ext cx="1368360" cy="505080"/>
          </a:xfrm>
          <a:prstGeom prst="flowChartTermina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24000" y="2708280"/>
            <a:ext cx="432000" cy="1225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2637000"/>
            <a:ext cx="0" cy="1512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4221000"/>
            <a:ext cx="1224000" cy="50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4365720"/>
            <a:ext cx="1295280" cy="504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021360"/>
            <a:ext cx="8569440" cy="647640"/>
          </a:xfrm>
          <a:custGeom>
            <a:avLst/>
            <a:gdLst>
              <a:gd name="textAreaLeft" fmla="*/ 0 w 8569440"/>
              <a:gd name="textAreaRight" fmla="*/ 8569800 w 856944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ем отличаются лиственные растения от хвой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639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Какое из хвойных деревьев сбрасывает листья на зи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8400" y="529596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а) со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4400" y="529596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б) листвен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2560" y="5295960"/>
            <a:ext cx="8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) 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0efe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284280"/>
            <a:ext cx="821844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71640" y="333360"/>
            <a:ext cx="633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ния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27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к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342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ря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2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л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6510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кед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335772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пих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64000" y="422100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со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-1477080" y="3501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лиственные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5400000">
            <a:off x="6011280" y="3573360"/>
            <a:ext cx="468144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войные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68360" y="1557360"/>
            <a:ext cx="43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ваю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77640" y="495468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каш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5675400"/>
            <a:ext cx="19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ябло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5589720"/>
            <a:ext cx="35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листвен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7840" y="4941720"/>
            <a:ext cx="9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03280" y="3213000"/>
            <a:ext cx="647640" cy="50328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476360" y="3860640"/>
            <a:ext cx="647640" cy="14472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581360"/>
            <a:ext cx="57456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5157720"/>
            <a:ext cx="576360" cy="7164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5373720"/>
            <a:ext cx="576360" cy="57636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732720" y="3141720"/>
            <a:ext cx="1008000" cy="28728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877080" y="3789360"/>
            <a:ext cx="790560" cy="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948000" y="4221000"/>
            <a:ext cx="863640" cy="28764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659280" y="4869000"/>
            <a:ext cx="1152360" cy="36036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380000" y="5300640"/>
            <a:ext cx="431640" cy="43344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Клён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Он желанный гость парков и улиц городов. Его резные листья так красивы в осенний листопад! У клёна крепкая древесина, её применяют в токарном и столярном деле, в машиностроении. Клен энергично усваивает из воздуха различные вред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360" y="260280"/>
            <a:ext cx="763272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 интерес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35733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Ли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076640"/>
            <a:ext cx="83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Королева сибирских лесов. Осенью золотые хвоинки, как листья, падают на землю. Отсюда и название дерева. Древесина не знает износа. Знаете вы, что внутренние детали Московского Кремля сделаны из лиственницы и служат уже по 400-500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2560" y="515772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51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Это дерево знакомо всем с детства. Обычай украшать ёлку пришел издалека.  Когда день начинал прибывать, люди в ожидании тёплых дней шли в лес, который согревал и кормил их. Там они украшали самую большую 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грушками, символизирующими богатый урожай в поле, обилие птиц и зверей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082680" cy="3529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258920" y="620640"/>
            <a:ext cx="626436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275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ЗОВИ 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144960" cy="3529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32000" y="5805360"/>
            <a:ext cx="2006640" cy="648000"/>
          </a:xfrm>
          <a:custGeom>
            <a:avLst/>
            <a:gdLst>
              <a:gd name="textAreaLeft" fmla="*/ 501480 w 2006640"/>
              <a:gd name="textAreaRight" fmla="*/ 1505160 w 2006640"/>
              <a:gd name="textAreaTop" fmla="*/ 0 h 648000"/>
              <a:gd name="textAreaBottom" fmla="*/ 567000 h 64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5805360"/>
            <a:ext cx="1656000" cy="648000"/>
          </a:xfrm>
          <a:custGeom>
            <a:avLst/>
            <a:gdLst>
              <a:gd name="textAreaLeft" fmla="*/ 414000 w 1656000"/>
              <a:gd name="textAreaRight" fmla="*/ 1242000 w 1656000"/>
              <a:gd name="textAreaTop" fmla="*/ 0 h 648000"/>
              <a:gd name="textAreaBottom" fmla="*/ 567000 h 64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7200" y="654120"/>
            <a:ext cx="4186440" cy="4978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4057560" cy="475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7640" y="5734080"/>
            <a:ext cx="1295640" cy="863640"/>
          </a:xfrm>
          <a:custGeom>
            <a:avLst/>
            <a:gdLst>
              <a:gd name="textAreaLeft" fmla="*/ 0 w 1295640"/>
              <a:gd name="textAreaRight" fmla="*/ 1296000 w 129564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5805360"/>
            <a:ext cx="1130400" cy="792360"/>
          </a:xfrm>
          <a:custGeom>
            <a:avLst/>
            <a:gdLst>
              <a:gd name="textAreaLeft" fmla="*/ 0 w 1130400"/>
              <a:gd name="textAreaRight" fmla="*/ 1130760 w 11304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740040" cy="468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49840" y="549360"/>
            <a:ext cx="4086360" cy="4680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76360" y="5516640"/>
            <a:ext cx="1562040" cy="1152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Т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5589720"/>
            <a:ext cx="1562040" cy="1008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-3562" t="0" r="0" b="1504"/>
          <a:stretch/>
        </p:blipFill>
        <p:spPr>
          <a:xfrm>
            <a:off x="395280" y="549360"/>
            <a:ext cx="3770280" cy="489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19280" y="5805360"/>
            <a:ext cx="144000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5805360"/>
            <a:ext cx="144000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0920" y="189000"/>
            <a:ext cx="864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правильно назвать лист хвойного растения?</a:t>
            </a:r>
            <a:endParaRPr b="0" lang="en-US" sz="1800" spc="1" strike="noStrike">
              <a:ln w="93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306864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7c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олка</a:t>
            </a:r>
            <a:endParaRPr b="0" lang="en-US" sz="1800" spc="1" strike="noStrike">
              <a:ln w="12600">
                <a:solidFill>
                  <a:srgbClr val="ff7c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5280" y="5084640"/>
            <a:ext cx="2808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лючка</a:t>
            </a:r>
            <a:endParaRPr b="0" lang="en-US" sz="1800" spc="1" strike="noStrike">
              <a:ln w="9360">
                <a:solidFill>
                  <a:srgbClr val="ff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6720" y="3357720"/>
            <a:ext cx="237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воинка</a:t>
            </a:r>
            <a:endParaRPr b="0" lang="en-US" sz="1800" spc="1" strike="noStrike">
              <a:ln w="9360">
                <a:solidFill>
                  <a:srgbClr val="ff99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00ff0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55640" y="1773360"/>
            <a:ext cx="799308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ffff99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Неправильно!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ffff99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6:23:29Z</dcterms:created>
  <dc:creator>Журавлев</dc:creator>
  <dc:description/>
  <dc:language>en-US</dc:language>
  <cp:lastModifiedBy>КарМаН</cp:lastModifiedBy>
  <dcterms:modified xsi:type="dcterms:W3CDTF">2012-01-28T08:59:55Z</dcterms:modified>
  <cp:revision>22</cp:revision>
  <dc:subject/>
  <dc:title>Слайд 1</dc:title>
</cp:coreProperties>
</file>