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5C8F-2804-41B0-8FFE-44752B4F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FD1B-42C1-4BCA-8BF8-E8A16553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13F7-F85F-43F4-B0CF-B59DBE59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2194-2BF7-4403-B5CA-3E8DE774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F57-AB41-4EC9-A601-215F5448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3E5-AAF8-4CB2-A6A7-A12D4A0F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F55-90B7-4EC0-8C96-930C4ECD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BD1-909F-4B36-A873-77C7521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AA22-5369-4913-882B-22E1E2F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254A-4B62-45EB-A6D0-25885B22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0837-842D-40BA-9042-1F036C9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4412-A85A-460E-929B-9F9E3732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F3F0-5D93-4300-9C0C-479CBA89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A868-6987-46FF-A5FD-144CE5F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0C50-A4F5-4AC8-8908-91469642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2A6A-BF5F-4165-B963-664627D8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5731-6DA3-4A97-B154-F893D9CD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CDD9-7C51-4B5C-960A-749558F8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002A-3957-492F-98A1-96F49A61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2F1F-6E7A-4BA8-BBFE-3DDE9CD3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8CE4-5B54-4CCD-AB72-FB7C2F29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5F0A-F4B3-4C1E-B8CB-F48805F5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45AE-1419-480C-8488-F0FF0D2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1E68-E136-415A-B4D8-4EBADB6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20FF-8BDA-44FD-BF36-1D06E76536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AEAD-793D-41D1-95A4-A3FAC82379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Georgia"/>
              </a:rPr>
              <a:t>Германия 1945 – 2010 гг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0522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24 июня  1948 г. – 12 мая 1949 гг.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блокада Западного Берл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Май 1949 г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– создание Федеративной Республики Герм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Октябрь 1949 г.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– создание Германской Демократической  Республ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64000" y="4653000"/>
            <a:ext cx="213660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Book Antiqua"/>
              </a:rPr>
              <a:t>2005 - … -  Канцлер ФРГ </a:t>
            </a:r>
            <a:br>
              <a:rPr sz="38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Ангела Меркел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219640" y="2637000"/>
            <a:ext cx="3384720" cy="100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565360"/>
            <a:ext cx="3313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628640"/>
            <a:ext cx="331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Book Antiqua"/>
              </a:rPr>
              <a:t>Государственное устройство ФРГ по конституции 1948 г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езидент ФР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арламент ФРГ                      Федераль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1) НИЖНЯЯ           2) ВЕРХНЯЯ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правительство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БУНДЕСТАГ         БУНДЕСР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анцле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Представители  ВЫБ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земель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Министе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564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43280" y="393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92360" y="1988640"/>
            <a:ext cx="11509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852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артийно-политическая борьб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Христианско –                      Социал –                     Свободна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Демократический      Демократическая      Демокра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Союз (ХДС)                     Партия (СДПГ)            Партия (СвДП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 1949-66 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этап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«Большая коалиция»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66 – 1969 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«Малая коалиц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69 -1982 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V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этап</a:t>
            </a: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«Малая коалиц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1982 – 1998 гг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263700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3789360"/>
            <a:ext cx="273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40360" y="2349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2421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486900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227664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920" y="2708280"/>
            <a:ext cx="0" cy="32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59500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44000" y="2349360"/>
            <a:ext cx="0" cy="36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1948 – 1963 гг. - канцлер ФРГ </a:t>
            </a:r>
            <a:br>
              <a:rPr sz="32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Конрад Аденауэ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600200"/>
            <a:ext cx="3538440" cy="4530600"/>
            <a:chOff x="457200" y="1600200"/>
            <a:chExt cx="3538440" cy="453060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53844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457200" y="1600200"/>
              <a:ext cx="353844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40000" y="1557360"/>
            <a:ext cx="49323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рьба с радикальными политическими сил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ложение средств в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-T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 algn="ctr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«социального рыночного   хозяйства»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получение кредита по «плану Маршалл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ограничение роли государства в экономи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либерализация отношений и повышение частной инициатив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сильная социальная поли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начала 50-х – «немецкое экономическое чудо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Book Antiqua"/>
              </a:rPr>
              <a:t>1963 – 1963 гг. – канцлер ФРГ</a:t>
            </a:r>
            <a:br>
              <a:rPr sz="32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Конрад Аденауэ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83160" cy="4530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55 г. – вошли в НАТО и восстановили вооруженные силы (бундесвер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961 г. – антисоветские выступления в ГДР – бегство на Запад – строительство Берлинской сте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Book Antiqua"/>
              </a:rPr>
              <a:t>1963 - 1966 гг. – канцлер ФРГ</a:t>
            </a:r>
            <a:br>
              <a:rPr sz="32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Людвиг Эрхар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67160" cy="4530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озглашение «концепции современного общества» - все классы должны быть взаимозависимы друг от д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окая степень близости с СШ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траивание немецкой экономики в структуры ЕЭ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глашение дешевой рабочей си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Book Antiqua"/>
              </a:rPr>
              <a:t>1966 – 1969 гг. – канцлер ФРГ Курд Кизингер;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Book Antiqua"/>
              </a:rPr>
              <a:t>1969 – 1974 гг. – канцлер ФРГ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Book Antiqua"/>
              </a:rPr>
              <a:t>Вилли Брандт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38440" cy="45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ь между Востоком и Запад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ост социальных программ и увеличение нал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ведение государственного контроля за экономи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1974 – 1982 гг. – канцлер ФРГ Гельмут Шмидт;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82 – 1998 гг. – канцлер ФРГ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Гельмут Коль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27520" cy="453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нижение государственных расходов и налог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граничение прав профсоюзов на забастов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сентября 1990 г. – договор о воссоединении Герма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глощение Востока Западом (новые налоги в ФРГ, безработица в ГДР) – снижение экономического ро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Book Antiqua"/>
              </a:rPr>
              <a:t>1998 – 2005 гг. – канцлер ФРГ</a:t>
            </a:r>
            <a:br>
              <a:rPr sz="3600"/>
            </a:br>
            <a:r>
              <a:rPr b="1" lang="en-US" sz="4000" spc="-1" strike="noStrike">
                <a:solidFill>
                  <a:srgbClr val="ffffcc"/>
                </a:solidFill>
                <a:latin typeface="Book Antiqua"/>
              </a:rPr>
              <a:t>Герхард Шрёдер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рмания становится лидером на континен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юзнические отношения с Россией и Францией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03640" y="1600200"/>
            <a:ext cx="3683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4:18:34Z</dcterms:created>
  <dc:creator>Customer</dc:creator>
  <dc:description/>
  <dc:language>en-US</dc:language>
  <cp:lastModifiedBy>Customer</cp:lastModifiedBy>
  <dcterms:modified xsi:type="dcterms:W3CDTF">2010-04-08T13:13:55Z</dcterms:modified>
  <cp:revision>4</cp:revision>
  <dc:subject/>
  <dc:title>Германия 1945 – 2009 гг.</dc:title>
</cp:coreProperties>
</file>