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82F8-9637-49B1-9161-4F30A52A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A888-7C98-4F86-B405-E268AA2E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6B78-5DA8-4DDC-9EFB-9D8C11FB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2F3A7-BFA0-4031-ADEF-3E2FA8D9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D3CF-DF0F-4525-A1CC-D03E228F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42B6-2A5A-4DF5-9230-842192CE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285C-D01E-4722-B95D-8FCBCE3C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9B61-A83E-4A2A-9EF4-0C5BC360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501D-4290-4B75-B656-08E63EAA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6429-D42A-4ACB-B028-AAC0B784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19C1-12EB-43ED-BB82-DDEA10D7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AE5A-F1D4-4220-A3F3-BA3B45C2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A4C3-7F21-48BD-955F-01511F48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B8E2-A2C1-489E-81D7-E0AE4870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D623-1374-43ED-949C-9BF26CCA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C57C-2FB1-4D12-A5AE-73945E38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A61C-042D-468B-B948-B8CA5C17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5061-BB80-404B-905F-752AFB34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D072-E938-43CE-816D-976DCC6F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0374-F4FD-4B0D-9CFF-BF7A4AD3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0D006-6509-4A45-AF56-A0FAED64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C1BF3-69A9-4745-A401-32EBE2EE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EB446-2A94-460D-8576-DE26C02D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69F8-67BF-4C84-A59F-24C89C74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D607-88B5-40D9-8051-53BA5C8A09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6CCD-8BB3-4145-9DA4-C9B9781D32E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cc"/>
                </a:solidFill>
                <a:uFillTx/>
                <a:latin typeface="Georgia"/>
              </a:rPr>
              <a:t>Германия 1945 – 2010 гг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0522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24 июня  1948 г. – 12 мая 1949 гг.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блокада Западного Берл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Май 1949 г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– создание Федеративной Республики Герм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Октябрь 1949 г.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– создание Германской Демократической  Республ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64000" y="4653000"/>
            <a:ext cx="213660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Book Antiqua"/>
              </a:rPr>
              <a:t>2005 - … -  Канцлер ФРГ </a:t>
            </a:r>
            <a:br>
              <a:rPr sz="3800"/>
            </a:br>
            <a:r>
              <a:rPr b="1" lang="ru-RU" sz="4000" spc="-1" strike="noStrike">
                <a:solidFill>
                  <a:srgbClr val="ffffcc"/>
                </a:solidFill>
                <a:latin typeface="Book Antiqua"/>
              </a:rPr>
              <a:t>Ангела Меркел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754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219640" y="2637000"/>
            <a:ext cx="338472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565360"/>
            <a:ext cx="33130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1628640"/>
            <a:ext cx="3313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Book Antiqua"/>
              </a:rPr>
              <a:t>Государственное устройство ФРГ по конституции 1948 г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езидент ФР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арламент ФРГ                      Федеральн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1) НИЖНЯЯ           2) ВЕРХНЯЯ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             правительство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БУНДЕСТАГ         БУНДЕСР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анцл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Представители  ВЫБ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земель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            Министе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5564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43280" y="3933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92360" y="1988640"/>
            <a:ext cx="11509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285264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артийно-политическая борьб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Христианско –                      Социал –                     Свободна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Демократический      Демократическая      Демокра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Союз (ХДС)                     Партия (СДПГ)            Партия (СвД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этап 1949-66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этап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«Большая коалиция»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1966 – 1969 г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II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этап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«Малая коалиц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1969 -1982 г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V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этап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 «Малая коалиц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1982 – 1998 гг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26370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3789360"/>
            <a:ext cx="273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40360" y="234936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242100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486900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227664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2708280"/>
            <a:ext cx="0" cy="324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595008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44000" y="2349360"/>
            <a:ext cx="0" cy="36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1948 – 1963 гг. - канцлер ФРГ </a:t>
            </a:r>
            <a:br>
              <a:rPr sz="3200"/>
            </a:br>
            <a:r>
              <a:rPr b="1" lang="en-US" sz="4000" spc="-1" strike="noStrike">
                <a:solidFill>
                  <a:srgbClr val="ffffcc"/>
                </a:solidFill>
                <a:latin typeface="Book Antiqua"/>
              </a:rPr>
              <a:t>Конрад Аденауэ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600200"/>
            <a:ext cx="3538440" cy="4530600"/>
            <a:chOff x="457200" y="1600200"/>
            <a:chExt cx="3538440" cy="453060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353844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457200" y="1600200"/>
              <a:ext cx="353844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40000" y="1557360"/>
            <a:ext cx="49323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рьба с радикальными политическими сил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ложение средств в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-Te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«социального рыночного   хозяйства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получение кредита по «плану Маршалл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ограничение роли государства в экономик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либерализация отношений и повышение частной инициатив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сильная социальная полит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начала 50-х – «немецкое экономическое чудо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1963 – 1963 гг. – канцлер ФРГ</a:t>
            </a:r>
            <a:br>
              <a:rPr sz="3200"/>
            </a:br>
            <a:r>
              <a:rPr b="1" lang="en-US" sz="4000" spc="-1" strike="noStrike">
                <a:solidFill>
                  <a:srgbClr val="ffffcc"/>
                </a:solidFill>
                <a:latin typeface="Book Antiqua"/>
              </a:rPr>
              <a:t>Конрад Аденауэ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83160" cy="4530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55 г. – вошли в НАТО и восстановили вооруженные силы (бундесвер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61 г. – антисоветские выступления в ГДР – бегство на Запад – строительство Берлинской сте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Book Antiqua"/>
              </a:rPr>
              <a:t>1963 - 1966 гг. – канцлер ФРГ</a:t>
            </a:r>
            <a:br>
              <a:rPr sz="3200"/>
            </a:br>
            <a:r>
              <a:rPr b="1" lang="ru-RU" sz="4000" spc="-1" strike="noStrike">
                <a:solidFill>
                  <a:srgbClr val="ffffcc"/>
                </a:solidFill>
                <a:latin typeface="Book Antiqua"/>
              </a:rPr>
              <a:t>Людвиг Эрхар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467160" cy="4530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озглашение «концепции современного общества» - все классы должны быть взаимозависимы друг от друг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сокая степень близости с СШ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страивание немецкой экономики в структуры ЕЭС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глашение дешевой рабочей си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Book Antiqua"/>
              </a:rPr>
              <a:t>1966 – 1969 гг. – канцлер ФРГ Курд Кизингер;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Book Antiqua"/>
              </a:rPr>
              <a:t>1969 – 1974 гг. – канцлер ФРГ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Book Antiqua"/>
              </a:rPr>
              <a:t>Вилли Брандт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538440" cy="45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язь между Востоком и Запад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ост социальных программ и увеличение налог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ведение государственного контроля за экономи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1974 – 1982 гг. – канцлер ФРГ Гельмут Шмидт;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1982 – 1998 гг. – канцлер ФРГ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Гельмут Коль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27520" cy="453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нижение государственных расходов и налог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граничение прав профсоюзов на забастов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 сентября 1990 г. – договор о воссоединении Герман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глощение Востока Западом (новые налоги в ФРГ, безработица в ГДР) – снижение экономического ро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Book Antiqua"/>
              </a:rPr>
              <a:t>1998 – 2005 гг. – канцлер ФРГ</a:t>
            </a:r>
            <a:br>
              <a:rPr sz="3600"/>
            </a:br>
            <a:r>
              <a:rPr b="1" lang="en-US" sz="4000" spc="-1" strike="noStrike">
                <a:solidFill>
                  <a:srgbClr val="ffffcc"/>
                </a:solidFill>
                <a:latin typeface="Book Antiqua"/>
              </a:rPr>
              <a:t>Герхард Шрёде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ермания становится лидером на континен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юзнические отношения с Россией и Францией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03640" y="1600200"/>
            <a:ext cx="3683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4:18:34Z</dcterms:created>
  <dc:creator>Customer</dc:creator>
  <dc:description/>
  <dc:language>en-US</dc:language>
  <cp:lastModifiedBy>Customer</cp:lastModifiedBy>
  <dcterms:modified xsi:type="dcterms:W3CDTF">2010-04-08T13:13:55Z</dcterms:modified>
  <cp:revision>4</cp:revision>
  <dc:subject/>
  <dc:title>Германия 1945 – 2009 гг.</dc:title>
</cp:coreProperties>
</file>