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89EE4-5C72-4EA7-A102-5C11A208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ADE7F-9490-4CC9-A57C-B25A9A0F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3EE05-E332-4451-8A98-8A4361B7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727CB-1F30-411D-9224-EA879CE0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EBB7-1ACF-43EA-B374-1F11468D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57FF-0D8D-4B21-BC2E-9853A3CB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2E5C-7567-4096-A02C-EDAEA832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2A09-C23E-4CF1-B82C-A4648851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2BD8-4B16-4207-9ECC-4D3C1354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21FE-B7C0-4ACA-ADB0-94651B15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E1D4-D10D-41E9-AB07-067987FB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F8334-FB1F-4A2E-9437-0343D687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02F1-EAFF-416C-ADD0-D6D6B47F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1010-DB34-46A3-8FD0-7845D128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2FE2-0847-4328-B1F3-8249468A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F270-A315-46D5-A1EE-765CF12F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0813-ED92-479E-8D7D-F675BB50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1877E-D18B-4B5F-91D9-7E9FF35A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CA4A8-C711-4E09-B37C-1FD6B121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182FF-F389-40A3-AB85-3CCFEE10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DC54A-C2F0-4D56-B3B8-407FF39D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5B1AA-108F-4773-80FA-04505EA3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52695-63A5-4BC8-A742-817C0B35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C932D-A2D6-4DA9-969E-C8590CF6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D69A-0863-41C2-83BD-A59A4053D20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2A35-864D-493A-89B2-E759FE759B2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cc"/>
                </a:solidFill>
                <a:uFillTx/>
                <a:latin typeface="Georgia"/>
              </a:rPr>
              <a:t>Германия 1945 – 2010 гг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0522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24 июня  1948 г. – 12 мая 1949 гг.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блокада Западного Берл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Май 1949 г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– создание Федеративной Республики Герма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Октябрь 1949 г.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– создание Германской Демократической  Республ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64000" y="4653000"/>
            <a:ext cx="213660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Book Antiqua"/>
              </a:rPr>
              <a:t>2005 - … -  Канцлер ФРГ </a:t>
            </a:r>
            <a:br>
              <a:rPr sz="3800"/>
            </a:br>
            <a:r>
              <a:rPr b="1" lang="ru-RU" sz="4000" spc="-1" strike="noStrike">
                <a:solidFill>
                  <a:srgbClr val="ffffcc"/>
                </a:solidFill>
                <a:latin typeface="Book Antiqua"/>
              </a:rPr>
              <a:t>Ангела Меркел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754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219640" y="2637000"/>
            <a:ext cx="338472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2565360"/>
            <a:ext cx="331308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43280" y="1628640"/>
            <a:ext cx="33130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Book Antiqua"/>
              </a:rPr>
              <a:t>Государственное устройство ФРГ по конституции 1948 г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резидент ФР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арламент ФРГ                      Федеральн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1) НИЖНЯЯ           2) ВЕРХНЯЯ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               правительство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БУНДЕСТАГ         БУНДЕСРА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Канцл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Представители  ВЫБО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земель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                                   Министер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55640" y="3933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843280" y="3933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692360" y="1988640"/>
            <a:ext cx="11509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4000" y="285264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Партийно-политическая борьб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Христианско –                      Социал –                     Свободная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Демократический      Демократическая      Демократ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Союз (ХДС)                     Партия (СДПГ)            Партия (СвДП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этап 1949-66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I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этап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«Большая коалиция»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1966 – 1969 г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II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этап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«Малая коалици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1969 -1982 г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V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этап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                                «Малая коалици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1982 – 1998 гг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263700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3280" y="3789360"/>
            <a:ext cx="273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40360" y="234936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242100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88000" y="486900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12000" y="227664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8920" y="2708280"/>
            <a:ext cx="0" cy="324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5950080"/>
            <a:ext cx="698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44000" y="2349360"/>
            <a:ext cx="0" cy="360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Book Antiqua"/>
              </a:rPr>
              <a:t>1948 – 1963 гг. - канцлер ФРГ </a:t>
            </a:r>
            <a:br>
              <a:rPr sz="3200"/>
            </a:br>
            <a:r>
              <a:rPr b="1" lang="en-US" sz="4000" spc="-1" strike="noStrike">
                <a:solidFill>
                  <a:srgbClr val="ffffcc"/>
                </a:solidFill>
                <a:latin typeface="Book Antiqua"/>
              </a:rPr>
              <a:t>Конрад Аденауэ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7200" y="1600200"/>
            <a:ext cx="3538440" cy="4530600"/>
            <a:chOff x="457200" y="1600200"/>
            <a:chExt cx="3538440" cy="453060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353844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 txBox="1"/>
            <p:nvPr/>
          </p:nvSpPr>
          <p:spPr>
            <a:xfrm>
              <a:off x="457200" y="1600200"/>
              <a:ext cx="353844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40000" y="1557360"/>
            <a:ext cx="49323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рьба с радикальными политическими сила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ложение средств в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-Te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 algn="ctr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ние «социального рыночного   хозяйства»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получение кредита по «плану Маршалла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ограничение роли государства в экономик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либерализация отношений и повышение частной инициатив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сильная социальная полити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начала 50-х – «немецкое экономическое чудо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Book Antiqua"/>
              </a:rPr>
              <a:t>1963 – 1963 гг. – канцлер ФРГ</a:t>
            </a:r>
            <a:br>
              <a:rPr sz="3200"/>
            </a:br>
            <a:r>
              <a:rPr b="1" lang="en-US" sz="4000" spc="-1" strike="noStrike">
                <a:solidFill>
                  <a:srgbClr val="ffffcc"/>
                </a:solidFill>
                <a:latin typeface="Book Antiqua"/>
              </a:rPr>
              <a:t>Конрад Аденауэ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83160" cy="45306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955 г. – вошли в НАТО и восстановили вооруженные силы (бундесвер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961 г. – антисоветские выступления в ГДР – бегство на Запад – строительство Берлинской стен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Book Antiqua"/>
              </a:rPr>
              <a:t>1963 - 1966 гг. – канцлер ФРГ</a:t>
            </a:r>
            <a:br>
              <a:rPr sz="3200"/>
            </a:br>
            <a:r>
              <a:rPr b="1" lang="ru-RU" sz="4000" spc="-1" strike="noStrike">
                <a:solidFill>
                  <a:srgbClr val="ffffcc"/>
                </a:solidFill>
                <a:latin typeface="Book Antiqua"/>
              </a:rPr>
              <a:t>Людвиг Эрхард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467160" cy="4530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1128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возглашение «концепции современного общества» - все классы должны быть взаимозависимы друг от друг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сокая степень близости с СШ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страивание немецкой экономики в структуры ЕЭС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глашение дешевой рабочей сил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Book Antiqua"/>
              </a:rPr>
              <a:t>1966 – 1969 гг. – канцлер ФРГ Курд Кизингер;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Book Antiqua"/>
              </a:rPr>
              <a:t>1969 – 1974 гг. – канцлер ФРГ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Book Antiqua"/>
              </a:rPr>
              <a:t>Вилли Брандт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538440" cy="4530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84720" y="1599840"/>
            <a:ext cx="44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вязь между Востоком и Запад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ост социальных программ и увеличение налог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ведение государственного контроля за экономи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ook Antiqua"/>
              </a:rPr>
              <a:t>1974 – 1982 гг. – канцлер ФРГ Гельмут Шмидт;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Book Antiqua"/>
              </a:rPr>
              <a:t>1982 – 1998 гг. – канцлер ФРГ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Book Antiqua"/>
              </a:rPr>
              <a:t>Гельмут Коль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27520" cy="453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нижение государственных расходов и налог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граничение прав профсоюзов на забастов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2 сентября 1990 г. – договор о воссоединении Герман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глощение Востока Западом (новые налоги в ФРГ, безработица в ГДР) – снижение экономического рос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Book Antiqua"/>
              </a:rPr>
              <a:t>1998 – 2005 гг. – канцлер ФРГ</a:t>
            </a:r>
            <a:br>
              <a:rPr sz="3600"/>
            </a:br>
            <a:r>
              <a:rPr b="1" lang="en-US" sz="4000" spc="-1" strike="noStrike">
                <a:solidFill>
                  <a:srgbClr val="ffffcc"/>
                </a:solidFill>
                <a:latin typeface="Book Antiqua"/>
              </a:rPr>
              <a:t>Герхард Шрёде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ермания становится лидером на континент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юзнические отношения с Россией и Францией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003640" y="1600200"/>
            <a:ext cx="3683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4:18:34Z</dcterms:created>
  <dc:creator>Customer</dc:creator>
  <dc:description/>
  <dc:language>en-US</dc:language>
  <cp:lastModifiedBy>Customer</cp:lastModifiedBy>
  <dcterms:modified xsi:type="dcterms:W3CDTF">2010-04-08T13:13:55Z</dcterms:modified>
  <cp:revision>4</cp:revision>
  <dc:subject/>
  <dc:title>Германия 1945 – 2009 гг.</dc:title>
</cp:coreProperties>
</file>