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51CF-5664-4A19-BE41-1E34F8DE9A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24F9-65E9-4CFB-8673-DACD4EE7E6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DBF8-79BC-4100-B567-3B0E4B5752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5235-AD08-41DA-9384-96DFE870014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2608-4A48-4043-9761-7D99CFD0CE8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AF28-2881-4097-9ACD-6A45E60281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C573-8400-40DB-A341-D1D12FF3E7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DAC3-EBA2-4DAD-8B27-BC31186FBF5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72CE-31F1-4BBC-AFDB-616CE8A0D9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A20A-220D-4266-B6ED-9C63CB9B79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5D21-90FF-4EC0-914D-A0E2106582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6982-BBB5-48AE-B46B-CD2D1E4D85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7B42-C9BC-42B8-AF41-927FBB13244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22D7-121F-4A3A-9310-D2052BFF5E4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2504-984D-440E-8431-51738064915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DA84-32AC-454D-8B33-A9075DD946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4B8-B815-428E-A500-8840F26A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42E-0FF9-4291-8884-02758227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CD8-52A9-4481-ABCA-1C9B853C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4E4-1279-4BF9-B007-B161CC14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911-11FB-47AD-9CF9-25C0682F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97B-CA51-4B90-87EF-D679EB3E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F3C-A590-4D9B-8F35-F86B4561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6B8-F762-4432-B6E2-B49E73D8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DD7-6C20-42EE-A553-ABC6EC2F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FB6-EABF-4A68-A6EA-82874CAA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2B3-66FE-42C0-ACF8-72178A2D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3D1-8D64-4D1F-9FE8-51C9F4F3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B930-325B-47F7-B800-1258B9CB5E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матическое и поурочное планирование курса «ОРКиСЭ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 – (греч.) путь, способ продвижения к истине, к ожидаемому результат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2057400"/>
            <a:ext cx="282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продуктивный (объяснительно-иллюстратив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ирован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врист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ный (вопрос, задача, ситуаци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ельный (проектный метод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867280" y="2286000"/>
            <a:ext cx="3048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анализа жи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свободных ассоци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групповой диску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опро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экспертных оцен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523880" y="525780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изнаки метода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цель обуч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 усво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 взаимо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2895480" y="2971800"/>
            <a:ext cx="2590920" cy="10666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сихологические требования к уро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7967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т возрастных особен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т психологических особенностей (памяти, внимания, темперамента, воображения, воли, эмоциональной сфер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гиенические требования к уро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ный режи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вещенн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итические точки усвояем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14400" y="5029200"/>
          <a:ext cx="7120080" cy="1082520"/>
        </p:xfrm>
        <a:graphic>
          <a:graphicData uri="http://schemas.openxmlformats.org/drawingml/2006/table">
            <a:tbl>
              <a:tblPr/>
              <a:tblGrid>
                <a:gridCol w="1600200"/>
                <a:gridCol w="1247760"/>
                <a:gridCol w="1424160"/>
                <a:gridCol w="1425240"/>
                <a:gridCol w="142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4 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23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- 34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4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яе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ризисы внимания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55627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 - на 14-18-ой мину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 - через 11-14 мину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 - через 9-11 мину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 - через 8-9 мину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191120" y="10666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о Высоцкой С.И.)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хема проекта уро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510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Тема 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ющая 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тельная 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вивающая 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ип и вид урока 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итерии обучен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формируемых знаний и умений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щиеся должн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дущий метод 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рма организация деятельности учащихся 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85800" y="3886200"/>
          <a:ext cx="7729560" cy="1208160"/>
        </p:xfrm>
        <a:graphic>
          <a:graphicData uri="http://schemas.openxmlformats.org/drawingml/2006/table">
            <a:tbl>
              <a:tblPr/>
              <a:tblGrid>
                <a:gridCol w="2666880"/>
                <a:gridCol w="2362320"/>
                <a:gridCol w="27003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ть предст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ятельность учителя и учащих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ая цель 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 соответствии  с методической целью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агностический инструментар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ализ тем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входной и итоговый уровен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объема формируемых знаний и ум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учебных элементов и уровня их усво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ставление или подбор тестовых зада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ест письменный, тест действ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5800" y="762120"/>
          <a:ext cx="7772400" cy="3413160"/>
        </p:xfrm>
        <a:graphic>
          <a:graphicData uri="http://schemas.openxmlformats.org/drawingml/2006/table">
            <a:tbl>
              <a:tblPr/>
              <a:tblGrid>
                <a:gridCol w="380880"/>
                <a:gridCol w="4191120"/>
                <a:gridCol w="1676520"/>
                <a:gridCol w="1523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соответствии со  структуро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 изученн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.мо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ка дом.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бщение темы, цели урок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овых понятий, способов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бщение, изучение нов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текстом, иллюстрациями, рассказ, 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рактической работы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НЕТРАДИЦИОННЫЕ ВИДЫ УРОК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олевые иг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нение сказочного сюже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фантазиров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ловая игр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взаимообуч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углый стол или 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сс-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открытых мыс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соревн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КВ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виктори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гра "Следствие ведут знатоки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укцион зна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диспу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турни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эвр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гра "Волшебный конвер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конкур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творче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спектак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мотр зна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игр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зач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путешеств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состяз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взаимообуч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восхожд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диало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зговая ата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брифин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ктуальное интервь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митационно-ролевое моделир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делирование мышления учащих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жпредметный интегрированный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рок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 урок-лекция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лем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изуаль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 вдво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сс-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-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-провока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-диало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Программа –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(греч. объяснение, распоряжение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лан деятельности, рабо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зложение содержания и цели деяте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раткое изложение содержания учебного предм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писание алгоритма решения задач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"/>
          <p:cNvGrpSpPr/>
          <p:nvPr/>
        </p:nvGrpSpPr>
        <p:grpSpPr>
          <a:xfrm>
            <a:off x="1219320" y="1905120"/>
            <a:ext cx="6693840" cy="3733200"/>
            <a:chOff x="1219320" y="1905120"/>
            <a:chExt cx="6693840" cy="3733200"/>
          </a:xfrm>
        </p:grpSpPr>
        <p:sp>
          <p:nvSpPr>
            <p:cNvPr id="92" name="Text Box 5"/>
            <p:cNvSpPr/>
            <p:nvPr/>
          </p:nvSpPr>
          <p:spPr>
            <a:xfrm>
              <a:off x="2955600" y="1905120"/>
              <a:ext cx="30711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Программа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2288520" y="2966760"/>
              <a:ext cx="442908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Образовательная программа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1219320" y="4044960"/>
              <a:ext cx="30711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Общеобразовательная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4841640" y="4070520"/>
              <a:ext cx="307152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Профессиональная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4381200" y="245160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2955600" y="3525120"/>
              <a:ext cx="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6095160" y="35269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3070080" y="5093640"/>
              <a:ext cx="307152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Учебная программа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>
              <a:off x="5313600" y="4615560"/>
              <a:ext cx="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>
              <a:off x="3725640" y="45889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ла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документ, в котором дается перечень дел (мероприятий), порядок и место их провед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11"/>
          <p:cNvGrpSpPr/>
          <p:nvPr/>
        </p:nvGrpSpPr>
        <p:grpSpPr>
          <a:xfrm>
            <a:off x="2362320" y="2286000"/>
            <a:ext cx="835200" cy="604800"/>
            <a:chOff x="2362320" y="2286000"/>
            <a:chExt cx="835200" cy="604800"/>
          </a:xfrm>
        </p:grpSpPr>
        <p:sp>
          <p:nvSpPr>
            <p:cNvPr id="104" name="Line 13"/>
            <p:cNvSpPr/>
            <p:nvPr/>
          </p:nvSpPr>
          <p:spPr>
            <a:xfrm flipH="1">
              <a:off x="2362320" y="2286000"/>
              <a:ext cx="83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Line 12"/>
            <p:cNvSpPr/>
            <p:nvPr/>
          </p:nvSpPr>
          <p:spPr>
            <a:xfrm>
              <a:off x="2362320" y="2309400"/>
              <a:ext cx="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5641560" y="2286000"/>
            <a:ext cx="835560" cy="604800"/>
            <a:chOff x="5641560" y="2286000"/>
            <a:chExt cx="835560" cy="604800"/>
          </a:xfrm>
        </p:grpSpPr>
        <p:sp>
          <p:nvSpPr>
            <p:cNvPr id="107" name="Line 10"/>
            <p:cNvSpPr/>
            <p:nvPr/>
          </p:nvSpPr>
          <p:spPr>
            <a:xfrm>
              <a:off x="5641560" y="2286000"/>
              <a:ext cx="83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>
              <a:off x="6476760" y="2309400"/>
              <a:ext cx="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9" name="Line 7"/>
          <p:cNvSpPr/>
          <p:nvPr/>
        </p:nvSpPr>
        <p:spPr>
          <a:xfrm>
            <a:off x="4267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820880" y="220032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820880" y="2200320"/>
            <a:ext cx="194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971800"/>
          <a:ext cx="7772400" cy="3032280"/>
        </p:xfrm>
        <a:graphic>
          <a:graphicData uri="http://schemas.openxmlformats.org/drawingml/2006/table">
            <a:tbl>
              <a:tblPr/>
              <a:tblGrid>
                <a:gridCol w="2220840"/>
                <a:gridCol w="2732040"/>
                <a:gridCol w="28195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ур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лан-с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Знания, умения, нав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кво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вернут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л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ллюстрирован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ъекты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ду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лан-консп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ек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порная сх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мбинирова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ехнологическая к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езау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200400" y="2057400"/>
          <a:ext cx="2398680" cy="365040"/>
        </p:xfrm>
        <a:graphic>
          <a:graphicData uri="http://schemas.openxmlformats.org/drawingml/2006/table">
            <a:tbl>
              <a:tblPr/>
              <a:tblGrid>
                <a:gridCol w="2398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Учебный план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2671920"/>
          <a:ext cx="7924680" cy="4186080"/>
        </p:xfrm>
        <a:graphic>
          <a:graphicData uri="http://schemas.openxmlformats.org/drawingml/2006/table">
            <a:tbl>
              <a:tblPr/>
              <a:tblGrid>
                <a:gridCol w="873000"/>
                <a:gridCol w="3206880"/>
                <a:gridCol w="1193760"/>
                <a:gridCol w="1325520"/>
                <a:gridCol w="13255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, б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. Духовные ценности и нравственные идеалы в жизни человека и обще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. Часть 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. Часть 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ховные традиции многонационального народа Росс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33520" y="1752480"/>
          <a:ext cx="8001000" cy="2346480"/>
        </p:xfrm>
        <a:graphic>
          <a:graphicData uri="http://schemas.openxmlformats.org/drawingml/2006/table">
            <a:tbl>
              <a:tblPr/>
              <a:tblGrid>
                <a:gridCol w="880920"/>
                <a:gridCol w="3238560"/>
                <a:gridCol w="1204920"/>
                <a:gridCol w="1338120"/>
                <a:gridCol w="13384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Тематический план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– проект педагогического процесса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232600" y="152352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905120"/>
          <a:ext cx="6315120" cy="669960"/>
        </p:xfrm>
        <a:graphic>
          <a:graphicData uri="http://schemas.openxmlformats.org/drawingml/2006/table">
            <a:tbl>
              <a:tblPr/>
              <a:tblGrid>
                <a:gridCol w="357480"/>
                <a:gridCol w="2197080"/>
                <a:gridCol w="1276200"/>
                <a:gridCol w="2484360"/>
              </a:tblGrid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56"/>
          <p:cNvSpPr/>
          <p:nvPr/>
        </p:nvSpPr>
        <p:spPr>
          <a:xfrm>
            <a:off x="6298920" y="251424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819520"/>
          <a:ext cx="6772320" cy="1036440"/>
        </p:xfrm>
        <a:graphic>
          <a:graphicData uri="http://schemas.openxmlformats.org/drawingml/2006/table">
            <a:tbl>
              <a:tblPr/>
              <a:tblGrid>
                <a:gridCol w="382320"/>
                <a:gridCol w="2129040"/>
                <a:gridCol w="1927080"/>
                <a:gridCol w="2333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емы, раздела примерной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примерной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, внесенные в примерную програм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108"/>
          <p:cNvSpPr/>
          <p:nvPr/>
        </p:nvSpPr>
        <p:spPr>
          <a:xfrm>
            <a:off x="6984720" y="380952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4114800"/>
          <a:ext cx="6157800" cy="792000"/>
        </p:xfrm>
        <a:graphic>
          <a:graphicData uri="http://schemas.openxmlformats.org/drawingml/2006/table">
            <a:tbl>
              <a:tblPr/>
              <a:tblGrid>
                <a:gridCol w="382320"/>
                <a:gridCol w="2633760"/>
                <a:gridCol w="1316160"/>
                <a:gridCol w="1825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емы, разде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онтро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172"/>
          <p:cNvSpPr/>
          <p:nvPr/>
        </p:nvSpPr>
        <p:spPr>
          <a:xfrm>
            <a:off x="7365960" y="495252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43200" y="5257800"/>
          <a:ext cx="6157800" cy="792000"/>
        </p:xfrm>
        <a:graphic>
          <a:graphicData uri="http://schemas.openxmlformats.org/drawingml/2006/table">
            <a:tbl>
              <a:tblPr/>
              <a:tblGrid>
                <a:gridCol w="382680"/>
                <a:gridCol w="2633400"/>
                <a:gridCol w="1316160"/>
                <a:gridCol w="1825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емы, разде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классная раб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40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дагогический процесс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объединение в единое целое тех компонентов (факторов), которые способствуют развитию учащихся и педагогов в их непосредственном взаимодейств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914400" y="1295280"/>
            <a:ext cx="7620120" cy="4781520"/>
            <a:chOff x="914400" y="1295280"/>
            <a:chExt cx="7620120" cy="4781520"/>
          </a:xfrm>
        </p:grpSpPr>
        <p:sp>
          <p:nvSpPr>
            <p:cNvPr id="128" name="AutoShape 5"/>
            <p:cNvSpPr/>
            <p:nvPr/>
          </p:nvSpPr>
          <p:spPr>
            <a:xfrm>
              <a:off x="914400" y="1295280"/>
              <a:ext cx="7620120" cy="47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977400" y="4826880"/>
              <a:ext cx="1587600" cy="327600"/>
            </a:xfrm>
            <a:prstGeom prst="rect">
              <a:avLst/>
            </a:prstGeom>
            <a:solidFill>
              <a:srgbClr val="a3e7ff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914400" y="4793760"/>
              <a:ext cx="1714680" cy="362880"/>
            </a:xfrm>
            <a:prstGeom prst="rect">
              <a:avLst/>
            </a:pr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Verdana"/>
                </a:rPr>
                <a:t>Содержани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1" name="Group 8"/>
            <p:cNvGrpSpPr/>
            <p:nvPr/>
          </p:nvGrpSpPr>
          <p:grpSpPr>
            <a:xfrm>
              <a:off x="1612800" y="1295280"/>
              <a:ext cx="6921720" cy="4781160"/>
              <a:chOff x="1612800" y="1295280"/>
              <a:chExt cx="6921720" cy="4781160"/>
            </a:xfrm>
          </p:grpSpPr>
          <p:sp>
            <p:nvSpPr>
              <p:cNvPr id="132" name="Rectangle 9"/>
              <p:cNvSpPr/>
              <p:nvPr/>
            </p:nvSpPr>
            <p:spPr>
              <a:xfrm>
                <a:off x="4788000" y="4828320"/>
                <a:ext cx="1587600" cy="32724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10"/>
              <p:cNvSpPr/>
              <p:nvPr/>
            </p:nvSpPr>
            <p:spPr>
              <a:xfrm>
                <a:off x="2882160" y="4828320"/>
                <a:ext cx="1587600" cy="32724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AutoShape 11"/>
              <p:cNvSpPr/>
              <p:nvPr/>
            </p:nvSpPr>
            <p:spPr>
              <a:xfrm>
                <a:off x="3645720" y="1295280"/>
                <a:ext cx="551160" cy="505800"/>
              </a:xfrm>
              <a:prstGeom prst="smileyFace">
                <a:avLst>
                  <a:gd name="adj" fmla="val 9282"/>
                </a:avLst>
              </a:prstGeom>
              <a:solidFill>
                <a:srgbClr val="ffdcb9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AutoShape 12"/>
              <p:cNvSpPr/>
              <p:nvPr/>
            </p:nvSpPr>
            <p:spPr>
              <a:xfrm>
                <a:off x="5146200" y="2362320"/>
                <a:ext cx="403200" cy="556560"/>
              </a:xfrm>
              <a:prstGeom prst="triangle">
                <a:avLst>
                  <a:gd name="adj" fmla="val 50000"/>
                </a:avLst>
              </a:prstGeom>
              <a:solidFill>
                <a:srgbClr val="57c7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AutoShape 13"/>
              <p:cNvSpPr/>
              <p:nvPr/>
            </p:nvSpPr>
            <p:spPr>
              <a:xfrm>
                <a:off x="5146200" y="1979640"/>
                <a:ext cx="403200" cy="34776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AutoShape 14"/>
              <p:cNvSpPr/>
              <p:nvPr/>
            </p:nvSpPr>
            <p:spPr>
              <a:xfrm>
                <a:off x="4975560" y="1926000"/>
                <a:ext cx="192960" cy="138960"/>
              </a:xfrm>
              <a:prstGeom prst="triangle">
                <a:avLst>
                  <a:gd name="adj" fmla="val 100000"/>
                </a:avLst>
              </a:prstGeom>
              <a:solidFill>
                <a:srgbClr val="57c7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AutoShape 15"/>
              <p:cNvSpPr/>
              <p:nvPr/>
            </p:nvSpPr>
            <p:spPr>
              <a:xfrm>
                <a:off x="5546880" y="1926000"/>
                <a:ext cx="193320" cy="138960"/>
              </a:xfrm>
              <a:prstGeom prst="triangle">
                <a:avLst>
                  <a:gd name="adj" fmla="val 16667"/>
                </a:avLst>
              </a:prstGeom>
              <a:solidFill>
                <a:srgbClr val="57c7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AutoShape 16"/>
              <p:cNvSpPr/>
              <p:nvPr/>
            </p:nvSpPr>
            <p:spPr>
              <a:xfrm rot="10800000">
                <a:off x="3581280" y="1866240"/>
                <a:ext cx="698400" cy="1052280"/>
              </a:xfrm>
              <a:prstGeom prst="triangle">
                <a:avLst>
                  <a:gd name="adj" fmla="val 50000"/>
                </a:avLst>
              </a:prstGeom>
              <a:solidFill>
                <a:srgbClr val="663300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AutoShape 17"/>
              <p:cNvSpPr/>
              <p:nvPr/>
            </p:nvSpPr>
            <p:spPr>
              <a:xfrm rot="10647600">
                <a:off x="3771720" y="1866600"/>
                <a:ext cx="317520" cy="460800"/>
              </a:xfrm>
              <a:prstGeom prst="triangle">
                <a:avLst>
                  <a:gd name="adj" fmla="val 61991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AutoShape 18"/>
              <p:cNvSpPr/>
              <p:nvPr/>
            </p:nvSpPr>
            <p:spPr>
              <a:xfrm rot="19202400">
                <a:off x="3769920" y="1801080"/>
                <a:ext cx="128880" cy="132120"/>
              </a:xfrm>
              <a:prstGeom prst="triangle">
                <a:avLst>
                  <a:gd name="adj" fmla="val 76356"/>
                </a:avLst>
              </a:prstGeom>
              <a:solidFill>
                <a:srgbClr val="00b9fa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AutoShape 19"/>
              <p:cNvSpPr/>
              <p:nvPr/>
            </p:nvSpPr>
            <p:spPr>
              <a:xfrm rot="2832600">
                <a:off x="3949200" y="1813320"/>
                <a:ext cx="149400" cy="124560"/>
              </a:xfrm>
              <a:prstGeom prst="rtTriangle">
                <a:avLst/>
              </a:prstGeom>
              <a:solidFill>
                <a:srgbClr val="00b9fa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Line 20"/>
              <p:cNvSpPr/>
              <p:nvPr/>
            </p:nvSpPr>
            <p:spPr>
              <a:xfrm>
                <a:off x="4215240" y="2656440"/>
                <a:ext cx="82584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Line 21"/>
              <p:cNvSpPr/>
              <p:nvPr/>
            </p:nvSpPr>
            <p:spPr>
              <a:xfrm flipH="1">
                <a:off x="4216680" y="2853720"/>
                <a:ext cx="82584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Line 22"/>
              <p:cNvSpPr/>
              <p:nvPr/>
            </p:nvSpPr>
            <p:spPr>
              <a:xfrm>
                <a:off x="4660560" y="2918880"/>
                <a:ext cx="0" cy="2638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23"/>
              <p:cNvSpPr/>
              <p:nvPr/>
            </p:nvSpPr>
            <p:spPr>
              <a:xfrm>
                <a:off x="3581280" y="3184200"/>
                <a:ext cx="215892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Text Box 24"/>
              <p:cNvSpPr/>
              <p:nvPr/>
            </p:nvSpPr>
            <p:spPr>
              <a:xfrm>
                <a:off x="3708360" y="3149280"/>
                <a:ext cx="184104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Цель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25"/>
              <p:cNvSpPr/>
              <p:nvPr/>
            </p:nvSpPr>
            <p:spPr>
              <a:xfrm>
                <a:off x="3581280" y="3972960"/>
                <a:ext cx="215892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26"/>
              <p:cNvSpPr/>
              <p:nvPr/>
            </p:nvSpPr>
            <p:spPr>
              <a:xfrm>
                <a:off x="3708360" y="3938040"/>
                <a:ext cx="184104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Принципы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27"/>
              <p:cNvSpPr/>
              <p:nvPr/>
            </p:nvSpPr>
            <p:spPr>
              <a:xfrm>
                <a:off x="3074400" y="4793400"/>
                <a:ext cx="1142280" cy="3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Формы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Text Box 28"/>
              <p:cNvSpPr/>
              <p:nvPr/>
            </p:nvSpPr>
            <p:spPr>
              <a:xfrm>
                <a:off x="4978440" y="4793400"/>
                <a:ext cx="1206720" cy="3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Методы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29"/>
              <p:cNvSpPr/>
              <p:nvPr/>
            </p:nvSpPr>
            <p:spPr>
              <a:xfrm>
                <a:off x="6693480" y="4826520"/>
                <a:ext cx="158724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Text Box 30"/>
              <p:cNvSpPr/>
              <p:nvPr/>
            </p:nvSpPr>
            <p:spPr>
              <a:xfrm>
                <a:off x="6819480" y="4793400"/>
                <a:ext cx="1333800" cy="3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Средства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31"/>
              <p:cNvSpPr/>
              <p:nvPr/>
            </p:nvSpPr>
            <p:spPr>
              <a:xfrm>
                <a:off x="2375640" y="5748840"/>
                <a:ext cx="463572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ff3300"/>
                    </a:solidFill>
                    <a:latin typeface="Verdana"/>
                  </a:rPr>
                  <a:t>Диагностика результатов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Line 32"/>
              <p:cNvSpPr/>
              <p:nvPr/>
            </p:nvSpPr>
            <p:spPr>
              <a:xfrm>
                <a:off x="4660560" y="3511800"/>
                <a:ext cx="0" cy="4593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Line 33"/>
              <p:cNvSpPr/>
              <p:nvPr/>
            </p:nvSpPr>
            <p:spPr>
              <a:xfrm flipH="1">
                <a:off x="2120760" y="4300560"/>
                <a:ext cx="171504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Line 34"/>
              <p:cNvSpPr/>
              <p:nvPr/>
            </p:nvSpPr>
            <p:spPr>
              <a:xfrm>
                <a:off x="5486400" y="4300560"/>
                <a:ext cx="177804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Line 35"/>
              <p:cNvSpPr/>
              <p:nvPr/>
            </p:nvSpPr>
            <p:spPr>
              <a:xfrm flipH="1">
                <a:off x="3708360" y="4300560"/>
                <a:ext cx="63432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Line 36"/>
              <p:cNvSpPr/>
              <p:nvPr/>
            </p:nvSpPr>
            <p:spPr>
              <a:xfrm>
                <a:off x="4978440" y="4300560"/>
                <a:ext cx="57096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Line 37"/>
              <p:cNvSpPr/>
              <p:nvPr/>
            </p:nvSpPr>
            <p:spPr>
              <a:xfrm>
                <a:off x="2564640" y="495720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Line 38"/>
              <p:cNvSpPr/>
              <p:nvPr/>
            </p:nvSpPr>
            <p:spPr>
              <a:xfrm>
                <a:off x="4470120" y="495720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Line 39"/>
              <p:cNvSpPr/>
              <p:nvPr/>
            </p:nvSpPr>
            <p:spPr>
              <a:xfrm>
                <a:off x="6375600" y="495720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Line 40"/>
              <p:cNvSpPr/>
              <p:nvPr/>
            </p:nvSpPr>
            <p:spPr>
              <a:xfrm>
                <a:off x="3645720" y="5155920"/>
                <a:ext cx="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Line 41"/>
              <p:cNvSpPr/>
              <p:nvPr/>
            </p:nvSpPr>
            <p:spPr>
              <a:xfrm>
                <a:off x="5549760" y="5155920"/>
                <a:ext cx="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Line 42"/>
              <p:cNvSpPr/>
              <p:nvPr/>
            </p:nvSpPr>
            <p:spPr>
              <a:xfrm>
                <a:off x="1675440" y="5155920"/>
                <a:ext cx="127116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Line 43"/>
              <p:cNvSpPr/>
              <p:nvPr/>
            </p:nvSpPr>
            <p:spPr>
              <a:xfrm flipH="1">
                <a:off x="6312600" y="5155920"/>
                <a:ext cx="114264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Line 44"/>
              <p:cNvSpPr/>
              <p:nvPr/>
            </p:nvSpPr>
            <p:spPr>
              <a:xfrm flipH="1">
                <a:off x="1612800" y="3380040"/>
                <a:ext cx="1968480" cy="1446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Line 45"/>
              <p:cNvSpPr/>
              <p:nvPr/>
            </p:nvSpPr>
            <p:spPr>
              <a:xfrm>
                <a:off x="5740200" y="3380040"/>
                <a:ext cx="1905120" cy="1446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Line 46"/>
              <p:cNvSpPr/>
              <p:nvPr/>
            </p:nvSpPr>
            <p:spPr>
              <a:xfrm flipH="1">
                <a:off x="3263400" y="331344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Line 47"/>
              <p:cNvSpPr/>
              <p:nvPr/>
            </p:nvSpPr>
            <p:spPr>
              <a:xfrm>
                <a:off x="3263400" y="3313440"/>
                <a:ext cx="0" cy="15130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Line 48"/>
              <p:cNvSpPr/>
              <p:nvPr/>
            </p:nvSpPr>
            <p:spPr>
              <a:xfrm>
                <a:off x="5740200" y="3313440"/>
                <a:ext cx="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Line 49"/>
              <p:cNvSpPr/>
              <p:nvPr/>
            </p:nvSpPr>
            <p:spPr>
              <a:xfrm flipH="1">
                <a:off x="5740200" y="331344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6058080" y="3313440"/>
                <a:ext cx="0" cy="15130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Line 51"/>
              <p:cNvSpPr/>
              <p:nvPr/>
            </p:nvSpPr>
            <p:spPr>
              <a:xfrm>
                <a:off x="5740200" y="3247920"/>
                <a:ext cx="266688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Line 52"/>
              <p:cNvSpPr/>
              <p:nvPr/>
            </p:nvSpPr>
            <p:spPr>
              <a:xfrm>
                <a:off x="8407080" y="3247920"/>
                <a:ext cx="0" cy="263124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 flipH="1">
                <a:off x="7011360" y="5879520"/>
                <a:ext cx="139536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Line 54"/>
              <p:cNvSpPr/>
              <p:nvPr/>
            </p:nvSpPr>
            <p:spPr>
              <a:xfrm>
                <a:off x="7011360" y="6009840"/>
                <a:ext cx="152280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Line 55"/>
              <p:cNvSpPr/>
              <p:nvPr/>
            </p:nvSpPr>
            <p:spPr>
              <a:xfrm flipV="1">
                <a:off x="8534520" y="3116160"/>
                <a:ext cx="0" cy="28936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Line 56"/>
              <p:cNvSpPr/>
              <p:nvPr/>
            </p:nvSpPr>
            <p:spPr>
              <a:xfrm flipH="1">
                <a:off x="6057720" y="3116160"/>
                <a:ext cx="247644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Line 57"/>
              <p:cNvSpPr/>
              <p:nvPr/>
            </p:nvSpPr>
            <p:spPr>
              <a:xfrm flipH="1">
                <a:off x="5740200" y="3116160"/>
                <a:ext cx="317520" cy="1317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Line 58"/>
              <p:cNvSpPr/>
              <p:nvPr/>
            </p:nvSpPr>
            <p:spPr>
              <a:xfrm>
                <a:off x="6693480" y="5023800"/>
                <a:ext cx="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Line 59"/>
              <p:cNvSpPr/>
              <p:nvPr/>
            </p:nvSpPr>
            <p:spPr>
              <a:xfrm flipH="1">
                <a:off x="2564640" y="508932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Line 60"/>
              <p:cNvSpPr/>
              <p:nvPr/>
            </p:nvSpPr>
            <p:spPr>
              <a:xfrm flipH="1">
                <a:off x="4470120" y="508932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Line 61"/>
              <p:cNvSpPr/>
              <p:nvPr/>
            </p:nvSpPr>
            <p:spPr>
              <a:xfrm flipH="1">
                <a:off x="6375600" y="508932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2"/>
          <p:cNvSpPr/>
          <p:nvPr/>
        </p:nvSpPr>
        <p:spPr>
          <a:xfrm>
            <a:off x="6248520" y="44956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43"/>
          <p:cNvSpPr/>
          <p:nvPr/>
        </p:nvSpPr>
        <p:spPr>
          <a:xfrm>
            <a:off x="6705720" y="838080"/>
            <a:ext cx="20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чностно-деятельност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моционально-ценност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ко-ориент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533520" y="914400"/>
            <a:ext cx="18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язь с жизнь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иль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гляд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зна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блем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ума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лостнос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ч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ступ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304920" y="3886200"/>
            <a:ext cx="175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онтальная Индивидуальная Группов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фференцированн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48"/>
          <p:cNvSpPr/>
          <p:nvPr/>
        </p:nvSpPr>
        <p:spPr>
          <a:xfrm>
            <a:off x="5334120" y="44956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к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сед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ина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скусс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ино-уро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здник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ловая иг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2666880" y="4724280"/>
            <a:ext cx="2694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сульт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ку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ч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ая рабо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е «ключевых» зада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рольная рабо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щита проек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0"/>
          <p:cNvSpPr/>
          <p:nvPr/>
        </p:nvSpPr>
        <p:spPr>
          <a:xfrm>
            <a:off x="6858000" y="3429000"/>
            <a:ext cx="228600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ознакомлению с новым материа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закреплению изучен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рки ЗУ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истематизации и обобщению изучен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ин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гр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к-обра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1"/>
          <p:cNvSpPr/>
          <p:nvPr/>
        </p:nvSpPr>
        <p:spPr>
          <a:xfrm>
            <a:off x="3276720" y="228600"/>
            <a:ext cx="2523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продуктивны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объяснительно-иллюстративны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ристическ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блемны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опрос, задача, ситуац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ельны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оектный метод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Diagram 64"/>
          <p:cNvGrpSpPr/>
          <p:nvPr/>
        </p:nvGrpSpPr>
        <p:grpSpPr>
          <a:xfrm>
            <a:off x="2404440" y="1975320"/>
            <a:ext cx="4029840" cy="2677680"/>
            <a:chOff x="2404440" y="1975320"/>
            <a:chExt cx="4029840" cy="2677680"/>
          </a:xfrm>
        </p:grpSpPr>
        <p:sp>
          <p:nvSpPr>
            <p:cNvPr id="194" name="_s1028"/>
            <p:cNvSpPr/>
            <p:nvPr/>
          </p:nvSpPr>
          <p:spPr>
            <a:xfrm flipV="1">
              <a:off x="4419720" y="2644200"/>
              <a:ext cx="0" cy="33552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_s1029"/>
            <p:cNvSpPr/>
            <p:nvPr/>
          </p:nvSpPr>
          <p:spPr>
            <a:xfrm>
              <a:off x="3859920" y="1975320"/>
              <a:ext cx="1118520" cy="6688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етод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_s1030"/>
            <p:cNvSpPr/>
            <p:nvPr/>
          </p:nvSpPr>
          <p:spPr>
            <a:xfrm flipV="1">
              <a:off x="4903560" y="2978640"/>
              <a:ext cx="485280" cy="16740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_s1031"/>
            <p:cNvSpPr/>
            <p:nvPr/>
          </p:nvSpPr>
          <p:spPr>
            <a:xfrm>
              <a:off x="5313960" y="2476800"/>
              <a:ext cx="1118520" cy="6688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одходы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_s1032"/>
            <p:cNvSpPr/>
            <p:nvPr/>
          </p:nvSpPr>
          <p:spPr>
            <a:xfrm>
              <a:off x="4903560" y="3481200"/>
              <a:ext cx="485280" cy="16668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_s1033"/>
            <p:cNvSpPr/>
            <p:nvPr/>
          </p:nvSpPr>
          <p:spPr>
            <a:xfrm>
              <a:off x="5315400" y="3480480"/>
              <a:ext cx="1118880" cy="668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4419720" y="3647880"/>
              <a:ext cx="1440" cy="33444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_s1035"/>
            <p:cNvSpPr/>
            <p:nvPr/>
          </p:nvSpPr>
          <p:spPr>
            <a:xfrm>
              <a:off x="3861720" y="3983760"/>
              <a:ext cx="1118880" cy="6692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вид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_s1036"/>
            <p:cNvSpPr/>
            <p:nvPr/>
          </p:nvSpPr>
          <p:spPr>
            <a:xfrm flipH="1">
              <a:off x="3451680" y="3481200"/>
              <a:ext cx="483840" cy="16776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_s1037"/>
            <p:cNvSpPr/>
            <p:nvPr/>
          </p:nvSpPr>
          <p:spPr>
            <a:xfrm>
              <a:off x="2405880" y="3482640"/>
              <a:ext cx="1118880" cy="6688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Орг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_s1038"/>
            <p:cNvSpPr/>
            <p:nvPr/>
          </p:nvSpPr>
          <p:spPr>
            <a:xfrm flipH="1" flipV="1">
              <a:off x="3449160" y="2979720"/>
              <a:ext cx="485640" cy="16668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_s1039"/>
            <p:cNvSpPr/>
            <p:nvPr/>
          </p:nvSpPr>
          <p:spPr>
            <a:xfrm>
              <a:off x="2404440" y="2477520"/>
              <a:ext cx="1118520" cy="6688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инципы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_s1040"/>
            <p:cNvSpPr/>
            <p:nvPr/>
          </p:nvSpPr>
          <p:spPr>
            <a:xfrm>
              <a:off x="3859920" y="2980080"/>
              <a:ext cx="1118520" cy="6692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" name="Text Box 78"/>
          <p:cNvSpPr/>
          <p:nvPr/>
        </p:nvSpPr>
        <p:spPr>
          <a:xfrm>
            <a:off x="2286000" y="5410080"/>
            <a:ext cx="2693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нцип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3276720" y="2819520"/>
            <a:ext cx="2590560" cy="10666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НЦИП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838080" y="19051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09480" y="2362320"/>
            <a:ext cx="2210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ь с жизн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и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гляд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зна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ма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лост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уп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248520" y="2514600"/>
            <a:ext cx="2590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трудничеств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екват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есообраз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тивно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а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мократич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й подход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тр</cp:lastModifiedBy>
  <dcterms:modified xsi:type="dcterms:W3CDTF">2011-05-09T14:26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