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C90F-140D-4CBB-83E3-E5B3CADECA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4FBA-3EB2-4131-A966-E38A4D7F47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F232-1025-49AA-930B-243426375DA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C15E-4A45-447A-9AD6-651CAB65EE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458-1C7C-4E70-9F8B-B1009B033F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DD7-C6F8-4D41-B5F8-8F7B5F1BAA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A51-B953-43D2-9EB1-A005102D70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021-7748-4812-BD53-6E22889CEF7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F7D6-7079-4595-AF03-E2B6A743489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1D00-324B-4A38-863F-238BC6C6FA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67B-4706-478B-BA3D-A83435B5D98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5AA6-C6F6-476C-9C4A-05080B5E6B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4E6-8CB2-41D9-8729-BA9FF07BB3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DE2-4D5D-4457-BDCF-B53D8D7F70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B34-A1F8-4EF6-9683-756BB269DD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F06-369B-42C9-85D7-B9713F7353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E16-DD96-4E2A-A2CE-7D3D92E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377-C37A-4377-BAE7-45E9467F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AF0-707E-4556-8F81-E8ED81A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204-B88B-42DE-9125-9E63CC8A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02E-48B9-4604-9CA9-5B6BEB5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1B7-86CB-4A56-9D7F-A5D8D276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B70-E028-4D83-AD30-C3D18A6E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40C-4CAD-4F46-BDCA-386CD68D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D43-08D5-4613-B78A-1AE4D256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F81-E270-42DF-A336-A8E77641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AC2-0968-4674-B3F8-8F5044C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2F8-E2E7-4AC2-BC69-1607C98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EAF9-8094-440B-9BBA-371CAEEBBD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ематическое и поурочное планирование курса «ОРКиСЭ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 – (греч.) путь, способ продвижения к истине, к ожидаемому результат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2057400"/>
            <a:ext cx="282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продуктивный (объяснительно-иллюстратив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ый (вопрос, задача, ситуация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ельный (проектный метод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867280" y="2286000"/>
            <a:ext cx="3048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анализа жи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свободных ассоци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групповой дискус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опро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 экспертных оцено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523880" y="525780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знаки метода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цель обуч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 усво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арактер взаимо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2895480" y="2971800"/>
            <a:ext cx="259092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сихолог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7967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возрастных особен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т психологических особенностей (памяти, внимания, темперамента, воображения, воли, эмоциональной сфер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Гигиенические требования к уро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ный режи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вещенност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итические точки усвояем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14400" y="5029200"/>
          <a:ext cx="7120080" cy="1082520"/>
        </p:xfrm>
        <a:graphic>
          <a:graphicData uri="http://schemas.openxmlformats.org/drawingml/2006/table">
            <a:tbl>
              <a:tblPr/>
              <a:tblGrid>
                <a:gridCol w="1600200"/>
                <a:gridCol w="1247760"/>
                <a:gridCol w="1424160"/>
                <a:gridCol w="1425240"/>
                <a:gridCol w="142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23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34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- 4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яе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- 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изисы внимания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55627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 - на 14-18-ой мину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 - через 11-14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 - через 9-11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 - через 8-9 мину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191120" y="1066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о Высоцкой С.И.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хема проекта уро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51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ема 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ая 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тельная 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вающая 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ип и вид урока 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итерии обучен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ормируемых знаний и умени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щиеся долж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ущий метод 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орма организация деятельности учащихся _____________________________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5800" y="3886200"/>
          <a:ext cx="7729560" cy="120816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  <a:gridCol w="27003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предст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ятельность учителя и учащих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ая цель 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 соответствии  с методической целью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агностический инструментар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тем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входной и итоговый уровен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объема формируемых знаний и ум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учебных элементов и уровня их усво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ставление или подбор тестовых зад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ест письменный, тест действ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762120"/>
          <a:ext cx="7772400" cy="3413160"/>
        </p:xfrm>
        <a:graphic>
          <a:graphicData uri="http://schemas.openxmlformats.org/drawingml/2006/table">
            <a:tbl>
              <a:tblPr/>
              <a:tblGrid>
                <a:gridCol w="380880"/>
                <a:gridCol w="4191120"/>
                <a:gridCol w="1676520"/>
                <a:gridCol w="1523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соответствии со  структуро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 изученных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.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 темы, цели урок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вых понятий, способов дейст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бщение, изуч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текстом, иллюстрациями, рассказ, 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469800" indent="-469800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рактической работы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НЕТРАДИЦИОННЫЕ ВИДЫ УРОК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олевые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ие сказочного сюже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фантазиров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ловая игр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углый стол или 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открытых мыс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ревн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В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иктори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Следствие ведут знатоки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укцион зна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спу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турни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эври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гра "Волшебный конвер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конкур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творче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пектак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отр зна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игр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зач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путешеств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состяз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 взаимообуч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восхо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диало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зговая ата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рок-брифинг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уальное интервь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митационно-ролевое моделиров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елирование мышления учащих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жпредметный интегрированный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рок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 урок-лекц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лем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зуаль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 вдвое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сс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конферен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провокац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кция-диало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Программа –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(греч. объяснение, распоряжение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лан деятельности, рабо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ложение содержания и цели деяте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раткое изложение содержания учебного предм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писание алгоритма решения задач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"/>
          <p:cNvGrpSpPr/>
          <p:nvPr/>
        </p:nvGrpSpPr>
        <p:grpSpPr>
          <a:xfrm>
            <a:off x="1219320" y="1905120"/>
            <a:ext cx="6693840" cy="3733200"/>
            <a:chOff x="1219320" y="1905120"/>
            <a:chExt cx="6693840" cy="3733200"/>
          </a:xfrm>
        </p:grpSpPr>
        <p:sp>
          <p:nvSpPr>
            <p:cNvPr id="92" name="Text Box 5"/>
            <p:cNvSpPr/>
            <p:nvPr/>
          </p:nvSpPr>
          <p:spPr>
            <a:xfrm>
              <a:off x="2955600" y="190512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2288520" y="2966760"/>
              <a:ext cx="442908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разователь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1219320" y="4044960"/>
              <a:ext cx="30711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Общеобразовате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4841640" y="407052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Профессиональная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381200" y="24516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2955600" y="352512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6095160" y="3526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070080" y="5093640"/>
              <a:ext cx="307152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Учебная программ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5313600" y="4615560"/>
              <a:ext cx="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14"/>
            <p:cNvSpPr/>
            <p:nvPr/>
          </p:nvSpPr>
          <p:spPr>
            <a:xfrm>
              <a:off x="3725640" y="458892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ла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документ, в котором дается перечень дел (мероприятий), порядок и место их прове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" name="Group 11"/>
          <p:cNvGrpSpPr/>
          <p:nvPr/>
        </p:nvGrpSpPr>
        <p:grpSpPr>
          <a:xfrm>
            <a:off x="2362320" y="2286000"/>
            <a:ext cx="835200" cy="604800"/>
            <a:chOff x="2362320" y="2286000"/>
            <a:chExt cx="835200" cy="604800"/>
          </a:xfrm>
        </p:grpSpPr>
        <p:sp>
          <p:nvSpPr>
            <p:cNvPr id="104" name="Line 13"/>
            <p:cNvSpPr/>
            <p:nvPr/>
          </p:nvSpPr>
          <p:spPr>
            <a:xfrm flipH="1">
              <a:off x="2362320" y="2286000"/>
              <a:ext cx="83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236232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5641560" y="2286000"/>
            <a:ext cx="835560" cy="604800"/>
            <a:chOff x="5641560" y="2286000"/>
            <a:chExt cx="835560" cy="604800"/>
          </a:xfrm>
        </p:grpSpPr>
        <p:sp>
          <p:nvSpPr>
            <p:cNvPr id="107" name="Line 10"/>
            <p:cNvSpPr/>
            <p:nvPr/>
          </p:nvSpPr>
          <p:spPr>
            <a:xfrm>
              <a:off x="5641560" y="2286000"/>
              <a:ext cx="83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6476760" y="2309400"/>
              <a:ext cx="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9" name="Line 7"/>
          <p:cNvSpPr/>
          <p:nvPr/>
        </p:nvSpPr>
        <p:spPr>
          <a:xfrm>
            <a:off x="42670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820880" y="220032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820880" y="2200320"/>
            <a:ext cx="1942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971800"/>
          <a:ext cx="7772400" cy="3032280"/>
        </p:xfrm>
        <a:graphic>
          <a:graphicData uri="http://schemas.openxmlformats.org/drawingml/2006/table">
            <a:tbl>
              <a:tblPr/>
              <a:tblGrid>
                <a:gridCol w="2220840"/>
                <a:gridCol w="2732040"/>
                <a:gridCol w="28195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ур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с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Знания, умения,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квоз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звернут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ид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л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ллюстрирован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ъекты из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оду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-консп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ект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порная сх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бин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хнологическая к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езау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200400" y="2057400"/>
          <a:ext cx="2398680" cy="365040"/>
        </p:xfrm>
        <a:graphic>
          <a:graphicData uri="http://schemas.openxmlformats.org/drawingml/2006/table">
            <a:tbl>
              <a:tblPr/>
              <a:tblGrid>
                <a:gridCol w="2398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Учебный пла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71920"/>
          <a:ext cx="7924680" cy="4186080"/>
        </p:xfrm>
        <a:graphic>
          <a:graphicData uri="http://schemas.openxmlformats.org/drawingml/2006/table">
            <a:tbl>
              <a:tblPr/>
              <a:tblGrid>
                <a:gridCol w="873000"/>
                <a:gridCol w="3206880"/>
                <a:gridCol w="1193760"/>
                <a:gridCol w="1325520"/>
                <a:gridCol w="132552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,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Духовные ценности и нравственные идеалы в жизни человека и обще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. Часть 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ховные традиции многонационального народа Росс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33520" y="1752480"/>
          <a:ext cx="8001000" cy="2346480"/>
        </p:xfrm>
        <a:graphic>
          <a:graphicData uri="http://schemas.openxmlformats.org/drawingml/2006/table">
            <a:tbl>
              <a:tblPr/>
              <a:tblGrid>
                <a:gridCol w="880920"/>
                <a:gridCol w="3238560"/>
                <a:gridCol w="1204920"/>
                <a:gridCol w="1338120"/>
                <a:gridCol w="133848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ематический план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– проект педагогического процесса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232600" y="152352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1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905120"/>
          <a:ext cx="6315120" cy="669960"/>
        </p:xfrm>
        <a:graphic>
          <a:graphicData uri="http://schemas.openxmlformats.org/drawingml/2006/table">
            <a:tbl>
              <a:tblPr/>
              <a:tblGrid>
                <a:gridCol w="357480"/>
                <a:gridCol w="2197080"/>
                <a:gridCol w="1276200"/>
                <a:gridCol w="2484360"/>
              </a:tblGrid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з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56"/>
          <p:cNvSpPr/>
          <p:nvPr/>
        </p:nvSpPr>
        <p:spPr>
          <a:xfrm>
            <a:off x="6298920" y="25142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819520"/>
          <a:ext cx="6772320" cy="1036440"/>
        </p:xfrm>
        <a:graphic>
          <a:graphicData uri="http://schemas.openxmlformats.org/drawingml/2006/table">
            <a:tbl>
              <a:tblPr/>
              <a:tblGrid>
                <a:gridCol w="382320"/>
                <a:gridCol w="2129040"/>
                <a:gridCol w="1927080"/>
                <a:gridCol w="23338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 примерной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я, внесенные в примерную програм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108"/>
          <p:cNvSpPr/>
          <p:nvPr/>
        </p:nvSpPr>
        <p:spPr>
          <a:xfrm>
            <a:off x="6984720" y="3809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4114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320"/>
                <a:gridCol w="263376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72"/>
          <p:cNvSpPr/>
          <p:nvPr/>
        </p:nvSpPr>
        <p:spPr>
          <a:xfrm>
            <a:off x="7365960" y="49525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43200" y="5257800"/>
          <a:ext cx="6157800" cy="792000"/>
        </p:xfrm>
        <a:graphic>
          <a:graphicData uri="http://schemas.openxmlformats.org/drawingml/2006/table">
            <a:tbl>
              <a:tblPr/>
              <a:tblGrid>
                <a:gridCol w="382680"/>
                <a:gridCol w="2633400"/>
                <a:gridCol w="131616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емы, разде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408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процесс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объединение в единое целое тех компонентов (факторов), которые способствуют развитию учащихся и педагогов в их непосредственном взаимодейств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914400" y="1295280"/>
            <a:ext cx="7620120" cy="4781520"/>
            <a:chOff x="914400" y="1295280"/>
            <a:chExt cx="7620120" cy="4781520"/>
          </a:xfrm>
        </p:grpSpPr>
        <p:sp>
          <p:nvSpPr>
            <p:cNvPr id="128" name="AutoShape 5"/>
            <p:cNvSpPr/>
            <p:nvPr/>
          </p:nvSpPr>
          <p:spPr>
            <a:xfrm>
              <a:off x="914400" y="1295280"/>
              <a:ext cx="7620120" cy="47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977400" y="4826880"/>
              <a:ext cx="1587600" cy="327600"/>
            </a:xfrm>
            <a:prstGeom prst="rect">
              <a:avLst/>
            </a:prstGeom>
            <a:solidFill>
              <a:srgbClr val="a3e7ff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914400" y="4793760"/>
              <a:ext cx="1714680" cy="362880"/>
            </a:xfrm>
            <a:prstGeom prst="rect">
              <a:avLst/>
            </a:pr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663300"/>
                  </a:solidFill>
                  <a:latin typeface="Verdana"/>
                </a:rPr>
                <a:t>Содержани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1" name="Group 8"/>
            <p:cNvGrpSpPr/>
            <p:nvPr/>
          </p:nvGrpSpPr>
          <p:grpSpPr>
            <a:xfrm>
              <a:off x="1612800" y="1295280"/>
              <a:ext cx="6921720" cy="4781160"/>
              <a:chOff x="1612800" y="1295280"/>
              <a:chExt cx="6921720" cy="4781160"/>
            </a:xfrm>
          </p:grpSpPr>
          <p:sp>
            <p:nvSpPr>
              <p:cNvPr id="132" name="Rectangle 9"/>
              <p:cNvSpPr/>
              <p:nvPr/>
            </p:nvSpPr>
            <p:spPr>
              <a:xfrm>
                <a:off x="478800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10"/>
              <p:cNvSpPr/>
              <p:nvPr/>
            </p:nvSpPr>
            <p:spPr>
              <a:xfrm>
                <a:off x="2882160" y="4828320"/>
                <a:ext cx="1587600" cy="32724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AutoShape 11"/>
              <p:cNvSpPr/>
              <p:nvPr/>
            </p:nvSpPr>
            <p:spPr>
              <a:xfrm>
                <a:off x="3645720" y="1295280"/>
                <a:ext cx="551160" cy="505800"/>
              </a:xfrm>
              <a:prstGeom prst="smileyFace">
                <a:avLst>
                  <a:gd name="adj" fmla="val 9282"/>
                </a:avLst>
              </a:prstGeom>
              <a:solidFill>
                <a:srgbClr val="ffdcb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AutoShape 12"/>
              <p:cNvSpPr/>
              <p:nvPr/>
            </p:nvSpPr>
            <p:spPr>
              <a:xfrm>
                <a:off x="5146200" y="2362320"/>
                <a:ext cx="403200" cy="556560"/>
              </a:xfrm>
              <a:prstGeom prst="triangle">
                <a:avLst>
                  <a:gd name="adj" fmla="val 5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AutoShape 13"/>
              <p:cNvSpPr/>
              <p:nvPr/>
            </p:nvSpPr>
            <p:spPr>
              <a:xfrm>
                <a:off x="5146200" y="1979640"/>
                <a:ext cx="403200" cy="347760"/>
              </a:xfrm>
              <a:prstGeom prst="smileyFace">
                <a:avLst>
                  <a:gd name="adj" fmla="val 9282"/>
                </a:avLst>
              </a:prstGeom>
              <a:solidFill>
                <a:srgbClr val="ffcc99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AutoShape 14"/>
              <p:cNvSpPr/>
              <p:nvPr/>
            </p:nvSpPr>
            <p:spPr>
              <a:xfrm>
                <a:off x="4975560" y="1926000"/>
                <a:ext cx="192960" cy="138960"/>
              </a:xfrm>
              <a:prstGeom prst="triangle">
                <a:avLst>
                  <a:gd name="adj" fmla="val 100000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AutoShape 15"/>
              <p:cNvSpPr/>
              <p:nvPr/>
            </p:nvSpPr>
            <p:spPr>
              <a:xfrm>
                <a:off x="5546880" y="1926000"/>
                <a:ext cx="193320" cy="138960"/>
              </a:xfrm>
              <a:prstGeom prst="triangle">
                <a:avLst>
                  <a:gd name="adj" fmla="val 16667"/>
                </a:avLst>
              </a:prstGeom>
              <a:solidFill>
                <a:srgbClr val="57c7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AutoShape 16"/>
              <p:cNvSpPr/>
              <p:nvPr/>
            </p:nvSpPr>
            <p:spPr>
              <a:xfrm rot="10800000">
                <a:off x="3581280" y="1866240"/>
                <a:ext cx="69840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663300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AutoShape 17"/>
              <p:cNvSpPr/>
              <p:nvPr/>
            </p:nvSpPr>
            <p:spPr>
              <a:xfrm rot="10647600">
                <a:off x="3771720" y="1866600"/>
                <a:ext cx="317520" cy="460800"/>
              </a:xfrm>
              <a:prstGeom prst="triangle">
                <a:avLst>
                  <a:gd name="adj" fmla="val 61991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AutoShape 18"/>
              <p:cNvSpPr/>
              <p:nvPr/>
            </p:nvSpPr>
            <p:spPr>
              <a:xfrm rot="19202400">
                <a:off x="3769920" y="1801080"/>
                <a:ext cx="128880" cy="132120"/>
              </a:xfrm>
              <a:prstGeom prst="triangle">
                <a:avLst>
                  <a:gd name="adj" fmla="val 76356"/>
                </a:avLst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AutoShape 19"/>
              <p:cNvSpPr/>
              <p:nvPr/>
            </p:nvSpPr>
            <p:spPr>
              <a:xfrm rot="2832600">
                <a:off x="3949200" y="1813320"/>
                <a:ext cx="149400" cy="124560"/>
              </a:xfrm>
              <a:prstGeom prst="rtTriangle">
                <a:avLst/>
              </a:prstGeom>
              <a:solidFill>
                <a:srgbClr val="00b9fa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Line 20"/>
              <p:cNvSpPr/>
              <p:nvPr/>
            </p:nvSpPr>
            <p:spPr>
              <a:xfrm>
                <a:off x="4215240" y="265644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Line 21"/>
              <p:cNvSpPr/>
              <p:nvPr/>
            </p:nvSpPr>
            <p:spPr>
              <a:xfrm flipH="1">
                <a:off x="4216680" y="2853720"/>
                <a:ext cx="8258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Line 22"/>
              <p:cNvSpPr/>
              <p:nvPr/>
            </p:nvSpPr>
            <p:spPr>
              <a:xfrm>
                <a:off x="4660560" y="2918880"/>
                <a:ext cx="0" cy="2638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23"/>
              <p:cNvSpPr/>
              <p:nvPr/>
            </p:nvSpPr>
            <p:spPr>
              <a:xfrm>
                <a:off x="3581280" y="318420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Text Box 24"/>
              <p:cNvSpPr/>
              <p:nvPr/>
            </p:nvSpPr>
            <p:spPr>
              <a:xfrm>
                <a:off x="3708360" y="314928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Цель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25"/>
              <p:cNvSpPr/>
              <p:nvPr/>
            </p:nvSpPr>
            <p:spPr>
              <a:xfrm>
                <a:off x="3581280" y="3972960"/>
                <a:ext cx="21589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26"/>
              <p:cNvSpPr/>
              <p:nvPr/>
            </p:nvSpPr>
            <p:spPr>
              <a:xfrm>
                <a:off x="3708360" y="3938040"/>
                <a:ext cx="184104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Принцип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27"/>
              <p:cNvSpPr/>
              <p:nvPr/>
            </p:nvSpPr>
            <p:spPr>
              <a:xfrm>
                <a:off x="3074400" y="4793400"/>
                <a:ext cx="114228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Форм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Text Box 28"/>
              <p:cNvSpPr/>
              <p:nvPr/>
            </p:nvSpPr>
            <p:spPr>
              <a:xfrm>
                <a:off x="4978440" y="4793400"/>
                <a:ext cx="120672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Методы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29"/>
              <p:cNvSpPr/>
              <p:nvPr/>
            </p:nvSpPr>
            <p:spPr>
              <a:xfrm>
                <a:off x="6693480" y="4826520"/>
                <a:ext cx="158724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Text Box 30"/>
              <p:cNvSpPr/>
              <p:nvPr/>
            </p:nvSpPr>
            <p:spPr>
              <a:xfrm>
                <a:off x="6819480" y="4793400"/>
                <a:ext cx="1333800" cy="36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663300"/>
                    </a:solidFill>
                    <a:latin typeface="Verdana"/>
                  </a:rPr>
                  <a:t>Средства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2375640" y="5748840"/>
                <a:ext cx="4635720" cy="327600"/>
              </a:xfrm>
              <a:prstGeom prst="rect">
                <a:avLst/>
              </a:prstGeom>
              <a:solidFill>
                <a:srgbClr val="ffdddd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000" rIns="63000" tIns="31680" bIns="31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3300"/>
                    </a:solidFill>
                    <a:latin typeface="Verdana"/>
                  </a:rPr>
                  <a:t>Диагностика результатов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Line 32"/>
              <p:cNvSpPr/>
              <p:nvPr/>
            </p:nvSpPr>
            <p:spPr>
              <a:xfrm>
                <a:off x="4660560" y="3511800"/>
                <a:ext cx="0" cy="4593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33"/>
              <p:cNvSpPr/>
              <p:nvPr/>
            </p:nvSpPr>
            <p:spPr>
              <a:xfrm flipH="1">
                <a:off x="2120760" y="4300560"/>
                <a:ext cx="1715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Line 34"/>
              <p:cNvSpPr/>
              <p:nvPr/>
            </p:nvSpPr>
            <p:spPr>
              <a:xfrm>
                <a:off x="5486400" y="4300560"/>
                <a:ext cx="177804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Line 35"/>
              <p:cNvSpPr/>
              <p:nvPr/>
            </p:nvSpPr>
            <p:spPr>
              <a:xfrm flipH="1">
                <a:off x="3708360" y="4300560"/>
                <a:ext cx="63432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Line 36"/>
              <p:cNvSpPr/>
              <p:nvPr/>
            </p:nvSpPr>
            <p:spPr>
              <a:xfrm>
                <a:off x="4978440" y="4300560"/>
                <a:ext cx="570960" cy="5259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Line 37"/>
              <p:cNvSpPr/>
              <p:nvPr/>
            </p:nvSpPr>
            <p:spPr>
              <a:xfrm>
                <a:off x="256464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Line 38"/>
              <p:cNvSpPr/>
              <p:nvPr/>
            </p:nvSpPr>
            <p:spPr>
              <a:xfrm>
                <a:off x="447012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Line 39"/>
              <p:cNvSpPr/>
              <p:nvPr/>
            </p:nvSpPr>
            <p:spPr>
              <a:xfrm>
                <a:off x="6375600" y="495720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Line 40"/>
              <p:cNvSpPr/>
              <p:nvPr/>
            </p:nvSpPr>
            <p:spPr>
              <a:xfrm>
                <a:off x="364572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Line 41"/>
              <p:cNvSpPr/>
              <p:nvPr/>
            </p:nvSpPr>
            <p:spPr>
              <a:xfrm>
                <a:off x="5549760" y="5155920"/>
                <a:ext cx="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Line 42"/>
              <p:cNvSpPr/>
              <p:nvPr/>
            </p:nvSpPr>
            <p:spPr>
              <a:xfrm>
                <a:off x="1675440" y="5155920"/>
                <a:ext cx="127116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6" name="Line 43"/>
              <p:cNvSpPr/>
              <p:nvPr/>
            </p:nvSpPr>
            <p:spPr>
              <a:xfrm flipH="1">
                <a:off x="6312600" y="5155920"/>
                <a:ext cx="1142640" cy="591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Line 44"/>
              <p:cNvSpPr/>
              <p:nvPr/>
            </p:nvSpPr>
            <p:spPr>
              <a:xfrm flipH="1">
                <a:off x="1612800" y="3380040"/>
                <a:ext cx="196848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Line 45"/>
              <p:cNvSpPr/>
              <p:nvPr/>
            </p:nvSpPr>
            <p:spPr>
              <a:xfrm>
                <a:off x="5740200" y="3380040"/>
                <a:ext cx="1905120" cy="14464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Line 46"/>
              <p:cNvSpPr/>
              <p:nvPr/>
            </p:nvSpPr>
            <p:spPr>
              <a:xfrm flipH="1">
                <a:off x="32634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Line 47"/>
              <p:cNvSpPr/>
              <p:nvPr/>
            </p:nvSpPr>
            <p:spPr>
              <a:xfrm>
                <a:off x="326340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Line 48"/>
              <p:cNvSpPr/>
              <p:nvPr/>
            </p:nvSpPr>
            <p:spPr>
              <a:xfrm>
                <a:off x="5740200" y="331344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2" name="Line 49"/>
              <p:cNvSpPr/>
              <p:nvPr/>
            </p:nvSpPr>
            <p:spPr>
              <a:xfrm flipH="1">
                <a:off x="5740200" y="331344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Line 50"/>
              <p:cNvSpPr/>
              <p:nvPr/>
            </p:nvSpPr>
            <p:spPr>
              <a:xfrm>
                <a:off x="6058080" y="3313440"/>
                <a:ext cx="0" cy="15130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" name="Line 51"/>
              <p:cNvSpPr/>
              <p:nvPr/>
            </p:nvSpPr>
            <p:spPr>
              <a:xfrm>
                <a:off x="5740200" y="3247920"/>
                <a:ext cx="266688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" name="Line 52"/>
              <p:cNvSpPr/>
              <p:nvPr/>
            </p:nvSpPr>
            <p:spPr>
              <a:xfrm>
                <a:off x="8407080" y="3247920"/>
                <a:ext cx="0" cy="263124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Line 53"/>
              <p:cNvSpPr/>
              <p:nvPr/>
            </p:nvSpPr>
            <p:spPr>
              <a:xfrm flipH="1">
                <a:off x="7011360" y="5879520"/>
                <a:ext cx="139536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Line 54"/>
              <p:cNvSpPr/>
              <p:nvPr/>
            </p:nvSpPr>
            <p:spPr>
              <a:xfrm>
                <a:off x="7011360" y="6009840"/>
                <a:ext cx="152280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8" name="Line 55"/>
              <p:cNvSpPr/>
              <p:nvPr/>
            </p:nvSpPr>
            <p:spPr>
              <a:xfrm flipV="1">
                <a:off x="8534520" y="3116160"/>
                <a:ext cx="0" cy="289368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Line 56"/>
              <p:cNvSpPr/>
              <p:nvPr/>
            </p:nvSpPr>
            <p:spPr>
              <a:xfrm flipH="1">
                <a:off x="6057720" y="3116160"/>
                <a:ext cx="247644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Line 57"/>
              <p:cNvSpPr/>
              <p:nvPr/>
            </p:nvSpPr>
            <p:spPr>
              <a:xfrm flipH="1">
                <a:off x="5740200" y="3116160"/>
                <a:ext cx="317520" cy="13176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1" name="Line 58"/>
              <p:cNvSpPr/>
              <p:nvPr/>
            </p:nvSpPr>
            <p:spPr>
              <a:xfrm>
                <a:off x="6693480" y="5023800"/>
                <a:ext cx="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Line 59"/>
              <p:cNvSpPr/>
              <p:nvPr/>
            </p:nvSpPr>
            <p:spPr>
              <a:xfrm flipH="1">
                <a:off x="256464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Line 60"/>
              <p:cNvSpPr/>
              <p:nvPr/>
            </p:nvSpPr>
            <p:spPr>
              <a:xfrm flipH="1">
                <a:off x="447012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Line 61"/>
              <p:cNvSpPr/>
              <p:nvPr/>
            </p:nvSpPr>
            <p:spPr>
              <a:xfrm flipH="1">
                <a:off x="6375600" y="5089320"/>
                <a:ext cx="3175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2"/>
          <p:cNvSpPr/>
          <p:nvPr/>
        </p:nvSpPr>
        <p:spPr>
          <a:xfrm>
            <a:off x="6248520" y="44956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3"/>
          <p:cNvSpPr/>
          <p:nvPr/>
        </p:nvSpPr>
        <p:spPr>
          <a:xfrm>
            <a:off x="6705720" y="838080"/>
            <a:ext cx="2057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чностно-деятель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о-ценност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о-ориент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533520" y="914400"/>
            <a:ext cx="1828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304920" y="3886200"/>
            <a:ext cx="175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онтальная Индивидуальная Группов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фференцированна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48"/>
          <p:cNvSpPr/>
          <p:nvPr/>
        </p:nvSpPr>
        <p:spPr>
          <a:xfrm>
            <a:off x="5334120" y="44956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к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е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мина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скус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ино-ур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здник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овая иг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2666880" y="4724280"/>
            <a:ext cx="26942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уль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ку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ч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«ключевых» зада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рольная рабо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щита прое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0"/>
          <p:cNvSpPr/>
          <p:nvPr/>
        </p:nvSpPr>
        <p:spPr>
          <a:xfrm>
            <a:off x="6858000" y="3429000"/>
            <a:ext cx="228600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знакомлению с новым материа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репл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ки ЗУ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истематизации и обобщению изучен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ин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гр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к-обра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1"/>
          <p:cNvSpPr/>
          <p:nvPr/>
        </p:nvSpPr>
        <p:spPr>
          <a:xfrm>
            <a:off x="3276720" y="228600"/>
            <a:ext cx="2523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продуктив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бъяснительно-иллюстративны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ирован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ристическ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блем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опрос, задача, ситуац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ельны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роектный метод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Diagram 64"/>
          <p:cNvGrpSpPr/>
          <p:nvPr/>
        </p:nvGrpSpPr>
        <p:grpSpPr>
          <a:xfrm>
            <a:off x="2404440" y="1975320"/>
            <a:ext cx="4029840" cy="2677680"/>
            <a:chOff x="2404440" y="1975320"/>
            <a:chExt cx="4029840" cy="2677680"/>
          </a:xfrm>
        </p:grpSpPr>
        <p:sp>
          <p:nvSpPr>
            <p:cNvPr id="194" name="_s1028"/>
            <p:cNvSpPr/>
            <p:nvPr/>
          </p:nvSpPr>
          <p:spPr>
            <a:xfrm flipV="1">
              <a:off x="4419720" y="2644200"/>
              <a:ext cx="0" cy="33552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859920" y="1975320"/>
              <a:ext cx="1118520" cy="6688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мето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03560" y="2978640"/>
              <a:ext cx="485280" cy="16740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313960" y="2476800"/>
              <a:ext cx="1118520" cy="6688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дход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>
              <a:off x="4903560" y="3481200"/>
              <a:ext cx="48528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5315400" y="3480480"/>
              <a:ext cx="1118880" cy="668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тип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4419720" y="3647880"/>
              <a:ext cx="1440" cy="33444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3861720" y="3983760"/>
              <a:ext cx="1118880" cy="6692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вид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 flipH="1">
              <a:off x="3451680" y="3481200"/>
              <a:ext cx="483840" cy="16776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2405880" y="3482640"/>
              <a:ext cx="1118880" cy="6688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рг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 flipV="1">
              <a:off x="3449160" y="2979720"/>
              <a:ext cx="485640" cy="166680"/>
            </a:xfrm>
            <a:prstGeom prst="line">
              <a:avLst/>
            </a:prstGeom>
            <a:ln w="381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404440" y="2477520"/>
              <a:ext cx="1118520" cy="668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ринципы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>
              <a:off x="3859920" y="2980080"/>
              <a:ext cx="1118520" cy="6692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ОК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Text Box 78"/>
          <p:cNvSpPr/>
          <p:nvPr/>
        </p:nvSpPr>
        <p:spPr>
          <a:xfrm>
            <a:off x="2286000" y="5410080"/>
            <a:ext cx="2693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3276720" y="2819520"/>
            <a:ext cx="2590560" cy="10666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ЦИП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838080" y="19051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09480" y="2362320"/>
            <a:ext cx="2210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ь с жизн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и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гляд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зн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лос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248520" y="2514600"/>
            <a:ext cx="2590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трудничест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ос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сообраз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риативно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аж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мократич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тр</cp:lastModifiedBy>
  <dcterms:modified xsi:type="dcterms:W3CDTF">2011-05-09T14:26:1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